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775-60A5-4DC0-B8B3-BA873155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04B-9B32-4BE5-AD9A-41CAA165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394-ACF5-4B8E-AD25-92C0D0EB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F7F-2CFF-41CE-BF1B-F721E220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DD81-9E41-4341-922A-501E53D9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71AA-87C2-4C47-8D16-60B43B94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634A-0EFD-4403-93CA-08C86EBB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9852-5AF1-4635-8F42-9F95D81C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641-E845-4334-8916-F1AC7B5E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E2BF-DFE1-4338-80CA-17701DBE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FA7B-4F9D-48E5-BCD8-268CE53B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FC9-3C8F-41CE-AA05-E6CE0F20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2465-AF28-4200-B69B-F51FC00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3712-4C25-42E7-B1BD-72D9DA9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966A-5672-472B-A08D-5D3BEA2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D1D-BEC0-4DE7-8D01-EFDF0295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3D3E-B332-48DE-A4FC-4CA11BCC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922-5A21-41B0-8F84-07746DFB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718-C69D-4589-B818-6F679917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216-5B2B-45ED-97D3-147BF26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BFC-9DC4-45B6-BBFB-1C033C91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23B-5211-4404-8983-A5F82BD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6EA-D458-4874-B373-1E049D2C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49A-6D1F-45AD-A04B-937070D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59C7-D04E-4A93-9B3E-7A4178A3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8553-B877-4565-95E4-90ADFE053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2060640"/>
            <a:ext cx="78469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ning for SNA93 Rev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anadian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4437000"/>
            <a:ext cx="6400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 2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476280"/>
            <a:ext cx="216072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vited paper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2E4-3DFE-4F69-AEC5-3F8542120F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. Chief Statistician, DG of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SNA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– supply-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– sector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financ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representatives from survey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D16-6CFE-4067-BE1D-0A452D0EB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on concept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vs.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with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users e.g. centr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nd business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BA9-AA84-4F63-9306-683C1B039A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direction at Statistics Canada is move to more “off-the-shelf” and own account “generic”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 / databases (SQL, Orac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E for so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 warehous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classifications become cru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4B9-A956-49D3-85C8-4E958EC97D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ff 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ment and ret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ie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s vs. mid-level h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cepts vs.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training (canned mod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them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BAB-2C08-49B4-A179-614890A828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 ca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s for processing and merch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structure of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cross macro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2B7-348D-4AB8-B24C-F7827AB60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tions with data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recommendations to im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revised method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of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of revised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76A-4A38-441D-8777-4F939479B5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ncept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new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scope of the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integration of macro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 employe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 communication with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EE6-EA09-4FE6-9B9A-D1DCAE523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8:57:10Z</dcterms:created>
  <dc:creator>SCSD BUSC</dc:creator>
  <dc:description/>
  <dc:language>en-US</dc:language>
  <cp:lastModifiedBy>Dimova</cp:lastModifiedBy>
  <dcterms:modified xsi:type="dcterms:W3CDTF">2008-04-21T12:04:09Z</dcterms:modified>
  <cp:revision>27</cp:revision>
  <dc:subject/>
  <dc:title>Goods for Processing</dc:title>
</cp:coreProperties>
</file>