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534-7024-4F38-BF9C-28C45908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478-13D1-465B-B72A-886135F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E91-FE10-4B88-8B67-1BFC7B74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9F8-8297-4514-96C0-F179AC1A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60CC-99D5-45D8-B006-53B800F8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497-5E5F-47B7-8048-BD0C857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237-AB18-4F6B-9198-684A8D4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7A8-CE74-48A7-9604-72D36AD5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677F-D7D5-4FB6-AD13-B5061D85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2AA-41F6-4CB5-AE99-7A5DCAB6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F481-F600-4D17-9C3C-0D63143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AA5-E746-4551-8D5A-9BD0E0AF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EC8-F8CD-416D-A302-6C4588F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D72A-29C1-4F77-9941-FC8F2CE0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98F-1106-4B87-87D6-48DE299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2DA2-704B-434B-8264-4788EAEC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362A-B466-45DF-A4AF-085CB7AD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352-8A9C-4C64-9991-598CF3AF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990-FB9E-4CB0-8CB7-5F4B672C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F1F-1070-4AC6-A470-04433FB4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C8B-CBD7-445E-A42E-BA76AA7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73A-3F5D-4C8F-B0A3-3A3CF9C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BD0-B454-4216-B599-B185BF3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387-A221-4B86-82BA-0FB01F0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380-FD9F-4C7B-9E77-7D0686F1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E526-1F51-4E5A-9E41-DA63255A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2060640"/>
            <a:ext cx="78469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ning for SNA93 Rev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anadia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43700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476280"/>
            <a:ext cx="2160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FC3-7C8E-4E77-B001-1145A8628A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. Chief Statistician, DG of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SNA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– supply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– sector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financ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presentatives from survey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EE7-8515-4A40-9D84-07281BEE1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n concept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vs.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users e.g. centr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nd business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E9F-BF7D-404B-BBE9-03CC92395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direction at Statistics Canada is move to more “off-the-shelf” and own account “generic”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/ databases (SQL, Ora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E for so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 warehous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classifications become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759-CC5B-49DB-A2CC-6D4871540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ff 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ment and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s vs. mid-level h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cepts vs.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training (canned mod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hem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E6C-27FB-4A79-841A-E20C0467F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 ca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for processing and 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structure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cross macro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C2E-1E86-4E4E-B910-DB90C3066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s with data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recommendations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vised method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revised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F07-C1A4-47BF-9D92-8B0428994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ncept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scope of the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integration of macro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employe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communication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C1C-ACC8-4C44-8AE8-9B9BE6C90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Dimova</cp:lastModifiedBy>
  <dcterms:modified xsi:type="dcterms:W3CDTF">2008-04-21T12:04:09Z</dcterms:modified>
  <cp:revision>27</cp:revision>
  <dc:subject/>
  <dc:title>Goods for Processing</dc:title>
</cp:coreProperties>
</file>