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BE7-90A0-4916-9ABD-0A51C3B3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627-A1DF-472C-B5AB-71A056FE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6B9-8DC8-45F7-85D2-31B0E5C5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571-68F8-4290-80B9-9401D2C7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6CA3-CA39-421A-9EB4-2F537BEB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DF66-09F3-400A-8818-528BED28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8477-8AF5-4BF6-A1A9-FD752777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74E5-4BCB-4FC7-B68C-B346F0EC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9661-EC36-4B35-807C-5DF24FAA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CE38-BAD3-48D5-9DBD-A6E515CB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8418-D7E0-4CBB-8684-3EED7DE9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BCB-407D-445A-927D-F8255B77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56E3-831A-409F-8510-5DFCE347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0EC5-74D6-4B97-9AE0-8B159D7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9BFF-4FC7-4095-8C35-B804139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4FCD-EC71-437C-8F8B-FE94C8C0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C5CD-CC32-4C4C-BBF5-969927B1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CDD-65E8-4429-B10A-6DC03958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D13-3042-4CFC-B47F-E966D6ED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13D-D296-426D-A951-05A685A6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E19-253A-4E71-9259-36FB60BA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6FC-4C5E-4FEF-8007-8DB7AF8C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A1D-265D-45BB-B730-83043CE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207-1C05-4740-9043-764F37AF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CDC6-B8B4-4EAA-9B10-79B89462A0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D64B-0F86-413E-9DDE-301F0B9BC6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О стратегии Российской Федерации </a:t>
            </a:r>
            <a:br>
              <a:rPr sz="2400"/>
            </a:b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по вопросам перехода на обновленную</a:t>
            </a:r>
            <a:br>
              <a:rPr sz="2400"/>
            </a:b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версию Системы национальных</a:t>
            </a:r>
            <a:r>
              <a:rPr b="1" i="1" lang="en-US" sz="24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счетов</a:t>
            </a:r>
            <a:endParaRPr b="0" i="1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сакова И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620640"/>
            <a:ext cx="172872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Современная ситуац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3071b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Создана принципиально новая информационно-технологическая  база статис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3071b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Приведены в соответствие международным аналогам основные  классификат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3071b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Разрабатывается вся последовательность счетов, предусмотренная СНС-93, кроме отдельных счетов и таблиц ( финансовый счет, счета других изменений в активах и пассивах, счета переоценки, баланс активов и пассивов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3071b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Показатели СНС широко применяются в макроэкономическом анализе и прогнозировании, существенно расширился круг пользователей национальных сч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Процесс обновления СНС - естественная  реакция на изменения, происходящие в организации экономики и социальной сферы многих стран 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В России  процессы преобразований во всех сферах жизнедеятельности происходят наиболее интенсивно. Активно  приватизируется государственная собственность, изменяется институциональная структура экономик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Россия все большей мере интегрируется в мировую эконом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Сохраняется ряд черт переходной экономики, особ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в сфере организации социального обеспечения, пенсионной системы, страхования и финан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В этих сферах процессы преобразований и создания институтов рыночной экономики протекают очень медленно и осторожн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Стратегия внедрения обновленной СНС-93 в Росси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844640"/>
            <a:ext cx="792180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Внедрение обновленной СНС  будет осуществляться параллельно с внедрением в практику ряда разделов СНС, которые пока не разрабатываются Росста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Гибкий подход в принятии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 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Методологические и организацио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усилия в области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совершенствования систем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       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исходной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Достижение нового уров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межведомственн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Анализ положений обновленной СНС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813096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востребованность той или иной информации со стороны основных потребителей данных СНС и, прежде всего, органов государственного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соответствие тех или иных положений  СНС особенностям в организации экономики и социальной сф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относительная значимость отдельных положений для повышения надежности и аналитической ценности разрабатываемых показ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необходимость совершенствования информационной б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наличие необходимых ресур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уровень взаимодействия с другими экономическими ведом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иорите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Оценки ненаблюдаемой экономики и, в частности, неформальной экономики, которая играет важную роль в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Отнесение расходов на приобретение товаров длительного пользования для военных целей к накопл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Современная трактовка оригиналов и копий произведений как экономических актив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Внедрение в практику расчетов  распределения косвенно-измеряемых услуг финансового посредничества по пользователя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Разработка счетов по институциональным секторам и по государственному сектор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тдаленная перспекти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мерение традиционных видов незаконной деятельности Освоение концепции «капитальных услуг» (участие в международных семинарах, обсуждение проблем, связанных с  реализацией концепции на практи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учение макроэкономической производительности весьма актуальна для России. Подготовка к ее решению -в ближайшие годы, однако для ее практической реализации потребуется длительный пери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точнение формулы исчисления выпуска нерыночных услуг органов  государственного управления путем условного исчисления прибыли на капитал (на практике сложно реализовать из-за отсутствия адекватных данных о рыночной стоимости основного капитала органов государственного управл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вая трактовка выпуска центральных банков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ммы выпусков их рыночных и нерыночных  заве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сложно реализовать на практике из-за отсут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анных об издержках департаментов бан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вая трактовка выпуска страховых компаний,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ммы текущих издержек и «нормальной» прибы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пределенной на основе прогностических ра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актические аспек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Углубление теоретических проработок позволяет уточнить экономическое содержание показателей, 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как правило- не обеспечено необходимой информ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Реализовать обновленную версию СНС помогли б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материалы, содержащие практические рекомендации по решению того или иного вопр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обмен оп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Реализация  новых рекомендаций повлечет многочисленные изменения в данных национальных счетов (ВВП, ВНК, Сбережения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Изменения  претерпит  динамика показа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Целесообразно внедрять обновленную СНС не по мере освоения того или иного положения рекомендаций, а крупными блоками, этапами, с тем, чтобы сократить число пересмотров динамических ря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Отправной точкой в этой работе для России должна стать разработка базовых таблиц «Затраты-выпуск» за 2012 год. При разработке этих таблиц целесообразно учесть все возможные к тому моменту изменения. А после разработки таблиц осуществить  пересмотр динамического ряда ВВП и основных его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 rot="21294600">
            <a:off x="1619280" y="2636640"/>
            <a:ext cx="5761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Текущая ситуация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8036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СНС России основана на концепциях национальных счетов ООН-9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        </a:t>
            </a: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Отклонения от рекомендаций СНС были обусловле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Действующими национальными классификаторами, принципиально отличающимися от международных аналог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Особенностями функционирования отдельных секторов экономики и действующих в стране нормативно-правовых ак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333360"/>
            <a:ext cx="8280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До 2003 г. использовался ОКОНХ, с 2003- ОКВЭ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ета производства и образования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ы СН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уровне 140 групп ОКВЭ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я -на уровне разделов ОКВЭ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До 2007 г. использовался ОКП, с 1 января 2008 года внедряется классификатор ОКПД, гармонизированный с </a:t>
            </a:r>
            <a:r>
              <a:rPr b="0" i="1" lang="en-US" sz="2000" spc="-1" strike="noStrike" u="sng">
                <a:solidFill>
                  <a:srgbClr val="336666"/>
                </a:solidFill>
                <a:uFillTx/>
                <a:latin typeface="Arial"/>
              </a:rPr>
              <a:t>I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лижайшие годы будет создана приемлемо согласованная система показателей стоимости, физического объема и цен, что позволит расширить перечень публикуемых показателей по 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В 2005 г. разработан классификатор институциональных единиц по секторам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ета строятся по секторам: корпорации, государственное управление, некоммерческие организации, обслуживающие домашние хозяйства, домашние хозяйства, остальной м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лижайшие 2-3 года сектор корпорации будет разделен на : нефинансовые и финансовые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320280"/>
            <a:ext cx="133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413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661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213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Изменяется в связ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стремлением гармонизировать национальную классификацию с международными стандартами по статистике государственного  финансо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потребностями органов государственной вла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построение таблиц перехода от расходов бюджета по классификации функций органов государственного управления (COFOG) к расходам по видам экономической деятельности  (ОКВЭД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приведение статей экономической классификации расходов бюджета в соответствие экономическим операциям СН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строены счета сектора государственного управления за 2005 и 2006 годы.  Счета производства и образования доходов в структуре ОКВЭД, а показатели расходов по COF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141720"/>
            <a:ext cx="28872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472428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765000"/>
            <a:ext cx="806436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 доходов и расходов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йской Федерац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2171880"/>
            <a:ext cx="835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Внедрение ОКВЭД не сопровождалось внедрением гармонизированного  с   ним  классификатора прод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В текущей статистике отсутствуют какие либо данные о структуре    промежуточного 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В целях обеспечения согласованности счетов производства и использования составлены таблицы «затраты-выпуск» за 2005 и 2006 годы размерностью   15 х 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Начаты подготовительные работы по построению базовых таблиц «затраты-выпуск» за 2012 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533160"/>
            <a:ext cx="7702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Проблемы таблиц «Затраты -выпуск»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сновные проблемные области в области соблюдения рекомендаций СНС ООН- 9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36666"/>
                </a:solidFill>
                <a:latin typeface="Arial"/>
              </a:rPr>
              <a:t>Оценка жилой рент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36666"/>
                </a:solidFill>
                <a:latin typeface="Arial"/>
              </a:rPr>
              <a:t>Расчет косвенно-измеряемых услуг финансового посредничества (FISIM) 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"/>
              </a:rPr>
              <a:t>Оценка жилой ренты 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Условия функционирования жилищного хозяй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продолжает сохраняться  прежняя система финансирования содержания жилого фон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развивается рынок жилья и возникают новые формы его содержания и финансир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Расходы на  содержание жилья частично покрываются за счет государственного бюджета, отдельным категориям населения сохраняются  льготы на оплату жил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В настоящее время рыночную цену аренды можно определить только по жилью,  фактически арендуемому у домашних хозяйств. Использовать эти цены аренды для остального жилья невозможно, поскольку отсутствует необходимая информация о структуре жилого фонда и его качественных характеристи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0686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068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403280"/>
            <a:ext cx="849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Стоимость жилищных услуг опреде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По арендуемому жилью- в размере фактической арендной пл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По проживанию в собственном частном доме - в размере затрат на их текущее содерж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По проживанию в многоквартирных домах – в размере квартирной платы и государственных субсидий, организациям оказывающим коммунальные услу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336666"/>
                </a:solidFill>
                <a:uFillTx/>
                <a:latin typeface="Arial"/>
              </a:rPr>
              <a:t>По мере развития рынка жилья, проведения реформ в сфере жилищного хозяйства и совершенствования учета жилого фонда будут пересматриваться и методологические подходы к оценке жилой рен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При расчете жилой ренты используется смешанный подход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Расчет косвенно-измеряемых услуг финансового посредничества (FISIM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Использование косвенно-измеряемых услуг финансового посредничества (FISIM) рассматривается как промежуточное потребление условной отрасли, выпуск которой  принимается равным ну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7:49:27Z</dcterms:created>
  <dc:creator>Masakova_ID</dc:creator>
  <dc:description/>
  <dc:language>en-US</dc:language>
  <cp:lastModifiedBy>Istatkov</cp:lastModifiedBy>
  <dcterms:modified xsi:type="dcterms:W3CDTF">2008-04-21T16:55:25Z</dcterms:modified>
  <cp:revision>21</cp:revision>
  <dc:subject/>
  <dc:title>О стратегии Российской Федерации  по вопросам перехода на обновленную версию Системы национальных счетов.</dc:title>
</cp:coreProperties>
</file>