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D8CE-6E46-4739-BF51-EE4BA19AA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296F-9A06-4DA8-8957-7162D1FF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7C4D-0FC1-49D2-9293-5FB7D359D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BFA6-DBE9-4E6A-B539-178F439BF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79D6-88B3-44F0-A47A-8E341673A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5343-8181-4592-BEEF-55631CED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1A48-21E2-4930-9A40-27494306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3BD1-120C-4ACA-B1F8-F5044E49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87DB-38F1-4C77-B8EF-336AA964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F55A-E704-4339-A88E-BAB01BC8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1A9F-5D2B-416D-BBB8-F616D674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D7B5-E9F2-40BB-BFF1-A4B99BAD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188B-86AF-4009-AFFF-EF6C3F23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76FF-3E7E-4EB5-8FD8-ACE499BE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010D-AA29-4910-913C-CD6F6A9C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CFD0-F2F4-4B58-9CF5-4256DFE43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7B43-6661-42E7-9E08-AA778384F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29FF-92BA-4CC0-AA2E-2C9CB906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D42A-84A3-4CC7-A9B9-BBC68EBE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7379-DDDE-4AC4-BD0F-77074002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3FA9-D210-43B5-90AB-0EA13FB7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BD3F-6A12-4448-9577-E4B4E7E8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279B-6EB9-4BBD-AD26-562B4FEE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33BD-4A51-4F31-B707-0E688569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ACA0-2FDE-4DE0-94A3-6500B895E8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0A69-01CC-412F-87FF-0EDA913910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Arial"/>
              </a:rPr>
              <a:t>О стратегии Российской Федерации </a:t>
            </a:r>
            <a:br>
              <a:rPr sz="2400"/>
            </a:br>
            <a:r>
              <a:rPr b="1" i="1" lang="en-US" sz="2400" spc="-1" strike="noStrike">
                <a:solidFill>
                  <a:srgbClr val="336666"/>
                </a:solidFill>
                <a:latin typeface="Arial"/>
              </a:rPr>
              <a:t>по вопросам перехода на обновленную</a:t>
            </a:r>
            <a:br>
              <a:rPr sz="2400"/>
            </a:br>
            <a:r>
              <a:rPr b="1" i="1" lang="en-US" sz="2400" spc="-1" strike="noStrike">
                <a:solidFill>
                  <a:srgbClr val="336666"/>
                </a:solidFill>
                <a:latin typeface="Arial"/>
              </a:rPr>
              <a:t>версию Системы национальных</a:t>
            </a:r>
            <a:r>
              <a:rPr b="1" i="1" lang="en-US" sz="24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1" i="1" lang="en-US" sz="2400" spc="-1" strike="noStrike">
                <a:solidFill>
                  <a:srgbClr val="336666"/>
                </a:solidFill>
                <a:latin typeface="Arial"/>
              </a:rPr>
              <a:t>счетов</a:t>
            </a:r>
            <a:endParaRPr b="0" i="1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Масакова И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659640" y="620640"/>
            <a:ext cx="1728720" cy="7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Современная ситуация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3071b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6666"/>
                </a:solidFill>
                <a:latin typeface="Arial"/>
              </a:rPr>
              <a:t>Создана принципиально новая информационно-технологическая  база статисти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3071b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6666"/>
                </a:solidFill>
                <a:latin typeface="Arial"/>
              </a:rPr>
              <a:t>Приведены в соответствие международным аналогам основные  классификато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3071b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6666"/>
                </a:solidFill>
                <a:latin typeface="Arial"/>
              </a:rPr>
              <a:t>Разрабатывается вся последовательность счетов, предусмотренная СНС-93, кроме отдельных счетов и таблиц ( финансовый счет, счета других изменений в активах и пассивах, счета переоценки, баланс активов и пассивов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3071b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6666"/>
                </a:solidFill>
                <a:latin typeface="Arial"/>
              </a:rPr>
              <a:t>Показатели СНС широко применяются в макроэкономическом анализе и прогнозировании, существенно расширился круг пользователей национальных сче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11280" y="184464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6666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336666"/>
                </a:solidFill>
                <a:latin typeface="Arial"/>
              </a:rPr>
              <a:t>Процесс обновления СНС - естественная  реакция на изменения, происходящие в организации экономики и социальной сферы многих стран ми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6666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336666"/>
                </a:solidFill>
                <a:latin typeface="Arial"/>
              </a:rPr>
              <a:t>В России  процессы преобразований во всех сферах жизнедеятельности происходят наиболее интенсивно. Активно  приватизируется государственная собственность, изменяется институциональная структура экономики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6666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336666"/>
                </a:solidFill>
                <a:latin typeface="Arial"/>
              </a:rPr>
              <a:t>Россия все большей мере интегрируется в мировую экономи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6666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336666"/>
                </a:solidFill>
                <a:latin typeface="Arial"/>
              </a:rPr>
              <a:t>Сохраняется ряд черт переходной экономики, особ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6666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336666"/>
                </a:solidFill>
                <a:latin typeface="Arial"/>
              </a:rPr>
              <a:t>в сфере организации социального обеспечения, пенсионной системы, страхования и финанс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6666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336666"/>
                </a:solidFill>
                <a:latin typeface="Arial"/>
              </a:rPr>
              <a:t>В этих сферах процессы преобразований и создания институтов рыночной экономики протекают очень медленно и осторожно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Стратегия внедрения обновленной СНС-93 в Росси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9" name=""/>
          <p:cNvSpPr/>
          <p:nvPr/>
        </p:nvSpPr>
        <p:spPr>
          <a:xfrm>
            <a:off x="826920" y="1844640"/>
            <a:ext cx="7921800" cy="35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66"/>
                </a:solidFill>
                <a:latin typeface="Arial"/>
              </a:rPr>
              <a:t>Внедрение обновленной СНС  будет осуществляться параллельно с внедрением в практику ряда разделов СНС, которые пока не разрабатываются Росста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66"/>
                </a:solidFill>
                <a:latin typeface="Arial"/>
              </a:rPr>
              <a:t>Гибкий подход в принятии 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66"/>
                </a:solidFill>
                <a:latin typeface="Arial"/>
              </a:rPr>
              <a:t>              </a:t>
            </a:r>
            <a:r>
              <a:rPr b="0" i="1" lang="ru-RU" sz="2000" spc="-1" strike="noStrike">
                <a:solidFill>
                  <a:srgbClr val="336666"/>
                </a:solidFill>
                <a:latin typeface="Arial"/>
              </a:rPr>
              <a:t>Методологические и организационные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2000" spc="-1" strike="noStrike">
                <a:solidFill>
                  <a:srgbClr val="336666"/>
                </a:solidFill>
                <a:latin typeface="Arial"/>
              </a:rPr>
              <a:t>усилия в области </a:t>
            </a:r>
            <a:r>
              <a:rPr b="0" i="1" lang="ru-RU" sz="1800" spc="-1" strike="noStrike">
                <a:solidFill>
                  <a:srgbClr val="336666"/>
                </a:solidFill>
                <a:latin typeface="Arial"/>
              </a:rPr>
              <a:t>совершенствования систем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6666"/>
                </a:solidFill>
                <a:latin typeface="Arial"/>
              </a:rPr>
              <a:t>                     </a:t>
            </a:r>
            <a:r>
              <a:rPr b="0" i="1" lang="ru-RU" sz="2000" spc="-1" strike="noStrike">
                <a:solidFill>
                  <a:srgbClr val="336666"/>
                </a:solidFill>
                <a:latin typeface="Arial"/>
              </a:rPr>
              <a:t>исходной информ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66"/>
                </a:solidFill>
                <a:latin typeface="Arial"/>
              </a:rPr>
              <a:t>             </a:t>
            </a:r>
            <a:r>
              <a:rPr b="0" i="1" lang="ru-RU" sz="2000" spc="-1" strike="noStrike">
                <a:solidFill>
                  <a:srgbClr val="336666"/>
                </a:solidFill>
                <a:latin typeface="Arial"/>
              </a:rPr>
              <a:t>Достижение нового уров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6666"/>
                </a:solidFill>
                <a:latin typeface="Arial"/>
              </a:rPr>
              <a:t>                  </a:t>
            </a:r>
            <a:r>
              <a:rPr b="0" i="1" lang="ru-RU" sz="2000" spc="-1" strike="noStrike">
                <a:solidFill>
                  <a:srgbClr val="336666"/>
                </a:solidFill>
                <a:latin typeface="Arial"/>
              </a:rPr>
              <a:t>межведомственного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Анализ положений обновленной СНС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8130960" cy="40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6666"/>
                </a:solidFill>
                <a:latin typeface="Arial"/>
              </a:rPr>
              <a:t>востребованность той или иной информации со стороны основных потребителей данных СНС и, прежде всего, органов государственного управ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6666"/>
                </a:solidFill>
                <a:latin typeface="Arial"/>
              </a:rPr>
              <a:t>соответствие тех или иных положений  СНС особенностям в организации экономики и социальной сфе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6666"/>
                </a:solidFill>
                <a:latin typeface="Arial"/>
              </a:rPr>
              <a:t>относительная значимость отдельных положений для повышения надежности и аналитической ценности разрабатываемых показат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6666"/>
                </a:solidFill>
                <a:latin typeface="Arial"/>
              </a:rPr>
              <a:t>необходимость совершенствования информационной баз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6666"/>
                </a:solidFill>
                <a:latin typeface="Arial"/>
              </a:rPr>
              <a:t>наличие необходимых ресур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6666"/>
                </a:solidFill>
                <a:latin typeface="Arial"/>
              </a:rPr>
              <a:t>уровень взаимодействия с другими экономическими ведомств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Приоритет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6666"/>
                </a:solidFill>
                <a:latin typeface="Arial"/>
              </a:rPr>
              <a:t>Оценки ненаблюдаемой экономики и, в частности, неформальной экономики, которая играет важную роль в Росс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6666"/>
                </a:solidFill>
                <a:latin typeface="Arial"/>
              </a:rPr>
              <a:t>Отнесение расходов на приобретение товаров длительного пользования для военных целей к накоплен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6666"/>
                </a:solidFill>
                <a:latin typeface="Arial"/>
              </a:rPr>
              <a:t>Современная трактовка оригиналов и копий произведений как экономических активо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6666"/>
                </a:solidFill>
                <a:latin typeface="Arial"/>
              </a:rPr>
              <a:t>Внедрение в практику расчетов  распределения косвенно-измеряемых услуг финансового посредничества по пользователя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6666"/>
                </a:solidFill>
                <a:latin typeface="Arial"/>
              </a:rPr>
              <a:t>Разработка счетов по институциональным секторам и по государственному сектор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Отдаленная перспектив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Измерение традиционных видов незаконной деятельности Освоение концепции «капитальных услуг» (участие в международных семинарах, обсуждение проблем, связанных с  реализацией концепции на практик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Изучение макроэкономической производительности весьма актуальна для России. Подготовка к ее решению -в ближайшие годы, однако для ее практической реализации потребуется длительный перио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Уточнение формулы исчисления выпуска нерыночных услуг органов  государственного управления путем условного исчисления прибыли на капитал (на практике сложно реализовать из-за отсутствия адекватных данных о рыночной стоимости основного капитала органов государственного управлен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9280" y="1916280"/>
            <a:ext cx="7696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Новая трактовка выпуска центральных банков ка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уммы выпусков их рыночных и нерыночных  завед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сложно реализовать на практике из-за отсутств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анных об издержках департаментов банк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Новая трактовка выпуска страховых компаний, ка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уммы текущих издержек и «нормальной» прибыл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пределенной на основе прогностических расч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Практические аспект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336666"/>
                </a:solidFill>
                <a:latin typeface="Arial"/>
              </a:rPr>
              <a:t>Углубление теоретических проработок позволяет уточнить экономическое содержание показателей, 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666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336666"/>
                </a:solidFill>
                <a:latin typeface="Arial"/>
              </a:rPr>
              <a:t>как правило- не обеспечено необходимой информац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666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666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666"/>
                </a:solidFill>
                <a:latin typeface="Arial"/>
              </a:rPr>
              <a:t>Реализовать обновленную версию СНС помогли б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666"/>
                </a:solidFill>
                <a:latin typeface="Arial"/>
              </a:rPr>
              <a:t>материалы, содержащие практические рекомендации по решению того или иного вопро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666"/>
                </a:solidFill>
                <a:latin typeface="Arial"/>
              </a:rPr>
              <a:t>обмен опы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800" spc="-1" strike="noStrike">
                <a:solidFill>
                  <a:srgbClr val="336666"/>
                </a:solidFill>
                <a:latin typeface="Arial"/>
              </a:rPr>
              <a:t>Реализация  новых рекомендаций повлечет многочисленные изменения в данных национальных счетов (ВВП, ВНК, Сбережения и др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6666"/>
                </a:solidFill>
                <a:latin typeface="Arial"/>
              </a:rPr>
              <a:t>     </a:t>
            </a:r>
            <a:r>
              <a:rPr b="0" i="1" lang="ru-RU" sz="1800" spc="-1" strike="noStrike">
                <a:solidFill>
                  <a:srgbClr val="336666"/>
                </a:solidFill>
                <a:latin typeface="Arial"/>
              </a:rPr>
              <a:t>Изменения  претерпит  динамика показат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6666"/>
                </a:solidFill>
                <a:latin typeface="Arial"/>
              </a:rPr>
              <a:t>      </a:t>
            </a:r>
            <a:r>
              <a:rPr b="0" i="1" lang="ru-RU" sz="1800" spc="-1" strike="noStrike">
                <a:solidFill>
                  <a:srgbClr val="336666"/>
                </a:solidFill>
                <a:latin typeface="Arial"/>
              </a:rPr>
              <a:t>Целесообразно внедрять обновленную СНС не по мере освоения того или иного положения рекомендаций, а крупными блоками, этапами, с тем, чтобы сократить число пересмотров динамических ря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6666"/>
                </a:solidFill>
                <a:latin typeface="Arial"/>
              </a:rPr>
              <a:t>     </a:t>
            </a:r>
            <a:r>
              <a:rPr b="0" i="1" lang="ru-RU" sz="1800" spc="-1" strike="noStrike">
                <a:solidFill>
                  <a:srgbClr val="336666"/>
                </a:solidFill>
                <a:latin typeface="Arial"/>
              </a:rPr>
              <a:t>Отправной точкой в этой работе для России должна стать разработка базовых таблиц «Затраты-выпуск» за 2012 год. При разработке этих таблиц целесообразно учесть все возможные к тому моменту изменения. А после разработки таблиц осуществить  пересмотр динамического ряда ВВП и основных его компонен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 rot="21294600">
            <a:off x="1619280" y="2636640"/>
            <a:ext cx="576108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Текущая ситуация</a:t>
            </a:r>
            <a:br>
              <a:rPr sz="3300"/>
            </a:b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280360" cy="34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200" spc="-1" strike="noStrike">
                <a:solidFill>
                  <a:srgbClr val="336666"/>
                </a:solidFill>
                <a:latin typeface="Arial"/>
              </a:rPr>
              <a:t>СНС России основана на концепциях национальных счетов ООН-9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6666"/>
                </a:solidFill>
                <a:latin typeface="Arial"/>
              </a:rPr>
              <a:t>        </a:t>
            </a:r>
            <a:r>
              <a:rPr b="0" i="1" lang="en-US" sz="2200" spc="-1" strike="noStrike">
                <a:solidFill>
                  <a:srgbClr val="336666"/>
                </a:solidFill>
                <a:latin typeface="Arial"/>
              </a:rPr>
              <a:t>Отклонения от рекомендаций СНС были обусловлен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6666"/>
                </a:solidFill>
                <a:latin typeface="Arial"/>
              </a:rPr>
              <a:t>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6666"/>
                </a:solidFill>
                <a:latin typeface="Arial"/>
              </a:rPr>
              <a:t>Действующими национальными классификаторами, принципиально отличающимися от международных аналого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6666"/>
                </a:solidFill>
                <a:latin typeface="Arial"/>
              </a:rPr>
              <a:t>Особенностями функционирования отдельных секторов экономики и действующих в стране нормативно-правовых акто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9640" y="333360"/>
            <a:ext cx="82803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336666"/>
                </a:solidFill>
                <a:uFillTx/>
                <a:latin typeface="Arial"/>
              </a:rPr>
              <a:t>До 2003 г. использовался ОКОНХ, с 2003- ОКВЭ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чета производства и образования дох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четы СН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а уровне 140 групп ОКВЭ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бликация -на уровне разделов ОКВЭ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336666"/>
                </a:solidFill>
                <a:uFillTx/>
                <a:latin typeface="Arial"/>
              </a:rPr>
              <a:t>До 2007 г. использовался ОКП, с 1 января 2008 года внедряется классификатор ОКПД, гармонизированный с </a:t>
            </a:r>
            <a:r>
              <a:rPr b="0" i="1" lang="en-US" sz="2000" spc="-1" strike="noStrike" u="sng">
                <a:solidFill>
                  <a:srgbClr val="336666"/>
                </a:solidFill>
                <a:uFillTx/>
                <a:latin typeface="Arial"/>
              </a:rPr>
              <a:t>I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ближайшие годы будет создана приемлемо согласованная система показателей стоимости, физического объема и цен, что позволит расширить перечень публикуемых показателей по видам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 u="sng">
                <a:solidFill>
                  <a:srgbClr val="336666"/>
                </a:solidFill>
                <a:uFillTx/>
                <a:latin typeface="Arial"/>
              </a:rPr>
              <a:t>В 2005 г. разработан классификатор институциональных единиц по секторам эконом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чета строятся по секторам: корпорации, государственное управление, некоммерческие организации, обслуживающие домашние хозяйства, домашние хозяйства, остальной ми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ближайшие 2-3 года сектор корпорации будет разделен на : нефинансовые и финансовые корпо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164360" y="3213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3320280"/>
            <a:ext cx="133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1413000"/>
            <a:ext cx="360360" cy="142920"/>
          </a:xfrm>
          <a:prstGeom prst="rightArrow">
            <a:avLst>
              <a:gd name="adj1" fmla="val 50000"/>
              <a:gd name="adj2" fmla="val 63035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5661000"/>
            <a:ext cx="360360" cy="142920"/>
          </a:xfrm>
          <a:prstGeom prst="rightArrow">
            <a:avLst>
              <a:gd name="adj1" fmla="val 50000"/>
              <a:gd name="adj2" fmla="val 63035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3213000"/>
            <a:ext cx="360360" cy="142920"/>
          </a:xfrm>
          <a:prstGeom prst="rightArrow">
            <a:avLst>
              <a:gd name="adj1" fmla="val 50000"/>
              <a:gd name="adj2" fmla="val 63035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4479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Изменяется в связи с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стремлением гармонизировать национальную классификацию с международными стандартами по статистике государственного  финансов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потребностями органов государственной власт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построение таблиц перехода от расходов бюджета по классификации функций органов государственного управления (COFOG) к расходам по видам экономической деятельности  (ОКВЭД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приведение статей экономической классификации расходов бюджета в соответствие экономическим операциям СН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построены счета сектора государственного управления за 2005 и 2006 годы.  Счета производства и образования доходов в структуре ОКВЭД, а показатели расходов по COFO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19640" y="3141720"/>
            <a:ext cx="288720" cy="288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19640" y="4724280"/>
            <a:ext cx="288720" cy="289080"/>
          </a:xfrm>
          <a:prstGeom prst="downArrow">
            <a:avLst>
              <a:gd name="adj1" fmla="val 50000"/>
              <a:gd name="adj2" fmla="val 25031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765000"/>
            <a:ext cx="806436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лассификация доходов и расходов бюдж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оссийской Федераци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39640" y="2171880"/>
            <a:ext cx="835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7200" algn="just"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6666"/>
                </a:solidFill>
                <a:latin typeface="Arial"/>
              </a:rPr>
              <a:t>Внедрение ОКВЭД не сопровождалось внедрением гармонизированного  с   ним  классификатора продук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6666"/>
                </a:solidFill>
                <a:latin typeface="Arial"/>
              </a:rPr>
              <a:t>В текущей статистике отсутствуют какие либо данные о структуре    промежуточного потреб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6666"/>
                </a:solidFill>
                <a:latin typeface="Arial"/>
              </a:rPr>
              <a:t>В целях обеспечения согласованности счетов производства и использования составлены таблицы «затраты-выпуск» за 2005 и 2006 годы размерностью   15 х 1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6666"/>
                </a:solidFill>
                <a:latin typeface="Arial"/>
              </a:rPr>
              <a:t>Начаты подготовительные работы по построению базовых таблиц «затраты-выпуск» за 2012 го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533160"/>
            <a:ext cx="770256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Проблемы таблиц «Затраты -выпуск»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Основные проблемные области в области соблюдения рекомендаций СНС ООН- 9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336666"/>
                </a:solidFill>
                <a:latin typeface="Arial"/>
              </a:rPr>
              <a:t>Оценка жилой ренты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336666"/>
                </a:solidFill>
                <a:latin typeface="Arial"/>
              </a:rPr>
              <a:t>Расчет косвенно-измеряемых услуг финансового посредничества (FISIM) 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336666"/>
                </a:solidFill>
                <a:latin typeface="Arial"/>
              </a:rPr>
              <a:t>Оценка жилой ренты </a:t>
            </a:r>
            <a:br>
              <a:rPr sz="3300"/>
            </a:b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66"/>
                </a:solidFill>
                <a:latin typeface="Arial"/>
              </a:rPr>
              <a:t>Условия функционирования жилищного хозяйств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666"/>
                </a:solidFill>
                <a:latin typeface="Arial"/>
              </a:rPr>
              <a:t>продолжает сохраняться  прежняя система финансирования содержания жилого фонд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666"/>
                </a:solidFill>
                <a:latin typeface="Arial"/>
              </a:rPr>
              <a:t>развивается рынок жилья и возникают новые формы его содержания и финансиро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666"/>
                </a:solidFill>
                <a:latin typeface="Arial"/>
              </a:rPr>
              <a:t>Расходы на  содержание жилья частично покрываются за счет государственного бюджета, отдельным категориям населения сохраняются  льготы на оплату жиль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336666"/>
                </a:solidFill>
                <a:latin typeface="Arial"/>
              </a:rPr>
              <a:t>В настоящее время рыночную цену аренды можно определить только по жилью,  фактически арендуемому у домашних хозяйств. Использовать эти цены аренды для остального жилья невозможно, поскольку отсутствует необходимая информация о структуре жилого фонда и его качественных характеристик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58920" y="3068640"/>
            <a:ext cx="662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87280" y="3068640"/>
            <a:ext cx="698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4000" y="1403280"/>
            <a:ext cx="8496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666"/>
                </a:solidFill>
                <a:latin typeface="Arial"/>
              </a:rPr>
              <a:t>Стоимость жилищных услуг определ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336666"/>
                </a:solidFill>
                <a:latin typeface="Arial"/>
              </a:rPr>
              <a:t>По арендуемому жилью- в размере фактической арендной пла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336666"/>
                </a:solidFill>
                <a:latin typeface="Arial"/>
              </a:rPr>
              <a:t>По проживанию в собственном частном доме - в размере затрат на их текущее содерж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336666"/>
                </a:solidFill>
                <a:latin typeface="Arial"/>
              </a:rPr>
              <a:t>По проживанию в многоквартирных домах – в размере квартирной платы и государственных субсидий, организациям оказывающим коммунальные услуг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336666"/>
                </a:solidFill>
                <a:uFillTx/>
                <a:latin typeface="Arial"/>
              </a:rPr>
              <a:t>По мере развития рынка жилья, проведения реформ в сфере жилищного хозяйства и совершенствования учета жилого фонда будут пересматриваться и методологические подходы к оценке жилой рент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"/>
              </a:rPr>
              <a:t>При расчете жилой ренты используется смешанный подход.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Расчет косвенно-измеряемых услуг финансового посредничества (FISIM)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"/>
              </a:rPr>
              <a:t>Использование косвенно-измеряемых услуг финансового посредничества (FISIM) рассматривается как промежуточное потребление условной отрасли, выпуск которой  принимается равным ну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5T07:49:27Z</dcterms:created>
  <dc:creator>Masakova_ID</dc:creator>
  <dc:description/>
  <dc:language>en-US</dc:language>
  <cp:lastModifiedBy>Istatkov</cp:lastModifiedBy>
  <dcterms:modified xsi:type="dcterms:W3CDTF">2008-04-21T16:55:25Z</dcterms:modified>
  <cp:revision>21</cp:revision>
  <dc:subject/>
  <dc:title>О стратегии Российской Федерации  по вопросам перехода на обновленную версию Системы национальных счетов.</dc:title>
</cp:coreProperties>
</file>