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BA1-70E5-48D8-A709-EBCD5E91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59C-1CBD-4E89-88EE-25786696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1A0-9857-403F-AD7A-25BB4D14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72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028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72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028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36D-2E3A-44C6-BA6F-0FB062E8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9470-00C2-48A8-8938-047611FE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E3FD-CF38-4611-A924-A1B8060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EA0-CDC4-48BB-BCD8-347416B8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AC27-E7D3-4B97-9D4E-5EC93DA3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DDAF-D939-449B-86A0-C7255B4E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04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2CA7-ACFB-4108-9747-17930AF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474-C1EC-4262-9A09-A70FAA4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9D4-0FD2-4694-BEA4-5DA6AC7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2BA9-B06C-49A6-9726-E03F9E3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B2CB-B033-47A8-9E09-DC59AFF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14A-935F-4FFC-85BA-E131BF4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FFF1-0DD3-47C4-BE17-781F68C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672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0280" y="175248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672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0280" y="4179960"/>
            <a:ext cx="26982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E66-9E79-4F9D-867D-9F93436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D30-5300-4CEA-8EAF-6F95D1F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3CF-119A-4399-8FFE-A17C232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8A0-5346-4275-A2FA-A9713AF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04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70E-BCB7-45B5-8E37-98878E1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83E-514C-4D2D-8E28-4993791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7600" y="417996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D29-BDC3-4361-891B-3550489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7600" y="1752480"/>
            <a:ext cx="40896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79960"/>
            <a:ext cx="838044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578-DE9C-4C48-BBD1-BDCF44C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28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4840" y="6516360"/>
            <a:ext cx="9889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15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516360"/>
            <a:ext cx="21319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836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D311D-F041-4D10-8F44-B5E73994AC2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15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15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8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1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6537F3-9952-48B1-BA26-AC75A622EB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B42F2B-0785-4C8D-968D-04283EFE4FA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2860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1400" indent="-2286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R&amp;D in the Norwegian National account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ut Ø. Sør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566640"/>
            <a:ext cx="2160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 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ed paper 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F52-7B0A-45B5-B4E1-9525A008E6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neral approach in Norwa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Norway has a project for compiling a satellite account, in which R&amp;D is mainly regarded as gross fixed capital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est in R&amp;D has several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ock of knowledge capital is wanted for use in analyses of growth and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 general interest in education, knowledge and R&amp;D in Norway (are we lagging behind other nations?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sed SNA: how to treat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100000"/>
              </a:lnSpc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have had a grant from Eurostat studying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tional accounts need to improve on some aspects of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4600" indent="-282600">
              <a:lnSpc>
                <a:spcPct val="100000"/>
              </a:lnSpc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to use R&amp;D statistics to supplement present sour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8DF-5AC6-4DE4-8DEA-4973EF5DFF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neral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R&amp;D statistics, collected according to the Frascati Manual,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ion is compiled, using the Canberra group/NESTI brid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data from the foreign accounts (imports, exports), total supply = total use can be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R&amp;D for fixed capital formation is derived as a residual, based on estimates of exports, change in inventories and intermediate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860-B370-4007-87AF-AF1B9D7AEC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&amp;D capital stock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 stock is estimated with the PI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ndex is input price index for market production i NACE73 (business services: research and development services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service life set at 10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not an empirical estimate, but seems to be in line with assumptions used in oth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etails of the consumption of capital as for other (market)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027-41C5-4D85-83ED-6C05ED3036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in preliminary results for Norway 2005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GDP level, current pric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ich 60% is due to increased fixed capital formation in marke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GDP volume growt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ly no change in GNI at current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10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not introduced changes in the foreign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E5E-12C2-40C0-82A7-937910BA77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ridge table from GERD to p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D R&amp;D intramural expenditur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R&amp;D expenditure for invest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0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purchases of R&amp;D for intermediate con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consumption of capital for prod. of R&amp;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perating surplus from R&amp;D p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 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net other taxes on production of R&amp;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(?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-23940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adjustment for own account investmen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and oil exploration already includ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2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als production of R&amp;D services in th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u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0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354-A8FB-4578-A8A9-6EB021C4E4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06040"/>
            <a:ext cx="838188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apital services in R&amp;D produc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o estimate the value of R&amp;D production, we have to add operating surplus and consumption of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one so on the basis of observations for the industry Nace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tio of consumption of capital to current operating costs for NACE73 is applied to the current operating costs stated in the R&amp;D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7600" indent="-193680">
              <a:lnSpc>
                <a:spcPct val="93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operating costs for Nace 73 could be adjusted for costs not included in the R&amp;D statistics, such as IC of R&amp;D and FI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tio of operating surplus to consumption of capital for Nace73 is applied to R&amp;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B44-36FF-4370-BB70-3A7627AF94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044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Capital services in R&amp;D production - 2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044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8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f capital services from R&amp;D-capital are important in producing R&amp;D-services in Nace73, this should be reflected in the observed operating surplus, even though R&amp;D-services are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8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f, alternatively, we would estimate all capital stocks involved in the R&amp;D-production in order to calculate capital services from each ty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irms in the business sector could change the use of their existing capital stocks to produce R&amp;D, this would not be reported as investment expenditure in the R&amp;D survey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&amp;D survey do not cover all types of capital (?) such as software or R&amp;D-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7160">
              <a:lnSpc>
                <a:spcPct val="83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hen services from R&amp;D capital is specified, it is demanding to use this method to establish the R&amp;D capital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7760" y="622080"/>
            <a:ext cx="838188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ransactions in R&amp;D services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services produced by unit A and sold to unit B, should not be gross fixed capital formation in unit A, but in un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unit B combines the purchased services from A with its own R&amp;D and sell the combined result to another unit C, the R&amp;D should be capitalized in unit C. The value added by unit A should not be counted as value added also in unit B. In this case the purchase by B should be intermediate consumption of un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lnSpc>
                <a:spcPct val="93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transactions in R&amp;D services are hard to find in the R&amp;D surveys, but are needed to get investments b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D13-9479-4B16-B3FF-E5E5BD7D89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nut Ø Sørensen</dc:creator>
  <dc:description/>
  <dc:language>en-US</dc:language>
  <cp:lastModifiedBy>Dimova</cp:lastModifiedBy>
  <dcterms:modified xsi:type="dcterms:W3CDTF">2008-04-17T14:06:13Z</dcterms:modified>
  <cp:revision>5</cp:revision>
  <dc:subject/>
  <dc:title>R&amp;D in the Norwegian National accounts</dc:title>
</cp:coreProperties>
</file>