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C8E-E18D-4E61-906A-A78DCDA8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969-44E1-497E-ACD7-34CA5F69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2B0-7689-487B-AED4-2F2BC4E0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72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28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72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28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728-9C3E-45AB-BD83-E3E74274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7226-6798-48BA-ACA1-48BA21DB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E1D5-49E9-426B-BF56-62E0115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583D-4F0E-4F7F-9850-39C7FD4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E48-CD9C-4DC5-A599-DC1FF0E6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BB4-90A7-4371-A3E9-66A374F6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04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3673-8017-4BFE-8FD5-202DDA1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BCB6-07F0-4C31-9288-BE67F75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802-911B-4E05-B45B-F0180CD7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028E-98FA-4B8F-94ED-5733E99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B4E7-F9EC-4F3C-BB0A-E5C03F2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749-4E66-4C55-935F-821336C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5F29-BD51-4FE4-8515-76C46012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672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028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672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028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B995-13BC-4F52-BE9E-73B0EB23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CAD-D6D7-4A6B-A984-A29F6816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141-0D29-4073-AF5C-0B443D9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8F6-E01C-4361-95FA-1FC0F47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04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F99-0211-44FD-841E-10BDD6E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4FE-7BA6-4BD0-819A-0B08620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FF8-2B06-433F-9511-59BEFE8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645-AFF7-4802-B24A-A0CA1B0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28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4840" y="6516360"/>
            <a:ext cx="9889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15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516360"/>
            <a:ext cx="21319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836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A0B401-786C-4B98-9922-497B23DA8C8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15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15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8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1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400060-F0EA-4A84-A349-9A89099E9A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26B866-3C75-4868-BE58-35B8B5EB85F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28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R&amp;D in the Norwegian National account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ut Ø. Sør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566640"/>
            <a:ext cx="2160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ed paper 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98A-6611-4BD8-B632-6F232DC3C3E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neral approach in Norwa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Norway has a project for compiling a satellite account, in which R&amp;D is mainly regarded as gross fixed capital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est in R&amp;D has several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ock of knowledge capital is wanted for use in analyses of growth and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 general interest in education, knowledge and R&amp;D in Norway (are we lagging behind other nations?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sed SNA: how to treat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100000"/>
              </a:lnSpc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have had a grant from Eurostat studying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tional accounts need to improve on some aspects of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100000"/>
              </a:lnSpc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to use R&amp;D statistics to supplement present sour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417-FAF6-4CDC-B133-A97FAE745D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neral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R&amp;D statistics, collected according to the Frascati Manual,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ion is compiled, using the Canberra group/NESTI brid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data from the foreign accounts (imports, exports), total supply = total use can be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R&amp;D for fixed capital formation is derived as a residual, based on estimates of exports, change in inventories and intermediate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846-D4F0-43EB-9E3A-1595192C3A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&amp;D capital stock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 stock is estimated with the PI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ndex is input price index for market production i NACE73 (business services: research and development services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service life set at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not an empirical estimate, but seems to be in line with assumptions used in oth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etails of the consumption of capital as for other (market)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BB7-3307-41E0-8A35-D0B809097F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in preliminary results for Norway 2005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GDP level, current pri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ich 60% is due to increased fixed capital formation in marke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GDP volume growt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ly no change in GNI at current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not introduced changes in the foreign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8C7-AD6D-41E7-BEE8-65430163D3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ridge table from GERD to p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D R&amp;D intramural expenditur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R&amp;D expenditure for invest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0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purchases of R&amp;D for intermediate con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consumption of capital for prod. of R&amp;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perating surplus from R&amp;D p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 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net other taxes on production of R&amp;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(?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adjustment for own account investmen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and oil exploration already includ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als production of R&amp;D services in th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u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0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696-89EF-482E-BFEA-C6B2D6EF87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06040"/>
            <a:ext cx="838188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apital services in R&amp;D p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o estimate the value of R&amp;D production, we have to add operating surplus and consumption of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one so on the basis of observations for the industry Nace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tio of consumption of capital to current operating costs for NACE73 is applied to the current operating costs stated in the R&amp;D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operating costs for Nace 73 could be adjusted for costs not included in the R&amp;D statistics, such as IC of R&amp;D and FI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tio of operating surplus to consumption of capital for Nace73 is applied to R&amp;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C66-42D6-40F9-87DA-0B8982410A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Capital services in R&amp;D production - 2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8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f capital services from R&amp;D-capital are important in producing R&amp;D-services in Nace73, this should be reflected in the observed operating surplus, even though R&amp;D-services are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8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f, alternatively, we would estimate all capital stocks involved in the R&amp;D-production in order to calculate capital services from each ty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irms in the business sector could change the use of their existing capital stocks to produce R&amp;D, this would not be reported as investment expenditure in the R&amp;D survey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&amp;D survey do not cover all types of capital (?) such as software or R&amp;D-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hen services from R&amp;D capital is specified, it is demanding to use this method to establish the R&amp;D capital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7760" y="622080"/>
            <a:ext cx="838188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ransactions in R&amp;D services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services produced by unit A and sold to unit B, should not be gross fixed capital formation in unit A, but in un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unit B combines the purchased services from A with its own R&amp;D and sell the combined result to another unit C, the R&amp;D should be capitalized in unit C. The value added by unit A should not be counted as value added also in unit B. In this case the purchase by B should be intermediate consumption of un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transactions in R&amp;D services are hard to find in the R&amp;D surveys, but are needed to get investments b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45C-93D5-434A-B8A2-152AD527F3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nut Ø Sørensen</dc:creator>
  <dc:description/>
  <dc:language>en-US</dc:language>
  <cp:lastModifiedBy>Dimova</cp:lastModifiedBy>
  <dcterms:modified xsi:type="dcterms:W3CDTF">2008-04-17T14:06:13Z</dcterms:modified>
  <cp:revision>5</cp:revision>
  <dc:subject/>
  <dc:title>R&amp;D in the Norwegian National accounts</dc:title>
</cp:coreProperties>
</file>