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8D08F-5A17-4CD1-8B7B-963CEBF92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2DEE4-9A14-4131-A53D-675982D89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3FA26-FBBA-471B-98CA-AE2F9A257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E499D-FE43-4279-80BC-6F607E45C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FA98E-47ED-412A-8142-65D3A9177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39B0B-DB61-4374-B7F5-C28FDCB16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C23FB-7412-4C40-9F6F-0E78C1969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80CC2-29BC-4485-894C-994E95E43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3AB96-5443-4CED-83E9-6FA6B8F74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3F542-6C5A-437B-8698-0F73DB438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419A4-94C9-4FA8-AA01-116A83054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C695D-DBEA-4429-9CF0-B32504C97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D2F41-8B26-4F9D-9AA3-6E82C0DDC8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0000"/>
                </a:solidFill>
                <a:latin typeface="Calibri"/>
              </a:rPr>
              <a:t> </a:t>
            </a:r>
            <a:r>
              <a:rPr b="1" lang="en-GB" sz="3200" spc="-1" strike="noStrike">
                <a:solidFill>
                  <a:srgbClr val="000000"/>
                </a:solidFill>
                <a:latin typeface="Calibri"/>
              </a:rPr>
              <a:t>JOINT UNECE/EUROSTAT/OECD MEETING ON NATIONAL ACCOUNTS, </a:t>
            </a:r>
            <a:br>
              <a:rPr sz="3200"/>
            </a:br>
            <a:r>
              <a:rPr b="1" lang="en-GB" sz="3200" spc="-1" strike="noStrike">
                <a:solidFill>
                  <a:srgbClr val="000000"/>
                </a:solidFill>
                <a:latin typeface="Calibri"/>
              </a:rPr>
              <a:t>GENEVA 22-24 APRIL</a:t>
            </a:r>
            <a:br>
              <a:rPr sz="4000"/>
            </a:br>
            <a:endParaRPr b="0" lang="en-US" sz="32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898989"/>
                </a:solidFill>
                <a:latin typeface="Calibri"/>
              </a:rPr>
              <a:t>DERIVING ESTIMATES OF GROSS FIXED CAPITAL FORMATION OF RESEARCH AND DEVELOPMENT USING R&amp;D SURVEY DATA </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898989"/>
                </a:solidFill>
                <a:latin typeface="Calibri"/>
              </a:rPr>
              <a:t>CHARLES ASPDEN</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898989"/>
                </a:solidFill>
                <a:latin typeface="Calibri"/>
              </a:rPr>
              <a:t>OECD</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
          <p:cNvSpPr/>
          <p:nvPr/>
        </p:nvSpPr>
        <p:spPr>
          <a:xfrm>
            <a:off x="6705720" y="190440"/>
            <a:ext cx="21603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genda item 2b</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vited paper 13</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ntroduction of R&amp;D GFCF in core accounts</a:t>
            </a: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ustralia 200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 and Canada 201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urope no earlier than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cope of R&amp;D GFCF</a:t>
            </a:r>
            <a:br>
              <a:rPr sz="4000"/>
            </a:br>
            <a:r>
              <a:rPr b="0" lang="en-GB" sz="4000" spc="-1" strike="noStrike">
                <a:solidFill>
                  <a:srgbClr val="000000"/>
                </a:solidFill>
                <a:latin typeface="Calibri"/>
              </a:rPr>
              <a:t>Definition of an asset</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30 An asset is a store of value representing a benefit or series of benefits accruing to the economic owner by holding or using the entity over a period of time. It is a means of transferring value from one accounting period to anoth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mplication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value of an R&amp;D asset is determined by the benefits accruing to its economic owner. This implies that any benefits accruing to other units are not included in the value of the asse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conomic owner and not legal owner – sometimes different because of licence agreeme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ssets are a means of transferring value from one accounting period to another, i.e. expected to produce benefits for more than a yea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illover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R&amp;D output – knowledge – spreads from the owner to other uni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blication of research pape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atent docume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bservation of owner’s activ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de freely availabl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ut it is only an asset for its owne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en if R&amp;D output is made freely available it is still an asset if it is expected to provide future economic benefits for its owner.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ical research undertaken by government and used in government hospita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dentifying those R&amp;D expenditures that should be recorded as GFCF</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amp;D undertaken with no expectation of economic benefits to the owner, or an affiliated unit, should be recorded as  intermediate consumption, not GFCF</a:t>
            </a:r>
            <a:endParaRPr b="0" lang="en-US" sz="3200" spc="-1" strike="noStrike">
              <a:solidFill>
                <a:srgbClr val="000000"/>
              </a:solidFill>
              <a:latin typeface="Calibri"/>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bably nearly all R&amp;D acquired by market producers should be recorded as GFCF.</a:t>
            </a:r>
            <a:endParaRPr b="0" lang="en-US" sz="3200" spc="-1" strike="noStrike">
              <a:solidFill>
                <a:srgbClr val="000000"/>
              </a:solidFill>
              <a:latin typeface="Calibri"/>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t probably not all R&amp;D acquired by non-market producers should be recorded as GFCF.</a:t>
            </a:r>
            <a:endParaRPr b="0" lang="en-US" sz="3200" spc="-1" strike="noStrike">
              <a:solidFill>
                <a:srgbClr val="000000"/>
              </a:solidFill>
              <a:latin typeface="Calibri"/>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ECD task force is investigating this issue</a:t>
            </a:r>
            <a:endParaRPr b="0" lang="en-US" sz="3200" spc="-1" strike="noStrike">
              <a:solidFill>
                <a:srgbClr val="000000"/>
              </a:solidFill>
              <a:latin typeface="Calibri"/>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mpiling estimates of R&amp;D GFCF </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GFCF mostly conducted on own account.  GFCF estimated by summing cos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R&amp;D surveys conducted in accordance with the Frascati Manual (FM) to be the principal data source -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M and SNA have same definition of R&amp;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M surveys conducted over many years for many countr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M surveys collect detailed expenditures on R&amp;D by performers, with similar, but not always the same, definitions as the SN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M data</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ntramural expenditures: all expenditures for R&amp;D performed in a unit, whatever the source of fund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urrent cost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abour (same as SN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ther (similar to intermediate consumption in SNA, but no allowance for changes in inventories)</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apital cost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and and buildings (combin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struments and equipment (including embodied softwar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puter software (purchases plus licence fe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M data</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M collects sources of funds by sector, but does not discriminate between transfers and purch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M also collects “extramural” expenditures: purchases of R&amp;D from other units and grants to other units, but not separately identifi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Outline of bridge tables – </a:t>
            </a:r>
            <a:br>
              <a:rPr sz="4000"/>
            </a:br>
            <a:r>
              <a:rPr b="0" lang="en-GB" sz="4000" spc="-1" strike="noStrike">
                <a:solidFill>
                  <a:srgbClr val="000000"/>
                </a:solidFill>
                <a:latin typeface="Calibri"/>
              </a:rPr>
              <a:t>From FM to SNA GFCF</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asic approach</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enditures on inputs by performers from FM survey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us import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quals total supply of R&amp;D,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se commodity flow approach to determine GFCF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accomplish this requires three kinds of bridges between the FM and SNA data: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tween FM sectors and SNA secto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tween FM’s expenditures on R&amp;D and SNA outpu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tween FM’s classifications of expenditures and funding, and the SNA supply and use tabl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nex 3 of the FM describes the differences and similarities in the SNA and FM treatments of R&amp;D. This includes a discussion of the differences in sectoring and the differences between SNA output and total intramural R&amp;D.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1523880" y="2171880"/>
          <a:ext cx="6096240" cy="2514600"/>
        </p:xfrm>
        <a:graphic>
          <a:graphicData uri="http://schemas.openxmlformats.org/drawingml/2006/table">
            <a:tbl>
              <a:tblPr/>
              <a:tblGrid>
                <a:gridCol w="3048120"/>
                <a:gridCol w="3048120"/>
              </a:tblGrid>
              <a:tr h="251280">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ea typeface="Times New Roman"/>
                        </a:rPr>
                        <a:t>OECD Frascati Manual</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ea typeface="Times New Roman"/>
                        </a:rPr>
                        <a:t>SNA</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2000">
                <a:tc rowSpan="2">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Business enterprise sector</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Non-financial corporations</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1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Financial corporations</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2000">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Government sector</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General government</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1280">
                <a:tc rowSpan="2">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Private non-profit sector</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NPISH</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1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Households</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2000">
                <a:tc rowSpan="3">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Higher education sector</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Corporations and quasi corporations</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1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General government</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2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NPISH</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1280">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Abroad</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Rest of world</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 name="Rectangle 1"/>
          <p:cNvSpPr/>
          <p:nvPr/>
        </p:nvSpPr>
        <p:spPr>
          <a:xfrm>
            <a:off x="3214440" y="97920"/>
            <a:ext cx="271476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000000"/>
              </a:buClr>
              <a:buFont typeface="Arial"/>
              <a:buChar char="•"/>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able 1: Linking FM and SNA Sectors</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ridge tables – </a:t>
            </a:r>
            <a:br>
              <a:rPr sz="2800"/>
            </a:br>
            <a:r>
              <a:rPr b="0" lang="en-GB" sz="2800" spc="-1" strike="noStrike">
                <a:solidFill>
                  <a:srgbClr val="000000"/>
                </a:solidFill>
                <a:latin typeface="Calibri"/>
              </a:rPr>
              <a:t> FM’s expenditures on R&amp;D and SNA output</a:t>
            </a:r>
            <a:endParaRPr b="0" lang="en-US" sz="28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rting with intramural expendit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d other taxes less subsidies not already includ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d extramural expenditures (excluding gra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d imputation for free labour provided by postgraduate student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place expenditures on land and buildings with the capital services they provi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cognition of R&amp;D as a fixed asset is one of the major changes in the new SN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ECD and EU task forces created to promote its implementation quickly, efficiently, and accurately , while achieving international comparabil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w OECD handbook to provide guidance on compiling estimates of intellectual property products (IPP)</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ridge tables – </a:t>
            </a:r>
            <a:br>
              <a:rPr sz="4000"/>
            </a:br>
            <a:r>
              <a:rPr b="0" lang="en-GB" sz="4000" spc="-1" strike="noStrike">
                <a:solidFill>
                  <a:srgbClr val="000000"/>
                </a:solidFill>
                <a:latin typeface="Calibri"/>
              </a:rPr>
              <a:t>Imports and Exports</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M funding data can provide estimates of imports by performers and the exports of perform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ed to be supplemented and reconciled using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rade in services da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eign direct investment data</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ridge tables –</a:t>
            </a:r>
            <a:br>
              <a:rPr sz="4000"/>
            </a:br>
            <a:r>
              <a:rPr b="0" lang="en-GB" sz="4000" spc="-1" strike="noStrike">
                <a:solidFill>
                  <a:srgbClr val="000000"/>
                </a:solidFill>
                <a:latin typeface="Calibri"/>
              </a:rPr>
              <a:t>Deriving GFCF</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utput + imports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ermediate consumption </a:t>
            </a:r>
            <a:r>
              <a:rPr b="0" i="1" lang="en-GB" sz="3200" spc="-1" strike="noStrike">
                <a:solidFill>
                  <a:srgbClr val="000000"/>
                </a:solidFill>
                <a:latin typeface="Calibri"/>
              </a:rPr>
              <a:t>pl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orts </a:t>
            </a:r>
            <a:r>
              <a:rPr b="0" i="1" lang="en-GB" sz="3200" spc="-1" strike="noStrike">
                <a:solidFill>
                  <a:srgbClr val="000000"/>
                </a:solidFill>
                <a:latin typeface="Calibri"/>
              </a:rPr>
              <a:t>pl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anges in inventories (only R&amp;D produced for sale) </a:t>
            </a:r>
            <a:r>
              <a:rPr b="0" i="1" lang="en-GB" sz="3200" spc="-1" strike="noStrike">
                <a:solidFill>
                  <a:srgbClr val="000000"/>
                </a:solidFill>
                <a:latin typeface="Calibri"/>
              </a:rPr>
              <a:t>pl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FC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dditional data requirements from FM surveys</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tramural expenditures and funding data need to distinguish betwe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rchases and transf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sident and non-resident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amural expenditures requi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a on other taxes and subsid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re detailed breakdown of capital expenditures to support the PI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Outstanding issues pursued by OECD Task Force</a:t>
            </a:r>
            <a:endParaRPr b="0" lang="en-US" sz="40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etermining practical means for identifying which R&amp;D expenditures should be recorded as GFCF</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ther boundary issues, such as avoiding double counting with other fixed asset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ervice lives for R&amp;D assets (for use in the PIM)</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rice indice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Measuring international trade in R&amp;D, including between affiliated unit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utline of presentation</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etails of the SNA recommend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mplementation proces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Quantitative impac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efinition of R&amp;D GFCF and its practical implement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pillove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Using FM R&amp;D survey dat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dditional data requiremen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Major outstanding issu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mmendation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Research and development should be treated as gross fixed capital formation in the SNA. It should be defined as in the </a:t>
            </a:r>
            <a:r>
              <a:rPr b="0" i="1" lang="en-GB" sz="2700" spc="-1" strike="noStrike">
                <a:solidFill>
                  <a:srgbClr val="000000"/>
                </a:solidFill>
                <a:latin typeface="Calibri"/>
              </a:rPr>
              <a:t>Frascati Manual</a:t>
            </a:r>
            <a:r>
              <a:rPr b="0" lang="en-GB" sz="2700" spc="-1" strike="noStrike">
                <a:solidFill>
                  <a:srgbClr val="000000"/>
                </a:solidFill>
                <a:latin typeface="Calibri"/>
              </a:rPr>
              <a:t>, namely “research and experimental development comprises creative work undertaken on a systematic basis in order to increase the stock of knowledge, including the knowledge of man, culture and society and use of this stock of knowledge to devise new applications.” This definition should not be interpreted as including human capital as capital formation within the SNA.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OECD </a:t>
            </a:r>
            <a:r>
              <a:rPr b="0" i="1" lang="en-GB" sz="2700" spc="-1" strike="noStrike">
                <a:solidFill>
                  <a:srgbClr val="000000"/>
                </a:solidFill>
                <a:latin typeface="Calibri"/>
              </a:rPr>
              <a:t>Frascati Manual 2002: Proposed Standard Practice for Surveys on Research and Experimental Developm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mmendation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y convention, since much R&amp;D is carried out on own account, it should be valued at cost. In practice, the information collected in accordance with the </a:t>
            </a:r>
            <a:r>
              <a:rPr b="0" i="1" lang="en-GB" sz="3000" spc="-1" strike="noStrike">
                <a:solidFill>
                  <a:srgbClr val="000000"/>
                </a:solidFill>
                <a:latin typeface="Calibri"/>
              </a:rPr>
              <a:t>Frascati Manual</a:t>
            </a:r>
            <a:r>
              <a:rPr b="0" lang="en-GB" sz="3000" spc="-1" strike="noStrike">
                <a:solidFill>
                  <a:srgbClr val="000000"/>
                </a:solidFill>
                <a:latin typeface="Calibri"/>
              </a:rPr>
              <a:t> will provide estimates of R&amp;D expenditure; discussion is ongoing to make adjustments to this Manual to meet the needs of the SNA more closely. It is recognised that a detailed guide to implementation will be desirable to assist implementation of this recommendation.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mmendation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l R&amp;D expenditure that is sold or is expected to bring a benefit in the future to its owner (including for the provision of public services in the case of R&amp;D undertaken by government) is included within the asset boundary. Only R&amp;D that brings no economic benefit discernable at the time of its completion is exclude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ith the inclusion of R&amp;D in the asset boundary, patented entities will no longer be separately identified as such in the system, but they will be subsumed into R&amp;D asset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ever…..</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ile there is strong support by countries for adopting these recommendations in the SNA, there is also considerable concern that it is premature to do so because of technical difficulties that have yet to be overcome. In conclusion, R&amp;D expenditure should be recognized, in principle, as part of capital formation. However, recognising the difficulties to be overcome before this objective can be reached, satellite accounts will provide a useful way of working towards solutions that give the appropriate level of confidence in the resulting measures and practical guidance on implementation will help to ensure international comparabilit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amp;D satellite accoun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untries such as Israel, Denmark, US, Netherlands and Australia have already compiled experimental estim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 BEA is taking a step-by-step approach and numerous papers are available on its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rom 2009 EU countries expected to compile satellite accou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8" descr=""/>
          <p:cNvPicPr/>
          <p:nvPr/>
        </p:nvPicPr>
        <p:blipFill>
          <a:blip r:embed="rId1"/>
          <a:stretch/>
        </p:blipFill>
        <p:spPr>
          <a:xfrm>
            <a:off x="0" y="428760"/>
            <a:ext cx="91440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9:25:13Z</dcterms:created>
  <dc:creator>Aspden_C</dc:creator>
  <dc:description/>
  <dc:language>en-US</dc:language>
  <cp:lastModifiedBy>Dimova</cp:lastModifiedBy>
  <dcterms:modified xsi:type="dcterms:W3CDTF">2008-04-20T12:45:30Z</dcterms:modified>
  <cp:revision>37</cp:revision>
  <dc:subject/>
  <dc:title>  Joint UNECE/Eurostat/OECD Meeting on National accounts,  Geneva 22-24 April </dc:title>
</cp:coreProperties>
</file>