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532-3E06-414E-B2C4-5BDC987C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6E2-06D7-4AB8-B0D7-7A97A6AF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E1C-00E8-479B-AB91-8C45447E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F58-611F-4F75-A95B-ABD12C1A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49F1-FD92-468F-8F8C-2F224B22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3DF3-C8F3-4C12-A3C9-A5885BC1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3C6C-2F90-45C2-A133-58C84F11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F366-27FB-4AF8-8116-9E0946B4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C360-20C2-4ECF-8D2F-8102BBBC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7AC5-68DF-4DBA-902D-5F7CC294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C9AD-66AE-439F-BA8C-52576CB0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2A5-CE08-45B1-8635-759EAEA8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4F32-0954-428A-98A1-A23A12B1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1767-3B46-41CC-B6F5-83FECAEC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95C6-5C80-4632-8B01-94D2E0B6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FF78-254D-4F87-A26B-2E334411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9A52-A7F5-459F-81DA-ADD0C632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A78-9C04-4563-93A4-961DAE7F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75E-81A8-4931-AFA0-3DC2B574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695-250A-43C4-A34C-F07C82DF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6B4-755A-4FB1-B3D4-3E80CDB8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C62-16DC-4D31-9E5D-2827CC20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386-9B5E-4593-985C-E4064311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5C9-F2CB-4185-9810-47763034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6BD5DF-04AD-41C9-95BB-9DAB4334567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0FC614-A20D-42C6-9D88-A7A7CE9BDD00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1052640"/>
            <a:ext cx="532908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Update of the 1993 SNA: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reatment of</a:t>
            </a: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 Uni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van de 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694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Non-resident unincorporated enterprise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8000" y="1773000"/>
            <a:ext cx="7056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n notional resident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PM: Significant production, long period of time, physical presence, full set of accounts, pay income tax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NA 1993: Always notional resident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hysical presence not needed (e.g. financial intermed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ull set of accounts too restri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bject to, not paying, incom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ications, not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4920" y="765000"/>
            <a:ext cx="662292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wo related problems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4760" y="1989000"/>
            <a:ext cx="698796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ts conducting ancillary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lding companies, special purpose entities (SPEs), trus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ventually: Non-resident unincorporated enterpr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4920" y="476280"/>
            <a:ext cx="662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ncillary activities: definition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70567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cillary activity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porting activity undertaken within an enterprise in order to create the conditions within which the principal or secondary activities can be carried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ampl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urchasing of materials and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iring, training, managing and paying employ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oring materials or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ales promo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leaning and maintenance of buil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y be done in separate establishment of corpor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694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ncillary activities: present treatment and related problem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8000" y="2205000"/>
            <a:ext cx="70567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NA 1993: No separate establishment (or corporation) =&gt; costs to be allocated to the establishments being 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blems related to present treat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ribution and role of “ancillary activiti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composition of GDP by economic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tion of regional G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694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ncillary activities: proposed treatment 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8000" y="2205000"/>
            <a:ext cx="70567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 exception for ancillary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s undertaking ancillary activities should be recognised as separate establishments (or corporations), if they satisfy general criteria for an establishment (or corpo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aluation of output: sum of costs, including costs of capital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 of output: according to indicators such as output, value added, or em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4920" y="47628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Holdings, SPEs, trusts, etc.: definition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7640" y="1699920"/>
            <a:ext cx="66963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s engaged in activities serving other units within an enterprise group (or within government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rol and direct subsidi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se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porate treas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curit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lated to issue of ancillary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ften little or no employment, or physical presence, often non-resident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360" y="549360"/>
            <a:ext cx="6765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Holdings, SPEs, trusts, etc.: present treatment and related problem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8000" y="2276640"/>
            <a:ext cx="70567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NA 199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most cases no explicit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ldings: separate institutional units, to be classified according to subsidi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E’s, trusts, etc.: not always clear =&gt; ancillary corporations? =&gt; consolidation with the parent compan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resident units owned by non-resident un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694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Holdings, SPEs, trusts, etc.: proposed treatment 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705672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ldings: separate institutional units, to be classified as other financial intermediaries (not according to subsidiar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resident SPEs: always separate (notional) institutional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sident SPEs: not institutional unit, unless they satisfy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assification according activity of S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usts: separate institutional units, to be classified as other financial intermedi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694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Holdings, SPEs, trusts, etc.: proposed treatment (continued)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2060280"/>
            <a:ext cx="705672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resident SPEs controlled by government: treatment should reflect economic reality (i.c. fiscal activities of government) appropri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structuring agencies of government: some specific recommendations; see relevant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08:31:01Z</dcterms:created>
  <dc:creator>C. van der Vlis</dc:creator>
  <dc:description/>
  <dc:language>en-US</dc:language>
  <cp:lastModifiedBy>CBS</cp:lastModifiedBy>
  <cp:lastPrinted>2000-11-27T12:22:31Z</cp:lastPrinted>
  <dcterms:modified xsi:type="dcterms:W3CDTF">2006-04-22T20:09:37Z</dcterms:modified>
  <cp:revision>345</cp:revision>
  <dc:subject/>
  <dc:title>Veel gestelde vragen en antwoord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1286607</vt:r8>
  </property>
  <property fmtid="{D5CDD505-2E9C-101B-9397-08002B2CF9AE}" pid="3" name="_AuthorEmail">
    <vt:lpwstr>Peter.van.de.Ven@vodafone.nl</vt:lpwstr>
  </property>
  <property fmtid="{D5CDD505-2E9C-101B-9397-08002B2CF9AE}" pid="4" name="_AuthorEmailDisplayName">
    <vt:lpwstr>Peter van de Ven</vt:lpwstr>
  </property>
  <property fmtid="{D5CDD505-2E9C-101B-9397-08002B2CF9AE}" pid="5" name="_EmailSubject">
    <vt:lpwstr>Geneva Meeting on NA, power point presentations</vt:lpwstr>
  </property>
  <property fmtid="{D5CDD505-2E9C-101B-9397-08002B2CF9AE}" pid="6" name="_PreviousAdHocReviewCycleID">
    <vt:r8>-2018469033</vt:r8>
  </property>
</Properties>
</file>