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436B-E53B-4E98-A45F-FDC11897B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904760" y="4130640"/>
            <a:ext cx="655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34AD-6965-46B5-BDAF-2CB651D92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90476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6284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D7E7-B15A-4F85-A5CC-CD60055B7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120560" y="198108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36360" y="198108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904760" y="413064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120560" y="413064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36360" y="413064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527C-8F83-4378-AB50-EC5CAF2F6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15E79-C3CF-4238-A049-6BE43DE1D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C5453-17AF-4C3F-93EE-B6D893A24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C8342-6C83-47EE-8667-81AB68271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35FC0-7BAD-4E29-9BBE-689BE09EC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05EE7-DEE1-4A55-BE15-5F4C1003A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904760" y="990360"/>
            <a:ext cx="65530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4C7BE-DE8A-41D8-A3FC-74DD965E9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90476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9AAFD-96D8-470F-A98F-5BE044550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E428-F960-409D-96D9-994C5CCFD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26284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8102B-7BC4-46C7-BD63-408178EF9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904760" y="4130640"/>
            <a:ext cx="655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7904A-E491-4769-8CD2-60C0B850B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904760" y="4130640"/>
            <a:ext cx="655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8E5B1-28A5-4A1F-BF78-251EB9322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90476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26284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5E452-B2F7-47EE-97FB-6E9381F92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120560" y="198108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36360" y="198108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904760" y="413064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120560" y="413064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36360" y="413064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02E2E-17EB-4095-90C3-5DB28D420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6B3F-DA02-4351-BEB0-975A60572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E7CB-B7B6-4A66-899D-A217F0F74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2215-9C1C-4704-9111-5B8E03D05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904760" y="990360"/>
            <a:ext cx="65530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FE61-690E-405C-A9A9-65C81323F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90476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515F-8BC6-4F8B-B003-63C375971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6284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5235-93FF-4021-94DD-F07638199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904760" y="4130640"/>
            <a:ext cx="655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131C-7C56-4364-9D2A-C521F8B3F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7628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52560" indent="-282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82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05120" indent="-282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905120" indent="-282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905120" indent="-282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B13E611-EAE5-46C9-8544-84DA38DDE934}" type="slidenum">
              <a:rPr b="0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1600200" cy="685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326880" y="5715000"/>
            <a:ext cx="517680" cy="868320"/>
          </a:xfrm>
          <a:prstGeom prst="rect">
            <a:avLst/>
          </a:prstGeom>
          <a:ln w="0">
            <a:noFill/>
          </a:ln>
        </p:spPr>
      </p:pic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72E78CD-8C2C-40F5-9E75-B4FAE134B757}" type="slidenum">
              <a:rPr b="0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1600200" cy="685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26880" y="5715000"/>
            <a:ext cx="517680" cy="8683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90440" indent="0" algn="ctr"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66996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146240" algn="ctr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622520" algn="ctr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62252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62252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79280" y="1052640"/>
            <a:ext cx="5329080" cy="180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00"/>
                </a:solidFill>
                <a:latin typeface="Arial"/>
              </a:rPr>
              <a:t>Update of the 1993 SNA:</a:t>
            </a:r>
            <a:br>
              <a:rPr sz="3200"/>
            </a:br>
            <a:br>
              <a:rPr sz="3200"/>
            </a:br>
            <a:r>
              <a:rPr b="1" lang="nl-NL" sz="3200" spc="-1" strike="noStrike">
                <a:solidFill>
                  <a:srgbClr val="ffff00"/>
                </a:solidFill>
                <a:latin typeface="Arial"/>
              </a:rPr>
              <a:t>The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Treatment of</a:t>
            </a:r>
            <a:r>
              <a:rPr b="1" lang="nl-NL" sz="3200" spc="-1" strike="noStrike">
                <a:solidFill>
                  <a:srgbClr val="ffff00"/>
                </a:solidFill>
                <a:latin typeface="Arial"/>
              </a:rPr>
              <a:t> Units</a:t>
            </a: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ter van de V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63640" y="476280"/>
            <a:ext cx="669456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Non-resident unincorporated enterprises</a:t>
            </a: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08000" y="1773000"/>
            <a:ext cx="7056720" cy="460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hen notional resident un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PM: Significant production, long period of time, physical presence, full set of accounts, pay income tax,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NA 1993: Always notional resident un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hysical presence not needed (e.g. financial intermedia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ull set of accounts too restric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ubject to, not paying, income ta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dications, not guidel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834920" y="765000"/>
            <a:ext cx="6622920" cy="93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wo related problems</a:t>
            </a: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904760" y="1989000"/>
            <a:ext cx="6987960" cy="460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Units conducting ancillary activiti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Holding companies, special purpose entities (SPEs), trusts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ventually: Non-resident unincorporated enterpr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834920" y="476280"/>
            <a:ext cx="662292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Ancillary activities: definition</a:t>
            </a: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908000" y="1557000"/>
            <a:ext cx="7056720" cy="51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ncillary activity =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upporting activity undertaken within an enterprise in order to create the conditions within which the principal or secondary activities can be carried ou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xample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urchasing of materials and equip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Hiring, training, managing and paying employe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toring materials or equip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ales promo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Cleaning and maintenance of buildin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ay be done in separate establishment of corpor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63640" y="476280"/>
            <a:ext cx="669456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Ancillary activities: present treatment and related problems</a:t>
            </a: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908000" y="2205000"/>
            <a:ext cx="705672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NA 1993: No separate establishment (or corporation) =&gt; costs to be allocated to the establishments being serv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oblems related to present treatmen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ribution and role of “ancillary activities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ecomposition of GDP by economic activ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mpilation of regional GD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63640" y="476280"/>
            <a:ext cx="669456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Ancillary activities: proposed treatment </a:t>
            </a: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908000" y="2205000"/>
            <a:ext cx="705672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o exception for ancillary activ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nits undertaking ancillary activities should be recognised as separate establishments (or corporations), if they satisfy general criteria for an establishment (or corpora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Valuation of output: sum of costs, including costs of capital u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 of output: according to indicators such as output, value added, or employ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834920" y="476280"/>
            <a:ext cx="684036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Holdings, SPEs, trusts, etc.: definition</a:t>
            </a: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907640" y="1699920"/>
            <a:ext cx="6696360" cy="48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nits engaged in activities serving other units within an enterprise group (or within government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rol and direct subsidia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sset man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rporate treasu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ecuritis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elated to issue of ancillary activ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ften little or no employment, or physical presence, often non-resident un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92360" y="549360"/>
            <a:ext cx="676584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Holdings, SPEs, trusts, etc.: present treatment and related problems</a:t>
            </a: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908000" y="2276640"/>
            <a:ext cx="705672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NA 1993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 most cases no explicit guidel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oldings: separate institutional units, to be classified according to subsidia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PE’s, trusts, etc.: not always clear =&gt; ancillary corporations? =&gt; consolidation with the parent compan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hat about resident units owned by non-resident unit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63640" y="476280"/>
            <a:ext cx="669456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Holdings, SPEs, trusts, etc.: proposed treatment </a:t>
            </a: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08000" y="1989000"/>
            <a:ext cx="7056720" cy="43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oldings: separate institutional units, to be classified as other financial intermediaries (not according to subsidiari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P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on-resident SPEs: always separate (notional) institutional un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esident SPEs: not institutional unit, unless they satisfy crite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lassification according activity of S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rusts: separate institutional units, to be classified as other financial intermedia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63640" y="476280"/>
            <a:ext cx="669456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Holdings, SPEs, trusts, etc.: proposed treatment (continued)</a:t>
            </a: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08000" y="2060280"/>
            <a:ext cx="7056720" cy="432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on-resident SPEs controlled by government: treatment should reflect economic reality (i.c. fiscal activities of government) appropriate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estructuring agencies of government: some specific recommendations; see relevant pap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3T08:31:01Z</dcterms:created>
  <dc:creator>C. van der Vlis</dc:creator>
  <dc:description/>
  <dc:language>en-US</dc:language>
  <cp:lastModifiedBy>CBS</cp:lastModifiedBy>
  <cp:lastPrinted>2000-11-27T12:22:31Z</cp:lastPrinted>
  <dcterms:modified xsi:type="dcterms:W3CDTF">2006-04-22T20:09:37Z</dcterms:modified>
  <cp:revision>345</cp:revision>
  <dc:subject/>
  <dc:title>Veel gestelde vragen en antwoorde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451286607</vt:r8>
  </property>
  <property fmtid="{D5CDD505-2E9C-101B-9397-08002B2CF9AE}" pid="3" name="_AuthorEmail">
    <vt:lpwstr>Peter.van.de.Ven@vodafone.nl</vt:lpwstr>
  </property>
  <property fmtid="{D5CDD505-2E9C-101B-9397-08002B2CF9AE}" pid="4" name="_AuthorEmailDisplayName">
    <vt:lpwstr>Peter van de Ven</vt:lpwstr>
  </property>
  <property fmtid="{D5CDD505-2E9C-101B-9397-08002B2CF9AE}" pid="5" name="_EmailSubject">
    <vt:lpwstr>Geneva Meeting on NA, power point presentations</vt:lpwstr>
  </property>
  <property fmtid="{D5CDD505-2E9C-101B-9397-08002B2CF9AE}" pid="6" name="_PreviousAdHocReviewCycleID">
    <vt:r8>-2018469033</vt:r8>
  </property>
</Properties>
</file>