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A70E-4C39-4D7C-BE8F-478C926E0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6944-46E2-4A7E-A116-00C39B0EF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5E13-59F1-4597-BAD9-63C9AEE3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4BF6-CD72-480F-B8D5-0235A67CF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BFDF-C8EA-45A8-8C5E-3BB7A9C51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5350-3B80-40D4-ADBD-C7BDEAFD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310F-EA60-4E95-9EE5-A6928FF1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27FD-404F-4EFD-B8DA-B7B9E9B2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EFEA-F5DB-4C3B-95CE-A12FDBE3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3950-7B0A-46F3-99DD-7DE0684E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06C8-C08B-4BD1-9D00-3BAB502D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5B92-541F-4858-9194-17D8E841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D387-8FD2-4340-A43A-0B6816FA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-1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11360" y="496800"/>
            <a:ext cx="7721280" cy="748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656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1828800"/>
            <a:ext cx="772164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flipV="1">
            <a:off x="685800" y="6171480"/>
            <a:ext cx="7797960" cy="7452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08080"/>
                </a:solidFill>
                <a:latin typeface="Arial"/>
              </a:rPr>
              <a:t>INTERNATIONAL MONETARY FUN</a:t>
            </a: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D</a:t>
            </a:r>
            <a:br>
              <a:rPr sz="2000"/>
            </a:br>
            <a:r>
              <a:rPr b="1" lang="en-US" sz="3000" spc="-1" strike="noStrike">
                <a:solidFill>
                  <a:srgbClr val="008080"/>
                </a:solidFill>
                <a:latin typeface="Arial"/>
              </a:rPr>
              <a:t> </a:t>
            </a:r>
            <a:br>
              <a:rPr sz="3000"/>
            </a:br>
            <a:endParaRPr b="1" lang="en-US" sz="30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1096920" cy="1073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580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Arial"/>
              </a:rPr>
              <a:t>Tax Reven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Arial"/>
              </a:rPr>
              <a:t>Uncollectible Tax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Arial"/>
              </a:rPr>
              <a:t>Tax Cred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4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"/>
              </a:rPr>
              <a:t>Adriaan Blo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4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"/>
              </a:rPr>
              <a:t>Assistant Dir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4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"/>
              </a:rPr>
              <a:t>Real Sector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C1F4-0A1A-4037-A4DE-FC3BECB28B1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AEG’s Recommendation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EG reaffirmed the accrual basis for recording tax revenu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principle of not including uncollectible taxes (net recording method) was agree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Tax Credits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1993 SNA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es not make recommendations on treatment of tax credit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wo types of tax credit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yable – if the tax credit owed to a taxpayer exceeds his/her tax liability, the difference is paid ou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-payable – the tax credit to an individual is limited to his/her tax liability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Tax Credits </a:t>
            </a:r>
            <a:r>
              <a:rPr b="1" i="1" lang="en-US" sz="3600" spc="-1" strike="noStrike">
                <a:solidFill>
                  <a:srgbClr val="008080"/>
                </a:solidFill>
                <a:latin typeface="Arial"/>
              </a:rPr>
              <a:t>Continued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on-payable tax credits are recorded as reducing tax revenu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ayable tax credits – debate about how to recor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t – amount of tax credit up to a taxpayers tax liability recorded as reducing tax revenue, and amount paid out in excess recorded as government expendi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oss – tax revenue not reduced, and full amount of tax credit (not just the excess over the tax liability) recorded as tax expen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AEG’s Recommendation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AEG recommended that payable tax credits should be recorded on a gross basis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the presentation being such that it would permit the derivation of tax credits on a net basis as wel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CONTENT</a:t>
            </a:r>
            <a:endParaRPr b="1" lang="en-US" sz="3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ackground and contex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ax revenues (definition and coverage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isory Expert Group (AEG) recommend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crual basis of recording of tax revenue (including uncollectible taxes issue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G recommend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ax credit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G recommend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Background And Context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view of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SNA 1993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aper prepared by Task Force on the Harmonization of Public Sector Accounting (TFHPSA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ed by AEG  at its July 2005 Bangkok meeting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Tax Revenue</a:t>
            </a:r>
            <a:br>
              <a:rPr sz="3200"/>
            </a:b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Definition And Coverage</a:t>
            </a:r>
            <a:endParaRPr b="1" lang="en-US" sz="3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urrent SNA definition of tax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ulsory, unrequited payments to government.’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sues related to the borderline between taxes, fees, licenses and permits are significan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Taxes Versus Fees, Licenses And Permits</a:t>
            </a:r>
            <a:endParaRPr b="1" lang="en-US" sz="3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ees, licenses and permits can be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requited transactions (usually a tax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ted transa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urchase of a servic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quisition of an asse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label (tax, fee etc) is not determinant of classification, bu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ther a service is received by the payer approximately commensurate with the amount paid determines whether it is a fee or tax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AEG’s Recommendation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AEG supported the general definition of tax revenue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amples should be provided to illustrate the underlying concepts (particularly on the issue of fees, licenses and permits)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t these should not be seen as exhaustive or prescriptiv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ussions on distinction taxes-licenses are still ongoing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Tax – Accrual Recording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eneral principle of accrual recording ‘Flows are recorded when economic value is created, transformed, exchanged or extinguished and not when cash payments are made.’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lexibility is permitted in practice for taxes because reliable estimates of the amount of tax may not be known until time of tax assessmen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-adjusted cash metho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ment of due tax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Tax – Accrual Recording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nresolved issue: prepaid tax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rue over reference perio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 in period of pay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Uncollectible Tax 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ncollectible tax is the difference between what is actually collected and what has theoretically accrue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wo methods of accounting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t – only record as tax the amount that is realistically expected to be collec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oss – record all tax that has theoretically accrued and record a transfer for the amount not collec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15:51:23Z</dcterms:created>
  <dc:creator>rshepherd</dc:creator>
  <dc:description/>
  <dc:language>en-US</dc:language>
  <cp:lastModifiedBy>abloem</cp:lastModifiedBy>
  <dcterms:modified xsi:type="dcterms:W3CDTF">2006-04-18T19:16:09Z</dcterms:modified>
  <cp:revision>12</cp:revision>
  <dc:subject/>
  <dc:title>Slide 1</dc:title>
</cp:coreProperties>
</file>