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C3AC-71CC-4FA1-ABCB-2DF0ADD1E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9CC-68BA-4780-B663-3267B1A5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A0E-935F-4503-B352-2503229C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5FE7-EAA5-4213-BDB7-20CDB447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095-6951-4474-9C87-EE6E1C27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BFE-D442-4154-8D93-8BD6027E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FA3-4B59-42B6-980B-279CADC2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CC9-887E-4622-AEEF-C1B425E0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B96-6EFA-4120-BD38-5FE15038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371-6B43-4458-BCB8-55BF6C40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5D3-2B9C-47B2-8784-E0D0A500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35F-668A-4319-A904-2C0164B7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756-3D68-49D5-BE0B-58B60918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-1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11360" y="496800"/>
            <a:ext cx="7721280" cy="748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656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828800"/>
            <a:ext cx="772164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685800" y="6171480"/>
            <a:ext cx="7797960" cy="7452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8080"/>
                </a:solidFill>
                <a:latin typeface="Arial"/>
              </a:rPr>
              <a:t>INTERNATIONAL MONETARY FUN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D</a:t>
            </a:r>
            <a:br>
              <a:rPr sz="2000"/>
            </a:br>
            <a:r>
              <a:rPr b="1" lang="en-US" sz="3000" spc="-1" strike="noStrike">
                <a:solidFill>
                  <a:srgbClr val="008080"/>
                </a:solidFill>
                <a:latin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096920" cy="107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Tax Re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Uncollectible Ta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Tax Cred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Adriaan 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Assistant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Real Sector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E54-F73B-4ED4-93AF-BE13640DC3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AEG’s Recommendation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EG reaffirmed the accrual basis for recording tax revenu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rinciple of not including uncollectible taxes (net recording method) was agre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Tax Credit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1993 SNA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es not make recommendations on treatment of tax credit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wo types of tax credit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yable – if the tax credit owed to a taxpayer exceeds his/her tax liability, the difference is paid ou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payable – the tax credit to an individual is limited to his/her tax liability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Tax Credits </a:t>
            </a:r>
            <a:r>
              <a:rPr b="1" i="1" lang="en-US" sz="3600" spc="-1" strike="noStrike">
                <a:solidFill>
                  <a:srgbClr val="008080"/>
                </a:solidFill>
                <a:latin typeface="Arial"/>
              </a:rPr>
              <a:t>Continued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n-payable tax credits are recorded as reducing tax revenu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yable tax credits – debate about how to recor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 – amount of tax credit up to a taxpayers tax liability recorded as reducing tax revenue, and amount paid out in excess recorded as government expendi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ss – tax revenue not reduced, and full amount of tax credit (not just the excess over the tax liability) recorded as tax expen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AEG’s Recommendation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EG recommended that payable tax credits should be recorded on a gross basis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presentation being such that it would permit the derivation of tax credits on a net basis as wel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CONTENT</a:t>
            </a: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ackground and contex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x revenues (definition and coverage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isory Expert Group (AEG) recommend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rual basis of recording of tax revenue (including uncollectible taxes issue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G recommend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x credi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G recommend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Background And Context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view of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SNA 199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per prepared by Task Force on the Harmonization of Public Sector Accounting (TFHPSA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ed by AEG  at its July 2005 Bangkok meeti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Tax Revenue</a:t>
            </a:r>
            <a:br>
              <a:rPr sz="3200"/>
            </a:b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Definition And Coverage</a:t>
            </a: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rrent SNA definition of tax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lsory, unrequited payments to government.’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sues related to the borderline between taxes, fees, licenses and permits are significa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Taxes Versus Fees, Licenses And Permits</a:t>
            </a: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ees, licenses and permits can be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requited transactions (usually a tax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ted transa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urchase of a serv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quisition of an asse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label (tax, fee etc) is not determinant of classification, bu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ther a service is received by the payer approximately commensurate with the amount paid determines whether it is a fee or tax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AEG’s Recommendation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EG supported the general definition of tax revenue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s should be provided to illustrate the underlying concepts (particularly on the issue of fees, licenses and permits)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these should not be seen as exhaustive or prescriptiv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ussions on distinction taxes-licenses are still ongoin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Tax – Accrual Recording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neral principle of accrual recording ‘Flows are recorded when economic value is created, transformed, exchanged or extinguished and not when cash payments are made.’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lexibility is permitted in practice for taxes because reliable estimates of the amount of tax may not be known until time of tax assess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-adjusted cash metho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ment of due tax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Tax – Accrual Recording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resolved issue: prepaid tax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rue over reference perio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in period of pay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Uncollectible Tax 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collectible tax is the difference between what is actually collected and what has theoretically accru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wo methods of accounti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 – only record as tax the amount that is realistically expected to be collec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ss – record all tax that has theoretically accrued and record a transfer for the amount not collec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5:51:23Z</dcterms:created>
  <dc:creator>rshepherd</dc:creator>
  <dc:description/>
  <dc:language>en-US</dc:language>
  <cp:lastModifiedBy>abloem</cp:lastModifiedBy>
  <dcterms:modified xsi:type="dcterms:W3CDTF">2006-04-18T19:16:09Z</dcterms:modified>
  <cp:revision>12</cp:revision>
  <dc:subject/>
  <dc:title>Slide 1</dc:title>
</cp:coreProperties>
</file>