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E39CBF-C88E-40E1-BCF9-2A0878E303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7C0E97-71B5-443C-AE7C-C2165F693B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2C5E36-B9E9-4D72-BADA-2031853028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EFAEC2-8699-4040-9D5B-5B91E7C1CD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4A8241-5141-43E4-8308-BB8690FF39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C2727C-B079-49C9-84DF-B9D1E1B5EA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ACA52E-7B38-49B0-B244-CE1A19222D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7CCC74-79C9-4EF5-B3D4-5D70311DBD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5ED0E8-1F08-41BE-893A-BD8024D0D3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2FC2B-9623-4C47-921A-45CAB8F0F0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55C4A-8601-485B-A686-85450CD374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743565-1661-4FE3-9EEB-C4629E89DB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5A416-B08B-469F-8167-2AC19CEB36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Joint meeting on national accounts</a:t>
            </a:r>
            <a:br>
              <a:rPr sz="4000"/>
            </a:br>
            <a:r>
              <a:rPr b="0" lang="en-GB" sz="4000" spc="-1" strike="noStrike">
                <a:solidFill>
                  <a:srgbClr val="000000"/>
                </a:solidFill>
                <a:latin typeface="Arial"/>
              </a:rPr>
              <a:t>Geneva, April 2006</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pdate of the 1993 SNA</a:t>
            </a:r>
            <a:br>
              <a:rPr sz="3200"/>
            </a:br>
            <a:r>
              <a:rPr b="0" lang="en-GB" sz="3200" spc="-1" strike="noStrike">
                <a:solidFill>
                  <a:srgbClr val="000000"/>
                </a:solidFill>
                <a:latin typeface="Arial"/>
              </a:rPr>
              <a:t>Leases and licen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Use of natural resources cont.</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re remain some unresolved issues:</a:t>
            </a:r>
            <a:endParaRPr b="0" lang="en-US" sz="3200" spc="-1" strike="noStrike">
              <a:solidFill>
                <a:srgbClr val="000000"/>
              </a:solidFill>
              <a:latin typeface="Arial"/>
            </a:endParaRPr>
          </a:p>
          <a:p>
            <a:pPr lvl="1" marL="990720" indent="-533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o fishing quotas represent assets to the holders? Can this be generalised to quotas, licences, etc. for all protected plant and animal species?</a:t>
            </a:r>
            <a:endParaRPr b="0" lang="en-US" sz="2800" spc="-1" strike="noStrike">
              <a:solidFill>
                <a:srgbClr val="000000"/>
              </a:solidFill>
              <a:latin typeface="Arial"/>
            </a:endParaRPr>
          </a:p>
          <a:p>
            <a:pPr lvl="1" marL="990720" indent="-533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hould emission permits be recorded as taxes in the first instance and assets when they are traded in secondary markets or as assets from inception? Does this generalise to all assets used as sink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haring the ownership of asset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en the economic but not legal ownership of an asset changes between the lessee and lessor over its life how should this be recorded in the accoun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o be further considered by the AEG using worked examples that show how different options would be recorded in the account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ermissions to engage in specific activities</a:t>
            </a: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se are permissions to undertake a specific activity and do NOT relate to the use of an asset belonging to the issuer of the permit. </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 dichotomy has been made between those permits which are restricted (e.g. casino licences, taxi licences) and those which are not (e.g. recreational hunting and fishing permit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ermissions to engage in specific activities cont.</a:t>
            </a:r>
            <a:endParaRPr b="0" lang="en-US" sz="40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or unrestricted permits there is agreement that the current 1993 SNA treatment is OK.  </a:t>
            </a: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f the fee paid represents a commensurate amount of work for the government to issue the permit or provide services, then the fee is treated as a fee for a service.  Otherwise the fee paid is a tax.</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ermissions to engage in specific activities cont.</a:t>
            </a: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EG has not yet reached agreement on the treatment of restricted permits:</a:t>
            </a:r>
            <a:endParaRPr b="0" lang="en-US" sz="2800" spc="-1" strike="noStrike">
              <a:solidFill>
                <a:srgbClr val="000000"/>
              </a:solidFill>
              <a:latin typeface="Arial"/>
            </a:endParaRPr>
          </a:p>
          <a:p>
            <a:pPr lvl="1" marL="990720" indent="-533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it a tax or the sale of an asset?</a:t>
            </a:r>
            <a:endParaRPr b="0" lang="en-US" sz="2400" spc="-1" strike="noStrike">
              <a:solidFill>
                <a:srgbClr val="000000"/>
              </a:solidFill>
              <a:latin typeface="Arial"/>
            </a:endParaRPr>
          </a:p>
          <a:p>
            <a:pPr lvl="1" marL="990720" indent="-533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payment is treated as a tax and the permit is valid for several years, should it be recorded as</a:t>
            </a:r>
            <a:endParaRPr b="0" lang="en-US" sz="2400" spc="-1" strike="noStrike">
              <a:solidFill>
                <a:srgbClr val="000000"/>
              </a:solidFill>
              <a:latin typeface="Arial"/>
            </a:endParaRPr>
          </a:p>
          <a:p>
            <a:pPr lvl="2" marL="1371600" indent="-4572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prepayment of taxes on the balance sheet of the permit holder with a corresponding liability on the government’s balance sheet, or</a:t>
            </a:r>
            <a:endParaRPr b="0" lang="en-US" sz="2000" spc="-1" strike="noStrike">
              <a:solidFill>
                <a:srgbClr val="000000"/>
              </a:solidFill>
              <a:latin typeface="Arial"/>
            </a:endParaRPr>
          </a:p>
          <a:p>
            <a:pPr lvl="2" marL="1371600" indent="-4572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non-produced, non-financial asset on the balance sheet of the permit holder?</a:t>
            </a:r>
            <a:endParaRPr b="0" lang="en-US" sz="2000" spc="-1" strike="noStrike">
              <a:solidFill>
                <a:srgbClr val="000000"/>
              </a:solidFill>
              <a:latin typeface="Arial"/>
            </a:endParaRPr>
          </a:p>
          <a:p>
            <a:pPr lvl="1" marL="990720" indent="-533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oes the choice depend on whether the payment for the permit is refund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Future provision of goods</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AEG has agreed th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most cases agreements to provide goods are not assets, but for the future provision of goods if a gap opens between the contract price and the prevailing market price and the contract is tradable then there is an ass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Future provision of services</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AEG agreed that if a gap opens between the contract price and the prevailing market price for the provision of a service in the future and the contract is tradable then there is a non-produced, non-financial asset in the group “contracts, leases and licences”. Examples include the contracts of football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repayments and non-refundable deposits</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AEG agreed that:</a:t>
            </a:r>
            <a:endParaRPr b="0" lang="en-US" sz="2800" spc="-1" strike="noStrike">
              <a:solidFill>
                <a:srgbClr val="000000"/>
              </a:solidFill>
              <a:latin typeface="Arial"/>
            </a:endParaRPr>
          </a:p>
          <a:p>
            <a:pPr lvl="1" marL="990720" indent="-533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repayments may be a prepayment for a service in the case of an operating lease, property income in the case of a resource lease, the acquisition of an asset in the case of a financial lease and possibly the prepayment of a tax - depending on the nature of the agreement. </a:t>
            </a:r>
            <a:endParaRPr b="0" lang="en-US" sz="2400" spc="-1" strike="noStrike">
              <a:solidFill>
                <a:srgbClr val="000000"/>
              </a:solidFill>
              <a:latin typeface="Arial"/>
            </a:endParaRPr>
          </a:p>
          <a:p>
            <a:pPr lvl="1" marL="990720" indent="-533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f a party to a collective project contributes an asset in lieu of a financial payment, the SNA treatment should be to impute a financial transaction and acquisition of an asset in a similar way to the treatment of wages in kin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repayments and non-refundable deposits – cont.</a:t>
            </a: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to treat non-refundable deposits is unresolv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Next step</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standing points will be addressed by the AEG shortly via electronic communica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ummary</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cope comprises leases, licences, permits and other contract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ervasive in the SNA, but not dealt with in a completely coherent and comprehensive way. The primary goal is to rectify this situ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t is a broad topic with a number of conceptually difficult issues and while the AEG has made a number of important recommendations, there remain some outstanding matter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cope</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re are many points: most in Issue  21 Leases and licences, but also touched on in other “issues”, such as</a:t>
            </a:r>
            <a:endParaRPr b="0" lang="en-US" sz="32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1 Originals and copies</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8 Right to use/exploit natural resources between residents and non-residents</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28 Amortization of tangible and intangible non-produced assets</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31 Valuation of water</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35 Tax revenue, etc.</a:t>
            </a:r>
            <a:endParaRPr b="0" lang="en-US" sz="28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oints being addressed</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 of assets</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ixed assets</a:t>
            </a:r>
            <a:endParaRPr b="0" lang="en-US" sz="2000" spc="-1" strike="noStrike">
              <a:solidFill>
                <a:srgbClr val="000000"/>
              </a:solidFill>
              <a:latin typeface="Arial"/>
            </a:endParaRPr>
          </a:p>
          <a:p>
            <a:pPr lvl="2" marL="113148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stinction between operating and financial leases</a:t>
            </a:r>
            <a:endParaRPr b="0" lang="en-US" sz="1800" spc="-1" strike="noStrike">
              <a:solidFill>
                <a:srgbClr val="000000"/>
              </a:solidFill>
              <a:latin typeface="Arial"/>
            </a:endParaRPr>
          </a:p>
          <a:p>
            <a:pPr lvl="2" marL="113148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cording repayments for a financial lease</a:t>
            </a:r>
            <a:endParaRPr b="0" lang="en-US" sz="1800" spc="-1" strike="noStrike">
              <a:solidFill>
                <a:srgbClr val="000000"/>
              </a:solidFill>
              <a:latin typeface="Arial"/>
            </a:endParaRPr>
          </a:p>
          <a:p>
            <a:pPr lvl="2" marL="113148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perating leases as assets</a:t>
            </a:r>
            <a:endParaRPr b="0" lang="en-US" sz="1800" spc="-1" strike="noStrike">
              <a:solidFill>
                <a:srgbClr val="000000"/>
              </a:solidFill>
              <a:latin typeface="Arial"/>
            </a:endParaRPr>
          </a:p>
          <a:p>
            <a:pPr lvl="2" marL="113148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riginals and copies (dealt with at earlier meeting) </a:t>
            </a:r>
            <a:endParaRPr b="0" lang="en-US" sz="18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tural resources (non-produced, tangible assets)</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aring ownership of assets</a:t>
            </a:r>
            <a:endParaRPr b="0" lang="en-US" sz="20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mission to engage in specified activities or actions</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ture provisions</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oods</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rvices</a:t>
            </a:r>
            <a:endParaRPr b="0" lang="en-US" sz="20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epayments and non-refundable deposi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Distinction between operating and financial leases</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EG has accepted:</a:t>
            </a:r>
            <a:endParaRPr b="0" lang="en-US" sz="28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raft text in the issues paper to clarify the distinction between operating and financial leases, but with some modifications.</a:t>
            </a:r>
            <a:endParaRPr b="0" lang="en-US" sz="24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d agreed that</a:t>
            </a:r>
            <a:endParaRPr b="0" lang="en-US" sz="28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length of time of a lease relative to the life of the asset does not determine its treatment as either an operating or a financial lease, but it will tend to be the case that operating leases are for shorter periods and financial leases may cover the whole of the life of the asse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cording payments for a financial lease</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AEG agreed with the thrust of the draft text in the issues paper but wanted a little further elaboration. In summary it concluded:</a:t>
            </a:r>
            <a:endParaRPr b="0" lang="en-US" sz="28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 breakdown between repayment of principal and interest should be estimated in a manner similar to determining CFC and net operating surplus/return to capital in the case of a fixed asset. </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 financial service may be provided by the lessor if the lessor is a financial institution; and if this is so, that the service is reflected in FISI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perating leases as asset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AEG reached agreement on the following:</a:t>
            </a:r>
            <a:endParaRPr b="0" lang="en-US" sz="28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ract price represents the market price even if a newly leased identical asset would command a different price. </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essee is able legally and practically to sub-contract a lease and if the prevailing rental price differs from the contract price, then this represents an asset for the lessee. It is positive if the prevailing rental price is higher than the contract price and negative otherwise. </a:t>
            </a:r>
            <a:endParaRPr b="0" lang="en-US" sz="2400" spc="-1" strike="noStrike">
              <a:solidFill>
                <a:srgbClr val="000000"/>
              </a:solidFill>
              <a:latin typeface="Arial"/>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907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Operating leases as assets –cont.</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essee would have an asset, valued as the difference between the unencumbered and encumbered values, to be included under the heading "contracts, leases and licence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value of the object of the lease should always appear on the lessor's balance sheet at the market price which is the encumbered value, irrespective of whether the lessee has an ass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Use of natural resource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AEG agreed that a new type of lease should be introduc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 </a:t>
            </a:r>
            <a:r>
              <a:rPr b="1" i="1" lang="en-GB" sz="2800" spc="-1" strike="noStrike">
                <a:solidFill>
                  <a:srgbClr val="000000"/>
                </a:solidFill>
                <a:latin typeface="Arial"/>
              </a:rPr>
              <a:t>resource lease</a:t>
            </a:r>
            <a:r>
              <a:rPr b="0" i="1" lang="en-GB" sz="2800" spc="-1" strike="noStrike">
                <a:solidFill>
                  <a:srgbClr val="000000"/>
                </a:solidFill>
                <a:latin typeface="Arial"/>
              </a:rPr>
              <a:t> is an agreement whereby the legal owner of a natural resource which has an infinite life makes it available to a lessee in return for a regular payment, recorded as property income and described as rent.  The resource is recorded on the balance sheet of the lessor.  No consumption of fixed capital is recorded in respect of the resource in the SNA in the accounts of either the lessor or lesse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5T14:38:10Z</dcterms:created>
  <dc:creator>Aspden_C</dc:creator>
  <dc:description/>
  <dc:language>en-US</dc:language>
  <cp:lastModifiedBy>Dimova</cp:lastModifiedBy>
  <dcterms:modified xsi:type="dcterms:W3CDTF">2006-05-03T17:10:19Z</dcterms:modified>
  <cp:revision>28</cp:revision>
  <dc:subject/>
  <dc:title>Update of the 1993 SNA Non-financial asset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75276273</vt:r8>
  </property>
  <property fmtid="{D5CDD505-2E9C-101B-9397-08002B2CF9AE}" pid="3" name="_AuthorEmail">
    <vt:lpwstr>Charles.ASPDEN@oecd.org</vt:lpwstr>
  </property>
  <property fmtid="{D5CDD505-2E9C-101B-9397-08002B2CF9AE}" pid="4" name="_AuthorEmailDisplayName">
    <vt:lpwstr>ASPDEN Charles, STD/NAFS</vt:lpwstr>
  </property>
  <property fmtid="{D5CDD505-2E9C-101B-9397-08002B2CF9AE}" pid="5" name="_EmailSubject">
    <vt:lpwstr>slides</vt:lpwstr>
  </property>
</Properties>
</file>