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69D6F-5A3E-4A0F-B6CA-6E4139E9D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3823D-D832-4512-8742-2A92FC374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57247-1F2A-4419-B0FF-0C2F2A16E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B9A80-0E84-4913-8295-6ABAC79D7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EF52D-F3BD-4815-A3AA-3B9CDBB86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52BF2-8F37-48EA-BA84-8F1F7E3DF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B5830-3BB7-4D66-B739-D5898E67B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2C2B2-C42E-41EB-AB35-B8FB0BA4F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3620E-EDF1-455F-A583-81959F37F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A8BE1-ECD2-467E-BC96-447F6F8D2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97746-A5A0-4F57-A10E-EBB101D75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DC125-F8C2-4417-B8CE-072A14825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4DD4-018B-4883-90E0-F85A1F657E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Joint meeting on national accounts</a:t>
            </a:r>
            <a:br>
              <a:rPr sz="4000"/>
            </a:br>
            <a:r>
              <a:rPr b="0" lang="en-GB" sz="4000" spc="-1" strike="noStrike">
                <a:solidFill>
                  <a:srgbClr val="000000"/>
                </a:solidFill>
                <a:latin typeface="Arial"/>
              </a:rPr>
              <a:t>Geneva, April 2006</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of the 1993 SNA</a:t>
            </a:r>
            <a:br>
              <a:rPr sz="3200"/>
            </a:br>
            <a:r>
              <a:rPr b="0" lang="en-GB" sz="3200" spc="-1" strike="noStrike">
                <a:solidFill>
                  <a:srgbClr val="000000"/>
                </a:solidFill>
                <a:latin typeface="Arial"/>
              </a:rPr>
              <a:t>Leases and lice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e of natural resources co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remain some unresolved issu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fishing quotas represent assets to the holders? Can this be generalised to quotas, licences, etc. for all protected plant and animal species?</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uld emission permits be recorded as taxes in the first instance and assets when they are traded in secondary markets or as assets from inception? Does this generalise to all assets used as sin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aring the ownership of asse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the economic but not legal ownership of an asset changes between the lessee and lessor over its life how should this be recorded in the accou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be further considered by the AEG using worked examples that show how different options would be recorded in the accou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ermissions to engage in specific activitie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are permissions to undertake a specific activity and do NOT relate to the use of an asset belonging to the issuer of the permit.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dichotomy has been made between those permits which are restricted (e.g. casino licences, taxi licences) and those which are not (e.g. recreational hunting and fishing permi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ermissions to engage in specific activities cont.</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unrestricted permits there is agreement that the current 1993 SNA treatment is OK.  </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fee paid represents a commensurate amount of work for the government to issue the permit or provide services, then the fee is treated as a fee for a service.  Otherwise the fee paid is a ta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ermissions to engage in specific activities cont.</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EG has not yet reached agreement on the treatment of restricted permits:</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it a tax or the sale of an asset?</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payment is treated as a tax and the permit is valid for several years, should it be recorded as</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repayment of taxes on the balance sheet of the permit holder with a corresponding liability on the government’s balance sheet, or</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non-produced, non-financial asset on the balance sheet of the permit holder?</a:t>
            </a:r>
            <a:endParaRPr b="0" lang="en-US" sz="20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the choice depend on whether the payment for the permit is refund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uture provision of good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EG has agreed th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most cases agreements to provide goods are not assets, but for the future provision of goods if a gap opens between the contract price and the prevailing market price and the contract is tradable then there is an ass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uture provision of servic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EG agreed that if a gap opens between the contract price and the prevailing market price for the provision of a service in the future and the contract is tradable then there is a non-produced, non-financial asset in the group “contracts, leases and licences”. Examples include the contracts of football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epayments and non-refundable deposit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EG agreed that:</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epayments may be a prepayment for a service in the case of an operating lease, property income in the case of a resource lease, the acquisition of an asset in the case of a financial lease and possibly the prepayment of a tax - depending on the nature of the agreement.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a party to a collective project contributes an asset in lieu of a financial payment, the SNA treatment should be to impute a financial transaction and acquisition of an asset in a similar way to the treatment of wages in ki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epayments and non-refundable deposits – cont.</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o treat non-refundable deposits is unreso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standing points will be addressed by the AEG shortly via electronic communic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ope comprises leases, licences, permits and other contra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vasive in the SNA, but not dealt with in a completely coherent and comprehensive way. The primary goal is to rectify this situ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a broad topic with a number of conceptually difficult issues and while the AEG has made a number of important recommendations, there remain some outstanding matt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op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many points: most in Issue  21 Leases and licences, but also touched on in other “issues”, such a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1 Originals and copie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 Right to use/exploit natural resources between residents and non-resident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8 Amortization of tangible and intangible non-produced asset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1 Valuation of water</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5 Tax revenue, etc.</a:t>
            </a:r>
            <a:endParaRPr b="0" lang="en-US" sz="28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ints being addressed</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asse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xed assets</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tinction between operating and financial lease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ording repayments for a financial lease</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ng leases as asset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iginals and copies (dealt with at earlier meeting) </a:t>
            </a:r>
            <a:endParaRPr b="0" lang="en-US" sz="18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ural resources (non-produced, tangible asset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ring ownership of assets</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mission to engage in specified activities or act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 provision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od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s</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payments and non-refundable depos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stinction between operating and financial leas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EG has accepted:</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ft text in the issues paper to clarify the distinction between operating and financial leases, but with some modifications.</a:t>
            </a:r>
            <a:endParaRPr b="0" lang="en-US" sz="24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agreed that</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ength of time of a lease relative to the life of the asset does not determine its treatment as either an operating or a financial lease, but it will tend to be the case that operating leases are for shorter periods and financial leases may cover the whole of the life of the ass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cording payments for a financial lease</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EG agreed with the thrust of the draft text in the issues paper but wanted a little further elaboration. In summary it concluded:</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breakdown between repayment of principal and interest should be estimated in a manner similar to determining CFC and net operating surplus/return to capital in the case of a fixed asse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financial service may be provided by the lessor if the lessor is a financial institution; and if this is so, that the service is reflected in FISI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rating leases as asse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EG reached agreement on the following:</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act price represents the market price even if a newly leased identical asset would command a different price.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ssee is able legally and practically to sub-contract a lease and if the prevailing rental price differs from the contract price, then this represents an asset for the lessee. It is positive if the prevailing rental price is higher than the contract price and negative otherwise. </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perating leases as assets –cont.</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ssee would have an asset, valued as the difference between the unencumbered and encumbered values, to be included under the heading "contracts, leases and licenc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the object of the lease should always appear on the lessor's balance sheet at the market price which is the encumbered value, irrespective of whether the lessee has an ass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e of natural resourc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EG agreed that a new type of lease should be intro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 </a:t>
            </a:r>
            <a:r>
              <a:rPr b="1" i="1" lang="en-GB" sz="2800" spc="-1" strike="noStrike">
                <a:solidFill>
                  <a:srgbClr val="000000"/>
                </a:solidFill>
                <a:latin typeface="Arial"/>
              </a:rPr>
              <a:t>resource lease</a:t>
            </a:r>
            <a:r>
              <a:rPr b="0" i="1" lang="en-GB" sz="2800" spc="-1" strike="noStrike">
                <a:solidFill>
                  <a:srgbClr val="000000"/>
                </a:solidFill>
                <a:latin typeface="Arial"/>
              </a:rPr>
              <a:t> is an agreement whereby the legal owner of a natural resource which has an infinite life makes it available to a lessee in return for a regular payment, recorded as property income and described as rent.  The resource is recorded on the balance sheet of the lessor.  No consumption of fixed capital is recorded in respect of the resource in the SNA in the accounts of either the lessor or less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14:38:10Z</dcterms:created>
  <dc:creator>Aspden_C</dc:creator>
  <dc:description/>
  <dc:language>en-US</dc:language>
  <cp:lastModifiedBy>Dimova</cp:lastModifiedBy>
  <dcterms:modified xsi:type="dcterms:W3CDTF">2006-05-03T17:10:19Z</dcterms:modified>
  <cp:revision>28</cp:revision>
  <dc:subject/>
  <dc:title>Update of the 1993 SNA Non-financial ass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5276273</vt:r8>
  </property>
  <property fmtid="{D5CDD505-2E9C-101B-9397-08002B2CF9AE}" pid="3" name="_AuthorEmail">
    <vt:lpwstr>Charles.ASPDEN@oecd.org</vt:lpwstr>
  </property>
  <property fmtid="{D5CDD505-2E9C-101B-9397-08002B2CF9AE}" pid="4" name="_AuthorEmailDisplayName">
    <vt:lpwstr>ASPDEN Charles, STD/NAFS</vt:lpwstr>
  </property>
  <property fmtid="{D5CDD505-2E9C-101B-9397-08002B2CF9AE}" pid="5" name="_EmailSubject">
    <vt:lpwstr>slides</vt:lpwstr>
  </property>
</Properties>
</file>