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8F6B-E2C3-4EED-B0BB-23D66EE0E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6900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FCEA-4022-4421-AA56-8EE79414E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D6C5-2CDE-4423-B0EF-AD75B1A74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4473-6AFA-4602-8C56-E55DC5472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5B22-9E8E-4080-B9ED-C30D87E07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6900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F4B9-2D00-402D-8A42-1EEE934ED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BE9C-C00A-4729-A4D6-D8F361986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91BC-D228-4C0B-B310-06A34CBCA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E906-76ED-4727-982D-BB1B205AE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20E6-F433-4ADE-BEDD-DACBAC68A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128E-AF36-46A0-B149-D733F65CD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4C33-FE2C-4649-B4CF-D01E8306E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7000" y="6035760"/>
            <a:ext cx="8812080" cy="669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10A9-48B5-4BFC-84D8-6EC9323438C1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920" y="5711760"/>
            <a:ext cx="8812080" cy="831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9d1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Issue 16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Returns to Government Owned Asset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"/>
          <p:cNvSpPr/>
          <p:nvPr/>
        </p:nvSpPr>
        <p:spPr>
          <a:xfrm>
            <a:off x="2055960" y="4098960"/>
            <a:ext cx="6325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J. Steven Landef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April 25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rebuchet MS"/>
              </a:rPr>
              <a:t>SNA Update Session, Geneva, Switz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7e9d1"/>
                </a:solidFill>
                <a:latin typeface="Trebuchet MS"/>
              </a:rPr>
              <a:t>Overview of AEG Recommendation and Comments</a:t>
            </a: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Appendix Example ― Known Nominal Rental Value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49400" y="1143000"/>
            <a:ext cx="5245200" cy="806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2357280"/>
            <a:ext cx="8534160" cy="31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CE96-C246-4F02-898F-D6EA3E02F4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Appendix Example ― Solving for Capital Service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502920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0000"/>
                </a:solidFill>
                <a:latin typeface="Trebuchet MS"/>
              </a:rPr>
              <a:t>User cost equals rental cost at current pri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60600" y="1951200"/>
            <a:ext cx="4222800" cy="639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52560" y="3962520"/>
            <a:ext cx="5438880" cy="823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553080" y="4114800"/>
            <a:ext cx="838440" cy="457200"/>
          </a:xfrm>
          <a:prstGeom prst="ellipse">
            <a:avLst/>
          </a:prstGeom>
          <a:noFill/>
          <a:ln w="25560">
            <a:solidFill>
              <a:srgbClr val="9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62120" y="1143000"/>
            <a:ext cx="7543800" cy="655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73280" y="2743200"/>
            <a:ext cx="759600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BF47-B15C-47A2-98AD-ABC583786B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AEG Recommend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existing measure of government is a cost-based measure that measures only part of the cost of governmen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services of government capital includes the depreciation in the value of government-owned asse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t excludes the borrowing/opportunity costs associated with the public funds tied up in those government-owned assets.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AEG has recommended that both components of the services of government capital be included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289C-899C-42A0-AB6C-2ABBF30F1E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otivation for Chang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need to consistently measure the contribution and cost of government to the economy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need to measure the contributions of government to economic and productivity growth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need to consistently account for the returns to public and private fixed capita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need to fully and consistently account for the costs of government.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719F-64AB-4A59-B174-DB848B5EDF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otivation for Chang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ommended measure is consistent with: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returns to private capit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r Cost: What a renter would pay the owner private capital for the use of that capital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rvice Value = Rent = Depreciation + rN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ribution of Capital to Growth: The portion of profits associated the services of capital and their contribution to GDP  growth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full cost of government capit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r Cost: What the economy foregoes for the use of government capital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rvice Value = Depreciation + rN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ribution to growth: The full cost of government capital and its contribution to GDP growth.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E591-D64C-4B6F-9368-35F14D2F48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Implementation Issues: What Rate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rate that should be applied to the current/replacement value of a government asset should be a real rat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will result in the appropriate nominal GDP estimate: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preciation + rNS, where r = i-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 of a nominal rate (which includes an inflation premium for the decline in the purchasing power of the face-value of the bond) and a current asset value (which is adjusted for inflation), will overstate the opportunity cost of the government asset when prices are increasing.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CDF8-8001-4FEB-A1D0-8918C76A8E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Implementation Issues: What Rate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real rate should be the expected real rate on government bond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can be estimated by an average of government bond rates over time less the average inflation rate over tim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r countries with high inflation, or wanting a more exact estimate, the expression is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4343400"/>
            <a:ext cx="524520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7D54-1DD9-4288-9E4D-9CD77CE219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Implementation Issues: What Assets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government asset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xed assets ― Y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and and other assets ― N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urrent or replacement cost value of government fixed assets.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E7B5-8734-457B-80B8-010AAAC50B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Implementation Issues: Other Options 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countries without capital stock estima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 existing depreciation estimat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 methodology used to generate depreciation estimates to develop approximate capital stocks and estimated rates of return to estimate servic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perience should aid in developing more sophisticated capital stocks recommended for full SNA system estimates.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3784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e OECD Manual,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Measuring Capital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, (2001) for mor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90D7-9DD8-482D-9D5A-AB25108031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Appendix: Theory &amp; Examples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pital services in the market can be seen in rental pri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14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Owners rent out property at a rate to cover inflation, a normal return, and the depreciation on the rented asse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14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ental price also provides a “real” return to the own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374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ample assumptions: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14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3-year useful service lif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14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sset price = Present value of expected benefit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14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ginning-of-year flow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(flows in current period are not discounted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5715000" cy="70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4824-E27F-4E64-93C6-35C5E7FDD3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36:32Z</dcterms:created>
  <dc:creator>Cindy Vojtech</dc:creator>
  <dc:description/>
  <dc:language>en-US</dc:language>
  <cp:lastModifiedBy>U.S. Department of Commerce</cp:lastModifiedBy>
  <dcterms:modified xsi:type="dcterms:W3CDTF">2006-04-19T18:50:24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9712373</vt:r8>
  </property>
  <property fmtid="{D5CDD505-2E9C-101B-9397-08002B2CF9AE}" pid="3" name="_AuthorEmail">
    <vt:lpwstr>Steve.Landefeld@bea.gov</vt:lpwstr>
  </property>
  <property fmtid="{D5CDD505-2E9C-101B-9397-08002B2CF9AE}" pid="4" name="_AuthorEmailDisplayName">
    <vt:lpwstr>Landefeld, Steve</vt:lpwstr>
  </property>
  <property fmtid="{D5CDD505-2E9C-101B-9397-08002B2CF9AE}" pid="5" name="_EmailSubject">
    <vt:lpwstr>Geneva Meeting on NA, power point presentations</vt:lpwstr>
  </property>
  <property fmtid="{D5CDD505-2E9C-101B-9397-08002B2CF9AE}" pid="6" name="_NewReviewCycle">
    <vt:lpwstr/>
  </property>
</Properties>
</file>