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6286-D4AB-4AF6-A1B1-7D5300638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CD24-CC49-482A-814F-CFCE513BF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E6E8-AA14-4887-A746-D469970EF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AC5E-D68B-4BCF-A743-3E2E8CCE0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49B1-96EB-4F63-A767-23D763E08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554D-8551-4141-A2F2-362A25DB1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CE7F-B7D5-4EDA-86BE-C542066E8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8CFC-2AFF-4AA1-94DB-46A67AD66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752D-3C25-4178-8D9E-A4CB0709C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1CB5-B4E6-416A-94C6-617C15BCB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8B86-9895-4EB0-A5D3-B81F65194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4006-A54E-4F83-8CD0-A1B40A6BE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7000" y="6035760"/>
            <a:ext cx="881208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2A7A-D135-4148-9B92-7B39CB86F674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20" y="5711760"/>
            <a:ext cx="8812080" cy="83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Issue 16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Returns to Government Owned Asset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2055960" y="4098960"/>
            <a:ext cx="632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J. Steven Landef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April 25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SNA Update Session, Geneva, Switz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7e9d1"/>
                </a:solidFill>
                <a:latin typeface="Trebuchet MS"/>
              </a:rPr>
              <a:t>Overview of AEG Recommendation and Comments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Appendix Example ― Known Nominal Rental Value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49400" y="1143000"/>
            <a:ext cx="5245200" cy="80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2357280"/>
            <a:ext cx="8534160" cy="31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8450-E65E-4676-8EDB-514B3F4D14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Appendix Example ― Solving for Capital Service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502920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0000"/>
                </a:solidFill>
                <a:latin typeface="Trebuchet MS"/>
              </a:rPr>
              <a:t>User cost equals rental cost at current pri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60600" y="1951200"/>
            <a:ext cx="4222800" cy="639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52560" y="3962520"/>
            <a:ext cx="5438880" cy="823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53080" y="4114800"/>
            <a:ext cx="838440" cy="457200"/>
          </a:xfrm>
          <a:prstGeom prst="ellipse">
            <a:avLst/>
          </a:prstGeom>
          <a:noFill/>
          <a:ln w="25560">
            <a:solidFill>
              <a:srgbClr val="9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7543800" cy="655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73280" y="2743200"/>
            <a:ext cx="759600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498F-E2B4-49DD-A663-BCE8AA1CCD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AEG Recommend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existing measure of government is a cost-based measure that measures only part of the cost of governmen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ervices of government capital includes the depreciation in the value of government-owned asse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 excludes the borrowing/opportunity costs associated with the public funds tied up in those government-owned assets.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AEG has recommended that both components of the services of government capital be included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23FD-73C3-4B7D-B4EF-9942E6E886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otivation for Chang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need to consistently measure the contribution and cost of government to the economy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need to measure the contributions of government to economic and productivity growth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need to consistently account for the returns to public and private fixed capita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need to fully and consistently account for the costs of government.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07EB-997E-4C8B-9E94-064AB0162F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otivation for Chang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ommended measure is consistent with: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eturns to private capi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Cost: What a renter would pay the owner private capital for the use of that capit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rvice Value = Rent = Depreciation + rN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ibution of Capital to Growth: The portion of profits associated the services of capital and their contribution to GDP  growt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full cost of government capi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Cost: What the economy foregoes for the use of government capit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rvice Value = Depreciation + r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ibution to growth: The full cost of government capital and its contribution to GDP growth.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B15F-1B9C-44A5-BBE4-8305B9E516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Implementation Issues: What Rate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rate that should be applied to the current/replacement value of a government asset should be a real rat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will result in the appropriate nominal GDP estimate: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preciation + rNS, where r = i-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 of a nominal rate (which includes an inflation premium for the decline in the purchasing power of the face-value of the bond) and a current asset value (which is adjusted for inflation), will overstate the opportunity cost of the government asset when prices are increasing.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E4F5-E898-43A2-9BBB-35DCD91308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Implementation Issues: What Rate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real rate should be the expected real rate on government bond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can be estimated by an average of government bond rates over time less the average inflation rate over tim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 countries with high inflation, or wanting a more exact estimate, the expression is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524520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34DB-1152-40A5-9CD4-AF6B437247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Implementation Issues: What Assets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overnment asse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xed assets ― Y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and and other assets ― N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urrent or replacement cost value of government fixed assets.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DE0E-B669-46D5-BAA6-8EA1665A32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Implementation Issues: Other Options 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countries without capital stock estim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 existing depreciation estimat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 methodology used to generate depreciation estimates to develop approximate capital stocks and estimated rates of return to estimate servic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perience should aid in developing more sophisticated capital stocks recommended for full SNA system estimates.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378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e OECD Manual,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Measuring Capita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(2001) for mor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ECC0-B7B8-4E51-A850-723C0C3C26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Appendix: Theory &amp; Example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ital services in the market can be seen in rental pri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1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wners rent out property at a rate to cover inflation, a normal return, and the depreciation on the rented asse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1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ntal price also provides a “real” return to the own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37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ample assumptions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1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3-year useful service lif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1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sset price = Present value of expected benefi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14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ginning-of-year flow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(flows in current period are not discounted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5715000" cy="70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7761-9504-4213-9473-0CED772138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U.S. Department of Commerce</cp:lastModifiedBy>
  <dcterms:modified xsi:type="dcterms:W3CDTF">2006-04-19T18:50:24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9712373</vt:r8>
  </property>
  <property fmtid="{D5CDD505-2E9C-101B-9397-08002B2CF9AE}" pid="3" name="_AuthorEmail">
    <vt:lpwstr>Steve.Landefeld@bea.gov</vt:lpwstr>
  </property>
  <property fmtid="{D5CDD505-2E9C-101B-9397-08002B2CF9AE}" pid="4" name="_AuthorEmailDisplayName">
    <vt:lpwstr>Landefeld, Steve</vt:lpwstr>
  </property>
  <property fmtid="{D5CDD505-2E9C-101B-9397-08002B2CF9AE}" pid="5" name="_EmailSubject">
    <vt:lpwstr>Geneva Meeting on NA, power point presentations</vt:lpwstr>
  </property>
  <property fmtid="{D5CDD505-2E9C-101B-9397-08002B2CF9AE}" pid="6" name="_NewReviewCycle">
    <vt:lpwstr/>
  </property>
</Properties>
</file>