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32268-9D3A-4CFE-AC2E-0B62C2A5E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260D7-E5CE-4E5C-9BB0-924B50F9B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708DD-DA0F-43F4-AC2D-94A150776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5E7ED-234F-4366-8D1E-05DD61B6D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F0B0-9A56-4466-B774-2351BD3C7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49EA8-0509-49BC-A4AF-02EB88A56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A0D7-70CA-43B7-B2A7-CB3525AD2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043B-C2E1-423E-988E-27B15F14B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F96A4-FF63-4773-8A27-42FF381F8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6BC81-4659-463C-BA78-23B5CBA0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65B5-802B-43E2-B1CC-400DF58A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DAAC-F192-4D06-A0F8-C8F95FC6A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EEFA-B4EF-457C-858D-41C15E8FBB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concerning non-financial asse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rles Aspd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E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amp;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its July 2005 meeting, AEG recommended that R&amp;D should be included in the asset bound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uming the recommendation will be accepted by the UNSC, the challenge now is </a:t>
            </a:r>
            <a:r>
              <a:rPr b="0" lang="en-US" sz="3200" spc="-1" strike="noStrike">
                <a:solidFill>
                  <a:srgbClr val="000000"/>
                </a:solidFill>
                <a:latin typeface="Arial"/>
              </a:rPr>
              <a:t>to follow through with the development of guidelines on implementation in order to foster good quality and internationally comparable national accounts statistic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meeting of NESTI and  Canberra II Berlin -  31 May, 1 June.</a:t>
            </a:r>
            <a:br>
              <a:rPr sz="3200"/>
            </a:br>
            <a:r>
              <a:rPr b="0" lang="en-US" sz="3200" spc="-1" strike="noStrike">
                <a:solidFill>
                  <a:srgbClr val="000000"/>
                </a:solidFill>
                <a:latin typeface="Arial"/>
              </a:rPr>
              <a:t>Agenda</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verview of what is involv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bridge tables between Frascati data and national accou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ing international flows of R&amp;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undary iss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olume esti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ital meas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rterly esti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sues addressed at Jan-Feb</a:t>
            </a:r>
            <a:br>
              <a:rPr sz="4000"/>
            </a:br>
            <a:r>
              <a:rPr b="0" lang="en-GB" sz="4000" spc="-1" strike="noStrike">
                <a:solidFill>
                  <a:srgbClr val="000000"/>
                </a:solidFill>
                <a:latin typeface="Arial"/>
              </a:rPr>
              <a:t>meeting of AEG</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ses, licences and per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n-market producers: cost of capital of own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blic-private partner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economic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terminology of ass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non-produced asse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intangible fixed asse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ive guidance on the characteristics to be examined to determine whether the private or public partner is the economic (as opposed to the legal) owner of the assets in question should be provided in an annex. This will make it easy to update if and when more specific guidance emerges, e.g. from IPSAS or some other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tion of economic asset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n asset in the 1993 SNA is not adequate to deal with newly emerging issues such as the inclusion within the asset boundary of financial derivatives and more concentration on the responsibility for risk in relation to determining ownership of assets. A modification of the definition was discussed at the AEG meeting in February 2006. Comments on this approach should be sent to the Editor who will revise this in the light of comments recei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lassification and terminology of asset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together the recommendations arising from other issues on the categorization and the terminology for non-financial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assets themselves, it is proposed to change the items appearing in the other changes in assets account to give a more structured listing of possible causes for changes in assets other than transactions and price chan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non-produced asse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mmendation to drop this category, because of inappropriate use to cover securitisation of future receipts of government, and no known legitimate it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intangible fixed asse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maintained and renamed “other intellectual property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4:05:01Z</dcterms:created>
  <dc:creator>Aspden_C</dc:creator>
  <dc:description/>
  <dc:language>en-US</dc:language>
  <cp:lastModifiedBy>Aspden_C</cp:lastModifiedBy>
  <dcterms:modified xsi:type="dcterms:W3CDTF">2006-04-21T15:04:18Z</dcterms:modified>
  <cp:revision>7</cp:revision>
  <dc:subject/>
  <dc:title>Issues concerning non-financial ass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8383723</vt:r8>
  </property>
  <property fmtid="{D5CDD505-2E9C-101B-9397-08002B2CF9AE}" pid="3" name="_AuthorEmail">
    <vt:lpwstr>Charles.ASPDEN@oecd.org</vt:lpwstr>
  </property>
  <property fmtid="{D5CDD505-2E9C-101B-9397-08002B2CF9AE}" pid="4" name="_AuthorEmailDisplayName">
    <vt:lpwstr>ASPDEN Charles, STD/NAFS</vt:lpwstr>
  </property>
  <property fmtid="{D5CDD505-2E9C-101B-9397-08002B2CF9AE}" pid="5" name="_EmailSubject">
    <vt:lpwstr>Slides</vt:lpwstr>
  </property>
</Properties>
</file>