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61C-3E5F-405C-B546-DC6B38B7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F43-15B7-43AA-8676-8CE6A2AE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BA2-ABD6-41ED-90A5-7A1B6A58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E8D-0490-4A2F-A317-E3EB6940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98E-E23F-4F57-8502-E11DB774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37A-9BB5-44BC-80A4-A103F251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DE8-1208-4022-BBF1-63CAC22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3F7-B64B-4C5B-B076-4AFAEE3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AE5-870A-44AB-A3DA-D899AA29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E1A-2512-47E1-A590-A9B5FF3C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987-D3D4-4FF4-A54A-CD27E3E9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EE8-42CD-414C-8793-A77C2F1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294C-A1CC-4F60-B995-56E2CBC67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nstats.un.org/unsd/nationalaccount/snarev1.asp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of the SNA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ol S.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int Meeting on National Accou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NA Update 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il 25-28, 2006, Genev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09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: Editor and revie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draft most new text or, if text is contributed by others, bring it into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WGNA: Support the Editor and provide substantive review of all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G: review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, of course, chapters will be posted on the Project website for comment by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B18-36FB-4CEF-A6FC-B71DDF736D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 of drafting-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hapters will go through at least 4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text or contributions a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from Editor, followed by “eagle ey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y ISWG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from Editor ready for substantive,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raft from Editor, followed by “eagle eye”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ve review by ISWG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ready for 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E61-BF9C-45A8-B54D-1580CCE6A2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 of drafting-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scheme: divide chapters into roughly two equal tranches and proceed through with one and then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ranche: chapters that are the “heart” of the 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 timely review and approval of “hea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 will work on blocks of related chapters within a tranche and, when work on a block is completed, turn it over fo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FE6-CEAA-49D7-A473-C28CFD526C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 of drafting-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progress: Three levels, with different purposes, including one on the  public webs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chapter x issue matrix with cells changing color to show progress through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draft chapters ready to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2AD-43B1-43F2-B946-43B9FF57F7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et of recommendations with updated descriptions of issues. Earl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on consistency, etc. April-Sept.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NA meeting, Geneva, April 25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RIW SNA Update sessions, Finland,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recommendations to SC. Lat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of “heart”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.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EG meeting. Earl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of res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.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EG and wider meeting on implementation. Lat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aft of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993 SNA, Rev. 1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 SC.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t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C14-F9DA-485B-8877-EA0C7F3F15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unting amount of work ahead, with som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system will be critical in identifying need for strategic adjus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able task with the continued good will and support of the international statistical community that has been evident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EC7-99F9-48FF-840E-51B6BCF2C2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76720" y="1828800"/>
            <a:ext cx="236196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15000" y="5791320"/>
            <a:ext cx="2819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:: ccarson@im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6FD-E56C-412F-95E9-3F85D8DAC8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of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: Getting start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993 SNA, Rev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: Progres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: Key points about the drafting and review phase of 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796-57A1-4D77-A459-269ACC720F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: 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s background: incremental updates of the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: Statistical Commission called for an update of the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ISWGNA to coordinate and manage with the assistance of the Advisory Expert Group (A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: Align the SNA with the new economic environment, advances in methodological research, and need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recommend fundamenta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for consistency with other manu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2DF-6D5F-4F95-B8DC-83C112E938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: key poi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: Statistical Commission approved a work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had to meet specifi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were to be researched and proposals developed by topical exper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G was to provide advice 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G recommendations to be circulated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recommendations for March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.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arch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ED6-149F-4348-B3E3-0210E89FA6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m: process worked well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rogress Report at Project websit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unstats.un.org/unsd/nationalaccount/snarev1.asp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Commission expressed satisf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EG has reached recommendations on almost all points of the 44 agre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papers and reports of the meetings are at the Project web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ll set of provisional recommendations will be discussed over the next few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5A8-B511-4F52-8840-BB6DCEF8DF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ing up the issues-oriented phase: two new pages on the Project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several known topics where examination of consistency is needed and invites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ssues may be added in coming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research agenda: identifies issues that were out of scope for this Update and lays ground for furt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0AE-5860-409B-A358-D4F99EF054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: drafting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tructure of Rev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of Editor and re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of the drafting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FDC-45C6-4791-BF54-6C7A3CBCB8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ructure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ev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tructure will not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terial will be introduced throughout existing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new topics will have stand-alone chapters, introduced so as to limit dis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 to shorten existing text will be exploited—so far, not easy to 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f changes to existing text will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C4E-77C9-4043-BBCE-1EC025528F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ructure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ev. 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on some important new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and the public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counting for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 to other publications for more detail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re in prospect on tables, glossar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B6F-8D7B-4BD8-83B3-F57A1E3BFC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31:32Z</dcterms:created>
  <dc:creator> </dc:creator>
  <dc:description/>
  <dc:language>en-US</dc:language>
  <cp:lastModifiedBy>Dimova</cp:lastModifiedBy>
  <dcterms:modified xsi:type="dcterms:W3CDTF">2006-04-07T13:06:41Z</dcterms:modified>
  <cp:revision>29</cp:revision>
  <dc:subject/>
  <dc:title>Progress Report on the Review of the SNA</dc:title>
</cp:coreProperties>
</file>