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2C9-553F-438A-905C-EA42D023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453-CA6A-4354-A6BB-65A9A829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281-AD40-4EEB-A386-FDEFB26F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006-A322-4D20-9D36-9A78E8C2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781-1CB9-42C7-A9BC-9748336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F6D-1C99-4360-90E2-C429D227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24E-7500-4E48-8769-E3E873FC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2F3-D4F7-4B8A-878C-97D2A11B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AD1-B116-40E5-B5DA-FBDF6355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EA0-C724-4C01-8EC6-B45214A4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90B-F790-491F-8A98-A2414B6B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D6A-70AA-47DD-B34E-ABCE06B0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2D37-2E8D-4CA6-ABFE-0852F31A8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nstats.un.org/unsd/nationalaccount/snarev1.asp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of the SNA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ol S.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int Meeting on National Accou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NA Update 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il 25-28, 2006, Genev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09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: Editor and revie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draft most new text or, if text is contributed by others, bring it into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WGNA: Support the Editor and provide substantive review of all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G: review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, of course, chapters will be posted on the Project website for comment by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F19-53C1-490C-B220-519FD3A41A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 of drafting-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hapters will go through at least 4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text or contributions a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from Editor, followed by “eagle ey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y ISWG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from Editor ready for substantive,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raft from Editor, followed by “eagle eye”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ve review by ISWG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ready for 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218-5059-444E-B395-35A7F4EE58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 of drafting-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scheme: divide chapters into roughly two equal tranches and proceed through with one and then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ranche: chapters that are the “heart” of the 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 timely review and approval of “hea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 will work on blocks of related chapters within a tranche and, when work on a block is completed, turn it over fo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381-15E9-4486-B242-D20C9C18B2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 of drafting-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progress: Three levels, with different purposes, including one on the  public webs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chapter x issue matrix with cells changing color to show progress through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draft chapters ready to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413-84D1-4A0B-A7AF-16A3A7E284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et of recommendations with updated descriptions of issues. Earl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on consistency, etc. April-Sept.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NA meeting, Geneva, April 25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RIW SNA Update sessions, Finland,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recommendations to SC. Lat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of “heart”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.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EG meeting. Earl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of res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.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EG and wider meeting on implementation. Lat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aft of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993 SNA, Rev. 1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 SC.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t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AC2-336E-40AA-A02F-665175F5E9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unting amount of work ahead, with som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system will be critical in identifying need for strategic adjus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able task with the continued good will and support of the international statistical community that has been evident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FA0-C569-4FAD-8EF0-7072A240A4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76720" y="1828800"/>
            <a:ext cx="236196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15000" y="5791320"/>
            <a:ext cx="2819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:: ccarson@im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006-95CB-4935-B9EF-6CD14AD5EB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of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: Getting start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993 SNA, Rev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: Progres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: Key points about the drafting and review phase of 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29D-E3DE-46B1-9019-74127A702F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: 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s background: incremental updates of the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: Statistical Commission called for an update of the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ISWGNA to coordinate and manage with the assistance of the Advisory Expert Group (A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: Align the SNA with the new economic environment, advances in methodological research, and need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recommend fundamenta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for consistency with other manu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B62-B494-4D02-8DA4-0F8EEE5E43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: key poi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: Statistical Commission approved a work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had to meet specifi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were to be researched and proposals developed by topical exper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G was to provide advice 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G recommendations to be circulated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recommendations for March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.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arch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193-546E-4352-9B29-37221C2EE9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m: process worked well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rogress Report at Project websit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unstats.un.org/unsd/nationalaccount/snarev1.asp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Commission expressed satisf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EG has reached recommendations on almost all points of the 44 agre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papers and reports of the meetings are at the Project web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ll set of provisional recommendations will be discussed over the next few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416-C063-4BC1-8066-6675E46734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ing up the issues-oriented phase: two new pages on the Project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several known topics where examination of consistency is needed and invites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ssues may be added in coming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research agenda: identifies issues that were out of scope for this Update and lays ground for furt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518-B35E-4A0E-8CF7-1623C74525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: drafting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tructure of Rev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of Editor and re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of the drafting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2CC-5C75-4D2A-826C-9355F91438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ructure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ev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tructure will not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terial will be introduced throughout existing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new topics will have stand-alone chapters, introduced so as to limit dis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 to shorten existing text will be exploited—so far, not easy to 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f changes to existing text will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C81-165B-419A-9B4F-195982927E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ructure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ev. 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on some important new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and the public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counting for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 to other publications for more detail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re in prospect on tables, glossar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588-D6EE-4984-BA82-6CC4DC5581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31:32Z</dcterms:created>
  <dc:creator> </dc:creator>
  <dc:description/>
  <dc:language>en-US</dc:language>
  <cp:lastModifiedBy>Dimova</cp:lastModifiedBy>
  <dcterms:modified xsi:type="dcterms:W3CDTF">2006-04-07T13:06:41Z</dcterms:modified>
  <cp:revision>29</cp:revision>
  <dc:subject/>
  <dc:title>Progress Report on the Review of the SNA</dc:title>
</cp:coreProperties>
</file>