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C927-5810-48C3-9E1F-F1C83C66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227F-9CB0-425F-A87F-5688E383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8C42-8C57-4193-B7B6-B1DEF7F5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69F9-2DE9-4546-8D5A-5E22D11E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0179-0934-40A4-99FB-07E93D97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66C-000C-432F-BC22-1571994C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F0C5-EB17-446A-A4CD-63D5CBAC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3FE-E882-4977-9AFB-9A52F19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A641-D1A2-4821-8860-6A9716DF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DBBB-9D36-4E5F-8863-55EC2D1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1062-D609-485D-A216-C45977C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0E64-F55C-47BF-933B-8A3DECAF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C7C-FBAE-463E-8BEB-2B0033B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A910-1C5E-47DB-9839-65C8333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312-C924-42FA-820E-F705BDEB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0F8-BBB4-4CFA-A14B-08675756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1E31-A088-429C-8038-A969B1C6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4516-301C-49AA-99FA-512F66D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210F-9251-46F4-A270-E8F6D6A1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53ED-D30E-465E-A1B5-6E27857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289D-D005-4D2A-8F3D-103D1E0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5911-C800-460F-A53F-D77CF04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F233-EB20-4BCB-BB81-FBB1FE21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C1C4-F29B-48D9-A618-29FABC2A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B5F-9E0F-470A-84FA-06475B6A53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6696-8404-4DCE-B443-48E301028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ECE/EUROSTAT/OECD Meeting on National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508280"/>
            <a:ext cx="5791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ents on papers submitted by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ISST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623268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625464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371628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onal Aspects in the National Accou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ptual and pract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P by expenditure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werful set of data to reconcile production accounts and income and expenditure accou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pply and disposi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plan to estimate final consumption of residents (by regions) and interregional flows of goods and service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funds on the basis of regional GDP per cap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high qualit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“quantify”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regional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quality vs. ensuring processes are in place to ensure qualit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is on adjus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ol in order to make proper adjus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with Canadian exper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ws sourc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alytical function (ratio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lp find inconsistencies but not resolving incoherenc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pproach requires focussing on micro data to produce macroeconomic statistic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uture of data ware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Show source data from </a:t>
            </a: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various sources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and can compare them using common classification and defini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Analytical function (ratio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Help find inconsistency as well as incoher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However, type of documention still an issu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ow to Improve the Quality of Regional Accounts Estimates </a:t>
            </a:r>
            <a:br>
              <a:rPr sz="35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. Nijmeijer,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and national accountants team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uld they be the same people?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grating instead of reconciling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ing is very costly and time consuming but we never have enough. What is the minimum to document about adjust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- Us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 accounts are of special importance when there are important gaps between the economic and social development of the various regions of a country.”  SNA 1993, paragraph 19.8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:  a tool to determine eligibility for structural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unds assistance or distribution of weal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 matters significa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Accounts -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w paragraphs on regional accounts in SNA 93 while a short chapter in ESA95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 developed following series of consultation between national statistical agencies and data availability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accounts  not necessarily implemented consistently, affecting compar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to mention the issue of data availability affecting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ional Accounts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ffect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registers and local K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/common method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, concepts an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ly, I would ad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bu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between enterprise and its establis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within national accounts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Regional Accounts System of the EU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EUROS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requirements for sound regional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business register with local K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al busines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Regional Accounts System of the EU –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UROSTAT view BR with local KAU and the necessity to have sufficient industry detail as a turning point in promoting bottom-up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ight amount of business statistics?  To what extent administrative data can be survey substitu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/weaknesses of administrativ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 without discussing consistency/coherence of regional and national accounts, notably adju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the CIS Statistical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ation done by regional offices and finalized by the national of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roles of the regional offices and the national off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easy is it to ensure quality of the resul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by the CIS Statistical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regional units at the reg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ISSTAT recommends a bottom-up approach to obtain inform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gesting, among others, clear link between accounting of enterprise and establishment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s it the case? Response burden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gional Accounts in the CIS Countri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ptual and pract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of achieving full reconciliation between GDP and the sum of G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ocating central government bodies, transport activities, insurance, NPISH, FISIM, taxes on imports and expor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rge reconciliation it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w to ensure quality of estimate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plan to implement methodologies to impute for gaps and reconcile GDP and GRP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6264360"/>
            <a:ext cx="3384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hel Gir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Statistics Canada - Statistique Canada"/>
          <p:cNvPicPr/>
          <p:nvPr/>
        </p:nvPicPr>
        <p:blipFill>
          <a:blip r:embed="rId1"/>
          <a:stretch/>
        </p:blipFill>
        <p:spPr>
          <a:xfrm>
            <a:off x="826920" y="6504120"/>
            <a:ext cx="174312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4809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54:04Z</dcterms:created>
  <dc:creator>boivsan</dc:creator>
  <dc:description/>
  <dc:language>en-US</dc:language>
  <cp:lastModifiedBy>CSD</cp:lastModifiedBy>
  <dcterms:modified xsi:type="dcterms:W3CDTF">2006-04-28T12:48:33Z</dcterms:modified>
  <cp:revision>54</cp:revision>
  <dc:subject/>
  <dc:title>Joint ECE/Eurostat Meeting on National Accounts</dc:title>
</cp:coreProperties>
</file>