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CE8B-AFD9-410B-8B25-6E6AA6D3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C8D0-DFF9-4E76-9D47-31EA148E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8A7D-96BE-454E-9CDF-BF31A5C7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AE3D-C913-4E56-834A-4204DFA0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F308-F488-47C6-AFAA-0A8E10AF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DCA1-4302-4441-8A64-EF4698C9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97FC-F676-4A12-83D5-44A8B35B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4DFF-484F-4783-B271-2CA047CA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0A1B-0124-4DF8-8C66-0594041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DCC7-7461-457E-8165-F1FFD6F0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FF54-A455-4909-9C98-409F14A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9994-663F-4A52-A3AD-E678518D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923C-868D-493B-84C8-340E3583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9DDC-DB3B-4B46-8A60-838230C0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127B-D3DF-4480-85C0-03075841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8FD3-BAE8-48AB-AA21-3BA157BD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8D2D-F7F7-435B-B92A-3D9C23BD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A0D4-C14E-4E64-81B6-273802C4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7354-3527-472B-AF6C-5233DDA4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1573-57D1-43A9-8F3A-2E372DD7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3DD3-B718-4413-87BD-A8B30583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8AC0-8CA5-44AA-9CE1-5711D021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98BA-0FEC-4D88-87E0-5D083406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69BB-5D22-4D91-9D1B-AA47DCB9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C9D2-8D99-4544-990E-74054FE0B1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25BD-A88B-4D76-980B-E63F6218B5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ECE/EUROSTAT/OECD Meeting on National Accou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508280"/>
            <a:ext cx="5791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ents on papers submitted by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ISST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tistics Netherlan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623268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625464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3716280"/>
            <a:ext cx="59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gional Aspects in the National Accou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gional Accounts in the CIS Countri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nceptual and practical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P by expenditure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werful set of data to reconcile production accounts and income and expenditure accou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pply and disposi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y plan to estimate final consumption of residents (by regions) and interregional flows of goods and services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to Improve the Quality of Regional Accounts Estimates </a:t>
            </a:r>
            <a:br>
              <a:rPr sz="35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. Nijmeijer,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ion of funds on the basis of regional GDP per cap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high qualit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to “quantify”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nd regional ac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to Improve the Quality of Regional Accounts Estimates </a:t>
            </a:r>
            <a:br>
              <a:rPr sz="35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. Nijmeijer,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03280" y="198108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quality vs. ensuring processes are in place to ensure qualit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is on adjust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ol in order to make proper adjus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t with Canadian experi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to Improve the Quality of Regional Accounts Estimates </a:t>
            </a:r>
            <a:br>
              <a:rPr sz="35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. Nijmeijer,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hows source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alytical function (ratio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lp find inconsistencies but not resolving incoherenci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pproach requires focussing on micro data to produce macroeconomic statistic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to Improve the Quality of Regional Accounts Estimates </a:t>
            </a:r>
            <a:br>
              <a:rPr sz="35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. Nijmeijer,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Future of data wareho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Show source data from </a:t>
            </a: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various sources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and can compare them using common classification and defini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Analytical function (ratio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Help find inconsistency as well as incoher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However, type of documention still an issu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to Improve the Quality of Regional Accounts Estimates </a:t>
            </a:r>
            <a:br>
              <a:rPr sz="35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. Nijmeijer,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 and national accountants team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hould they be the same people?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tegrating instead of reconciling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ing is very costly and time consuming but we never have enough. What is the minimum to document about adjust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gional Accounts - Us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onal  accounts are of special importance when there are important gaps between the economic and social development of the various regions of a country.”  SNA 1993, paragraph 19.8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onal accounts:  a tool to determine eligibility for structural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unds assistance or distribution of weal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 matters significa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Accounts -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w paragraphs on regional accounts in SNA 93 while a short chapter in ESA95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onal accounts developed following series of consultation between national statistical agencies and data availability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onal accounts  not necessarily implemented consistently, affecting compara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to mention the issue of data availability affecting 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ional Accounts 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s affecting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registers and local K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t/common method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, concepts and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ly, I would ad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bu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 between enterprise and its establish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within national accounts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Regional Accounts System of the EU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ed by EUROST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03280" y="1981080"/>
            <a:ext cx="77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requirements for sound regional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business register with local K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al business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Regional Accounts System of the EU –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EUROSTAT view BR with local KAU and the necessity to have sufficient industry detail as a turning point in promoting bottom-up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ight amount of business statistics?  To what extent administrative data can be survey substitut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s/weaknesses of administrative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quality without discussing consistency/coherence of regional and national accounts, notably adju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gional Accounts in the CIS Countries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ed by the CIS Statistical Commit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ation done by regional offices and finalized by the national off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roles of the regional offices and the national offi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easy is it to ensure quality of the resul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gional Accounts in the CIS Countries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ed by the CIS Statistical Commit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0292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regional units at the reg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ISSTAT recommends a bottom-up approach to obtain inform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gesting, among others, clear link between accounting of enterprise and establishment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s it the case? Response burden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gional Accounts in the CIS Countri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nceptual and practical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of achieving full reconciliation between GDP and the sum of G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llocating central government bodies, transport activities, insurance, NPISH, FISIM, taxes on imports and expor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rge reconciliation ite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ow to ensure quality of estimates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y plan to implement methodologies to impute for gaps and reconcile GDP and GRPs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6:54:04Z</dcterms:created>
  <dc:creator>boivsan</dc:creator>
  <dc:description/>
  <dc:language>en-US</dc:language>
  <cp:lastModifiedBy>CSD</cp:lastModifiedBy>
  <dcterms:modified xsi:type="dcterms:W3CDTF">2006-04-28T12:48:33Z</dcterms:modified>
  <cp:revision>54</cp:revision>
  <dc:subject/>
  <dc:title>Joint ECE/Eurostat Meeting on National Accounts</dc:title>
</cp:coreProperties>
</file>