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F786-A53C-42E8-A560-2187AB9E5678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vad indeholdt den så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0511-4198-4333-9C7D-34363BBE3F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B5D42-191F-4F64-91C0-15F2F783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0A23-AED6-4B12-862A-7F1D7E7E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3EC67-BA52-4121-AC6C-09832EF89C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37AD-5B4E-4DD2-889D-5AA527BB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4AF7B-5191-4652-959F-1E6D1452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56EF8-140C-49C8-9F62-26B1ACBA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E2A1A-C750-478F-BDEB-E86DE6C6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256AF-FB11-4495-8629-65D55B8E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69DDC-E2C6-41CF-99D1-4A127486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011AC-E09B-4B25-A1CF-079AF9F4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84571-8FC6-4890-9947-31A59AE1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05484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5592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952560" y="64958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EB8E-0655-4EE4-9715-E22E62F1CF74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985080" y="6248520"/>
            <a:ext cx="1854000" cy="547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65240" y="990720"/>
            <a:ext cx="8078760" cy="0"/>
          </a:xfrm>
          <a:prstGeom prst="line">
            <a:avLst/>
          </a:prstGeom>
          <a:ln w="9360">
            <a:solidFill>
              <a:srgbClr val="00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90640" y="914400"/>
            <a:ext cx="3762720" cy="3762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05484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985080" y="6248520"/>
            <a:ext cx="1854000" cy="547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ffffff"/>
                </a:solidFill>
                <a:latin typeface="Arial"/>
              </a:rPr>
              <a:t>National Accounts and</a:t>
            </a:r>
            <a:br>
              <a:rPr sz="3000"/>
            </a:br>
            <a:r>
              <a:rPr b="1" lang="da-DK" sz="3000" spc="-1" strike="noStrike">
                <a:solidFill>
                  <a:srgbClr val="ffffff"/>
                </a:solidFill>
                <a:latin typeface="Arial"/>
              </a:rPr>
              <a:t> Employment Dat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Group of Experts on National Ac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Geneva 25-28 April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bth@dst.d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3d3c"/>
                </a:solidFill>
                <a:latin typeface="Arial"/>
              </a:rPr>
              <a:t>Special NA economic activity classification</a:t>
            </a:r>
            <a:endParaRPr b="1" lang="en-US" sz="26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Pure” activities in national accounts such as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Employment must be reclassified to be consistent with the economic activity classifica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Other classification issue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ncillary corporations (SNA 4.40-44) created specifically to employ all staff of a parent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More generally labour contracting activities (belonging to the ISIC group ”Labour recruitment and provision of personnel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Question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Preliminary vs. final data (annual and quarter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ransparency and the reconciliation process. (Micro-macro link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Restrictions on the concialition process (on increases in hourly wages and/or labour productivity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d3c"/>
                </a:solidFill>
                <a:latin typeface="Arial"/>
              </a:rPr>
              <a:t>Reliability of estimates by industry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65160" y="1295280"/>
          <a:ext cx="7012080" cy="4675320"/>
        </p:xfrm>
        <a:graphic>
          <a:graphicData uri="http://schemas.openxmlformats.org/drawingml/2006/table">
            <a:tbl>
              <a:tblPr/>
              <a:tblGrid>
                <a:gridCol w="3506760"/>
                <a:gridCol w="350532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 of var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er 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te consum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per 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ssumed correlation between output and intermediate consumption 0,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er 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er 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</a:t>
                      </a: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ur productivity</a:t>
                      </a: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tween period 0 and period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 per cent confidence interval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s/minus 5 percentage points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Questions on Russian estimate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Restrictions on the reconciliation process (using the three sources: LFS, establishment surveys and administrative regis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Employment data used to estimate production in branches dominated by small enterp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Labour productivity: Trends, but no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Pure” types of activity (product grou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Labour productivity per unit of output by ”pure” types of activity. For assessing industrial labour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Questions on the Canadian estimate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Restrictions build into the </a:t>
            </a:r>
            <a:r>
              <a:rPr b="0" i="1" lang="da-DK" sz="2400" spc="-1" strike="noStrike">
                <a:solidFill>
                  <a:srgbClr val="000000"/>
                </a:solidFill>
                <a:latin typeface="Arial"/>
              </a:rPr>
              <a:t>multistop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 reconciliation algorithm (using the three sources: LFS, establishment surveys and administrative regis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How are the variance estimates (sampling and non-sampling errors)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Interpretation of the levels of labou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Use of LFS data in construction, retail trade and hotels and restaurants (in spite of lack of precise industry code) to capture clandestin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3d3c"/>
                </a:solidFill>
                <a:latin typeface="Arial"/>
              </a:rPr>
              <a:t>Purposes of employment data in the national accounts</a:t>
            </a:r>
            <a:endParaRPr b="1" lang="en-US" sz="26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20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nsistency checks (use of all available information in the N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General user interest in reconciliation between NA labour inputs and basic labour market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roduktivit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Employment effects (such as input-output impact an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6520" r="0" b="47986"/>
          <a:stretch/>
        </p:blipFill>
        <p:spPr>
          <a:xfrm>
            <a:off x="1187280" y="1125360"/>
            <a:ext cx="6840720" cy="4680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3d3c"/>
                </a:solidFill>
                <a:latin typeface="Arial"/>
              </a:rPr>
              <a:t>SNA Chapter XVII </a:t>
            </a:r>
            <a:r>
              <a:rPr b="1" i="1" lang="da-DK" sz="2400" spc="-1" strike="noStrike">
                <a:solidFill>
                  <a:srgbClr val="003d3c"/>
                </a:solidFill>
                <a:latin typeface="Arial"/>
              </a:rPr>
              <a:t>Population and labour Input</a:t>
            </a:r>
            <a:endParaRPr b="1" lang="en-US" sz="2400" spc="-1" strike="noStrike">
              <a:solidFill>
                <a:srgbClr val="003d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Population and labour measure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000000"/>
                </a:solidFill>
                <a:latin typeface="Arial"/>
              </a:rPr>
              <a:t>Stocks (number of persons, point in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Jobs (average end of quarter/mon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(Full time equivalent employm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otal hours worked during period (possibly broken down by educational level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3d3c"/>
                </a:solidFill>
                <a:latin typeface="Arial"/>
              </a:rPr>
              <a:t>Major sources for employment data in national accounts</a:t>
            </a:r>
            <a:endParaRPr b="1" lang="en-US" sz="26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(Population cens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abour Force Surveys (L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Enterprise/establishment based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Register based employment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abour accoun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3d3c"/>
                </a:solidFill>
                <a:latin typeface="Arial"/>
              </a:rPr>
              <a:t>Problems in compiling employment data</a:t>
            </a:r>
            <a:endParaRPr b="1" lang="en-US" sz="26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Definition of employment  (I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Classifications by economic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Econom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formal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Glob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General observations on LF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LFS (with certain adjustments) as the overall benchmark for employment in the eocono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nly the LFS measures hours wor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classification by economic activity in the LFS is not reliable enough (sample size, classification method) for direct use in the national accounts. (Overruled by establishment surveys/administrative data and othe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3d3c"/>
                </a:solidFill>
                <a:latin typeface="Arial"/>
              </a:rPr>
              <a:t>Adjustments of employment data to national accounts concepts</a:t>
            </a:r>
            <a:endParaRPr b="1" lang="en-US" sz="26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djustment of to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Net non-resident employees (national vs. domest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Hidden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Reallocation by economic activity (neutral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lternative sources by economic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Special NA activity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djustment to compensation of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General reconciliatio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Hidden economy and employmen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7120" y="2317320"/>
            <a:ext cx="189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800080"/>
                </a:solidFill>
                <a:latin typeface="Arial"/>
                <a:ea typeface="Times New Roman"/>
              </a:rPr>
              <a:t>Figure 1 Hidden econo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87280" y="1227240"/>
          <a:ext cx="6985080" cy="4524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27240"/>
                    <a:ext cx="698508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3:07:45Z</dcterms:created>
  <dc:creator>Netværk</dc:creator>
  <dc:description/>
  <dc:language>en-US</dc:language>
  <cp:lastModifiedBy>Bærbar</cp:lastModifiedBy>
  <dcterms:modified xsi:type="dcterms:W3CDTF">2006-04-28T00:13:57Z</dcterms:modified>
  <cp:revision>52</cp:revision>
  <dc:subject/>
  <dc:title>Daterevisionen af det danske nationalregnskab</dc:title>
</cp:coreProperties>
</file>