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571B-B0D4-4646-89A7-4D0AADBF1383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vad indeholdt den så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9F6CC-9C6F-49E1-BBBE-D2D0A772DA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65160" y="344484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C1922-ED1D-40ED-8A04-BA720482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832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F31A2-5161-4933-9B1E-3AE6D1A4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612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0672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6516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612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0672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B2C2A-1832-4635-904B-30657A89D3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011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7B01D-7DC7-4DA8-BFC9-AC1B9A1A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5832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65160" y="344484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5832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612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70672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6516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612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70672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E2083-018C-41B6-89FC-90432F3A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03A99-6930-46E4-95E2-40E27F5A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AFC9A-B6E4-4280-9210-78CADB2D7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011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A2A4F-5304-4F4F-82AC-D3A478DBD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F8D59-3AA3-4A8F-BD57-F1B4D198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832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5F17B-A257-4C2C-A316-9BE48234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BA622-4A71-4953-99C7-431F67B1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054840"/>
            <a:ext cx="9144000" cy="803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d3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462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609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609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609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55920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952560" y="64958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E953-5C4D-4B95-A20D-78724823CE93}" type="slidenum"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6985080" y="6248520"/>
            <a:ext cx="1854000" cy="5475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065240" y="990720"/>
            <a:ext cx="8078760" cy="0"/>
          </a:xfrm>
          <a:prstGeom prst="line">
            <a:avLst/>
          </a:prstGeom>
          <a:ln w="9360">
            <a:solidFill>
              <a:srgbClr val="00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690640" y="914400"/>
            <a:ext cx="3762720" cy="376236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6054840"/>
            <a:ext cx="9144000" cy="803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985080" y="6248520"/>
            <a:ext cx="1854000" cy="5475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344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524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524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524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ffffff"/>
                </a:solidFill>
                <a:latin typeface="Arial"/>
              </a:rPr>
              <a:t>National Accounts and</a:t>
            </a:r>
            <a:br>
              <a:rPr sz="3000"/>
            </a:br>
            <a:r>
              <a:rPr b="1" lang="da-DK" sz="3000" spc="-1" strike="noStrike">
                <a:solidFill>
                  <a:srgbClr val="ffffff"/>
                </a:solidFill>
                <a:latin typeface="Arial"/>
              </a:rPr>
              <a:t> Employment Dat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ff"/>
                </a:solidFill>
                <a:latin typeface="Arial"/>
              </a:rPr>
              <a:t>Group of Experts on National Accou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ff"/>
                </a:solidFill>
                <a:latin typeface="Arial"/>
              </a:rPr>
              <a:t>Geneva 25-28 April 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bth@dst.d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600" spc="-1" strike="noStrike">
                <a:solidFill>
                  <a:srgbClr val="003d3c"/>
                </a:solidFill>
                <a:latin typeface="Arial"/>
              </a:rPr>
              <a:t>Special NA economic activity classification</a:t>
            </a:r>
            <a:endParaRPr b="1" lang="en-US" sz="26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Pure” activities in national accounts such as 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Employment must be reclassified to be consistent with the economic activity classificati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Other classification issues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ncillary corporations (SNA 4.40-44) created specifically to employ all staff of a parent corp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More generally labour contracting activities (belonging to the ISIC group ”Labour recruitment and provision of personnel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Questions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Preliminary vs. final data (annual and quarter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ransparency and the reconciliation process. (Micro-macro links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Restrictions on the concialition process (on increases in hourly wages and/or labour productivity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d3c"/>
                </a:solidFill>
                <a:latin typeface="Arial"/>
              </a:rPr>
              <a:t>Reliability of estimates by industry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65160" y="1295280"/>
          <a:ext cx="7012080" cy="4675320"/>
        </p:xfrm>
        <a:graphic>
          <a:graphicData uri="http://schemas.openxmlformats.org/drawingml/2006/table">
            <a:tbl>
              <a:tblPr/>
              <a:tblGrid>
                <a:gridCol w="3506760"/>
                <a:gridCol w="3505320"/>
              </a:tblGrid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ficient of vari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per c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mediate consum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per c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ssumed correlation between output and intermediate consumption 0,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per c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per c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 in </a:t>
                      </a:r>
                      <a:r>
                        <a:rPr b="1" lang="da-D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our productivity</a:t>
                      </a: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etween period 0 and period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 per cent confidence interval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s/minus 5 percentage points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Questions on Russian estimates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Restrictions on the reconciliation process (using the three sources: LFS, establishment surveys and administrative regis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Employment data used to estimate production in branches dominated by small enterpr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Labour productivity: Trends, but not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Pure” types of activity (product grou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Labour productivity per unit of output by ”pure” types of activity. For assessing industrial labour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Questions on the Canadian estimates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Restrictions build into the </a:t>
            </a:r>
            <a:r>
              <a:rPr b="0" i="1" lang="da-DK" sz="2400" spc="-1" strike="noStrike">
                <a:solidFill>
                  <a:srgbClr val="000000"/>
                </a:solidFill>
                <a:latin typeface="Arial"/>
              </a:rPr>
              <a:t>multistop</a:t>
            </a: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 reconciliation algorithm (using the three sources: LFS, establishment surveys and administrative register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How are the variance estimates (sampling and non-sampling errors) ma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Interpretation of the levels of labour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Use of LFS data in construction, retail trade and hotels and restaurants (in spite of lack of precise industry code) to capture clandestine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600" spc="-1" strike="noStrike">
                <a:solidFill>
                  <a:srgbClr val="003d3c"/>
                </a:solidFill>
                <a:latin typeface="Arial"/>
              </a:rPr>
              <a:t>Purposes of employment data in the national accounts</a:t>
            </a:r>
            <a:endParaRPr b="1" lang="en-US" sz="26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207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Consistency checks (use of all available information in the NA compi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General user interest in reconciliation between NA labour inputs and basic labour market statist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Produktivity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Employment effects (such as input-output impact analy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0" t="6520" r="0" b="47986"/>
          <a:stretch/>
        </p:blipFill>
        <p:spPr>
          <a:xfrm>
            <a:off x="1187280" y="1125360"/>
            <a:ext cx="6840720" cy="4680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3d3c"/>
                </a:solidFill>
                <a:latin typeface="Arial"/>
              </a:rPr>
              <a:t>SNA Chapter XVII </a:t>
            </a:r>
            <a:r>
              <a:rPr b="1" i="1" lang="da-DK" sz="2400" spc="-1" strike="noStrike">
                <a:solidFill>
                  <a:srgbClr val="003d3c"/>
                </a:solidFill>
                <a:latin typeface="Arial"/>
              </a:rPr>
              <a:t>Population and labour Input</a:t>
            </a:r>
            <a:endParaRPr b="1" lang="en-US" sz="2400" spc="-1" strike="noStrike">
              <a:solidFill>
                <a:srgbClr val="003d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Population and labour measures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800" spc="-1" strike="noStrike">
                <a:solidFill>
                  <a:srgbClr val="000000"/>
                </a:solidFill>
                <a:latin typeface="Arial"/>
              </a:rPr>
              <a:t>Stocks (number of persons, point in t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Em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8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Jobs (average end of quarter/mon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(Full time equivalent employmen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Total hours worked during period (possibly broken down by educational level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600" spc="-1" strike="noStrike">
                <a:solidFill>
                  <a:srgbClr val="003d3c"/>
                </a:solidFill>
                <a:latin typeface="Arial"/>
              </a:rPr>
              <a:t>Major sources for employment data in national accounts</a:t>
            </a:r>
            <a:endParaRPr b="1" lang="en-US" sz="26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(Population cens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Labour Force Surveys (LF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Enterprise/establishment based surv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Register based employment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---------------------------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Labour accounting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600" spc="-1" strike="noStrike">
                <a:solidFill>
                  <a:srgbClr val="003d3c"/>
                </a:solidFill>
                <a:latin typeface="Arial"/>
              </a:rPr>
              <a:t>Problems in compiling employment data</a:t>
            </a:r>
            <a:endParaRPr b="1" lang="en-US" sz="26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Definition of employment  (I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Classifications by economic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Econom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Informal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Globa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General observations on LFS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LFS (with certain adjustments) as the overall benchmark for employment in the eoconom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Only the LFS measures hours wor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The classification by economic activity in the LFS is not reliable enough (sample size, classification method) for direct use in the national accounts. (Overruled by establishment surveys/administrative data and othe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600" spc="-1" strike="noStrike">
                <a:solidFill>
                  <a:srgbClr val="003d3c"/>
                </a:solidFill>
                <a:latin typeface="Arial"/>
              </a:rPr>
              <a:t>Adjustments of employment data to national accounts concepts</a:t>
            </a:r>
            <a:endParaRPr b="1" lang="en-US" sz="26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Adjustment of to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Net non-resident employees (national vs. domesti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Hidden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Reallocation by economic activity (neutral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Alternative sources by economic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Special NA activity 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Adjustment to compensation of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General reconciliation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Hidden economy and employment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57120" y="2317320"/>
            <a:ext cx="189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62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800080"/>
                </a:solidFill>
                <a:latin typeface="Arial"/>
                <a:ea typeface="Times New Roman"/>
              </a:rPr>
              <a:t>Figure 1 Hidden econom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187280" y="1227240"/>
          <a:ext cx="6985080" cy="4524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227240"/>
                    <a:ext cx="6985080" cy="45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3:07:45Z</dcterms:created>
  <dc:creator>Netværk</dc:creator>
  <dc:description/>
  <dc:language>en-US</dc:language>
  <cp:lastModifiedBy>Bærbar</cp:lastModifiedBy>
  <dcterms:modified xsi:type="dcterms:W3CDTF">2006-04-28T00:13:57Z</dcterms:modified>
  <cp:revision>52</cp:revision>
  <dc:subject/>
  <dc:title>Daterevisionen af det danske nationalregnskab</dc:title>
</cp:coreProperties>
</file>