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D70-BF00-47BC-8801-AB73C957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CA98-88F1-4891-9709-CA1BE573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E8F3-5833-4654-B15E-123A139D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2CB-54FA-4AEC-B78E-8A4EBD5A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9641-ED82-423D-B59E-EA14CEED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E8FC-D3F7-4F2C-AA82-A395D3B0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6D50-AB8C-40E6-84B0-4BE475FE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5A35-1263-4D51-AD51-79CE7D48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B9C2-D3E0-44A9-A1D2-6E11B452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13FA-82EB-4D13-AFF8-144338B7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546F-0DF9-4F27-964A-154D94B1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D02-C693-4359-BD8A-70C2555D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4298-E9F6-42ED-A71D-784B727F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7126-7722-4AA2-A3D9-0533EC86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3B15-EB06-4F2F-8BBB-C9BA1B76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DDD2-B6A5-49B9-ABE6-BAAD5D07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D6D3-B566-433B-9A9D-DFFA824D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C8A-E0A7-49E6-B3EB-908ED9DD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FFD-B8E5-44BB-876F-D295834F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A73-81DF-4A82-8BBB-FB8B634E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263-CBDE-4565-82DA-87EF4F46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23C-3DEC-4570-AFAB-08564490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5FF2-DB43-4F63-9830-88F1D9E4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79D-D874-45A5-A22F-CE16F8E4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F496-A641-41CA-AD56-3783B71D94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BA36-275E-413F-9E42-029EF769FB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in Ly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K Office for National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xample Multinational Insura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value of the computer services to the rest of the group be 10,  5 to the sales activity in the UK and 5 to the call-centre activity in Ind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value of the call-centre services to the UK sales activity be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K Production accou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600200"/>
          <a:ext cx="4038480" cy="5094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rial cos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-centre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ada Production accou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57200" y="1600200"/>
          <a:ext cx="4038480" cy="43354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rial cos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648320" y="1600200"/>
          <a:ext cx="4038480" cy="4903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ia Production Accou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1600200"/>
          <a:ext cx="4038480" cy="4714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rial cos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648320" y="1600200"/>
          <a:ext cx="4038480" cy="4905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-centre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xample Multinational Insura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suppose the computer services to the rest of the group are re-valued at 50,  25 to the sales activity in the UK and 25 to the call-centre activity in Ind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K Production accou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1600200"/>
          <a:ext cx="4038480" cy="5094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rial cos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(5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-centre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 (55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ada Production accou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57200" y="1600200"/>
          <a:ext cx="4038480" cy="43354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rial cos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(-1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4648320" y="1600200"/>
          <a:ext cx="4038480" cy="4903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 (1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ia Production Accou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57200" y="1600200"/>
          <a:ext cx="4038480" cy="4714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rial cos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(5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5 (5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648320" y="1600200"/>
          <a:ext cx="4038480" cy="4905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-centre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xample Multinational Insura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the profits spread has changed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upon a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lived in a vill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worked in the vill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hole production process was in the vill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tput  was sold in the vill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llagers bought local prod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ationa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unts aim to measure the economic activities of a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Multi-n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ctivities are a measurement problem for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ation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ccoun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tput  was sold in the vill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is sold ab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is sold on the world wide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illagers bought local prod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buy from ab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buy as we travel ab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buy on th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day concentrates on the measurement of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paper from Canada describes how a register can meet the demands of national measurements in global production process. Presented by Michel Girard, Director of Industry Accounts Division in Statistics C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paper is presented by Nico van Stokrum from the Netherlands, and sets out a practical approach to measuring national production as part of global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e morning break, Steve Landefeld, Director of Economic Statistics in the US Bureau of Economic Analysis will present a very wide ranging paper on measuring globalisation. This will be followed by discussion and then we break for lun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lunch, Dave Hobbs of the UK will present a pragmatic approach adopted by the UK in measuring firms in the UK who are part of a global toll-processing set-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before the afternoon break, Soly Pelig will present a paper on the measurement of cross-border transactions with particular attention to intellectual prop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ly, Carol Carson, Project Manager of the Updating SNA process, will present current plans on how this issue will be addressed in the updated S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ssion is wound up with a discussion with authors providing a panel to answer questions from the flo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it mat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B paper Dec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ymmetries between the Euro area and 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441360"/>
                <a:gridCol w="507960"/>
                <a:gridCol w="368280"/>
                <a:gridCol w="369720"/>
                <a:gridCol w="425520"/>
                <a:gridCol w="393840"/>
                <a:gridCol w="368280"/>
                <a:gridCol w="425160"/>
                <a:gridCol w="370080"/>
                <a:gridCol w="368280"/>
              </a:tblGrid>
              <a:tr h="63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57200" y="1600200"/>
          <a:ext cx="8147160" cy="4765680"/>
        </p:xfrm>
        <a:graphic>
          <a:graphicData uri="http://schemas.openxmlformats.org/drawingml/2006/table">
            <a:tbl>
              <a:tblPr/>
              <a:tblGrid>
                <a:gridCol w="1252440"/>
                <a:gridCol w="1438200"/>
                <a:gridCol w="1046160"/>
                <a:gridCol w="1044720"/>
                <a:gridCol w="1206360"/>
                <a:gridCol w="1111320"/>
                <a:gridCol w="1047960"/>
              </a:tblGrid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ro b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K impor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U expor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crepanc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K expor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uro Z impor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crepanc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om Euro z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U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Euro Z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om U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ods 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vices 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DI 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57200" y="1600200"/>
          <a:ext cx="7282440" cy="4525560"/>
        </p:xfrm>
        <a:graphic>
          <a:graphicData uri="http://schemas.openxmlformats.org/drawingml/2006/table">
            <a:tbl>
              <a:tblPr/>
              <a:tblGrid>
                <a:gridCol w="2664720"/>
                <a:gridCol w="2308680"/>
                <a:gridCol w="2309040"/>
              </a:tblGrid>
              <a:tr h="559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t U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t Euro Z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crepanc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2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Euro Z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U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upon a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lived in a vill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worked in the vill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hole production process was in the vill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ut  was sold in the vill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llagers bought local prod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K and Netherlands will exchange data on a confidential and bilateral b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cle 8 (3) of EU regulation No 184 / 2005 allows this exchange in order to improve EU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ill the businesses thin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links and Eurogroups Reg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an registers of multi-national companies will keep data on ownership and links of control between legal units in the 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unity register of multi-nationals will be introduced from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ople lived in a vill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have second h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live and work abroad but retain a centre of economic interest in their home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holiday and spend a lot of money abr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ople worked in the vill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work abro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work in many different places in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hole production process was in the vill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national companies organise themselves across the world to produce efficiently, and minimise global tax bur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 centre in U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ion in Thailand and Mex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eting in United 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ncial centre in the Netherl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we produce national accounts from observation of this global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asuring production across national boundar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ll-processing – no charge for goods, no change of legal owne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hanting – an agent provides goods from one country to another, without the goods ever crossing the agent’s country b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 of capital services from intellectual property such as design – are they captu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nationals organise on ownership principles, not territory, so measuring territories (nations) is diffic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xample Multinational Insura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ulti national corporation has a computer centre in Canada, a help call-centre in India and sales in the U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ulti National Production accou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57200" y="1600200"/>
          <a:ext cx="4038480" cy="5094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rial cos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-centre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648320" y="1600200"/>
          <a:ext cx="4038480" cy="5283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-centre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9:57:55Z</dcterms:created>
  <dc:creator>lynchr</dc:creator>
  <dc:description/>
  <dc:language>en-US</dc:language>
  <cp:lastModifiedBy>CSD</cp:lastModifiedBy>
  <dcterms:modified xsi:type="dcterms:W3CDTF">2006-04-27T07:01:24Z</dcterms:modified>
  <cp:revision>11</cp:revision>
  <dc:subject/>
  <dc:title>Globalisation and national accounts</dc:title>
</cp:coreProperties>
</file>