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567-0415-41DB-B6A0-C5D1FB3A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799-CD54-4579-8B31-462B2ABB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011-926C-4B86-AD43-46C46126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BE6-33B1-437F-B857-3A3CADE7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B3A5-CE85-4150-86B9-17B1BC79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88C7-201E-4EAE-86CB-E2D375AF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BDE0-1BA7-4AE6-9CED-697B5187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902A-386C-4860-9350-F6E82805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AB0E-E24A-4BDD-955E-AAFE4498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5527-2801-4A07-931E-E15B0192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6012-6137-4C40-A2C8-569CE26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633-B010-42B7-8C97-87CD445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F72F-12F3-4BE0-8CB7-F4A2205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1937-A89A-4CC6-925C-C2353ABA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276F-2381-4974-BBF5-0364C0AC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D500-11AA-426C-9A26-E1C39B0D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D5E5-069F-48F6-9CA1-4CAD174A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323-7BB9-41E3-91DE-85B314E7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2BD-424C-40CB-BF0F-62F91A38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BA2-4746-49B5-88B5-B4EF6667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F66-3D2F-43EB-9822-96B88E8D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B4A-7A59-410D-BF70-65B7C8DA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FF8-C1DD-4568-BFEB-12AA757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8CF-54F5-451C-B7C8-ECE11E5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A001-7BD8-456E-B541-E8FCBB99D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8B69-FB1B-46A9-AC8F-FD3D20080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in Ly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K Office for National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Multinational Insur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value of the computer services to the rest of the group be 10,  5 to the sales activity in the UK and 5 to the call-centre activity in In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value of the call-centre services to the UK sales activity be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K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4038480" cy="5094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600200"/>
          <a:ext cx="4038480" cy="43354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8320" y="1600200"/>
          <a:ext cx="4038480" cy="4903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a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600200"/>
          <a:ext cx="4038480" cy="4714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Multinational Insur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suppose the computer services to the rest of the group are re-valued at 50,  25 to the sales activity in the UK and 25 to the call-centre activity in In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K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4038480" cy="5094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(5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1600200"/>
          <a:ext cx="4038480" cy="43354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(-1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648320" y="1600200"/>
          <a:ext cx="4038480" cy="4903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(1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a Production Accou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600200"/>
          <a:ext cx="4038480" cy="4714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5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Multinational Insur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the profits spread has changed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upon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lived in a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ed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ole production process was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  was sold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llagers bought local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ation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s aim to measure the economic activities of 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ulti-n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tivities are a measurement problem fo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at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coun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tput  was sold in the v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is sold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is sold on the world wid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illagers bought local pro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uy from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uy as we travel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uy on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ay concentrates on the measurement of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aper from Canada describes how a register can meet the demands of national measurements in global production process. Presented by Michel Girard, Director of Industry Accounts Division in Statistics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paper is presented by Nico van Stokrum from the Netherlands, and sets out a practical approach to measuring national production as part of globa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morning break, Steve Landefeld, Director of Economic Statistics in the US Bureau of Economic Analysis will present a very wide ranging paper on measuring globalisation. This will be followed by discussion and then we break for lun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lunch, Dave Hobbs of the UK will present a pragmatic approach adopted by the UK in measuring firms in the UK who are part of a global toll-processing set-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before the afternoon break, Soly Pelig will present a paper on the measurement of cross-border transactions with particular attention to intellectual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, Carol Carson, Project Manager of the Updating SNA process, will present current plans on how this issue will be addressed in the updated S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ssion is wound up with a discussion with authors providing a panel to answer questions from the flo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it ma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B paper Dec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mmetries between the Euro area and 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441360"/>
                <a:gridCol w="507960"/>
                <a:gridCol w="368280"/>
                <a:gridCol w="369720"/>
                <a:gridCol w="425520"/>
                <a:gridCol w="393840"/>
                <a:gridCol w="368280"/>
                <a:gridCol w="425160"/>
                <a:gridCol w="370080"/>
                <a:gridCol w="368280"/>
              </a:tblGrid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57200" y="1600200"/>
          <a:ext cx="8147160" cy="4765680"/>
        </p:xfrm>
        <a:graphic>
          <a:graphicData uri="http://schemas.openxmlformats.org/drawingml/2006/table">
            <a:tbl>
              <a:tblPr/>
              <a:tblGrid>
                <a:gridCol w="1252440"/>
                <a:gridCol w="1438200"/>
                <a:gridCol w="1046160"/>
                <a:gridCol w="1044720"/>
                <a:gridCol w="1206360"/>
                <a:gridCol w="1111320"/>
                <a:gridCol w="1047960"/>
              </a:tblGrid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 b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K im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U ex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crepa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K ex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uro Z im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crepa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om Euro 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Euro 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om 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ods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s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DI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600200"/>
          <a:ext cx="7282440" cy="4525560"/>
        </p:xfrm>
        <a:graphic>
          <a:graphicData uri="http://schemas.openxmlformats.org/drawingml/2006/table">
            <a:tbl>
              <a:tblPr/>
              <a:tblGrid>
                <a:gridCol w="2664720"/>
                <a:gridCol w="2308680"/>
                <a:gridCol w="2309040"/>
              </a:tblGrid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Euro 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crepa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Euro 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upon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lived in a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ed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ole production process was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 was sold in the vil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llagers bought local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K and Netherlands will exchange data on a confidential and bilateral b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le 8 (3) of EU regulation No 184 / 2005 allows this exchange in order to improve EU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the businesses th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links and Eurogroups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an registers of multi-national companies will keep data on ownership and links of control between legal units in the 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unity register of multi-nationals will be introduced from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ople lived in a vill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have second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live and work abroad but retain a centre of economic interest in their home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holiday and spend a lot of money ab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ople worked in the v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work abro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work in many different places in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lobalisation and national accou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hole production process was in the vill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national companies organise themselves across the world to produce efficiently, and minimise global tax bu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centre in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ion in Thailand and Mex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ing in United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centre in the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we produce national accounts from observation of this global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asuring production across national boundar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ll-processing – no charge for goods, no change of legal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hanting – an agent provides goods from one country to another, without the goods ever crossing the agent’s country b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of capital services from intellectual property such as design – are they captu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nationals organise on ownership principles, not territory, so measuring territories (nations) is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Multinational Insur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ulti national corporation has a computer centre in Canada, a help call-centre in India and sales in the U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ulti National Production accou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600200"/>
          <a:ext cx="4038480" cy="5094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648320" y="1600200"/>
          <a:ext cx="4038480" cy="5283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-centr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9:57:55Z</dcterms:created>
  <dc:creator>lynchr</dc:creator>
  <dc:description/>
  <dc:language>en-US</dc:language>
  <cp:lastModifiedBy>CSD</cp:lastModifiedBy>
  <dcterms:modified xsi:type="dcterms:W3CDTF">2006-04-27T07:01:24Z</dcterms:modified>
  <cp:revision>11</cp:revision>
  <dc:subject/>
  <dc:title>Globalisation and national accounts</dc:title>
</cp:coreProperties>
</file>