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375A-8834-4842-875F-F37A61937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4494-77B7-44C9-9EF5-478BB8E3D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AC0D-376F-4D72-AF36-CFBCDBE98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8BFF-E6AB-4BD7-A2A6-88A192ACB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F78B-2ED2-4D03-B0A1-C7B5660FF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6725-C99F-423F-BB07-A703FFE1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55D56-E4C0-4F9C-A904-5DC9B020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69392-79B8-48E9-8703-64FCE53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504C8-3908-4788-8142-717C7C91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66F49-FCC4-427B-BAFB-F741DC86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4ED5-4D7A-4FB4-A2FA-357073A6AE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85305-5B7A-4E29-B053-B01A624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7E06-6477-4213-AE7E-98F34A2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887D5-FF27-42E0-8588-7E78700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DD7BA-F695-401B-9AD7-7AB1E10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514A6-1E2C-433C-B375-C919C141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D316E-343C-4A8A-9266-00D5E446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77213-9536-4F7C-985C-9BDD94D5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AA2D0-A207-42BB-A40E-612F532B6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F132B-C53B-4D80-815B-8B08F04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E45D7-D4DE-469A-8B7C-F678FF31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EFA4-97B1-44A2-9830-E4BD9BF075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FA3F1-999E-4AFE-B782-C800D82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C5D46-D849-482E-B6C7-53CFEB45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0A3E2-453A-4D36-A2DB-E415920C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24BCF-21D5-4B5E-BFB1-5F85BC4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E7AFE-4F44-4C30-86FC-36582E60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A92CB-F850-4471-A69E-789AA85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48220-C469-4B53-B5C4-CCB21B47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1E9BB-695E-4B51-B744-87D6699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797EC-D1A1-43B0-B388-A8D93905C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8EE1-8173-4893-BFD2-09A87BC84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367E-B62F-4E00-B7AD-662CFB95A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FBAC-1B6B-4622-BD86-6A9751E0B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66A6-D787-4751-861F-AE09833BE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E338-F8A5-4C51-8622-D65E91E7B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cbdde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9cbdde"/>
              </a:solidFill>
              <a:latin typeface="News Gothic Std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6560" y="2278080"/>
            <a:ext cx="78598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C4BA-B7AA-42D7-8BB0-8E25EFE27616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a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826560" y="6453000"/>
            <a:ext cx="15843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D830-E5F3-44A9-9434-BB5E60830B96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914400" indent="52380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1371600" indent="78588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1828800" indent="103680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1828800" indent="103680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1828800" indent="103680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5e81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3b5e81"/>
              </a:solidFill>
              <a:latin typeface="News Gothic St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7440"/>
            <a:ext cx="8348760" cy="4552920"/>
          </a:xfrm>
          <a:prstGeom prst="rect">
            <a:avLst/>
          </a:pr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4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858-AEEA-4D3A-8BE2-EE1B0C33EC35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ACA-9030-4CE0-841F-F7EB57270217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826560" y="2278080"/>
            <a:ext cx="78598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87440"/>
            <a:ext cx="8348760" cy="4552920"/>
          </a:xfrm>
          <a:prstGeom prst="rect">
            <a:avLst/>
          </a:pr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E45-1A0A-4E38-B291-B174C6772D2D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8"/>
          </p:nvPr>
        </p:nvSpPr>
        <p:spPr>
          <a:xfrm>
            <a:off x="45684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0B7-1B80-43D9-B5F8-165D47356E99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a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2781360"/>
            <a:ext cx="76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631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 Std"/>
              </a:rPr>
              <a:t>Long time series issues in the EU National Accou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 Gothic Std"/>
              </a:rPr>
              <a:t>Recalculation of the Russian GDP series in connection with the transition to new classifications</a:t>
            </a:r>
            <a:endParaRPr b="1" lang="en-US" sz="24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6560" y="5013000"/>
            <a:ext cx="694548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Philippe Stauffer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wiss Federal Statistical Offic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860640"/>
            <a:ext cx="7593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Group of Experts on National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 Gothic Std"/>
              </a:rPr>
              <a:t>Item 4: Long time Series when major changes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332117-4BCD-4E59-8165-1DB72279AC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: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lnSpc>
                <a:spcPct val="1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484280"/>
            <a:ext cx="3672000" cy="28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 Gothic Std"/>
              </a:rPr>
              <a:t>User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Econometric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recas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tructura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Business cycle analysi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218120"/>
            <a:ext cx="3672000" cy="29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News Gothic Std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Data avai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Methodological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undamental political chang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103640"/>
            <a:ext cx="790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News Gothic Std"/>
              </a:rPr>
              <a:t>Vers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03A98127-8F0F-4295-A0A4-60E3BD4E05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: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lnSpc>
                <a:spcPct val="1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4510080"/>
            <a:ext cx="3672000" cy="23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Methods should 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n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ompar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2276640"/>
            <a:ext cx="3672000" cy="21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Information should 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Exhaus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Det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Pertinent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2CCA1488-9E3A-4C6D-A7A9-BF64F2B5C1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: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oherence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EC33DC20-591D-438C-8CB9-282F142631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        …. and implications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oherence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276640"/>
            <a:ext cx="388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53880" indent="-35388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Unavoid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entral conc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Often difficult to imp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421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07008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3789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337C384-1196-4D49-A03B-9678BD684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781360"/>
            <a:ext cx="76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00000" y="2492280"/>
          <a:ext cx="7416720" cy="3926160"/>
        </p:xfrm>
        <a:graphic>
          <a:graphicData uri="http://schemas.openxmlformats.org/drawingml/2006/table">
            <a:tbl>
              <a:tblPr/>
              <a:tblGrid>
                <a:gridCol w="2045880"/>
                <a:gridCol w="2812680"/>
                <a:gridCol w="2558160"/>
              </a:tblGrid>
              <a:tr h="78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Eurost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Rosst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Persp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Top-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Bottom-up (with BIP-restri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Constr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Legal framework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Coherence/comparabilit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Number of 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Implementation in business regis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Keys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Recent concep-tu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Focussed: FISI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Chain-li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Fundamental: change of statistical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338560" y="1413000"/>
            <a:ext cx="4897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 Gothic Std"/>
              </a:rPr>
              <a:t>Characteristics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6F9966-7CC2-463F-9C77-3A6D60580A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Questions to Eurostat documen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99736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Main retropolation option used in member states ?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 controls: who does what 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7B90CE59-A3FE-440B-8BD3-79732832FF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Questions to Rosstat documen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925360"/>
            <a:ext cx="7859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Why is the impact on GDP not significant ?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 controls: who does what 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oice of 2003 as price benchmark 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estion of use of retropolations in a period in fundamental transformations: what are users’ needs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F7D5005-DD9C-4B15-9D05-45A3A64C0D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2:12:53Z</dcterms:created>
  <dc:creator>Stauffer Philippe</dc:creator>
  <dc:description/>
  <dc:language>en-US</dc:language>
  <cp:lastModifiedBy>Stauffer Philippe</cp:lastModifiedBy>
  <dcterms:modified xsi:type="dcterms:W3CDTF">2006-04-24T11:22:29Z</dcterms:modified>
  <cp:revision>16</cp:revision>
  <dc:subject/>
  <dc:title>Long time series issues in the EU National accou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037956</vt:r8>
  </property>
  <property fmtid="{D5CDD505-2E9C-101B-9397-08002B2CF9AE}" pid="3" name="_AuthorEmail">
    <vt:lpwstr>Philippe.Stauffer@bfs.admin.ch</vt:lpwstr>
  </property>
  <property fmtid="{D5CDD505-2E9C-101B-9397-08002B2CF9AE}" pid="4" name="_AuthorEmailDisplayName">
    <vt:lpwstr>Stauffer Philippe BFS</vt:lpwstr>
  </property>
  <property fmtid="{D5CDD505-2E9C-101B-9397-08002B2CF9AE}" pid="5" name="_EmailSubject">
    <vt:lpwstr>Long time series issues in the EU National envoi.ppt</vt:lpwstr>
  </property>
</Properties>
</file>