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287C-A93D-4652-9E35-42998C3C0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35DB-86E9-476F-A1BC-8CEBD4DE3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8475-90E3-4135-899E-E0969101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056F-E3D4-4D0C-8125-1439F51F1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2FF9-F7A3-45B5-802B-9F4D0D799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A2C05-74C1-40DA-A360-4193EC2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F0929-30DC-4A73-A6D7-31B1776F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E1212-CACD-4AF1-BC37-87B5ACA7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4237-2816-49AF-8B32-998E7F5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63474-C35F-42D3-81D2-0A130D4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55CB-D307-46B4-BF9C-619164C05F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E0468-15B9-4E28-BD3E-16AB1BF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B5BCB-3FAB-4F5E-9A11-ADD1D0B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A54E7-2708-431F-9359-5A318C0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0156A-A57C-41F3-BE37-4911EF9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4248B-2656-49B4-8A62-BDC9672B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A9A7-D075-4FE5-B4DE-DE79E765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5DDE9-31C9-49CA-AB5D-699FAAE4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39291-C804-41E4-9E30-1C83C5F82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5C538-7019-4B2B-B829-360FE357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42016-1509-46CF-8F9F-CB26F59E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CC19-95CC-4697-A641-8CAB10DB57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AC472-5AE9-42F1-8011-9EB27B4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BDA72-F432-4F57-AD65-34AECC3C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AF53F-038B-43E1-B40A-40D226E2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3CF93-166F-4100-893C-BF01BC4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32A01-9464-4888-A6F4-07BD6D9E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C2735-6039-48FE-85E5-58949023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DAE06-E6CD-4311-AAF1-EBE5AD91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91D47-474A-457C-B876-83277CBF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8444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41960" y="227664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265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8444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41960" y="4495680"/>
            <a:ext cx="25308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54E4A-6123-47BD-AFEF-A34590FB3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2A40-CE44-44EA-96F6-F7BCC5179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8598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E100-7C32-4F5C-A517-ADE45F6B1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F5DA-942C-4199-8CD2-4B0C8EEB9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49568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5843-974D-4803-884C-80E643808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2276640"/>
            <a:ext cx="38354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560" y="4495680"/>
            <a:ext cx="785988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531A-AC94-4F52-898C-6EE5246D2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cbdde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9cbdde"/>
              </a:solidFill>
              <a:latin typeface="News Gothic Std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6560" y="2278080"/>
            <a:ext cx="78598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E9B-4CCD-49D3-A113-4336E525B570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a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312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826560" y="6453000"/>
            <a:ext cx="15843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1324-219E-429F-B7A3-E70223826FE9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914400" indent="52380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1371600" indent="78588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1828800" indent="1036800" algn="ctr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1828800" indent="103680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1828800" indent="103680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5e81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3b5e81"/>
              </a:solidFill>
              <a:latin typeface="News Gothic St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7440"/>
            <a:ext cx="8348760" cy="4552920"/>
          </a:xfrm>
          <a:prstGeom prst="rect">
            <a:avLst/>
          </a:pr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4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207F-37F2-4FA8-BA27-15EF5123A3D7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4572000" y="574560"/>
            <a:ext cx="44085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St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9748-A98A-4578-AA50-A9BD5292E2E1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826560" y="2278080"/>
            <a:ext cx="78598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7800"/>
            <a:ext cx="9140760" cy="252360"/>
          </a:xfrm>
          <a:prstGeom prst="rect">
            <a:avLst/>
          </a:prstGeom>
          <a:solidFill>
            <a:srgbClr val="81a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87440"/>
            <a:ext cx="8348760" cy="4552920"/>
          </a:xfrm>
          <a:prstGeom prst="rect">
            <a:avLst/>
          </a:pr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6560" y="227664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1" marL="10731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2" marL="1792440" indent="-3542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3" marL="2511360" indent="-35388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4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5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lvl="6" marL="3230640" indent="-365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172360" y="6453000"/>
            <a:ext cx="720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8050-4ACB-46D5-8474-3873B046B153}" type="slidenum">
              <a:rPr b="0" lang="en-US" sz="1100" spc="-1" strike="noStrike">
                <a:solidFill>
                  <a:srgbClr val="000000"/>
                </a:solidFill>
                <a:latin typeface="News Gothic St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8"/>
          </p:nvPr>
        </p:nvSpPr>
        <p:spPr>
          <a:xfrm>
            <a:off x="45684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News Gothic St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46A-F53C-4773-8BE1-B2F1C43C2529}" type="datetime">
              <a:rPr b="0" lang="de-CH" sz="1100" spc="-1" strike="noStrike">
                <a:solidFill>
                  <a:srgbClr val="000000"/>
                </a:solidFill>
                <a:latin typeface="News Gothic Std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a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2781360"/>
            <a:ext cx="76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631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 Std"/>
              </a:rPr>
              <a:t>Long time series issues in the EU National Accou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 Gothic Std"/>
              </a:rPr>
              <a:t>Recalculation of the Russian GDP series in connection with the transition to new classifications</a:t>
            </a:r>
            <a:endParaRPr b="1" lang="en-US" sz="24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6560" y="5013000"/>
            <a:ext cx="694548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Philippe Stauffer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wiss Federal Statistical Offic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860640"/>
            <a:ext cx="7593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Group of Experts on National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 Gothic Std"/>
              </a:rPr>
              <a:t>Item 4: Long time Series when major changes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E30CCA-1906-4137-A7CA-180581A3DA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: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lnSpc>
                <a:spcPct val="1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484280"/>
            <a:ext cx="3672000" cy="28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 Gothic Std"/>
              </a:rPr>
              <a:t>User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Econometric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orecas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tructura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Business cycle analysi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218120"/>
            <a:ext cx="3672000" cy="29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News Gothic Std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Data avai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Methodological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Fundamental political chang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103640"/>
            <a:ext cx="790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News Gothic Std"/>
              </a:rPr>
              <a:t>Vers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89EDE008-2175-44E4-ADB2-F4B37DBF07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: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lnSpc>
                <a:spcPct val="1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4510080"/>
            <a:ext cx="3672000" cy="23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Methods should 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n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ompar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2276640"/>
            <a:ext cx="3672000" cy="21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Information should 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Exhaus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Det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Pertinent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9DF19B48-78DA-46C8-89F5-216904504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: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oherence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C880794D-CB97-4A9E-8E54-AABF50D495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Key words in both papers        …. and implications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2274840"/>
            <a:ext cx="223236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oherence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276640"/>
            <a:ext cx="388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53880" indent="-35388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Unavoid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entral conc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Often difficult to imp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421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07008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3789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8890FA74-093D-46EF-931B-5052DEBF2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12620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781360"/>
            <a:ext cx="76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00000" y="2492280"/>
          <a:ext cx="7416720" cy="3926160"/>
        </p:xfrm>
        <a:graphic>
          <a:graphicData uri="http://schemas.openxmlformats.org/drawingml/2006/table">
            <a:tbl>
              <a:tblPr/>
              <a:tblGrid>
                <a:gridCol w="2045880"/>
                <a:gridCol w="2812680"/>
                <a:gridCol w="2558160"/>
              </a:tblGrid>
              <a:tr h="78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Eurost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Rosst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Persp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Top-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Bottom-up (with BIP-restri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Constr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Legal framework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Coherence/comparabilit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Number of 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Implementation in business regis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Keys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Recent concep-tu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Focussed: FISI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Chain-li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s Gothic Std"/>
                        </a:rPr>
                        <a:t>Fundamental: change of statistical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338560" y="1413000"/>
            <a:ext cx="4897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 Gothic Std"/>
              </a:rPr>
              <a:t>Characteristics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5FB109-8E75-452B-B732-F7165B4B70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Questions to Eurostat documen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997360"/>
            <a:ext cx="7859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Main retropolation option used in member states ?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 controls: who does what 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A62D4C9-0EE1-422E-A12D-1F511A5AD0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 Std"/>
              </a:rPr>
              <a:t>Questions to Rosstat document</a:t>
            </a:r>
            <a:endParaRPr b="1" lang="en-US" sz="2600" spc="-1" strike="noStrike">
              <a:solidFill>
                <a:srgbClr val="ffffff"/>
              </a:solidFill>
              <a:latin typeface="News Gothic St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925360"/>
            <a:ext cx="7859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Why is the impact on GDP not significant ? 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ality controls: who does what 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Choice of 2003 as price benchmark 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-419040">
              <a:spcBef>
                <a:spcPts val="2750"/>
              </a:spcBef>
              <a:buClr>
                <a:srgbClr val="000000"/>
              </a:buClr>
              <a:buFont typeface="News Gothic St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ews Gothic Std"/>
              </a:rPr>
              <a:t>Question of use of retropolations in a period in fundamental transformations: what are users’ needs?</a:t>
            </a: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News Gothic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7A3BBEDD-53CD-4265-872C-3C8302AE8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2:12:53Z</dcterms:created>
  <dc:creator>Stauffer Philippe</dc:creator>
  <dc:description/>
  <dc:language>en-US</dc:language>
  <cp:lastModifiedBy>Stauffer Philippe</cp:lastModifiedBy>
  <dcterms:modified xsi:type="dcterms:W3CDTF">2006-04-24T11:22:29Z</dcterms:modified>
  <cp:revision>16</cp:revision>
  <dc:subject/>
  <dc:title>Long time series issues in the EU National accou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037956</vt:r8>
  </property>
  <property fmtid="{D5CDD505-2E9C-101B-9397-08002B2CF9AE}" pid="3" name="_AuthorEmail">
    <vt:lpwstr>Philippe.Stauffer@bfs.admin.ch</vt:lpwstr>
  </property>
  <property fmtid="{D5CDD505-2E9C-101B-9397-08002B2CF9AE}" pid="4" name="_AuthorEmailDisplayName">
    <vt:lpwstr>Stauffer Philippe BFS</vt:lpwstr>
  </property>
  <property fmtid="{D5CDD505-2E9C-101B-9397-08002B2CF9AE}" pid="5" name="_EmailSubject">
    <vt:lpwstr>Long time series issues in the EU National envoi.ppt</vt:lpwstr>
  </property>
</Properties>
</file>