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6C2-0ED9-4619-BDFA-77E0C438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F9D-7585-452F-8805-E6DA09E3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5E4-83B9-4F52-8315-90211A5D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6D2-E34B-494E-8AAC-08A25BF9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80E-83D1-4A38-B2C0-E121C57A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5DD-2669-4A5A-A017-B17806AB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1DE-BDF8-46F0-99C9-C279C374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A8D-6FAE-4E8A-9664-F2BB849B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5B8-17F3-45CA-8651-A7679705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6DB-79FE-4456-91AF-4C05B534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799-6A05-416F-B2AE-90B0A21D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C6B-33EF-4890-A074-8C77B367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8EE2-83A8-4F11-9243-25B2A95E6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ne Har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or, SN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t with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ng new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new recommendations and unchan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unchan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manuals (BPM, GFS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, Non-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output </a:t>
            </a:r>
            <a:r>
              <a:rPr b="0" lang="en-US" sz="3200" spc="-1" strike="noStrike">
                <a:solidFill>
                  <a:srgbClr val="be0000"/>
                </a:solidFill>
                <a:latin typeface="Arial"/>
              </a:rPr>
              <a:t>is provided to the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is not sold; </a:t>
            </a:r>
            <a:r>
              <a:rPr b="0" lang="en-US" sz="3200" spc="-1" strike="noStrike">
                <a:solidFill>
                  <a:srgbClr val="be0000"/>
                </a:solidFill>
                <a:latin typeface="Arial"/>
              </a:rPr>
              <a:t>there is no market equivalen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istence agriculture </a:t>
            </a:r>
            <a:r>
              <a:rPr b="0" lang="en-US" sz="3200" spc="-1" strike="noStrike">
                <a:solidFill>
                  <a:srgbClr val="be0000"/>
                </a:solidFill>
                <a:latin typeface="Arial"/>
              </a:rPr>
              <a:t>is not provided to anyone e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not sold but </a:t>
            </a:r>
            <a:r>
              <a:rPr b="0" lang="en-US" sz="3200" spc="-1" strike="noStrike">
                <a:solidFill>
                  <a:srgbClr val="be0000"/>
                </a:solidFill>
                <a:latin typeface="Arial"/>
              </a:rPr>
              <a:t>there is a market equivalen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ort of non-mark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this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“non-market” as criterion for determining general government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inform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y 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ife insurance - interest and dividends, exclude holding gains and lo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sions - return on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source of income ma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capital sum to Financial Institution in return for a promise of an income fo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ssets and liabilities should be shown for financial institution and benefici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07:42:07Z</dcterms:created>
  <dc:creator>Anne Harrison</dc:creator>
  <dc:description/>
  <dc:language>en-US</dc:language>
  <cp:lastModifiedBy>Dimova</cp:lastModifiedBy>
  <dcterms:modified xsi:type="dcterms:W3CDTF">2006-05-03T17:14:15Z</dcterms:modified>
  <cp:revision>3</cp:revision>
  <dc:subject/>
  <dc:title>Consistency</dc:title>
</cp:coreProperties>
</file>