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303-E8BD-4799-8DC9-7C583C0B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83E-1893-4D50-881D-40635647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F45-99B8-481A-9768-5165E3C8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CFA-7D5A-4AEF-899D-686888E6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EBD-2C0F-48CD-909A-B5120A1B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D43-6011-4E35-847F-9AAD2894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486-9B0F-459E-8F89-6C633876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2C7-255D-4F88-B27F-052604F5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193-81F0-475B-91C4-7FE9864E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675-687E-4BCE-AE94-CA246AC1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C2D-9C9E-4286-B14E-3CCDDAEA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546-A696-4106-B803-8A4C977D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E0A6-494F-4657-8163-31E60B131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ne Har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or, SN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t with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ng new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new recommendations and unchan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unchan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manuals (BPM, GFS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, Non-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output </a:t>
            </a:r>
            <a:r>
              <a:rPr b="0" lang="en-US" sz="3200" spc="-1" strike="noStrike">
                <a:solidFill>
                  <a:srgbClr val="be0000"/>
                </a:solidFill>
                <a:latin typeface="Arial"/>
              </a:rPr>
              <a:t>is provided to the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is not sold; </a:t>
            </a:r>
            <a:r>
              <a:rPr b="0" lang="en-US" sz="3200" spc="-1" strike="noStrike">
                <a:solidFill>
                  <a:srgbClr val="be0000"/>
                </a:solidFill>
                <a:latin typeface="Arial"/>
              </a:rPr>
              <a:t>there is no market equivalent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istence agriculture </a:t>
            </a:r>
            <a:r>
              <a:rPr b="0" lang="en-US" sz="3200" spc="-1" strike="noStrike">
                <a:solidFill>
                  <a:srgbClr val="be0000"/>
                </a:solidFill>
                <a:latin typeface="Arial"/>
              </a:rPr>
              <a:t>is not provided to anyone e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not sold but </a:t>
            </a:r>
            <a:r>
              <a:rPr b="0" lang="en-US" sz="3200" spc="-1" strike="noStrike">
                <a:solidFill>
                  <a:srgbClr val="be0000"/>
                </a:solidFill>
                <a:latin typeface="Arial"/>
              </a:rPr>
              <a:t>there is a market equivalent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ort of non-marke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this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“non-market” as criterion for determining general government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inform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y 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ife insurance - interest and dividends, exclude holding gains and lo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sions - return on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source of income ma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capital sum to Financial Institution in return for a promise of an income fo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ssets and liabilities should be shown for financial institution and benefici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07:42:07Z</dcterms:created>
  <dc:creator>Anne Harrison</dc:creator>
  <dc:description/>
  <dc:language>en-US</dc:language>
  <cp:lastModifiedBy>Dimova</cp:lastModifiedBy>
  <dcterms:modified xsi:type="dcterms:W3CDTF">2006-05-03T17:14:15Z</dcterms:modified>
  <cp:revision>3</cp:revision>
  <dc:subject/>
  <dc:title>Consistency</dc:title>
</cp:coreProperties>
</file>