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4409-F417-4362-849B-4AEE45454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53BF-E6F0-4345-BED4-797E020A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E5D9-816F-4CA5-95F4-087BC6113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961A-D052-49F1-A01A-8F288B59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737B-90B9-4312-93C4-A5B35AE8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AF9E-AA98-465D-A7BD-0C4EDA27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3B6C-9BF8-47FE-A58A-88E134C4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0D9A-BE9E-4226-86F7-EC101563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1832-4B91-4409-BB39-A8EFDA9E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D793-A940-442C-9CD9-EE49E1FF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6F28-614A-4626-B138-49D18005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075F-85FD-465D-96FC-9CFAE707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13D2-FBAF-4017-AA6F-A55B9EF1C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da item 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eview of the 1993 SNA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tting the St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781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oint Meeting on National Ac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NA Update 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ril 25-28, 2006, Genev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09836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eneral 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f way in a multi-ye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portant document—the full set of provisional recommendations—just becam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basis for consideration of the consistency of recommendations and integrity of the system that would emerge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.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rge, diverse group of national accountants are gathered in Gen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E9B5-A2E9-4F8D-9A5A-C8528AD587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these elements sugg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a meeting that allows participan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obt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verview of 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big picture” of the recommendations and how they fit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ication about specific points—their own questions and those of oth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hare preliminary views on consistency and the integrity of the system that would emerge as Rev.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epare for other opportunities to comment, including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ations made at the January-February 2006 A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6CCD-28EC-4B7C-B8F9-FB62786CBB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of the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, an overview of the SNA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, with the full set of provisional recommendations as the backdrop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summaries of the recommendations in four areas (others in other sess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on-financial assets          - Units and classifications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-public sector  - Fina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selected issues: clarify and elaborate some of recommendations that have been subject of deb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8A3C-4282-485F-9F1C-7FD2FC93F6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st of pla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WG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ive international organizations that sponsored the 1993 revision of the S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ed at this meeting b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G: several members are 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EA5B-0E7E-4989-998D-A3509AB54F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ank you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276720" y="1828800"/>
            <a:ext cx="2361960" cy="35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473B-877C-4BED-8FFC-26AD8C25C1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00:31:32Z</dcterms:created>
  <dc:creator> </dc:creator>
  <dc:description/>
  <dc:language>en-US</dc:language>
  <cp:lastModifiedBy>Carol</cp:lastModifiedBy>
  <dcterms:modified xsi:type="dcterms:W3CDTF">2006-04-22T14:29:53Z</dcterms:modified>
  <cp:revision>31</cp:revision>
  <dc:subject/>
  <dc:title>Progress Report on the Review of the SNA</dc:title>
</cp:coreProperties>
</file>