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AF6-5DEA-444F-A63B-395A611F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7A0-5D06-49F1-89A4-0C503BCE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AF3-4DCA-4D69-8967-2390C797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D23-6EBC-4678-B8F0-FC74AD6D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D95-3734-4F69-B0CE-EC3BFA68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4C0-FBAB-48AE-A604-9B82A026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C16-D26B-47B4-A892-C077CE8C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EDD-5CD1-40D5-80C5-48B5289E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7CC-8B4B-447F-99B7-8951742B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59D-879F-4194-B0A7-459831D1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584-A100-48BE-B293-71E72365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F8C-ED4F-492C-A5DA-3237AF6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79B4-E852-48CC-A4CB-DB2D58F59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 item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view of the 1993 SNA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ting the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int Meeting on National Ac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 Update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ril 25-28, 2006, Genev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09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r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way in a multi-ye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document—the full set of provisional recommendations—just becam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basis for consideration of the consistency of recommendations and integrity of the system that would emerge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, diverse group of national accountants are gathered in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046-77CB-4FE2-B653-EEF30FCE59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these elements sug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a meeting that allows participa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verview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big picture” of the recommendations and how they fi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cation about specific points—their own questions and those of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hare preliminary views on consistency and the integrity of the system that would emerge as Rev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pare for other opportunities to comment, including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made at the January-February 2006 A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CC0-F87A-46BC-A22B-F0BBE95692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the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an overview of the SN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with the full set of provisional recommendations as the backdrop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mmaries of the recommendations in four areas (others in other ses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n-financial assets          - Units and classification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-public sector  -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elected issues: clarify and elaborate some of recommendations that have been subject of deb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FFF-BF74-4419-B00A-B87D19780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 of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W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ive international organizations that sponsored the 1993 revision of the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at this meeting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G: several members are 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326-D687-4498-8BD9-5248CA79B1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76720" y="1828800"/>
            <a:ext cx="236196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944-08EC-4913-A618-FB9C225426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31:32Z</dcterms:created>
  <dc:creator> </dc:creator>
  <dc:description/>
  <dc:language>en-US</dc:language>
  <cp:lastModifiedBy>Carol</cp:lastModifiedBy>
  <dcterms:modified xsi:type="dcterms:W3CDTF">2006-04-22T14:29:53Z</dcterms:modified>
  <cp:revision>31</cp:revision>
  <dc:subject/>
  <dc:title>Progress Report on the Review of the SNA</dc:title>
</cp:coreProperties>
</file>