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512-45AD-4D8B-97D3-8B88920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C9E-532C-4021-8B18-D897CBC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A95-8725-402C-9466-2E05E46E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502-66FF-492D-8C79-BFD14A3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7B3-7BD0-4670-A1E1-6515EB27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459-6413-4990-805B-2D49A1D5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7B9-6708-4C63-ABD0-4461668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024B-2907-4F4B-993D-D450F1D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F03-39C6-480A-B881-6F26CFA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C987-5802-47E1-90E0-CD322C3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3BEB-FFB6-430A-9BCD-B3C810F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EF9-A7BF-438B-961E-DD82A01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828-886E-4C7E-A211-89FFCE0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656E-79BA-4B4E-9E56-6B747AC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3B0-4FB4-4D3E-B501-2738671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2B3-FE48-41EC-B269-16CFC07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35C0-7661-4D44-9C32-263126F2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0E6-02CF-419A-A73C-FE7AD7E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302-47DD-4752-9BF9-614770D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0EC-0581-4954-928E-EB4CEDF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8C2-9AAB-4BB1-BD80-B99E2DE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540-E8AA-4B0B-B309-A67825C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190-2DE0-4B01-913B-A998A03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9FF-797D-4CFC-AB53-155AE08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B56F-DDC9-476B-AC40-F888BA866A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B42-ADCD-454C-9D86-3981AF171D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havinga@un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INFORMAL SECTOR</a:t>
            </a:r>
            <a:br>
              <a:rPr sz="32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n the 1993 SNA, Rev.1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DB4A-1A79-4A91-9987-A0A6B68EF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352680"/>
            <a:ext cx="5715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6666"/>
                </a:solidFill>
                <a:latin typeface="Verdana"/>
                <a:ea typeface="Times New Roman"/>
              </a:rPr>
              <a:t>A</a:t>
            </a:r>
            <a:r>
              <a:rPr b="1" lang="en-US" sz="0" spc="-1" strike="noStrike">
                <a:solidFill>
                  <a:srgbClr val="006666"/>
                </a:solidFill>
                <a:latin typeface="Verdana"/>
                <a:ea typeface="Times New Roman"/>
              </a:rPr>
              <a:t>EG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imes New Roman"/>
              </a:rPr>
              <a:t>IVO HAVINGA, UN Statistics Div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imes New Roman"/>
              </a:rPr>
              <a:t>CAROL CARSON, Project Manag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ession on the Non-observed Econom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Join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ational Account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pril 25-28, 2006 Genev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14C-49C9-426A-953B-65E6FADFF9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gmenting the econom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 uses non-registration to identify informal enterprises within household enterprises; in many countries this may coincide with lack of legal status and of accou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 refers only to production units that engage labor as input; national accounts refer also to those that do not use labor inpu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B09-372C-4054-A3F4-42E17613EA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se of enterprise-based criter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9246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riterion for market produc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A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ket producers are those that sell “most or all” of their production on the market at economically significant prices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CLS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s the phrase “some or all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nceptual and practical advantage of 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or all”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riterion.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B7A-CAD8-40F3-AD39-4ED19ADE65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se of enterprise-based criteria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sible grouping for macroeconomic statistics on the informal sect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Household enterprises with employ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Enterprises with market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Informal sector enterpri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Other household enterpri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Enterprises with only production for own 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final u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Household enterprises without employmen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10F-9802-45B8-904B-1E0B6921C3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niverses of household enterpris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th and without labor input (SNA) versus with labor inputs (ICLS) (noted abov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economic activities (SNA) versus non-agricultural activities (IC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61A-0024-4287-BE72-B38107F85B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views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the differences listed—for example, which are most important in practic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the ICLS “some or all” criterion used in identifying market producers? Does it have potential as an application for analysis and policy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international comparability—should further attempts be made to identify groupings, including the informal sector, that have greater cross-border and cross-region comparability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7BE-7244-44FD-8D6F-212FA65A05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raft outline of chap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formal sector: a broad statistical persp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 of the informal s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concep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F51-CE09-4CB4-B7DB-9606F0DF5C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ints for discu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6928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re relevant topics that are missing from the outlin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re views about the balance to be struck—that the chapter should be an introduction, not a handbook? What could be omitted from the outlin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154-3693-41B0-81A3-6737EEC920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EG sub-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boration with ILO and Delhi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ums to test plans and drafts (e.g., UNECE April, Delhi Group, regional meeting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94B-6268-4AAF-A16A-E705093A47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vo Havinga at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avinga@un.or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rol Carson at ccarson@imf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3D3-3C1F-4224-8C6D-391CDB225DA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94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lan of the present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l sector in the SNA Update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xt: Why is the informal sector an important issue for the update of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1993 S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ition of the informal sector: differences between the ICLS (ILO) concepts of employment in the informal sector/informal employment and the SNA frame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annotated outline of a chapter on the informal sector in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1993 SNA, Rev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oking ahead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26B-A3F3-4D97-B701-E53FEB39ED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01680"/>
            <a:ext cx="7845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hus far in the update proc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ilding on earlier discussions, the January-February AEG agreed tha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terminology should be reconcil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the definitions of market and non-market should be consider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of comparability should be explored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ew SNA chapter should provide a good introduction without attempting include all the material of a handboo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tatistical Commission, last month, welcomed the chapter on the informal s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0EB-A9C9-4A83-8D7B-38586635E9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Policy relevance of measurement of the informal sec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ks to development objectives on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ome generation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mployment creation a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verty re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 the design and monitoring of targeted support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formal sector’s contribution to non-agricultural GD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7 percent in northern Af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1 percent in Sub-Saharan Af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9 percent in Latin Amer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1 percent in A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4CE-73C6-43CD-9CB7-F5E6998BAD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Selected developments in methods and practice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ince 199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6928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pers of Delhi Group on Informal Sector Statistic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handbook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Household Accounting: Experience in Concepts and Compi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Volume 1: Household Sector Account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easuring the Non-observed Economy: A Handbook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y OECD, IMF, ILO and CISST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ECE manu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Non-observed Economy in National Account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F39-6C58-4AEA-91FE-3E6D3F8BED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ntext: Calls for guidelin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sue in the work on the 1993 SNA; placed on the research agen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tistical Commission 2004 reiterated collaboration between UNSD and the Delhi Group on informal sec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thcoming publicati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urveys of Informal Sector and Informal Employ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llaborative effort of ILO and members of Delhi Grou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pter on uses of informal sector data for national accounts purpo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6DF-0E43-4557-ABCE-7BA98E67D7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efinition of the informal sec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fferences between ICLS and SNA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erminolo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segmenting the econom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he use of enterprise-based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the universe of household enterpri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uld be key points for discussion in the new chapter. What are these differe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BBA-DA57-43B9-BB86-35D0F3D76C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erminolog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CLS use of “sector” does not match the definition in the SN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ord “informal” has several meaning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y imply a formal-informal sector distinction between household enterpris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refer to exhaustiveness of data collection practices as well as a production unit with specific characteristic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706-F91B-463D-AEC7-6550E0B1AE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erminology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CLS use of “households” is narrower than the meaning in the national accounts framewor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ional accountants consider the “formal” segment of enterprises to be confined to institutional sectors other than the household sector.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319-CD96-449C-BD03-5701A5D60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SD/NA/M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3:51:38Z</dcterms:created>
  <dc:creator>Ivo Havinga</dc:creator>
  <dc:description/>
  <dc:language>en-US</dc:language>
  <cp:lastModifiedBy>Carol</cp:lastModifiedBy>
  <dcterms:modified xsi:type="dcterms:W3CDTF">2006-03-31T17:25:22Z</dcterms:modified>
  <cp:revision>120</cp:revision>
  <dc:subject/>
  <dc:title>Status of Implementation of 1993 SNA in the world</dc:title>
</cp:coreProperties>
</file>