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8FD-26AC-462B-BEC5-BB66FE41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82D-82EF-4EE0-BD66-54CF0BAC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3A4-FA0B-4339-B5D8-3702C48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588-6C15-4BDA-96EF-EFB179B1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DB78-3602-46AC-A414-41D1F36C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C2D5-5E6A-4554-A593-7859D343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B90-994F-4B6F-959D-FA21A0D0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7D6D-7E64-498C-974C-0CAF4A0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3463-2A40-48F5-8768-F91E7AD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83C3-9238-44C9-9B96-C3DD8BE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79A-BF4C-48F1-BB1D-F71D015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14-FE4A-4CEA-8205-8AFC7F90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DA94-4CC9-49E2-904E-5027169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A5D7-EBD6-4D68-8739-5975F44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4A4C-071C-4831-A281-4CA1116D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1B5-E592-4336-9E16-6DF8A66B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28A-68F3-4567-9117-4B0C213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93C-836A-43D0-832C-9194AA2B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3F1-17A9-428E-8B5F-E0293053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B47-8535-425F-9363-E633F31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B0B-83EC-444E-9C2B-DE7E135B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7F3-0680-4169-A1C0-6CF395B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FB9-D6FE-429B-BAAF-73D6EBD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C61-D4E5-43A5-9468-C7ADE1B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A6C-C837-4058-BC98-415707C09C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DA1D-57AE-42BB-90BC-9EC22E0F08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havinga@un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INFORMAL SECTOR</a:t>
            </a:r>
            <a:br>
              <a:rPr sz="32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n the 1993 SNA, Rev.1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036-0A44-467D-B4E6-F7833F447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352680"/>
            <a:ext cx="5715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6666"/>
                </a:solidFill>
                <a:latin typeface="Verdana"/>
                <a:ea typeface="Times New Roman"/>
              </a:rPr>
              <a:t>A</a:t>
            </a:r>
            <a:r>
              <a:rPr b="1" lang="en-US" sz="0" spc="-1" strike="noStrike">
                <a:solidFill>
                  <a:srgbClr val="006666"/>
                </a:solidFill>
                <a:latin typeface="Verdana"/>
                <a:ea typeface="Times New Roman"/>
              </a:rPr>
              <a:t>EG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imes New Roman"/>
              </a:rPr>
              <a:t>IVO HAVINGA, UN Statistics Div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imes New Roman"/>
              </a:rPr>
              <a:t>CAROL CARSON, Project Manag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ession on the Non-observed Econom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Join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ational Account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pril 25-28, 2006 Genev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CF37-16E9-4B27-B091-ACBA75B134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gmenting the econom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 uses non-registration to identify informal enterprises within household enterprises; in many countries this may coincide with lack of legal status and of accou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 refers only to production units that engage labor as input; national accounts refer also to those that do not use labor inpu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FA2-295C-4A79-AEA6-145353CEE6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se of enterprise-based criter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9246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riterion for market produc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A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ket producers are those that sell “most or all” of their production on the market at economically significant prices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s the phrase “some or all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nceptual and practical advantage of 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or all”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riterion.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964-C1F3-4D0A-80F8-CDE4F6A787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se of enterprise-based criteria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sible grouping for macroeconomic statistics on the informal sect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Household enterprises with employ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Enterprises with market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Informal sector enterpri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Other household enterpri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Enterprises with only production for own 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final u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Household enterprises without employmen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122-725A-45CE-B4A6-443A99A49F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niverses of household enterpris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th and without labor input (SNA) versus with labor inputs (ICLS) (noted abov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economic activities (SNA) versus non-agricultural activities (IC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35D-86DB-4A03-BB30-DDD23D25E0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views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the differences listed—for example, which are most important in practic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the ICLS “some or all” criterion used in identifying market producers? Does it have potential as an application for analysis and policy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international comparability—should further attempts be made to identify groupings, including the informal sector, that have greater cross-border and cross-region comparability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45-A120-420A-ACD8-92E93A40F1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raft outline of chap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formal sector: a broad statistical persp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 of the informal s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concep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09B-34B8-4A55-8967-BA98B1FE3F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ints for discu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6928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re relevant topics that are missing from the outlin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re views about the balance to be struck—that the chapter should be an introduction, not a handbook? What could be omitted from the outlin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538-0E58-4C98-BB7B-5245C37158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EG sub-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boration with ILO and Delhi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ums to test plans and drafts (e.g., UNECE April, Delhi Group, regional meeting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D75-1BA8-4275-BD16-3625C901F0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vo Havinga at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avinga@un.or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rol Carson at ccarson@imf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478-C478-47AC-A40E-B8C378114F8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94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lan of the present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l sector in the SNA Update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xt: Why is the informal sector an important issue for the update of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1993 S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ition of the informal sector: differences between the ICLS (ILO) concepts of employment in the informal sector/informal employment and the SNA frame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annotated outline of a chapter on the informal sector in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1993 SNA, Rev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oking ahead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62C-63FE-45F2-8B30-0896CC5EA3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01680"/>
            <a:ext cx="7845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hus far in the update proc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ilding on earlier discussions, the January-February AEG agreed tha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terminology should be reconcil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the definitions of market and non-market should be consider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of comparability should be explor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ew SNA chapter should provide a good introduction without attempting include all the material of a handboo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tatistical Commission, last month, welcomed the chapter on the informal s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C41-A328-4454-86A0-44A6B6D2A0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Policy relevance of measurement of the informal sec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ks to development objectives on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ome generation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mployment creation a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verty re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 the design and monitoring of targeted support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formal sector’s contribution to non-agricultural GD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7 percent in northern Af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1 percent in Sub-Saharan Af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9 percent in Latin Ame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1 percent in A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67A-3A66-4E71-8966-9F60A40AFE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Selected developments in methods and practice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ince 199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6928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pers of Delhi Group on Informal Sector Statistic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handbook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Household Accounting: Experience in Concepts and Compi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Volume 1: Household Sector Account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easuring the Non-observed Economy: A Handbook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y OECD, IMF, ILO and CISST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ECE manu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Non-observed Economy in National Account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5A3-BB96-4334-9490-83FAC9ED78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Calls for guidelin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sue in the work on the 1993 SNA; placed on the research agen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tistical Commission 2004 reiterated collaboration between UNSD and the Delhi Group on informal sec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thcoming publicati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urveys of Informal Sector and Informal Employ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llaborative effort of ILO and members of Delhi Grou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pter on uses of informal sector data for national accounts purpo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5FF-494E-4F3A-BBB0-25828C3744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efinition of the informal sec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fferences between ICLS and SNA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erminolo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segmenting the econom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he use of enterprise-based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he universe of household enterpri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uld be key points for discussion in the new chapter. What are these differe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E65-F32A-4892-B453-D59BA1B5E7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erminolog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CLS use of “sector” does not match the definition in the SN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ord “informal” has several meaning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y imply a formal-informal sector distinction between household enterpris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refer to exhaustiveness of data collection practices as well as a production unit with specific characteristic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DDB-7154-4CF8-BBCD-F4AF0D3B91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erminology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CLS use of “households” is narrower than the meaning in the national accounts framewor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ional accountants consider the “formal” segment of enterprises to be confined to institutional sectors other than the household sector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7F1-EDDC-4281-8DFF-A39492BF24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3:51:38Z</dcterms:created>
  <dc:creator>Ivo Havinga</dc:creator>
  <dc:description/>
  <dc:language>en-US</dc:language>
  <cp:lastModifiedBy>Carol</cp:lastModifiedBy>
  <dcterms:modified xsi:type="dcterms:W3CDTF">2006-03-31T17:25:22Z</dcterms:modified>
  <cp:revision>120</cp:revision>
  <dc:subject/>
  <dc:title>Status of Implementation of 1993 SNA in the world</dc:title>
</cp:coreProperties>
</file>