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lick to move the slide</a:t>
            </a:r>
            <a:endParaRPr b="0" lang="en-US" sz="4400" spc="-1" strike="noStrike">
              <a:solidFill>
                <a:srgbClr val="ccffcc"/>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E381-6AC6-48E0-9B4C-21F42A529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1, the UNECE Secretariat conducted it’s first survey. Nine countries responded to the surve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Survey was conducted in 2001-2002 on the recommendation of a joint ECE/Eurostat/OECD Meeting on National Accounts held in Geneva from 26-28 April, 2000. The purpose of this recommendation was to obtain an idea of what were the current practices of accounting for the NOE in different countr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survey is an update to the second survey. The Joint Meeting in April 2004 concluded that the UNECE Secretariat carry out a </a:t>
            </a:r>
            <a:r>
              <a:rPr b="1" lang="en-US" sz="1200" spc="-1" strike="noStrike">
                <a:solidFill>
                  <a:srgbClr val="000000"/>
                </a:solidFill>
                <a:latin typeface="Times New Roman"/>
              </a:rPr>
              <a:t>periodic survey</a:t>
            </a:r>
            <a:r>
              <a:rPr b="0" lang="en-US" sz="1200" spc="-1" strike="noStrike">
                <a:solidFill>
                  <a:srgbClr val="000000"/>
                </a:solidFill>
                <a:latin typeface="Times New Roman"/>
              </a:rPr>
              <a:t> on NOE and country practices of its coverage and estimatio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 of the third survey is to carry out an inventory of current practices in covering and estimating NOE. The Survey is larger in scope than the previous one as it covers non-ECE members. The survey is divided into several sections each of which serves as an indicator of current practices adopted by various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everal countries presented their reports by employing this broad outline, some did not. In such cases the Secretariat’s staff tried to align the country reports without jeopardising the content where possib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 and New Zealand responded to say that they do not estimate N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Serbian Statistical Office responded and not from Montenegr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T8 used in 7 countr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u="sng">
                <a:solidFill>
                  <a:srgbClr val="000000"/>
                </a:solidFill>
                <a:uFillTx/>
                <a:latin typeface="Times New Roman"/>
              </a:rPr>
              <a:t>Austria, Azerbaijan</a:t>
            </a:r>
            <a:r>
              <a:rPr b="0" lang="en-US" sz="1200" spc="-1" strike="noStrike">
                <a:solidFill>
                  <a:srgbClr val="000000"/>
                </a:solidFill>
                <a:latin typeface="Times New Roman"/>
              </a:rPr>
              <a:t>, Estonia, Romania, </a:t>
            </a:r>
            <a:r>
              <a:rPr b="0" lang="en-US" sz="1200" spc="-1" strike="noStrike" u="sng">
                <a:solidFill>
                  <a:srgbClr val="000000"/>
                </a:solidFill>
                <a:uFillTx/>
                <a:latin typeface="Times New Roman"/>
              </a:rPr>
              <a:t>Spain</a:t>
            </a:r>
            <a:r>
              <a:rPr b="0" lang="en-US" sz="1200" spc="-1" strike="noStrike">
                <a:solidFill>
                  <a:srgbClr val="000000"/>
                </a:solidFill>
                <a:latin typeface="Times New Roman"/>
              </a:rPr>
              <a:t>, FYROM, </a:t>
            </a:r>
            <a:r>
              <a:rPr b="0" lang="en-US" sz="1200" spc="-1" strike="noStrike" u="sng">
                <a:solidFill>
                  <a:srgbClr val="000000"/>
                </a:solidFill>
                <a:uFillTx/>
                <a:latin typeface="Times New Roman"/>
              </a:rPr>
              <a:t>Ukrai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1-N7 used in 8 countr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lgaria, Croatia, Czech Republic, Hungary, Latvia, Lithuania, Poland, Serbia and Montenegr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 member countries – new members towards the higher end and old members towards lower, but there are exceptions (Spain 11.2, Italy 14.9, Czech Republic 6.6)</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040" y="4343400"/>
            <a:ext cx="52578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IS countries and EU candidate countries cover most of the different types of NO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llegal activities </a:t>
            </a:r>
            <a:endParaRPr b="0" lang="en-US" sz="1200" spc="-1" strike="noStrike">
              <a:solidFill>
                <a:srgbClr val="000000"/>
              </a:solidFill>
              <a:latin typeface="Times New Roman"/>
            </a:endParaRPr>
          </a:p>
          <a:p>
            <a:pPr lvl="1" marL="190440" indent="266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estimating</a:t>
            </a:r>
            <a:r>
              <a:rPr b="0" lang="en-GB" sz="1200" spc="-1" strike="noStrike">
                <a:solidFill>
                  <a:srgbClr val="000000"/>
                </a:solidFill>
                <a:latin typeface="Times New Roman"/>
              </a:rPr>
              <a:t>: </a:t>
            </a:r>
            <a:r>
              <a:rPr b="0" lang="en-US" sz="1200" spc="-1" strike="noStrike">
                <a:solidFill>
                  <a:srgbClr val="000000"/>
                </a:solidFill>
                <a:latin typeface="Times New Roman"/>
                <a:ea typeface="Times New Roman"/>
              </a:rPr>
              <a:t>Bulgaria (drug distribution and consumption), Canada, Croatia, Czech Republic, Estonia, Hungary </a:t>
            </a:r>
            <a:r>
              <a:rPr b="0" lang="en-GB" sz="1200" spc="-1" strike="noStrike">
                <a:solidFill>
                  <a:srgbClr val="000000"/>
                </a:solidFill>
                <a:latin typeface="Times New Roman"/>
              </a:rPr>
              <a:t>(drugs and prostitution)</a:t>
            </a:r>
            <a:r>
              <a:rPr b="0" lang="en-US" sz="1200" spc="-1" strike="noStrike">
                <a:solidFill>
                  <a:srgbClr val="000000"/>
                </a:solidFill>
                <a:latin typeface="Times New Roman"/>
                <a:ea typeface="Times New Roman"/>
              </a:rPr>
              <a:t>, Kazakhstan, Latvia (drugs and prostitution), Lithuania, Mexico, Poland (experimental: </a:t>
            </a:r>
            <a:r>
              <a:rPr b="0" lang="en-GB" sz="1200" spc="-1" strike="noStrike">
                <a:solidFill>
                  <a:srgbClr val="000000"/>
                </a:solidFill>
                <a:latin typeface="Times New Roman"/>
                <a:ea typeface="Times New Roman"/>
              </a:rPr>
              <a:t>production and sale of drugs, prostitution, theft, fencing and smuggling of goods)</a:t>
            </a:r>
            <a:r>
              <a:rPr b="0" lang="en-US" sz="1200" spc="-1" strike="noStrike">
                <a:solidFill>
                  <a:srgbClr val="000000"/>
                </a:solidFill>
                <a:latin typeface="Times New Roman"/>
                <a:ea typeface="Times New Roman"/>
              </a:rPr>
              <a:t>, Sweden (experimental: </a:t>
            </a:r>
            <a:r>
              <a:rPr b="0" lang="en-GB" sz="1200" spc="-1" strike="noStrike">
                <a:solidFill>
                  <a:srgbClr val="000000"/>
                </a:solidFill>
                <a:latin typeface="Times New Roman"/>
                <a:ea typeface="Arial Unicode MS"/>
              </a:rPr>
              <a:t>prostitution, drugs and smuggling of alcohol and tobacco</a:t>
            </a:r>
            <a:r>
              <a:rPr b="0" lang="en-US" sz="1200" spc="-1" strike="noStrike">
                <a:solidFill>
                  <a:srgbClr val="000000"/>
                </a:solidFill>
                <a:latin typeface="Times New Roman"/>
                <a:ea typeface="Times New Roman"/>
              </a:rPr>
              <a:t>) and Ukraine</a:t>
            </a:r>
            <a:r>
              <a:rPr b="0" lang="en-GB" sz="1200" spc="-1" strike="noStrike">
                <a:solidFill>
                  <a:srgbClr val="000000"/>
                </a:solidFill>
                <a:latin typeface="Times New Roman"/>
              </a:rPr>
              <a:t> (</a:t>
            </a:r>
            <a:r>
              <a:rPr b="0" lang="en-US" sz="1200" spc="-1" strike="noStrike">
                <a:solidFill>
                  <a:srgbClr val="000000"/>
                </a:solidFill>
                <a:latin typeface="Times New Roman"/>
                <a:ea typeface="Times New Roman"/>
              </a:rPr>
              <a:t>tobacco, alcohol</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lvl="1" marL="190440" indent="266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veral countries have made experimental estimations</a:t>
            </a:r>
            <a:endParaRPr b="0" lang="en-US" sz="1200" spc="-1" strike="noStrike">
              <a:solidFill>
                <a:srgbClr val="000000"/>
              </a:solidFill>
              <a:latin typeface="Times New Roman"/>
            </a:endParaRPr>
          </a:p>
          <a:p>
            <a:pPr lvl="1" marL="190440" indent="266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including in GDP</a:t>
            </a:r>
            <a:r>
              <a:rPr b="0" lang="en-GB" sz="1200" spc="-1" strike="noStrike">
                <a:solidFill>
                  <a:srgbClr val="000000"/>
                </a:solidFill>
                <a:latin typeface="Times New Roman"/>
              </a:rPr>
              <a:t>: Croatia (narcotics distribution, prostitution, trafficking, copyright abuse, corruption), Czech Republic (prostitution and sale of stolen goods), Estonia (prostitution, sale and production of drugs, illegal copies of videotapes, CD.s, etc.), Hungary, Kazakhstan? (industrial production), Mexico? (prostitution)</a:t>
            </a:r>
            <a:endParaRPr b="0" lang="en-US" sz="1200" spc="-1" strike="noStrike">
              <a:solidFill>
                <a:srgbClr val="000000"/>
              </a:solidFill>
              <a:latin typeface="Times New Roman"/>
            </a:endParaRPr>
          </a:p>
          <a:p>
            <a:pPr lvl="1" marL="190440" indent="266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weden plans to include in near future (magnitude - </a:t>
            </a:r>
            <a:r>
              <a:rPr b="0" lang="en-GB" sz="1200" spc="-1" strike="noStrike">
                <a:solidFill>
                  <a:srgbClr val="000000"/>
                </a:solidFill>
                <a:latin typeface="Times New Roman"/>
                <a:ea typeface="Arial Unicode MS"/>
              </a:rPr>
              <a:t>0,15 percentage points</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icult to compare – methods and coverage changes, legal basis different in countries and changes over time – increase might be due to improved coverage and use of better data sour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all aim – to improve exhaustiveness of NA, not so much to identify what is hidden and what is no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untries are trying to be as exhaustive as possible by comparing data, by conducting special surveys and by adopting improved estimation techniques Especially the EU candidate countries and CIS countries have done a lot to improve the NOE esti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mon framework – like T1-T8 or N1-N7 would be useful – to allow better comparison between countries, make easier exchange of experience,  to analyse dynamics of different types of NOE over time and pinpoint problem areas in NA (e.g. Croatia – N6 (misreporting) has increased while N1 (not registered) has decreased – tax evasion systems have become more sophisticated and Tax Office should focus on inaccurate reporting by produc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91CDA-03DB-439B-9D91-BF628475C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4F4FF-DF1D-476E-9A41-39365C19C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30365-5233-4550-9FA4-D8F42D52B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B03C9-90CA-43C3-976A-068D459C2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D7741-9EB1-4183-A06A-621C0ECCC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A1CB2-9E51-433D-9D68-94C00D1EA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46F8B-DD79-4744-A206-A4D1B773F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FCD13-A44E-42EC-8F10-CB6B1238E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8416D-69D8-4265-A81E-BD7F93A33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2D411-1E0D-461C-8C56-F15950813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F1496-B6F4-4836-A2CE-FA8BBB7E5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E6E5B-62DB-425E-A0EA-1592A83BE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lick to edit the title text format</a:t>
            </a:r>
            <a:endParaRPr b="0" lang="en-US" sz="4400" spc="-1" strike="noStrike">
              <a:solidFill>
                <a:srgbClr val="cc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4B091-CE3A-4CE5-B866-E4DADD178F1F}"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Non-Observed Economy in National Accounts</a:t>
            </a:r>
            <a:br>
              <a:rPr sz="4400"/>
            </a:br>
            <a:r>
              <a:rPr b="0" lang="en-US" sz="3600" spc="-1" strike="noStrike">
                <a:solidFill>
                  <a:srgbClr val="ccffcc"/>
                </a:solidFill>
                <a:latin typeface="Times New Roman"/>
              </a:rPr>
              <a:t>Survey of National Practices</a:t>
            </a:r>
            <a:endParaRPr b="0" lang="en-US" sz="3600" spc="-1" strike="noStrike">
              <a:solidFill>
                <a:srgbClr val="ccffcc"/>
              </a:solidFill>
              <a:latin typeface="Times New Roman"/>
            </a:endParaRPr>
          </a:p>
        </p:txBody>
      </p:sp>
      <p:sp>
        <p:nvSpPr>
          <p:cNvPr id="49" name="PlaceHolder 2"/>
          <p:cNvSpPr>
            <a:spLocks noGrp="1"/>
          </p:cNvSpPr>
          <p:nvPr>
            <p:ph type="subTitle"/>
          </p:nvPr>
        </p:nvSpPr>
        <p:spPr>
          <a:xfrm>
            <a:off x="304560" y="3505320"/>
            <a:ext cx="8839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ited Nations Economic Commission for Europe</a:t>
            </a:r>
            <a:endParaRPr b="0" lang="en-US" sz="3200" spc="-1" strike="noStrike">
              <a:solidFill>
                <a:srgbClr val="ffff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atistical Division </a:t>
            </a:r>
            <a:endParaRPr b="0" lang="en-US" sz="3200" spc="-1" strike="noStrike">
              <a:solidFill>
                <a:srgbClr val="ffff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Times New Roman"/>
              </a:rPr>
              <a:t>April 2006</a:t>
            </a:r>
            <a:endParaRPr b="0" lang="en-US" sz="3200" spc="-1" strike="noStrike">
              <a:solidFill>
                <a:srgbClr val="ffff00"/>
              </a:solidFill>
              <a:latin typeface="Times New Roman"/>
            </a:endParaRPr>
          </a:p>
        </p:txBody>
      </p:sp>
      <p:sp>
        <p:nvSpPr>
          <p:cNvPr id="50" name=""/>
          <p:cNvSpPr/>
          <p:nvPr/>
        </p:nvSpPr>
        <p:spPr>
          <a:xfrm>
            <a:off x="685800" y="3200400"/>
            <a:ext cx="807732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51" name=""/>
          <p:cNvGrpSpPr/>
          <p:nvPr/>
        </p:nvGrpSpPr>
        <p:grpSpPr>
          <a:xfrm>
            <a:off x="4038480" y="5410080"/>
            <a:ext cx="1252800" cy="1066680"/>
            <a:chOff x="4038480" y="5410080"/>
            <a:chExt cx="1252800" cy="1066680"/>
          </a:xfrm>
        </p:grpSpPr>
        <p:sp>
          <p:nvSpPr>
            <p:cNvPr id="52" name=""/>
            <p:cNvSpPr/>
            <p:nvPr/>
          </p:nvSpPr>
          <p:spPr>
            <a:xfrm>
              <a:off x="4214160" y="5412240"/>
              <a:ext cx="891000" cy="87804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3" name=""/>
            <p:cNvSpPr/>
            <p:nvPr/>
          </p:nvSpPr>
          <p:spPr>
            <a:xfrm>
              <a:off x="4312440" y="5503320"/>
              <a:ext cx="703080" cy="69300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4" name=""/>
            <p:cNvSpPr/>
            <p:nvPr/>
          </p:nvSpPr>
          <p:spPr>
            <a:xfrm>
              <a:off x="4402080" y="5581440"/>
              <a:ext cx="519840" cy="52668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55" name=""/>
            <p:cNvGrpSpPr/>
            <p:nvPr/>
          </p:nvGrpSpPr>
          <p:grpSpPr>
            <a:xfrm>
              <a:off x="4484880" y="5674680"/>
              <a:ext cx="353520" cy="347040"/>
              <a:chOff x="4484880" y="5674680"/>
              <a:chExt cx="353520" cy="347040"/>
            </a:xfrm>
          </p:grpSpPr>
          <p:sp>
            <p:nvSpPr>
              <p:cNvPr id="56" name=""/>
              <p:cNvSpPr/>
              <p:nvPr/>
            </p:nvSpPr>
            <p:spPr>
              <a:xfrm>
                <a:off x="4484880" y="5674680"/>
                <a:ext cx="353520" cy="34704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7" name=""/>
              <p:cNvSpPr/>
              <p:nvPr/>
            </p:nvSpPr>
            <p:spPr>
              <a:xfrm>
                <a:off x="4573080" y="5762160"/>
                <a:ext cx="176400" cy="17568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58" name=""/>
            <p:cNvSpPr/>
            <p:nvPr/>
          </p:nvSpPr>
          <p:spPr>
            <a:xfrm>
              <a:off x="4664520" y="5410080"/>
              <a:ext cx="360" cy="88092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9" name=""/>
            <p:cNvSpPr/>
            <p:nvPr/>
          </p:nvSpPr>
          <p:spPr>
            <a:xfrm>
              <a:off x="4347000" y="5540040"/>
              <a:ext cx="626760" cy="61596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 name=""/>
            <p:cNvSpPr/>
            <p:nvPr/>
          </p:nvSpPr>
          <p:spPr>
            <a:xfrm>
              <a:off x="4216680" y="5846400"/>
              <a:ext cx="896040" cy="360"/>
            </a:xfrm>
            <a:prstGeom prst="line">
              <a:avLst/>
            </a:prstGeom>
            <a:ln w="6480">
              <a:solidFill>
                <a:srgbClr val="00ccff"/>
              </a:solidFill>
              <a:miter/>
            </a:ln>
          </p:spPr>
          <p:style>
            <a:lnRef idx="0"/>
            <a:fillRef idx="0"/>
            <a:effectRef idx="0"/>
            <a:fontRef idx="minor"/>
          </p:style>
          <p:txBody>
            <a:bodyPr lIns="90000" rIns="90000" tIns="-46440" bIns="-46440" anchor="t">
              <a:noAutofit/>
            </a:bodyPr>
            <a:p>
              <a:endParaRPr b="0" lang="en-US" sz="2400" spc="-1" strike="noStrike">
                <a:solidFill>
                  <a:srgbClr val="ffff00"/>
                </a:solidFill>
                <a:latin typeface="Times New Roman"/>
              </a:endParaRPr>
            </a:p>
          </p:txBody>
        </p:sp>
        <p:sp>
          <p:nvSpPr>
            <p:cNvPr id="61" name=""/>
            <p:cNvSpPr/>
            <p:nvPr/>
          </p:nvSpPr>
          <p:spPr>
            <a:xfrm flipH="1">
              <a:off x="4345560" y="5541480"/>
              <a:ext cx="625320" cy="61740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 name=""/>
            <p:cNvSpPr/>
            <p:nvPr/>
          </p:nvSpPr>
          <p:spPr>
            <a:xfrm>
              <a:off x="4635360" y="5914440"/>
              <a:ext cx="18360" cy="9360"/>
            </a:xfrm>
            <a:custGeom>
              <a:avLst/>
              <a:gdLst/>
              <a:ahLst/>
              <a:rect l="l" t="t" r="r" b="b"/>
              <a:pathLst>
                <a:path w="42" h="22">
                  <a:moveTo>
                    <a:pt x="11" y="22"/>
                  </a:moveTo>
                  <a:lnTo>
                    <a:pt x="39" y="22"/>
                  </a:lnTo>
                  <a:lnTo>
                    <a:pt x="42" y="5"/>
                  </a:lnTo>
                  <a:lnTo>
                    <a:pt x="25" y="0"/>
                  </a:lnTo>
                  <a:lnTo>
                    <a:pt x="0" y="0"/>
                  </a:lnTo>
                  <a:lnTo>
                    <a:pt x="11" y="14"/>
                  </a:lnTo>
                  <a:lnTo>
                    <a:pt x="11" y="22"/>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grpSp>
          <p:nvGrpSpPr>
            <p:cNvPr id="63" name=""/>
            <p:cNvGrpSpPr/>
            <p:nvPr/>
          </p:nvGrpSpPr>
          <p:grpSpPr>
            <a:xfrm>
              <a:off x="4038480" y="5452560"/>
              <a:ext cx="1252800" cy="1024200"/>
              <a:chOff x="4038480" y="5452560"/>
              <a:chExt cx="1252800" cy="1024200"/>
            </a:xfrm>
          </p:grpSpPr>
          <p:grpSp>
            <p:nvGrpSpPr>
              <p:cNvPr id="64" name=""/>
              <p:cNvGrpSpPr/>
              <p:nvPr/>
            </p:nvGrpSpPr>
            <p:grpSpPr>
              <a:xfrm>
                <a:off x="4038480" y="5452560"/>
                <a:ext cx="805680" cy="1024200"/>
                <a:chOff x="4038480" y="5452560"/>
                <a:chExt cx="805680" cy="1024200"/>
              </a:xfrm>
            </p:grpSpPr>
            <p:sp>
              <p:nvSpPr>
                <p:cNvPr id="65" name=""/>
                <p:cNvSpPr/>
                <p:nvPr/>
              </p:nvSpPr>
              <p:spPr>
                <a:xfrm>
                  <a:off x="4198320" y="5452560"/>
                  <a:ext cx="131400" cy="142200"/>
                </a:xfrm>
                <a:custGeom>
                  <a:avLst/>
                  <a:gdLst/>
                  <a:ahLst/>
                  <a:rect l="l" t="t" r="r" b="b"/>
                  <a:pathLst>
                    <a:path w="301" h="328">
                      <a:moveTo>
                        <a:pt x="301" y="3"/>
                      </a:moveTo>
                      <a:lnTo>
                        <a:pt x="287" y="0"/>
                      </a:lnTo>
                      <a:lnTo>
                        <a:pt x="233" y="20"/>
                      </a:lnTo>
                      <a:lnTo>
                        <a:pt x="177" y="56"/>
                      </a:lnTo>
                      <a:lnTo>
                        <a:pt x="118" y="101"/>
                      </a:lnTo>
                      <a:lnTo>
                        <a:pt x="92" y="123"/>
                      </a:lnTo>
                      <a:lnTo>
                        <a:pt x="67" y="157"/>
                      </a:lnTo>
                      <a:lnTo>
                        <a:pt x="47" y="205"/>
                      </a:lnTo>
                      <a:lnTo>
                        <a:pt x="22" y="255"/>
                      </a:lnTo>
                      <a:lnTo>
                        <a:pt x="0" y="320"/>
                      </a:lnTo>
                      <a:lnTo>
                        <a:pt x="5" y="328"/>
                      </a:lnTo>
                      <a:lnTo>
                        <a:pt x="45" y="308"/>
                      </a:lnTo>
                      <a:lnTo>
                        <a:pt x="92" y="269"/>
                      </a:lnTo>
                      <a:lnTo>
                        <a:pt x="143" y="224"/>
                      </a:lnTo>
                      <a:lnTo>
                        <a:pt x="174" y="185"/>
                      </a:lnTo>
                      <a:lnTo>
                        <a:pt x="213" y="135"/>
                      </a:lnTo>
                      <a:lnTo>
                        <a:pt x="256" y="62"/>
                      </a:lnTo>
                      <a:lnTo>
                        <a:pt x="301" y="3"/>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6" name=""/>
                <p:cNvSpPr/>
                <p:nvPr/>
              </p:nvSpPr>
              <p:spPr>
                <a:xfrm>
                  <a:off x="4141440" y="5483880"/>
                  <a:ext cx="155880" cy="227160"/>
                </a:xfrm>
                <a:custGeom>
                  <a:avLst/>
                  <a:gdLst/>
                  <a:ahLst/>
                  <a:rect l="l" t="t" r="r" b="b"/>
                  <a:pathLst>
                    <a:path w="357" h="524">
                      <a:moveTo>
                        <a:pt x="166" y="0"/>
                      </a:moveTo>
                      <a:lnTo>
                        <a:pt x="96" y="70"/>
                      </a:lnTo>
                      <a:lnTo>
                        <a:pt x="68" y="112"/>
                      </a:lnTo>
                      <a:lnTo>
                        <a:pt x="45" y="154"/>
                      </a:lnTo>
                      <a:lnTo>
                        <a:pt x="14" y="213"/>
                      </a:lnTo>
                      <a:lnTo>
                        <a:pt x="3" y="277"/>
                      </a:lnTo>
                      <a:lnTo>
                        <a:pt x="0" y="331"/>
                      </a:lnTo>
                      <a:lnTo>
                        <a:pt x="3" y="389"/>
                      </a:lnTo>
                      <a:lnTo>
                        <a:pt x="6" y="445"/>
                      </a:lnTo>
                      <a:lnTo>
                        <a:pt x="8" y="499"/>
                      </a:lnTo>
                      <a:lnTo>
                        <a:pt x="0" y="524"/>
                      </a:lnTo>
                      <a:lnTo>
                        <a:pt x="14" y="524"/>
                      </a:lnTo>
                      <a:lnTo>
                        <a:pt x="14" y="510"/>
                      </a:lnTo>
                      <a:lnTo>
                        <a:pt x="31" y="485"/>
                      </a:lnTo>
                      <a:lnTo>
                        <a:pt x="51" y="471"/>
                      </a:lnTo>
                      <a:lnTo>
                        <a:pt x="87" y="440"/>
                      </a:lnTo>
                      <a:lnTo>
                        <a:pt x="124" y="420"/>
                      </a:lnTo>
                      <a:lnTo>
                        <a:pt x="146" y="403"/>
                      </a:lnTo>
                      <a:lnTo>
                        <a:pt x="177" y="378"/>
                      </a:lnTo>
                      <a:lnTo>
                        <a:pt x="211" y="347"/>
                      </a:lnTo>
                      <a:lnTo>
                        <a:pt x="270" y="277"/>
                      </a:lnTo>
                      <a:lnTo>
                        <a:pt x="318" y="210"/>
                      </a:lnTo>
                      <a:lnTo>
                        <a:pt x="343" y="160"/>
                      </a:lnTo>
                      <a:lnTo>
                        <a:pt x="357" y="129"/>
                      </a:lnTo>
                      <a:lnTo>
                        <a:pt x="352" y="115"/>
                      </a:lnTo>
                      <a:lnTo>
                        <a:pt x="352" y="106"/>
                      </a:lnTo>
                      <a:lnTo>
                        <a:pt x="346" y="123"/>
                      </a:lnTo>
                      <a:lnTo>
                        <a:pt x="324" y="154"/>
                      </a:lnTo>
                      <a:lnTo>
                        <a:pt x="287" y="176"/>
                      </a:lnTo>
                      <a:lnTo>
                        <a:pt x="256" y="202"/>
                      </a:lnTo>
                      <a:lnTo>
                        <a:pt x="197" y="235"/>
                      </a:lnTo>
                      <a:lnTo>
                        <a:pt x="155" y="266"/>
                      </a:lnTo>
                      <a:lnTo>
                        <a:pt x="113" y="305"/>
                      </a:lnTo>
                      <a:lnTo>
                        <a:pt x="101" y="331"/>
                      </a:lnTo>
                      <a:lnTo>
                        <a:pt x="76" y="370"/>
                      </a:lnTo>
                      <a:lnTo>
                        <a:pt x="68" y="367"/>
                      </a:lnTo>
                      <a:lnTo>
                        <a:pt x="76" y="331"/>
                      </a:lnTo>
                      <a:lnTo>
                        <a:pt x="96" y="283"/>
                      </a:lnTo>
                      <a:lnTo>
                        <a:pt x="99" y="258"/>
                      </a:lnTo>
                      <a:lnTo>
                        <a:pt x="115" y="202"/>
                      </a:lnTo>
                      <a:lnTo>
                        <a:pt x="127" y="140"/>
                      </a:lnTo>
                      <a:lnTo>
                        <a:pt x="132" y="95"/>
                      </a:lnTo>
                      <a:lnTo>
                        <a:pt x="141" y="56"/>
                      </a:lnTo>
                      <a:lnTo>
                        <a:pt x="158" y="25"/>
                      </a:lnTo>
                      <a:lnTo>
                        <a:pt x="175" y="3"/>
                      </a:lnTo>
                      <a:lnTo>
                        <a:pt x="166"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7" name=""/>
                <p:cNvSpPr/>
                <p:nvPr/>
              </p:nvSpPr>
              <p:spPr>
                <a:xfrm>
                  <a:off x="4079880" y="5569200"/>
                  <a:ext cx="153720" cy="304920"/>
                </a:xfrm>
                <a:custGeom>
                  <a:avLst/>
                  <a:gdLst/>
                  <a:ahLst/>
                  <a:rect l="l" t="t" r="r" b="b"/>
                  <a:pathLst>
                    <a:path w="352" h="703">
                      <a:moveTo>
                        <a:pt x="119" y="0"/>
                      </a:moveTo>
                      <a:lnTo>
                        <a:pt x="102" y="11"/>
                      </a:lnTo>
                      <a:lnTo>
                        <a:pt x="79" y="51"/>
                      </a:lnTo>
                      <a:lnTo>
                        <a:pt x="57" y="90"/>
                      </a:lnTo>
                      <a:lnTo>
                        <a:pt x="28" y="171"/>
                      </a:lnTo>
                      <a:lnTo>
                        <a:pt x="17" y="213"/>
                      </a:lnTo>
                      <a:lnTo>
                        <a:pt x="6" y="297"/>
                      </a:lnTo>
                      <a:lnTo>
                        <a:pt x="3" y="345"/>
                      </a:lnTo>
                      <a:lnTo>
                        <a:pt x="0" y="384"/>
                      </a:lnTo>
                      <a:lnTo>
                        <a:pt x="6" y="426"/>
                      </a:lnTo>
                      <a:lnTo>
                        <a:pt x="17" y="468"/>
                      </a:lnTo>
                      <a:lnTo>
                        <a:pt x="37" y="560"/>
                      </a:lnTo>
                      <a:lnTo>
                        <a:pt x="51" y="617"/>
                      </a:lnTo>
                      <a:lnTo>
                        <a:pt x="71" y="692"/>
                      </a:lnTo>
                      <a:lnTo>
                        <a:pt x="76" y="703"/>
                      </a:lnTo>
                      <a:lnTo>
                        <a:pt x="79" y="689"/>
                      </a:lnTo>
                      <a:lnTo>
                        <a:pt x="90" y="650"/>
                      </a:lnTo>
                      <a:lnTo>
                        <a:pt x="99" y="622"/>
                      </a:lnTo>
                      <a:lnTo>
                        <a:pt x="113" y="600"/>
                      </a:lnTo>
                      <a:lnTo>
                        <a:pt x="135" y="569"/>
                      </a:lnTo>
                      <a:lnTo>
                        <a:pt x="164" y="524"/>
                      </a:lnTo>
                      <a:lnTo>
                        <a:pt x="186" y="504"/>
                      </a:lnTo>
                      <a:lnTo>
                        <a:pt x="214" y="465"/>
                      </a:lnTo>
                      <a:lnTo>
                        <a:pt x="220" y="451"/>
                      </a:lnTo>
                      <a:lnTo>
                        <a:pt x="248" y="404"/>
                      </a:lnTo>
                      <a:lnTo>
                        <a:pt x="296" y="314"/>
                      </a:lnTo>
                      <a:lnTo>
                        <a:pt x="352" y="193"/>
                      </a:lnTo>
                      <a:lnTo>
                        <a:pt x="352" y="182"/>
                      </a:lnTo>
                      <a:lnTo>
                        <a:pt x="290" y="244"/>
                      </a:lnTo>
                      <a:lnTo>
                        <a:pt x="251" y="275"/>
                      </a:lnTo>
                      <a:lnTo>
                        <a:pt x="203" y="311"/>
                      </a:lnTo>
                      <a:lnTo>
                        <a:pt x="164" y="359"/>
                      </a:lnTo>
                      <a:lnTo>
                        <a:pt x="138" y="401"/>
                      </a:lnTo>
                      <a:lnTo>
                        <a:pt x="121" y="432"/>
                      </a:lnTo>
                      <a:lnTo>
                        <a:pt x="110" y="460"/>
                      </a:lnTo>
                      <a:lnTo>
                        <a:pt x="102" y="488"/>
                      </a:lnTo>
                      <a:lnTo>
                        <a:pt x="93" y="530"/>
                      </a:lnTo>
                      <a:lnTo>
                        <a:pt x="90" y="476"/>
                      </a:lnTo>
                      <a:lnTo>
                        <a:pt x="107" y="390"/>
                      </a:lnTo>
                      <a:lnTo>
                        <a:pt x="107" y="328"/>
                      </a:lnTo>
                      <a:lnTo>
                        <a:pt x="104" y="247"/>
                      </a:lnTo>
                      <a:lnTo>
                        <a:pt x="93" y="143"/>
                      </a:lnTo>
                      <a:lnTo>
                        <a:pt x="102" y="73"/>
                      </a:lnTo>
                      <a:lnTo>
                        <a:pt x="116" y="39"/>
                      </a:lnTo>
                      <a:lnTo>
                        <a:pt x="121" y="14"/>
                      </a:lnTo>
                      <a:lnTo>
                        <a:pt x="119"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8" name=""/>
                <p:cNvSpPr/>
                <p:nvPr/>
              </p:nvSpPr>
              <p:spPr>
                <a:xfrm>
                  <a:off x="4038480" y="5729400"/>
                  <a:ext cx="149760" cy="273240"/>
                </a:xfrm>
                <a:custGeom>
                  <a:avLst/>
                  <a:gdLst/>
                  <a:ahLst/>
                  <a:rect l="l" t="t" r="r" b="b"/>
                  <a:pathLst>
                    <a:path w="343" h="630">
                      <a:moveTo>
                        <a:pt x="337" y="104"/>
                      </a:moveTo>
                      <a:lnTo>
                        <a:pt x="287" y="176"/>
                      </a:lnTo>
                      <a:lnTo>
                        <a:pt x="250" y="233"/>
                      </a:lnTo>
                      <a:lnTo>
                        <a:pt x="233" y="275"/>
                      </a:lnTo>
                      <a:lnTo>
                        <a:pt x="219" y="339"/>
                      </a:lnTo>
                      <a:lnTo>
                        <a:pt x="199" y="415"/>
                      </a:lnTo>
                      <a:lnTo>
                        <a:pt x="194" y="454"/>
                      </a:lnTo>
                      <a:lnTo>
                        <a:pt x="197" y="507"/>
                      </a:lnTo>
                      <a:lnTo>
                        <a:pt x="183" y="496"/>
                      </a:lnTo>
                      <a:lnTo>
                        <a:pt x="166" y="420"/>
                      </a:lnTo>
                      <a:lnTo>
                        <a:pt x="146" y="347"/>
                      </a:lnTo>
                      <a:lnTo>
                        <a:pt x="135" y="311"/>
                      </a:lnTo>
                      <a:lnTo>
                        <a:pt x="104" y="238"/>
                      </a:lnTo>
                      <a:lnTo>
                        <a:pt x="70" y="162"/>
                      </a:lnTo>
                      <a:lnTo>
                        <a:pt x="42" y="92"/>
                      </a:lnTo>
                      <a:lnTo>
                        <a:pt x="31" y="62"/>
                      </a:lnTo>
                      <a:lnTo>
                        <a:pt x="19" y="0"/>
                      </a:lnTo>
                      <a:lnTo>
                        <a:pt x="14" y="0"/>
                      </a:lnTo>
                      <a:lnTo>
                        <a:pt x="5" y="31"/>
                      </a:lnTo>
                      <a:lnTo>
                        <a:pt x="0" y="78"/>
                      </a:lnTo>
                      <a:lnTo>
                        <a:pt x="0" y="126"/>
                      </a:lnTo>
                      <a:lnTo>
                        <a:pt x="0" y="162"/>
                      </a:lnTo>
                      <a:lnTo>
                        <a:pt x="5" y="193"/>
                      </a:lnTo>
                      <a:lnTo>
                        <a:pt x="11" y="230"/>
                      </a:lnTo>
                      <a:lnTo>
                        <a:pt x="31" y="297"/>
                      </a:lnTo>
                      <a:lnTo>
                        <a:pt x="64" y="392"/>
                      </a:lnTo>
                      <a:lnTo>
                        <a:pt x="95" y="459"/>
                      </a:lnTo>
                      <a:lnTo>
                        <a:pt x="143" y="524"/>
                      </a:lnTo>
                      <a:lnTo>
                        <a:pt x="166" y="560"/>
                      </a:lnTo>
                      <a:lnTo>
                        <a:pt x="177" y="583"/>
                      </a:lnTo>
                      <a:lnTo>
                        <a:pt x="197" y="608"/>
                      </a:lnTo>
                      <a:lnTo>
                        <a:pt x="214" y="630"/>
                      </a:lnTo>
                      <a:lnTo>
                        <a:pt x="230" y="630"/>
                      </a:lnTo>
                      <a:lnTo>
                        <a:pt x="225" y="588"/>
                      </a:lnTo>
                      <a:lnTo>
                        <a:pt x="230" y="544"/>
                      </a:lnTo>
                      <a:lnTo>
                        <a:pt x="270" y="454"/>
                      </a:lnTo>
                      <a:lnTo>
                        <a:pt x="290" y="415"/>
                      </a:lnTo>
                      <a:lnTo>
                        <a:pt x="312" y="345"/>
                      </a:lnTo>
                      <a:lnTo>
                        <a:pt x="332" y="289"/>
                      </a:lnTo>
                      <a:lnTo>
                        <a:pt x="340" y="238"/>
                      </a:lnTo>
                      <a:lnTo>
                        <a:pt x="343" y="176"/>
                      </a:lnTo>
                      <a:lnTo>
                        <a:pt x="337" y="10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9" name=""/>
                <p:cNvSpPr/>
                <p:nvPr/>
              </p:nvSpPr>
              <p:spPr>
                <a:xfrm>
                  <a:off x="4044600" y="5890320"/>
                  <a:ext cx="167040" cy="263520"/>
                </a:xfrm>
                <a:custGeom>
                  <a:avLst/>
                  <a:gdLst/>
                  <a:ahLst/>
                  <a:rect l="l" t="t" r="r" b="b"/>
                  <a:pathLst>
                    <a:path w="382" h="608">
                      <a:moveTo>
                        <a:pt x="0" y="47"/>
                      </a:moveTo>
                      <a:lnTo>
                        <a:pt x="14" y="137"/>
                      </a:lnTo>
                      <a:lnTo>
                        <a:pt x="36" y="224"/>
                      </a:lnTo>
                      <a:lnTo>
                        <a:pt x="81" y="333"/>
                      </a:lnTo>
                      <a:lnTo>
                        <a:pt x="104" y="375"/>
                      </a:lnTo>
                      <a:lnTo>
                        <a:pt x="124" y="400"/>
                      </a:lnTo>
                      <a:lnTo>
                        <a:pt x="194" y="465"/>
                      </a:lnTo>
                      <a:lnTo>
                        <a:pt x="306" y="555"/>
                      </a:lnTo>
                      <a:lnTo>
                        <a:pt x="377" y="608"/>
                      </a:lnTo>
                      <a:lnTo>
                        <a:pt x="368" y="580"/>
                      </a:lnTo>
                      <a:lnTo>
                        <a:pt x="363" y="552"/>
                      </a:lnTo>
                      <a:lnTo>
                        <a:pt x="363" y="524"/>
                      </a:lnTo>
                      <a:lnTo>
                        <a:pt x="363" y="490"/>
                      </a:lnTo>
                      <a:lnTo>
                        <a:pt x="366" y="420"/>
                      </a:lnTo>
                      <a:lnTo>
                        <a:pt x="371" y="364"/>
                      </a:lnTo>
                      <a:lnTo>
                        <a:pt x="382" y="314"/>
                      </a:lnTo>
                      <a:lnTo>
                        <a:pt x="377" y="255"/>
                      </a:lnTo>
                      <a:lnTo>
                        <a:pt x="371" y="218"/>
                      </a:lnTo>
                      <a:lnTo>
                        <a:pt x="366" y="182"/>
                      </a:lnTo>
                      <a:lnTo>
                        <a:pt x="326" y="0"/>
                      </a:lnTo>
                      <a:lnTo>
                        <a:pt x="318" y="0"/>
                      </a:lnTo>
                      <a:lnTo>
                        <a:pt x="304" y="73"/>
                      </a:lnTo>
                      <a:lnTo>
                        <a:pt x="281" y="224"/>
                      </a:lnTo>
                      <a:lnTo>
                        <a:pt x="281" y="274"/>
                      </a:lnTo>
                      <a:lnTo>
                        <a:pt x="292" y="378"/>
                      </a:lnTo>
                      <a:lnTo>
                        <a:pt x="301" y="429"/>
                      </a:lnTo>
                      <a:lnTo>
                        <a:pt x="309" y="468"/>
                      </a:lnTo>
                      <a:lnTo>
                        <a:pt x="326" y="507"/>
                      </a:lnTo>
                      <a:lnTo>
                        <a:pt x="309" y="490"/>
                      </a:lnTo>
                      <a:lnTo>
                        <a:pt x="264" y="406"/>
                      </a:lnTo>
                      <a:lnTo>
                        <a:pt x="208" y="322"/>
                      </a:lnTo>
                      <a:lnTo>
                        <a:pt x="146" y="246"/>
                      </a:lnTo>
                      <a:lnTo>
                        <a:pt x="76" y="165"/>
                      </a:lnTo>
                      <a:lnTo>
                        <a:pt x="56" y="137"/>
                      </a:lnTo>
                      <a:lnTo>
                        <a:pt x="28" y="87"/>
                      </a:lnTo>
                      <a:lnTo>
                        <a:pt x="5" y="39"/>
                      </a:lnTo>
                      <a:lnTo>
                        <a:pt x="0" y="47"/>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0" name=""/>
                <p:cNvSpPr/>
                <p:nvPr/>
              </p:nvSpPr>
              <p:spPr>
                <a:xfrm>
                  <a:off x="4083840" y="6032520"/>
                  <a:ext cx="238680" cy="245520"/>
                </a:xfrm>
                <a:custGeom>
                  <a:avLst/>
                  <a:gdLst/>
                  <a:ahLst/>
                  <a:rect l="l" t="t" r="r" b="b"/>
                  <a:pathLst>
                    <a:path w="546" h="566">
                      <a:moveTo>
                        <a:pt x="0" y="101"/>
                      </a:moveTo>
                      <a:lnTo>
                        <a:pt x="8" y="123"/>
                      </a:lnTo>
                      <a:lnTo>
                        <a:pt x="25" y="182"/>
                      </a:lnTo>
                      <a:lnTo>
                        <a:pt x="48" y="266"/>
                      </a:lnTo>
                      <a:lnTo>
                        <a:pt x="79" y="325"/>
                      </a:lnTo>
                      <a:lnTo>
                        <a:pt x="118" y="372"/>
                      </a:lnTo>
                      <a:lnTo>
                        <a:pt x="146" y="409"/>
                      </a:lnTo>
                      <a:lnTo>
                        <a:pt x="188" y="451"/>
                      </a:lnTo>
                      <a:lnTo>
                        <a:pt x="236" y="482"/>
                      </a:lnTo>
                      <a:lnTo>
                        <a:pt x="284" y="501"/>
                      </a:lnTo>
                      <a:lnTo>
                        <a:pt x="343" y="526"/>
                      </a:lnTo>
                      <a:lnTo>
                        <a:pt x="385" y="532"/>
                      </a:lnTo>
                      <a:lnTo>
                        <a:pt x="428" y="538"/>
                      </a:lnTo>
                      <a:lnTo>
                        <a:pt x="459" y="549"/>
                      </a:lnTo>
                      <a:lnTo>
                        <a:pt x="506" y="560"/>
                      </a:lnTo>
                      <a:lnTo>
                        <a:pt x="532" y="566"/>
                      </a:lnTo>
                      <a:lnTo>
                        <a:pt x="546" y="566"/>
                      </a:lnTo>
                      <a:lnTo>
                        <a:pt x="540" y="549"/>
                      </a:lnTo>
                      <a:lnTo>
                        <a:pt x="526" y="510"/>
                      </a:lnTo>
                      <a:lnTo>
                        <a:pt x="509" y="451"/>
                      </a:lnTo>
                      <a:lnTo>
                        <a:pt x="495" y="369"/>
                      </a:lnTo>
                      <a:lnTo>
                        <a:pt x="475" y="308"/>
                      </a:lnTo>
                      <a:lnTo>
                        <a:pt x="442" y="218"/>
                      </a:lnTo>
                      <a:lnTo>
                        <a:pt x="413" y="151"/>
                      </a:lnTo>
                      <a:lnTo>
                        <a:pt x="385" y="103"/>
                      </a:lnTo>
                      <a:lnTo>
                        <a:pt x="349" y="42"/>
                      </a:lnTo>
                      <a:lnTo>
                        <a:pt x="329" y="0"/>
                      </a:lnTo>
                      <a:lnTo>
                        <a:pt x="321" y="0"/>
                      </a:lnTo>
                      <a:lnTo>
                        <a:pt x="323" y="42"/>
                      </a:lnTo>
                      <a:lnTo>
                        <a:pt x="329" y="126"/>
                      </a:lnTo>
                      <a:lnTo>
                        <a:pt x="338" y="185"/>
                      </a:lnTo>
                      <a:lnTo>
                        <a:pt x="352" y="274"/>
                      </a:lnTo>
                      <a:lnTo>
                        <a:pt x="371" y="353"/>
                      </a:lnTo>
                      <a:lnTo>
                        <a:pt x="385" y="381"/>
                      </a:lnTo>
                      <a:lnTo>
                        <a:pt x="399" y="409"/>
                      </a:lnTo>
                      <a:lnTo>
                        <a:pt x="428" y="448"/>
                      </a:lnTo>
                      <a:lnTo>
                        <a:pt x="456" y="487"/>
                      </a:lnTo>
                      <a:lnTo>
                        <a:pt x="475" y="510"/>
                      </a:lnTo>
                      <a:lnTo>
                        <a:pt x="439" y="487"/>
                      </a:lnTo>
                      <a:lnTo>
                        <a:pt x="405" y="459"/>
                      </a:lnTo>
                      <a:lnTo>
                        <a:pt x="377" y="428"/>
                      </a:lnTo>
                      <a:lnTo>
                        <a:pt x="338" y="398"/>
                      </a:lnTo>
                      <a:lnTo>
                        <a:pt x="290" y="358"/>
                      </a:lnTo>
                      <a:lnTo>
                        <a:pt x="236" y="313"/>
                      </a:lnTo>
                      <a:lnTo>
                        <a:pt x="174" y="274"/>
                      </a:lnTo>
                      <a:lnTo>
                        <a:pt x="112" y="227"/>
                      </a:lnTo>
                      <a:lnTo>
                        <a:pt x="65" y="185"/>
                      </a:lnTo>
                      <a:lnTo>
                        <a:pt x="28" y="131"/>
                      </a:lnTo>
                      <a:lnTo>
                        <a:pt x="8" y="98"/>
                      </a:lnTo>
                      <a:lnTo>
                        <a:pt x="0" y="101"/>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1" name=""/>
                <p:cNvSpPr/>
                <p:nvPr/>
              </p:nvSpPr>
              <p:spPr>
                <a:xfrm>
                  <a:off x="4168800" y="6147720"/>
                  <a:ext cx="303840" cy="213840"/>
                </a:xfrm>
                <a:custGeom>
                  <a:avLst/>
                  <a:gdLst/>
                  <a:ahLst/>
                  <a:rect l="l" t="t" r="r" b="b"/>
                  <a:pathLst>
                    <a:path w="695" h="493">
                      <a:moveTo>
                        <a:pt x="304" y="14"/>
                      </a:moveTo>
                      <a:lnTo>
                        <a:pt x="315" y="42"/>
                      </a:lnTo>
                      <a:lnTo>
                        <a:pt x="332" y="101"/>
                      </a:lnTo>
                      <a:lnTo>
                        <a:pt x="346" y="168"/>
                      </a:lnTo>
                      <a:lnTo>
                        <a:pt x="371" y="232"/>
                      </a:lnTo>
                      <a:lnTo>
                        <a:pt x="394" y="263"/>
                      </a:lnTo>
                      <a:lnTo>
                        <a:pt x="425" y="300"/>
                      </a:lnTo>
                      <a:lnTo>
                        <a:pt x="459" y="339"/>
                      </a:lnTo>
                      <a:lnTo>
                        <a:pt x="487" y="364"/>
                      </a:lnTo>
                      <a:lnTo>
                        <a:pt x="515" y="384"/>
                      </a:lnTo>
                      <a:lnTo>
                        <a:pt x="554" y="401"/>
                      </a:lnTo>
                      <a:lnTo>
                        <a:pt x="588" y="417"/>
                      </a:lnTo>
                      <a:lnTo>
                        <a:pt x="535" y="406"/>
                      </a:lnTo>
                      <a:lnTo>
                        <a:pt x="484" y="392"/>
                      </a:lnTo>
                      <a:lnTo>
                        <a:pt x="428" y="378"/>
                      </a:lnTo>
                      <a:lnTo>
                        <a:pt x="388" y="364"/>
                      </a:lnTo>
                      <a:lnTo>
                        <a:pt x="341" y="356"/>
                      </a:lnTo>
                      <a:lnTo>
                        <a:pt x="295" y="347"/>
                      </a:lnTo>
                      <a:lnTo>
                        <a:pt x="231" y="325"/>
                      </a:lnTo>
                      <a:lnTo>
                        <a:pt x="160" y="302"/>
                      </a:lnTo>
                      <a:lnTo>
                        <a:pt x="98" y="280"/>
                      </a:lnTo>
                      <a:lnTo>
                        <a:pt x="70" y="266"/>
                      </a:lnTo>
                      <a:lnTo>
                        <a:pt x="28" y="249"/>
                      </a:lnTo>
                      <a:lnTo>
                        <a:pt x="0" y="232"/>
                      </a:lnTo>
                      <a:lnTo>
                        <a:pt x="8" y="258"/>
                      </a:lnTo>
                      <a:lnTo>
                        <a:pt x="31" y="294"/>
                      </a:lnTo>
                      <a:lnTo>
                        <a:pt x="73" y="344"/>
                      </a:lnTo>
                      <a:lnTo>
                        <a:pt x="127" y="395"/>
                      </a:lnTo>
                      <a:lnTo>
                        <a:pt x="186" y="434"/>
                      </a:lnTo>
                      <a:lnTo>
                        <a:pt x="262" y="459"/>
                      </a:lnTo>
                      <a:lnTo>
                        <a:pt x="324" y="479"/>
                      </a:lnTo>
                      <a:lnTo>
                        <a:pt x="360" y="487"/>
                      </a:lnTo>
                      <a:lnTo>
                        <a:pt x="414" y="493"/>
                      </a:lnTo>
                      <a:lnTo>
                        <a:pt x="490" y="485"/>
                      </a:lnTo>
                      <a:lnTo>
                        <a:pt x="549" y="476"/>
                      </a:lnTo>
                      <a:lnTo>
                        <a:pt x="597" y="468"/>
                      </a:lnTo>
                      <a:lnTo>
                        <a:pt x="659" y="451"/>
                      </a:lnTo>
                      <a:lnTo>
                        <a:pt x="695" y="434"/>
                      </a:lnTo>
                      <a:lnTo>
                        <a:pt x="670" y="423"/>
                      </a:lnTo>
                      <a:lnTo>
                        <a:pt x="639" y="403"/>
                      </a:lnTo>
                      <a:lnTo>
                        <a:pt x="611" y="378"/>
                      </a:lnTo>
                      <a:lnTo>
                        <a:pt x="588" y="328"/>
                      </a:lnTo>
                      <a:lnTo>
                        <a:pt x="566" y="297"/>
                      </a:lnTo>
                      <a:lnTo>
                        <a:pt x="540" y="258"/>
                      </a:lnTo>
                      <a:lnTo>
                        <a:pt x="523" y="227"/>
                      </a:lnTo>
                      <a:lnTo>
                        <a:pt x="490" y="179"/>
                      </a:lnTo>
                      <a:lnTo>
                        <a:pt x="459" y="146"/>
                      </a:lnTo>
                      <a:lnTo>
                        <a:pt x="428" y="118"/>
                      </a:lnTo>
                      <a:lnTo>
                        <a:pt x="402" y="95"/>
                      </a:lnTo>
                      <a:lnTo>
                        <a:pt x="363" y="59"/>
                      </a:lnTo>
                      <a:lnTo>
                        <a:pt x="346" y="36"/>
                      </a:lnTo>
                      <a:lnTo>
                        <a:pt x="324" y="11"/>
                      </a:lnTo>
                      <a:lnTo>
                        <a:pt x="310" y="0"/>
                      </a:lnTo>
                      <a:lnTo>
                        <a:pt x="304" y="1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2" name=""/>
                <p:cNvSpPr/>
                <p:nvPr/>
              </p:nvSpPr>
              <p:spPr>
                <a:xfrm>
                  <a:off x="4269600" y="6348240"/>
                  <a:ext cx="574560" cy="128520"/>
                </a:xfrm>
                <a:custGeom>
                  <a:avLst/>
                  <a:gdLst/>
                  <a:ahLst/>
                  <a:rect l="l" t="t" r="r" b="b"/>
                  <a:pathLst>
                    <a:path w="1314" h="297">
                      <a:moveTo>
                        <a:pt x="0" y="62"/>
                      </a:moveTo>
                      <a:lnTo>
                        <a:pt x="5" y="76"/>
                      </a:lnTo>
                      <a:lnTo>
                        <a:pt x="25" y="98"/>
                      </a:lnTo>
                      <a:lnTo>
                        <a:pt x="64" y="121"/>
                      </a:lnTo>
                      <a:lnTo>
                        <a:pt x="112" y="149"/>
                      </a:lnTo>
                      <a:lnTo>
                        <a:pt x="183" y="171"/>
                      </a:lnTo>
                      <a:lnTo>
                        <a:pt x="270" y="182"/>
                      </a:lnTo>
                      <a:lnTo>
                        <a:pt x="312" y="185"/>
                      </a:lnTo>
                      <a:lnTo>
                        <a:pt x="357" y="182"/>
                      </a:lnTo>
                      <a:lnTo>
                        <a:pt x="408" y="174"/>
                      </a:lnTo>
                      <a:lnTo>
                        <a:pt x="473" y="165"/>
                      </a:lnTo>
                      <a:lnTo>
                        <a:pt x="529" y="151"/>
                      </a:lnTo>
                      <a:lnTo>
                        <a:pt x="599" y="129"/>
                      </a:lnTo>
                      <a:lnTo>
                        <a:pt x="667" y="104"/>
                      </a:lnTo>
                      <a:lnTo>
                        <a:pt x="723" y="79"/>
                      </a:lnTo>
                      <a:lnTo>
                        <a:pt x="774" y="67"/>
                      </a:lnTo>
                      <a:lnTo>
                        <a:pt x="816" y="62"/>
                      </a:lnTo>
                      <a:lnTo>
                        <a:pt x="867" y="62"/>
                      </a:lnTo>
                      <a:lnTo>
                        <a:pt x="912" y="67"/>
                      </a:lnTo>
                      <a:lnTo>
                        <a:pt x="962" y="81"/>
                      </a:lnTo>
                      <a:lnTo>
                        <a:pt x="996" y="93"/>
                      </a:lnTo>
                      <a:lnTo>
                        <a:pt x="1035" y="112"/>
                      </a:lnTo>
                      <a:lnTo>
                        <a:pt x="1061" y="129"/>
                      </a:lnTo>
                      <a:lnTo>
                        <a:pt x="1092" y="149"/>
                      </a:lnTo>
                      <a:lnTo>
                        <a:pt x="1145" y="188"/>
                      </a:lnTo>
                      <a:lnTo>
                        <a:pt x="1199" y="244"/>
                      </a:lnTo>
                      <a:lnTo>
                        <a:pt x="1235" y="286"/>
                      </a:lnTo>
                      <a:lnTo>
                        <a:pt x="1244" y="297"/>
                      </a:lnTo>
                      <a:lnTo>
                        <a:pt x="1283" y="294"/>
                      </a:lnTo>
                      <a:lnTo>
                        <a:pt x="1314" y="272"/>
                      </a:lnTo>
                      <a:lnTo>
                        <a:pt x="1294" y="252"/>
                      </a:lnTo>
                      <a:lnTo>
                        <a:pt x="1255" y="216"/>
                      </a:lnTo>
                      <a:lnTo>
                        <a:pt x="1216" y="182"/>
                      </a:lnTo>
                      <a:lnTo>
                        <a:pt x="1165" y="151"/>
                      </a:lnTo>
                      <a:lnTo>
                        <a:pt x="1120" y="126"/>
                      </a:lnTo>
                      <a:lnTo>
                        <a:pt x="1080" y="104"/>
                      </a:lnTo>
                      <a:lnTo>
                        <a:pt x="1047" y="87"/>
                      </a:lnTo>
                      <a:lnTo>
                        <a:pt x="1013" y="70"/>
                      </a:lnTo>
                      <a:lnTo>
                        <a:pt x="962" y="48"/>
                      </a:lnTo>
                      <a:lnTo>
                        <a:pt x="917" y="34"/>
                      </a:lnTo>
                      <a:lnTo>
                        <a:pt x="889" y="28"/>
                      </a:lnTo>
                      <a:lnTo>
                        <a:pt x="850" y="20"/>
                      </a:lnTo>
                      <a:lnTo>
                        <a:pt x="791" y="11"/>
                      </a:lnTo>
                      <a:lnTo>
                        <a:pt x="729" y="3"/>
                      </a:lnTo>
                      <a:lnTo>
                        <a:pt x="678" y="3"/>
                      </a:lnTo>
                      <a:lnTo>
                        <a:pt x="616" y="0"/>
                      </a:lnTo>
                      <a:lnTo>
                        <a:pt x="554" y="6"/>
                      </a:lnTo>
                      <a:lnTo>
                        <a:pt x="484" y="11"/>
                      </a:lnTo>
                      <a:lnTo>
                        <a:pt x="422" y="34"/>
                      </a:lnTo>
                      <a:lnTo>
                        <a:pt x="352" y="51"/>
                      </a:lnTo>
                      <a:lnTo>
                        <a:pt x="264" y="70"/>
                      </a:lnTo>
                      <a:lnTo>
                        <a:pt x="183" y="84"/>
                      </a:lnTo>
                      <a:lnTo>
                        <a:pt x="112" y="87"/>
                      </a:lnTo>
                      <a:lnTo>
                        <a:pt x="76" y="81"/>
                      </a:lnTo>
                      <a:lnTo>
                        <a:pt x="36" y="76"/>
                      </a:lnTo>
                      <a:lnTo>
                        <a:pt x="0" y="62"/>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73" name=""/>
              <p:cNvGrpSpPr/>
              <p:nvPr/>
            </p:nvGrpSpPr>
            <p:grpSpPr>
              <a:xfrm>
                <a:off x="4484880" y="5452560"/>
                <a:ext cx="806400" cy="1024200"/>
                <a:chOff x="4484880" y="5452560"/>
                <a:chExt cx="806400" cy="1024200"/>
              </a:xfrm>
            </p:grpSpPr>
            <p:sp>
              <p:nvSpPr>
                <p:cNvPr id="74" name=""/>
                <p:cNvSpPr/>
                <p:nvPr/>
              </p:nvSpPr>
              <p:spPr>
                <a:xfrm>
                  <a:off x="4999680" y="5452560"/>
                  <a:ext cx="131400" cy="142200"/>
                </a:xfrm>
                <a:custGeom>
                  <a:avLst/>
                  <a:gdLst/>
                  <a:ahLst/>
                  <a:rect l="l" t="t" r="r" b="b"/>
                  <a:pathLst>
                    <a:path w="301" h="328">
                      <a:moveTo>
                        <a:pt x="0" y="3"/>
                      </a:moveTo>
                      <a:lnTo>
                        <a:pt x="14" y="0"/>
                      </a:lnTo>
                      <a:lnTo>
                        <a:pt x="64" y="20"/>
                      </a:lnTo>
                      <a:lnTo>
                        <a:pt x="124" y="56"/>
                      </a:lnTo>
                      <a:lnTo>
                        <a:pt x="183" y="101"/>
                      </a:lnTo>
                      <a:lnTo>
                        <a:pt x="205" y="123"/>
                      </a:lnTo>
                      <a:lnTo>
                        <a:pt x="230" y="157"/>
                      </a:lnTo>
                      <a:lnTo>
                        <a:pt x="253" y="205"/>
                      </a:lnTo>
                      <a:lnTo>
                        <a:pt x="276" y="255"/>
                      </a:lnTo>
                      <a:lnTo>
                        <a:pt x="301" y="320"/>
                      </a:lnTo>
                      <a:lnTo>
                        <a:pt x="295" y="328"/>
                      </a:lnTo>
                      <a:lnTo>
                        <a:pt x="253" y="308"/>
                      </a:lnTo>
                      <a:lnTo>
                        <a:pt x="205" y="269"/>
                      </a:lnTo>
                      <a:lnTo>
                        <a:pt x="157" y="224"/>
                      </a:lnTo>
                      <a:lnTo>
                        <a:pt x="126" y="185"/>
                      </a:lnTo>
                      <a:lnTo>
                        <a:pt x="84" y="135"/>
                      </a:lnTo>
                      <a:lnTo>
                        <a:pt x="42" y="62"/>
                      </a:lnTo>
                      <a:lnTo>
                        <a:pt x="0" y="3"/>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5" name=""/>
                <p:cNvSpPr/>
                <p:nvPr/>
              </p:nvSpPr>
              <p:spPr>
                <a:xfrm>
                  <a:off x="5031360" y="5483880"/>
                  <a:ext cx="155880" cy="227160"/>
                </a:xfrm>
                <a:custGeom>
                  <a:avLst/>
                  <a:gdLst/>
                  <a:ahLst/>
                  <a:rect l="l" t="t" r="r" b="b"/>
                  <a:pathLst>
                    <a:path w="357" h="524">
                      <a:moveTo>
                        <a:pt x="191" y="0"/>
                      </a:moveTo>
                      <a:lnTo>
                        <a:pt x="259" y="70"/>
                      </a:lnTo>
                      <a:lnTo>
                        <a:pt x="287" y="112"/>
                      </a:lnTo>
                      <a:lnTo>
                        <a:pt x="312" y="154"/>
                      </a:lnTo>
                      <a:lnTo>
                        <a:pt x="340" y="213"/>
                      </a:lnTo>
                      <a:lnTo>
                        <a:pt x="355" y="277"/>
                      </a:lnTo>
                      <a:lnTo>
                        <a:pt x="357" y="331"/>
                      </a:lnTo>
                      <a:lnTo>
                        <a:pt x="355" y="389"/>
                      </a:lnTo>
                      <a:lnTo>
                        <a:pt x="349" y="445"/>
                      </a:lnTo>
                      <a:lnTo>
                        <a:pt x="349" y="499"/>
                      </a:lnTo>
                      <a:lnTo>
                        <a:pt x="357" y="524"/>
                      </a:lnTo>
                      <a:lnTo>
                        <a:pt x="343" y="524"/>
                      </a:lnTo>
                      <a:lnTo>
                        <a:pt x="340" y="510"/>
                      </a:lnTo>
                      <a:lnTo>
                        <a:pt x="326" y="485"/>
                      </a:lnTo>
                      <a:lnTo>
                        <a:pt x="307" y="471"/>
                      </a:lnTo>
                      <a:lnTo>
                        <a:pt x="267" y="440"/>
                      </a:lnTo>
                      <a:lnTo>
                        <a:pt x="233" y="420"/>
                      </a:lnTo>
                      <a:lnTo>
                        <a:pt x="211" y="403"/>
                      </a:lnTo>
                      <a:lnTo>
                        <a:pt x="180" y="378"/>
                      </a:lnTo>
                      <a:lnTo>
                        <a:pt x="146" y="347"/>
                      </a:lnTo>
                      <a:lnTo>
                        <a:pt x="84" y="277"/>
                      </a:lnTo>
                      <a:lnTo>
                        <a:pt x="39" y="210"/>
                      </a:lnTo>
                      <a:lnTo>
                        <a:pt x="11" y="160"/>
                      </a:lnTo>
                      <a:lnTo>
                        <a:pt x="0" y="129"/>
                      </a:lnTo>
                      <a:lnTo>
                        <a:pt x="3" y="115"/>
                      </a:lnTo>
                      <a:lnTo>
                        <a:pt x="3" y="106"/>
                      </a:lnTo>
                      <a:lnTo>
                        <a:pt x="8" y="123"/>
                      </a:lnTo>
                      <a:lnTo>
                        <a:pt x="34" y="154"/>
                      </a:lnTo>
                      <a:lnTo>
                        <a:pt x="67" y="176"/>
                      </a:lnTo>
                      <a:lnTo>
                        <a:pt x="98" y="202"/>
                      </a:lnTo>
                      <a:lnTo>
                        <a:pt x="160" y="235"/>
                      </a:lnTo>
                      <a:lnTo>
                        <a:pt x="203" y="266"/>
                      </a:lnTo>
                      <a:lnTo>
                        <a:pt x="245" y="305"/>
                      </a:lnTo>
                      <a:lnTo>
                        <a:pt x="256" y="331"/>
                      </a:lnTo>
                      <a:lnTo>
                        <a:pt x="284" y="370"/>
                      </a:lnTo>
                      <a:lnTo>
                        <a:pt x="287" y="367"/>
                      </a:lnTo>
                      <a:lnTo>
                        <a:pt x="284" y="331"/>
                      </a:lnTo>
                      <a:lnTo>
                        <a:pt x="262" y="283"/>
                      </a:lnTo>
                      <a:lnTo>
                        <a:pt x="256" y="258"/>
                      </a:lnTo>
                      <a:lnTo>
                        <a:pt x="242" y="202"/>
                      </a:lnTo>
                      <a:lnTo>
                        <a:pt x="228" y="140"/>
                      </a:lnTo>
                      <a:lnTo>
                        <a:pt x="225" y="95"/>
                      </a:lnTo>
                      <a:lnTo>
                        <a:pt x="214" y="56"/>
                      </a:lnTo>
                      <a:lnTo>
                        <a:pt x="200" y="25"/>
                      </a:lnTo>
                      <a:lnTo>
                        <a:pt x="183" y="3"/>
                      </a:lnTo>
                      <a:lnTo>
                        <a:pt x="191"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6" name=""/>
                <p:cNvSpPr/>
                <p:nvPr/>
              </p:nvSpPr>
              <p:spPr>
                <a:xfrm>
                  <a:off x="5095440" y="5569200"/>
                  <a:ext cx="152640" cy="304920"/>
                </a:xfrm>
                <a:custGeom>
                  <a:avLst/>
                  <a:gdLst/>
                  <a:ahLst/>
                  <a:rect l="l" t="t" r="r" b="b"/>
                  <a:pathLst>
                    <a:path w="349" h="703">
                      <a:moveTo>
                        <a:pt x="234" y="0"/>
                      </a:moveTo>
                      <a:lnTo>
                        <a:pt x="251" y="11"/>
                      </a:lnTo>
                      <a:lnTo>
                        <a:pt x="270" y="51"/>
                      </a:lnTo>
                      <a:lnTo>
                        <a:pt x="296" y="90"/>
                      </a:lnTo>
                      <a:lnTo>
                        <a:pt x="324" y="171"/>
                      </a:lnTo>
                      <a:lnTo>
                        <a:pt x="332" y="213"/>
                      </a:lnTo>
                      <a:lnTo>
                        <a:pt x="344" y="297"/>
                      </a:lnTo>
                      <a:lnTo>
                        <a:pt x="349" y="345"/>
                      </a:lnTo>
                      <a:lnTo>
                        <a:pt x="349" y="384"/>
                      </a:lnTo>
                      <a:lnTo>
                        <a:pt x="344" y="426"/>
                      </a:lnTo>
                      <a:lnTo>
                        <a:pt x="335" y="468"/>
                      </a:lnTo>
                      <a:lnTo>
                        <a:pt x="315" y="560"/>
                      </a:lnTo>
                      <a:lnTo>
                        <a:pt x="301" y="617"/>
                      </a:lnTo>
                      <a:lnTo>
                        <a:pt x="282" y="692"/>
                      </a:lnTo>
                      <a:lnTo>
                        <a:pt x="276" y="703"/>
                      </a:lnTo>
                      <a:lnTo>
                        <a:pt x="270" y="689"/>
                      </a:lnTo>
                      <a:lnTo>
                        <a:pt x="262" y="650"/>
                      </a:lnTo>
                      <a:lnTo>
                        <a:pt x="254" y="622"/>
                      </a:lnTo>
                      <a:lnTo>
                        <a:pt x="239" y="600"/>
                      </a:lnTo>
                      <a:lnTo>
                        <a:pt x="217" y="569"/>
                      </a:lnTo>
                      <a:lnTo>
                        <a:pt x="186" y="524"/>
                      </a:lnTo>
                      <a:lnTo>
                        <a:pt x="163" y="504"/>
                      </a:lnTo>
                      <a:lnTo>
                        <a:pt x="138" y="465"/>
                      </a:lnTo>
                      <a:lnTo>
                        <a:pt x="130" y="451"/>
                      </a:lnTo>
                      <a:lnTo>
                        <a:pt x="104" y="404"/>
                      </a:lnTo>
                      <a:lnTo>
                        <a:pt x="57" y="314"/>
                      </a:lnTo>
                      <a:lnTo>
                        <a:pt x="0" y="193"/>
                      </a:lnTo>
                      <a:lnTo>
                        <a:pt x="0" y="182"/>
                      </a:lnTo>
                      <a:lnTo>
                        <a:pt x="62" y="244"/>
                      </a:lnTo>
                      <a:lnTo>
                        <a:pt x="99" y="275"/>
                      </a:lnTo>
                      <a:lnTo>
                        <a:pt x="147" y="311"/>
                      </a:lnTo>
                      <a:lnTo>
                        <a:pt x="189" y="359"/>
                      </a:lnTo>
                      <a:lnTo>
                        <a:pt x="211" y="401"/>
                      </a:lnTo>
                      <a:lnTo>
                        <a:pt x="228" y="432"/>
                      </a:lnTo>
                      <a:lnTo>
                        <a:pt x="242" y="460"/>
                      </a:lnTo>
                      <a:lnTo>
                        <a:pt x="251" y="488"/>
                      </a:lnTo>
                      <a:lnTo>
                        <a:pt x="259" y="530"/>
                      </a:lnTo>
                      <a:lnTo>
                        <a:pt x="259" y="476"/>
                      </a:lnTo>
                      <a:lnTo>
                        <a:pt x="245" y="390"/>
                      </a:lnTo>
                      <a:lnTo>
                        <a:pt x="242" y="328"/>
                      </a:lnTo>
                      <a:lnTo>
                        <a:pt x="245" y="247"/>
                      </a:lnTo>
                      <a:lnTo>
                        <a:pt x="259" y="143"/>
                      </a:lnTo>
                      <a:lnTo>
                        <a:pt x="251" y="73"/>
                      </a:lnTo>
                      <a:lnTo>
                        <a:pt x="237" y="39"/>
                      </a:lnTo>
                      <a:lnTo>
                        <a:pt x="228" y="14"/>
                      </a:lnTo>
                      <a:lnTo>
                        <a:pt x="234"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7" name=""/>
                <p:cNvSpPr/>
                <p:nvPr/>
              </p:nvSpPr>
              <p:spPr>
                <a:xfrm>
                  <a:off x="5140800" y="5729400"/>
                  <a:ext cx="150480" cy="273240"/>
                </a:xfrm>
                <a:custGeom>
                  <a:avLst/>
                  <a:gdLst/>
                  <a:ahLst/>
                  <a:rect l="l" t="t" r="r" b="b"/>
                  <a:pathLst>
                    <a:path w="344" h="630">
                      <a:moveTo>
                        <a:pt x="3" y="104"/>
                      </a:moveTo>
                      <a:lnTo>
                        <a:pt x="57" y="176"/>
                      </a:lnTo>
                      <a:lnTo>
                        <a:pt x="90" y="233"/>
                      </a:lnTo>
                      <a:lnTo>
                        <a:pt x="107" y="275"/>
                      </a:lnTo>
                      <a:lnTo>
                        <a:pt x="124" y="339"/>
                      </a:lnTo>
                      <a:lnTo>
                        <a:pt x="141" y="415"/>
                      </a:lnTo>
                      <a:lnTo>
                        <a:pt x="147" y="454"/>
                      </a:lnTo>
                      <a:lnTo>
                        <a:pt x="147" y="507"/>
                      </a:lnTo>
                      <a:lnTo>
                        <a:pt x="158" y="496"/>
                      </a:lnTo>
                      <a:lnTo>
                        <a:pt x="175" y="420"/>
                      </a:lnTo>
                      <a:lnTo>
                        <a:pt x="197" y="347"/>
                      </a:lnTo>
                      <a:lnTo>
                        <a:pt x="206" y="311"/>
                      </a:lnTo>
                      <a:lnTo>
                        <a:pt x="240" y="238"/>
                      </a:lnTo>
                      <a:lnTo>
                        <a:pt x="273" y="162"/>
                      </a:lnTo>
                      <a:lnTo>
                        <a:pt x="302" y="92"/>
                      </a:lnTo>
                      <a:lnTo>
                        <a:pt x="313" y="62"/>
                      </a:lnTo>
                      <a:lnTo>
                        <a:pt x="324" y="0"/>
                      </a:lnTo>
                      <a:lnTo>
                        <a:pt x="330" y="0"/>
                      </a:lnTo>
                      <a:lnTo>
                        <a:pt x="338" y="31"/>
                      </a:lnTo>
                      <a:lnTo>
                        <a:pt x="344" y="78"/>
                      </a:lnTo>
                      <a:lnTo>
                        <a:pt x="344" y="126"/>
                      </a:lnTo>
                      <a:lnTo>
                        <a:pt x="344" y="162"/>
                      </a:lnTo>
                      <a:lnTo>
                        <a:pt x="338" y="193"/>
                      </a:lnTo>
                      <a:lnTo>
                        <a:pt x="332" y="230"/>
                      </a:lnTo>
                      <a:lnTo>
                        <a:pt x="313" y="297"/>
                      </a:lnTo>
                      <a:lnTo>
                        <a:pt x="276" y="392"/>
                      </a:lnTo>
                      <a:lnTo>
                        <a:pt x="245" y="459"/>
                      </a:lnTo>
                      <a:lnTo>
                        <a:pt x="200" y="524"/>
                      </a:lnTo>
                      <a:lnTo>
                        <a:pt x="175" y="560"/>
                      </a:lnTo>
                      <a:lnTo>
                        <a:pt x="164" y="583"/>
                      </a:lnTo>
                      <a:lnTo>
                        <a:pt x="147" y="608"/>
                      </a:lnTo>
                      <a:lnTo>
                        <a:pt x="130" y="630"/>
                      </a:lnTo>
                      <a:lnTo>
                        <a:pt x="110" y="630"/>
                      </a:lnTo>
                      <a:lnTo>
                        <a:pt x="116" y="588"/>
                      </a:lnTo>
                      <a:lnTo>
                        <a:pt x="113" y="544"/>
                      </a:lnTo>
                      <a:lnTo>
                        <a:pt x="74" y="454"/>
                      </a:lnTo>
                      <a:lnTo>
                        <a:pt x="51" y="415"/>
                      </a:lnTo>
                      <a:lnTo>
                        <a:pt x="29" y="345"/>
                      </a:lnTo>
                      <a:lnTo>
                        <a:pt x="9" y="289"/>
                      </a:lnTo>
                      <a:lnTo>
                        <a:pt x="0" y="238"/>
                      </a:lnTo>
                      <a:lnTo>
                        <a:pt x="0" y="176"/>
                      </a:lnTo>
                      <a:lnTo>
                        <a:pt x="3" y="10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8" name=""/>
                <p:cNvSpPr/>
                <p:nvPr/>
              </p:nvSpPr>
              <p:spPr>
                <a:xfrm>
                  <a:off x="5117760" y="5890320"/>
                  <a:ext cx="165960" cy="263520"/>
                </a:xfrm>
                <a:custGeom>
                  <a:avLst/>
                  <a:gdLst/>
                  <a:ahLst/>
                  <a:rect l="l" t="t" r="r" b="b"/>
                  <a:pathLst>
                    <a:path w="380" h="608">
                      <a:moveTo>
                        <a:pt x="380" y="47"/>
                      </a:moveTo>
                      <a:lnTo>
                        <a:pt x="369" y="137"/>
                      </a:lnTo>
                      <a:lnTo>
                        <a:pt x="346" y="224"/>
                      </a:lnTo>
                      <a:lnTo>
                        <a:pt x="298" y="333"/>
                      </a:lnTo>
                      <a:lnTo>
                        <a:pt x="276" y="375"/>
                      </a:lnTo>
                      <a:lnTo>
                        <a:pt x="256" y="400"/>
                      </a:lnTo>
                      <a:lnTo>
                        <a:pt x="186" y="465"/>
                      </a:lnTo>
                      <a:lnTo>
                        <a:pt x="76" y="555"/>
                      </a:lnTo>
                      <a:lnTo>
                        <a:pt x="6" y="608"/>
                      </a:lnTo>
                      <a:lnTo>
                        <a:pt x="14" y="580"/>
                      </a:lnTo>
                      <a:lnTo>
                        <a:pt x="17" y="552"/>
                      </a:lnTo>
                      <a:lnTo>
                        <a:pt x="17" y="524"/>
                      </a:lnTo>
                      <a:lnTo>
                        <a:pt x="17" y="490"/>
                      </a:lnTo>
                      <a:lnTo>
                        <a:pt x="14" y="420"/>
                      </a:lnTo>
                      <a:lnTo>
                        <a:pt x="11" y="364"/>
                      </a:lnTo>
                      <a:lnTo>
                        <a:pt x="0" y="314"/>
                      </a:lnTo>
                      <a:lnTo>
                        <a:pt x="6" y="255"/>
                      </a:lnTo>
                      <a:lnTo>
                        <a:pt x="11" y="218"/>
                      </a:lnTo>
                      <a:lnTo>
                        <a:pt x="17" y="182"/>
                      </a:lnTo>
                      <a:lnTo>
                        <a:pt x="53" y="0"/>
                      </a:lnTo>
                      <a:lnTo>
                        <a:pt x="62" y="0"/>
                      </a:lnTo>
                      <a:lnTo>
                        <a:pt x="79" y="73"/>
                      </a:lnTo>
                      <a:lnTo>
                        <a:pt x="98" y="224"/>
                      </a:lnTo>
                      <a:lnTo>
                        <a:pt x="101" y="274"/>
                      </a:lnTo>
                      <a:lnTo>
                        <a:pt x="87" y="378"/>
                      </a:lnTo>
                      <a:lnTo>
                        <a:pt x="79" y="429"/>
                      </a:lnTo>
                      <a:lnTo>
                        <a:pt x="70" y="468"/>
                      </a:lnTo>
                      <a:lnTo>
                        <a:pt x="56" y="507"/>
                      </a:lnTo>
                      <a:lnTo>
                        <a:pt x="73" y="490"/>
                      </a:lnTo>
                      <a:lnTo>
                        <a:pt x="118" y="406"/>
                      </a:lnTo>
                      <a:lnTo>
                        <a:pt x="174" y="322"/>
                      </a:lnTo>
                      <a:lnTo>
                        <a:pt x="236" y="246"/>
                      </a:lnTo>
                      <a:lnTo>
                        <a:pt x="307" y="165"/>
                      </a:lnTo>
                      <a:lnTo>
                        <a:pt x="326" y="137"/>
                      </a:lnTo>
                      <a:lnTo>
                        <a:pt x="355" y="87"/>
                      </a:lnTo>
                      <a:lnTo>
                        <a:pt x="377" y="39"/>
                      </a:lnTo>
                      <a:lnTo>
                        <a:pt x="380" y="47"/>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9" name=""/>
                <p:cNvSpPr/>
                <p:nvPr/>
              </p:nvSpPr>
              <p:spPr>
                <a:xfrm>
                  <a:off x="5006880" y="6032520"/>
                  <a:ext cx="238680" cy="245520"/>
                </a:xfrm>
                <a:custGeom>
                  <a:avLst/>
                  <a:gdLst/>
                  <a:ahLst/>
                  <a:rect l="l" t="t" r="r" b="b"/>
                  <a:pathLst>
                    <a:path w="546" h="566">
                      <a:moveTo>
                        <a:pt x="546" y="101"/>
                      </a:moveTo>
                      <a:lnTo>
                        <a:pt x="537" y="123"/>
                      </a:lnTo>
                      <a:lnTo>
                        <a:pt x="520" y="182"/>
                      </a:lnTo>
                      <a:lnTo>
                        <a:pt x="495" y="266"/>
                      </a:lnTo>
                      <a:lnTo>
                        <a:pt x="467" y="325"/>
                      </a:lnTo>
                      <a:lnTo>
                        <a:pt x="427" y="372"/>
                      </a:lnTo>
                      <a:lnTo>
                        <a:pt x="396" y="409"/>
                      </a:lnTo>
                      <a:lnTo>
                        <a:pt x="357" y="451"/>
                      </a:lnTo>
                      <a:lnTo>
                        <a:pt x="309" y="482"/>
                      </a:lnTo>
                      <a:lnTo>
                        <a:pt x="259" y="501"/>
                      </a:lnTo>
                      <a:lnTo>
                        <a:pt x="202" y="526"/>
                      </a:lnTo>
                      <a:lnTo>
                        <a:pt x="160" y="532"/>
                      </a:lnTo>
                      <a:lnTo>
                        <a:pt x="115" y="538"/>
                      </a:lnTo>
                      <a:lnTo>
                        <a:pt x="84" y="549"/>
                      </a:lnTo>
                      <a:lnTo>
                        <a:pt x="39" y="560"/>
                      </a:lnTo>
                      <a:lnTo>
                        <a:pt x="14" y="566"/>
                      </a:lnTo>
                      <a:lnTo>
                        <a:pt x="0" y="566"/>
                      </a:lnTo>
                      <a:lnTo>
                        <a:pt x="2" y="549"/>
                      </a:lnTo>
                      <a:lnTo>
                        <a:pt x="19" y="510"/>
                      </a:lnTo>
                      <a:lnTo>
                        <a:pt x="36" y="451"/>
                      </a:lnTo>
                      <a:lnTo>
                        <a:pt x="50" y="369"/>
                      </a:lnTo>
                      <a:lnTo>
                        <a:pt x="67" y="308"/>
                      </a:lnTo>
                      <a:lnTo>
                        <a:pt x="104" y="218"/>
                      </a:lnTo>
                      <a:lnTo>
                        <a:pt x="129" y="151"/>
                      </a:lnTo>
                      <a:lnTo>
                        <a:pt x="160" y="103"/>
                      </a:lnTo>
                      <a:lnTo>
                        <a:pt x="197" y="42"/>
                      </a:lnTo>
                      <a:lnTo>
                        <a:pt x="213" y="0"/>
                      </a:lnTo>
                      <a:lnTo>
                        <a:pt x="225" y="0"/>
                      </a:lnTo>
                      <a:lnTo>
                        <a:pt x="222" y="42"/>
                      </a:lnTo>
                      <a:lnTo>
                        <a:pt x="213" y="126"/>
                      </a:lnTo>
                      <a:lnTo>
                        <a:pt x="208" y="185"/>
                      </a:lnTo>
                      <a:lnTo>
                        <a:pt x="194" y="274"/>
                      </a:lnTo>
                      <a:lnTo>
                        <a:pt x="171" y="353"/>
                      </a:lnTo>
                      <a:lnTo>
                        <a:pt x="160" y="381"/>
                      </a:lnTo>
                      <a:lnTo>
                        <a:pt x="146" y="409"/>
                      </a:lnTo>
                      <a:lnTo>
                        <a:pt x="115" y="448"/>
                      </a:lnTo>
                      <a:lnTo>
                        <a:pt x="90" y="487"/>
                      </a:lnTo>
                      <a:lnTo>
                        <a:pt x="70" y="510"/>
                      </a:lnTo>
                      <a:lnTo>
                        <a:pt x="107" y="487"/>
                      </a:lnTo>
                      <a:lnTo>
                        <a:pt x="138" y="459"/>
                      </a:lnTo>
                      <a:lnTo>
                        <a:pt x="168" y="428"/>
                      </a:lnTo>
                      <a:lnTo>
                        <a:pt x="205" y="398"/>
                      </a:lnTo>
                      <a:lnTo>
                        <a:pt x="256" y="358"/>
                      </a:lnTo>
                      <a:lnTo>
                        <a:pt x="309" y="313"/>
                      </a:lnTo>
                      <a:lnTo>
                        <a:pt x="371" y="274"/>
                      </a:lnTo>
                      <a:lnTo>
                        <a:pt x="433" y="227"/>
                      </a:lnTo>
                      <a:lnTo>
                        <a:pt x="481" y="185"/>
                      </a:lnTo>
                      <a:lnTo>
                        <a:pt x="517" y="131"/>
                      </a:lnTo>
                      <a:lnTo>
                        <a:pt x="537" y="98"/>
                      </a:lnTo>
                      <a:lnTo>
                        <a:pt x="546" y="101"/>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0" name=""/>
                <p:cNvSpPr/>
                <p:nvPr/>
              </p:nvSpPr>
              <p:spPr>
                <a:xfrm>
                  <a:off x="4856400" y="6147720"/>
                  <a:ext cx="303120" cy="213840"/>
                </a:xfrm>
                <a:custGeom>
                  <a:avLst/>
                  <a:gdLst/>
                  <a:ahLst/>
                  <a:rect l="l" t="t" r="r" b="b"/>
                  <a:pathLst>
                    <a:path w="693" h="493">
                      <a:moveTo>
                        <a:pt x="391" y="14"/>
                      </a:moveTo>
                      <a:lnTo>
                        <a:pt x="377" y="42"/>
                      </a:lnTo>
                      <a:lnTo>
                        <a:pt x="363" y="101"/>
                      </a:lnTo>
                      <a:lnTo>
                        <a:pt x="346" y="168"/>
                      </a:lnTo>
                      <a:lnTo>
                        <a:pt x="321" y="232"/>
                      </a:lnTo>
                      <a:lnTo>
                        <a:pt x="299" y="263"/>
                      </a:lnTo>
                      <a:lnTo>
                        <a:pt x="270" y="300"/>
                      </a:lnTo>
                      <a:lnTo>
                        <a:pt x="234" y="339"/>
                      </a:lnTo>
                      <a:lnTo>
                        <a:pt x="209" y="364"/>
                      </a:lnTo>
                      <a:lnTo>
                        <a:pt x="180" y="384"/>
                      </a:lnTo>
                      <a:lnTo>
                        <a:pt x="141" y="401"/>
                      </a:lnTo>
                      <a:lnTo>
                        <a:pt x="104" y="417"/>
                      </a:lnTo>
                      <a:lnTo>
                        <a:pt x="161" y="406"/>
                      </a:lnTo>
                      <a:lnTo>
                        <a:pt x="209" y="392"/>
                      </a:lnTo>
                      <a:lnTo>
                        <a:pt x="268" y="378"/>
                      </a:lnTo>
                      <a:lnTo>
                        <a:pt x="307" y="364"/>
                      </a:lnTo>
                      <a:lnTo>
                        <a:pt x="355" y="356"/>
                      </a:lnTo>
                      <a:lnTo>
                        <a:pt x="400" y="347"/>
                      </a:lnTo>
                      <a:lnTo>
                        <a:pt x="465" y="325"/>
                      </a:lnTo>
                      <a:lnTo>
                        <a:pt x="532" y="302"/>
                      </a:lnTo>
                      <a:lnTo>
                        <a:pt x="594" y="280"/>
                      </a:lnTo>
                      <a:lnTo>
                        <a:pt x="625" y="266"/>
                      </a:lnTo>
                      <a:lnTo>
                        <a:pt x="667" y="249"/>
                      </a:lnTo>
                      <a:lnTo>
                        <a:pt x="693" y="232"/>
                      </a:lnTo>
                      <a:lnTo>
                        <a:pt x="684" y="258"/>
                      </a:lnTo>
                      <a:lnTo>
                        <a:pt x="664" y="294"/>
                      </a:lnTo>
                      <a:lnTo>
                        <a:pt x="622" y="344"/>
                      </a:lnTo>
                      <a:lnTo>
                        <a:pt x="569" y="395"/>
                      </a:lnTo>
                      <a:lnTo>
                        <a:pt x="507" y="434"/>
                      </a:lnTo>
                      <a:lnTo>
                        <a:pt x="434" y="459"/>
                      </a:lnTo>
                      <a:lnTo>
                        <a:pt x="369" y="479"/>
                      </a:lnTo>
                      <a:lnTo>
                        <a:pt x="335" y="487"/>
                      </a:lnTo>
                      <a:lnTo>
                        <a:pt x="282" y="493"/>
                      </a:lnTo>
                      <a:lnTo>
                        <a:pt x="206" y="485"/>
                      </a:lnTo>
                      <a:lnTo>
                        <a:pt x="147" y="476"/>
                      </a:lnTo>
                      <a:lnTo>
                        <a:pt x="96" y="468"/>
                      </a:lnTo>
                      <a:lnTo>
                        <a:pt x="37" y="451"/>
                      </a:lnTo>
                      <a:lnTo>
                        <a:pt x="0" y="434"/>
                      </a:lnTo>
                      <a:lnTo>
                        <a:pt x="26" y="423"/>
                      </a:lnTo>
                      <a:lnTo>
                        <a:pt x="57" y="403"/>
                      </a:lnTo>
                      <a:lnTo>
                        <a:pt x="85" y="378"/>
                      </a:lnTo>
                      <a:lnTo>
                        <a:pt x="107" y="328"/>
                      </a:lnTo>
                      <a:lnTo>
                        <a:pt x="130" y="297"/>
                      </a:lnTo>
                      <a:lnTo>
                        <a:pt x="152" y="258"/>
                      </a:lnTo>
                      <a:lnTo>
                        <a:pt x="172" y="227"/>
                      </a:lnTo>
                      <a:lnTo>
                        <a:pt x="206" y="179"/>
                      </a:lnTo>
                      <a:lnTo>
                        <a:pt x="237" y="146"/>
                      </a:lnTo>
                      <a:lnTo>
                        <a:pt x="265" y="118"/>
                      </a:lnTo>
                      <a:lnTo>
                        <a:pt x="293" y="95"/>
                      </a:lnTo>
                      <a:lnTo>
                        <a:pt x="332" y="59"/>
                      </a:lnTo>
                      <a:lnTo>
                        <a:pt x="346" y="36"/>
                      </a:lnTo>
                      <a:lnTo>
                        <a:pt x="369" y="11"/>
                      </a:lnTo>
                      <a:lnTo>
                        <a:pt x="386" y="0"/>
                      </a:lnTo>
                      <a:lnTo>
                        <a:pt x="391" y="1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1" name=""/>
                <p:cNvSpPr/>
                <p:nvPr/>
              </p:nvSpPr>
              <p:spPr>
                <a:xfrm>
                  <a:off x="4484880" y="6348240"/>
                  <a:ext cx="574920" cy="128520"/>
                </a:xfrm>
                <a:custGeom>
                  <a:avLst/>
                  <a:gdLst/>
                  <a:ahLst/>
                  <a:rect l="l" t="t" r="r" b="b"/>
                  <a:pathLst>
                    <a:path w="1315" h="297">
                      <a:moveTo>
                        <a:pt x="1315" y="62"/>
                      </a:moveTo>
                      <a:lnTo>
                        <a:pt x="1306" y="76"/>
                      </a:lnTo>
                      <a:lnTo>
                        <a:pt x="1289" y="98"/>
                      </a:lnTo>
                      <a:lnTo>
                        <a:pt x="1250" y="121"/>
                      </a:lnTo>
                      <a:lnTo>
                        <a:pt x="1202" y="149"/>
                      </a:lnTo>
                      <a:lnTo>
                        <a:pt x="1129" y="171"/>
                      </a:lnTo>
                      <a:lnTo>
                        <a:pt x="1044" y="182"/>
                      </a:lnTo>
                      <a:lnTo>
                        <a:pt x="999" y="185"/>
                      </a:lnTo>
                      <a:lnTo>
                        <a:pt x="957" y="182"/>
                      </a:lnTo>
                      <a:lnTo>
                        <a:pt x="904" y="174"/>
                      </a:lnTo>
                      <a:lnTo>
                        <a:pt x="839" y="165"/>
                      </a:lnTo>
                      <a:lnTo>
                        <a:pt x="783" y="151"/>
                      </a:lnTo>
                      <a:lnTo>
                        <a:pt x="715" y="129"/>
                      </a:lnTo>
                      <a:lnTo>
                        <a:pt x="645" y="104"/>
                      </a:lnTo>
                      <a:lnTo>
                        <a:pt x="588" y="79"/>
                      </a:lnTo>
                      <a:lnTo>
                        <a:pt x="541" y="67"/>
                      </a:lnTo>
                      <a:lnTo>
                        <a:pt x="498" y="62"/>
                      </a:lnTo>
                      <a:lnTo>
                        <a:pt x="448" y="62"/>
                      </a:lnTo>
                      <a:lnTo>
                        <a:pt x="400" y="67"/>
                      </a:lnTo>
                      <a:lnTo>
                        <a:pt x="352" y="81"/>
                      </a:lnTo>
                      <a:lnTo>
                        <a:pt x="318" y="93"/>
                      </a:lnTo>
                      <a:lnTo>
                        <a:pt x="279" y="112"/>
                      </a:lnTo>
                      <a:lnTo>
                        <a:pt x="254" y="129"/>
                      </a:lnTo>
                      <a:lnTo>
                        <a:pt x="223" y="149"/>
                      </a:lnTo>
                      <a:lnTo>
                        <a:pt x="169" y="188"/>
                      </a:lnTo>
                      <a:lnTo>
                        <a:pt x="116" y="244"/>
                      </a:lnTo>
                      <a:lnTo>
                        <a:pt x="76" y="286"/>
                      </a:lnTo>
                      <a:lnTo>
                        <a:pt x="68" y="297"/>
                      </a:lnTo>
                      <a:lnTo>
                        <a:pt x="31" y="294"/>
                      </a:lnTo>
                      <a:lnTo>
                        <a:pt x="0" y="272"/>
                      </a:lnTo>
                      <a:lnTo>
                        <a:pt x="20" y="252"/>
                      </a:lnTo>
                      <a:lnTo>
                        <a:pt x="59" y="216"/>
                      </a:lnTo>
                      <a:lnTo>
                        <a:pt x="99" y="182"/>
                      </a:lnTo>
                      <a:lnTo>
                        <a:pt x="149" y="151"/>
                      </a:lnTo>
                      <a:lnTo>
                        <a:pt x="197" y="126"/>
                      </a:lnTo>
                      <a:lnTo>
                        <a:pt x="231" y="104"/>
                      </a:lnTo>
                      <a:lnTo>
                        <a:pt x="265" y="87"/>
                      </a:lnTo>
                      <a:lnTo>
                        <a:pt x="301" y="70"/>
                      </a:lnTo>
                      <a:lnTo>
                        <a:pt x="352" y="48"/>
                      </a:lnTo>
                      <a:lnTo>
                        <a:pt x="397" y="34"/>
                      </a:lnTo>
                      <a:lnTo>
                        <a:pt x="425" y="28"/>
                      </a:lnTo>
                      <a:lnTo>
                        <a:pt x="465" y="20"/>
                      </a:lnTo>
                      <a:lnTo>
                        <a:pt x="524" y="11"/>
                      </a:lnTo>
                      <a:lnTo>
                        <a:pt x="586" y="3"/>
                      </a:lnTo>
                      <a:lnTo>
                        <a:pt x="636" y="3"/>
                      </a:lnTo>
                      <a:lnTo>
                        <a:pt x="698" y="0"/>
                      </a:lnTo>
                      <a:lnTo>
                        <a:pt x="757" y="6"/>
                      </a:lnTo>
                      <a:lnTo>
                        <a:pt x="831" y="11"/>
                      </a:lnTo>
                      <a:lnTo>
                        <a:pt x="895" y="34"/>
                      </a:lnTo>
                      <a:lnTo>
                        <a:pt x="963" y="51"/>
                      </a:lnTo>
                      <a:lnTo>
                        <a:pt x="1050" y="70"/>
                      </a:lnTo>
                      <a:lnTo>
                        <a:pt x="1132" y="84"/>
                      </a:lnTo>
                      <a:lnTo>
                        <a:pt x="1202" y="87"/>
                      </a:lnTo>
                      <a:lnTo>
                        <a:pt x="1236" y="81"/>
                      </a:lnTo>
                      <a:lnTo>
                        <a:pt x="1278" y="76"/>
                      </a:lnTo>
                      <a:lnTo>
                        <a:pt x="1315" y="62"/>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grpSp>
          <p:nvGrpSpPr>
            <p:cNvPr id="82" name=""/>
            <p:cNvGrpSpPr/>
            <p:nvPr/>
          </p:nvGrpSpPr>
          <p:grpSpPr>
            <a:xfrm>
              <a:off x="4271760" y="5456160"/>
              <a:ext cx="731160" cy="741240"/>
              <a:chOff x="4271760" y="5456160"/>
              <a:chExt cx="731160" cy="741240"/>
            </a:xfrm>
          </p:grpSpPr>
          <p:sp>
            <p:nvSpPr>
              <p:cNvPr id="83" name=""/>
              <p:cNvSpPr/>
              <p:nvPr/>
            </p:nvSpPr>
            <p:spPr>
              <a:xfrm>
                <a:off x="4271760" y="5738760"/>
                <a:ext cx="395280" cy="360000"/>
              </a:xfrm>
              <a:custGeom>
                <a:avLst/>
                <a:gdLst/>
                <a:ahLst/>
                <a:rect l="l" t="t" r="r" b="b"/>
                <a:pathLst>
                  <a:path w="904" h="830">
                    <a:moveTo>
                      <a:pt x="355" y="384"/>
                    </a:moveTo>
                    <a:lnTo>
                      <a:pt x="313" y="362"/>
                    </a:lnTo>
                    <a:lnTo>
                      <a:pt x="282" y="362"/>
                    </a:lnTo>
                    <a:lnTo>
                      <a:pt x="254" y="393"/>
                    </a:lnTo>
                    <a:lnTo>
                      <a:pt x="234" y="429"/>
                    </a:lnTo>
                    <a:lnTo>
                      <a:pt x="234" y="457"/>
                    </a:lnTo>
                    <a:lnTo>
                      <a:pt x="223" y="474"/>
                    </a:lnTo>
                    <a:lnTo>
                      <a:pt x="231" y="488"/>
                    </a:lnTo>
                    <a:lnTo>
                      <a:pt x="223" y="513"/>
                    </a:lnTo>
                    <a:lnTo>
                      <a:pt x="186" y="527"/>
                    </a:lnTo>
                    <a:lnTo>
                      <a:pt x="164" y="524"/>
                    </a:lnTo>
                    <a:lnTo>
                      <a:pt x="141" y="522"/>
                    </a:lnTo>
                    <a:lnTo>
                      <a:pt x="116" y="524"/>
                    </a:lnTo>
                    <a:lnTo>
                      <a:pt x="105" y="516"/>
                    </a:lnTo>
                    <a:lnTo>
                      <a:pt x="102" y="510"/>
                    </a:lnTo>
                    <a:lnTo>
                      <a:pt x="76" y="516"/>
                    </a:lnTo>
                    <a:lnTo>
                      <a:pt x="57" y="530"/>
                    </a:lnTo>
                    <a:lnTo>
                      <a:pt x="43" y="527"/>
                    </a:lnTo>
                    <a:lnTo>
                      <a:pt x="37" y="505"/>
                    </a:lnTo>
                    <a:lnTo>
                      <a:pt x="14" y="519"/>
                    </a:lnTo>
                    <a:lnTo>
                      <a:pt x="0" y="550"/>
                    </a:lnTo>
                    <a:lnTo>
                      <a:pt x="6" y="564"/>
                    </a:lnTo>
                    <a:lnTo>
                      <a:pt x="6" y="592"/>
                    </a:lnTo>
                    <a:lnTo>
                      <a:pt x="12" y="608"/>
                    </a:lnTo>
                    <a:lnTo>
                      <a:pt x="17" y="620"/>
                    </a:lnTo>
                    <a:lnTo>
                      <a:pt x="20" y="631"/>
                    </a:lnTo>
                    <a:lnTo>
                      <a:pt x="29" y="648"/>
                    </a:lnTo>
                    <a:lnTo>
                      <a:pt x="37" y="670"/>
                    </a:lnTo>
                    <a:lnTo>
                      <a:pt x="45" y="659"/>
                    </a:lnTo>
                    <a:lnTo>
                      <a:pt x="31" y="642"/>
                    </a:lnTo>
                    <a:lnTo>
                      <a:pt x="31" y="625"/>
                    </a:lnTo>
                    <a:lnTo>
                      <a:pt x="51" y="631"/>
                    </a:lnTo>
                    <a:lnTo>
                      <a:pt x="74" y="650"/>
                    </a:lnTo>
                    <a:lnTo>
                      <a:pt x="85" y="650"/>
                    </a:lnTo>
                    <a:lnTo>
                      <a:pt x="93" y="645"/>
                    </a:lnTo>
                    <a:lnTo>
                      <a:pt x="119" y="667"/>
                    </a:lnTo>
                    <a:lnTo>
                      <a:pt x="147" y="684"/>
                    </a:lnTo>
                    <a:lnTo>
                      <a:pt x="158" y="684"/>
                    </a:lnTo>
                    <a:lnTo>
                      <a:pt x="155" y="701"/>
                    </a:lnTo>
                    <a:lnTo>
                      <a:pt x="175" y="715"/>
                    </a:lnTo>
                    <a:lnTo>
                      <a:pt x="183" y="723"/>
                    </a:lnTo>
                    <a:lnTo>
                      <a:pt x="186" y="732"/>
                    </a:lnTo>
                    <a:lnTo>
                      <a:pt x="226" y="732"/>
                    </a:lnTo>
                    <a:lnTo>
                      <a:pt x="226" y="748"/>
                    </a:lnTo>
                    <a:lnTo>
                      <a:pt x="237" y="762"/>
                    </a:lnTo>
                    <a:lnTo>
                      <a:pt x="290" y="782"/>
                    </a:lnTo>
                    <a:lnTo>
                      <a:pt x="321" y="796"/>
                    </a:lnTo>
                    <a:lnTo>
                      <a:pt x="347" y="793"/>
                    </a:lnTo>
                    <a:lnTo>
                      <a:pt x="372" y="807"/>
                    </a:lnTo>
                    <a:lnTo>
                      <a:pt x="403" y="821"/>
                    </a:lnTo>
                    <a:lnTo>
                      <a:pt x="411" y="830"/>
                    </a:lnTo>
                    <a:lnTo>
                      <a:pt x="482" y="830"/>
                    </a:lnTo>
                    <a:lnTo>
                      <a:pt x="490" y="816"/>
                    </a:lnTo>
                    <a:lnTo>
                      <a:pt x="518" y="816"/>
                    </a:lnTo>
                    <a:lnTo>
                      <a:pt x="552" y="805"/>
                    </a:lnTo>
                    <a:lnTo>
                      <a:pt x="563" y="799"/>
                    </a:lnTo>
                    <a:lnTo>
                      <a:pt x="566" y="762"/>
                    </a:lnTo>
                    <a:lnTo>
                      <a:pt x="560" y="757"/>
                    </a:lnTo>
                    <a:lnTo>
                      <a:pt x="532" y="732"/>
                    </a:lnTo>
                    <a:lnTo>
                      <a:pt x="507" y="712"/>
                    </a:lnTo>
                    <a:lnTo>
                      <a:pt x="499" y="690"/>
                    </a:lnTo>
                    <a:lnTo>
                      <a:pt x="490" y="673"/>
                    </a:lnTo>
                    <a:lnTo>
                      <a:pt x="482" y="670"/>
                    </a:lnTo>
                    <a:lnTo>
                      <a:pt x="459" y="676"/>
                    </a:lnTo>
                    <a:lnTo>
                      <a:pt x="451" y="664"/>
                    </a:lnTo>
                    <a:lnTo>
                      <a:pt x="451" y="659"/>
                    </a:lnTo>
                    <a:lnTo>
                      <a:pt x="473" y="648"/>
                    </a:lnTo>
                    <a:lnTo>
                      <a:pt x="473" y="617"/>
                    </a:lnTo>
                    <a:lnTo>
                      <a:pt x="462" y="586"/>
                    </a:lnTo>
                    <a:lnTo>
                      <a:pt x="448" y="555"/>
                    </a:lnTo>
                    <a:lnTo>
                      <a:pt x="445" y="527"/>
                    </a:lnTo>
                    <a:lnTo>
                      <a:pt x="462" y="522"/>
                    </a:lnTo>
                    <a:lnTo>
                      <a:pt x="454" y="510"/>
                    </a:lnTo>
                    <a:lnTo>
                      <a:pt x="434" y="488"/>
                    </a:lnTo>
                    <a:lnTo>
                      <a:pt x="431" y="474"/>
                    </a:lnTo>
                    <a:lnTo>
                      <a:pt x="434" y="443"/>
                    </a:lnTo>
                    <a:lnTo>
                      <a:pt x="414" y="449"/>
                    </a:lnTo>
                    <a:lnTo>
                      <a:pt x="408" y="443"/>
                    </a:lnTo>
                    <a:lnTo>
                      <a:pt x="425" y="437"/>
                    </a:lnTo>
                    <a:lnTo>
                      <a:pt x="431" y="423"/>
                    </a:lnTo>
                    <a:lnTo>
                      <a:pt x="420" y="421"/>
                    </a:lnTo>
                    <a:lnTo>
                      <a:pt x="403" y="407"/>
                    </a:lnTo>
                    <a:lnTo>
                      <a:pt x="389" y="390"/>
                    </a:lnTo>
                    <a:lnTo>
                      <a:pt x="397" y="379"/>
                    </a:lnTo>
                    <a:lnTo>
                      <a:pt x="392" y="356"/>
                    </a:lnTo>
                    <a:lnTo>
                      <a:pt x="383" y="348"/>
                    </a:lnTo>
                    <a:lnTo>
                      <a:pt x="386" y="339"/>
                    </a:lnTo>
                    <a:lnTo>
                      <a:pt x="400" y="328"/>
                    </a:lnTo>
                    <a:lnTo>
                      <a:pt x="423" y="325"/>
                    </a:lnTo>
                    <a:lnTo>
                      <a:pt x="428" y="317"/>
                    </a:lnTo>
                    <a:lnTo>
                      <a:pt x="428" y="295"/>
                    </a:lnTo>
                    <a:lnTo>
                      <a:pt x="437" y="300"/>
                    </a:lnTo>
                    <a:lnTo>
                      <a:pt x="459" y="292"/>
                    </a:lnTo>
                    <a:lnTo>
                      <a:pt x="439" y="244"/>
                    </a:lnTo>
                    <a:lnTo>
                      <a:pt x="442" y="227"/>
                    </a:lnTo>
                    <a:lnTo>
                      <a:pt x="473" y="216"/>
                    </a:lnTo>
                    <a:lnTo>
                      <a:pt x="493" y="216"/>
                    </a:lnTo>
                    <a:lnTo>
                      <a:pt x="501" y="225"/>
                    </a:lnTo>
                    <a:lnTo>
                      <a:pt x="493" y="244"/>
                    </a:lnTo>
                    <a:lnTo>
                      <a:pt x="501" y="261"/>
                    </a:lnTo>
                    <a:lnTo>
                      <a:pt x="501" y="286"/>
                    </a:lnTo>
                    <a:lnTo>
                      <a:pt x="515" y="300"/>
                    </a:lnTo>
                    <a:lnTo>
                      <a:pt x="501" y="300"/>
                    </a:lnTo>
                    <a:lnTo>
                      <a:pt x="504" y="317"/>
                    </a:lnTo>
                    <a:lnTo>
                      <a:pt x="490" y="323"/>
                    </a:lnTo>
                    <a:lnTo>
                      <a:pt x="484" y="334"/>
                    </a:lnTo>
                    <a:lnTo>
                      <a:pt x="484" y="342"/>
                    </a:lnTo>
                    <a:lnTo>
                      <a:pt x="499" y="339"/>
                    </a:lnTo>
                    <a:lnTo>
                      <a:pt x="521" y="334"/>
                    </a:lnTo>
                    <a:lnTo>
                      <a:pt x="541" y="345"/>
                    </a:lnTo>
                    <a:lnTo>
                      <a:pt x="549" y="356"/>
                    </a:lnTo>
                    <a:lnTo>
                      <a:pt x="563" y="362"/>
                    </a:lnTo>
                    <a:lnTo>
                      <a:pt x="583" y="362"/>
                    </a:lnTo>
                    <a:lnTo>
                      <a:pt x="597" y="376"/>
                    </a:lnTo>
                    <a:lnTo>
                      <a:pt x="620" y="379"/>
                    </a:lnTo>
                    <a:lnTo>
                      <a:pt x="634" y="395"/>
                    </a:lnTo>
                    <a:lnTo>
                      <a:pt x="622" y="409"/>
                    </a:lnTo>
                    <a:lnTo>
                      <a:pt x="636" y="415"/>
                    </a:lnTo>
                    <a:lnTo>
                      <a:pt x="653" y="421"/>
                    </a:lnTo>
                    <a:lnTo>
                      <a:pt x="667" y="412"/>
                    </a:lnTo>
                    <a:lnTo>
                      <a:pt x="673" y="418"/>
                    </a:lnTo>
                    <a:lnTo>
                      <a:pt x="673" y="437"/>
                    </a:lnTo>
                    <a:lnTo>
                      <a:pt x="684" y="451"/>
                    </a:lnTo>
                    <a:lnTo>
                      <a:pt x="693" y="437"/>
                    </a:lnTo>
                    <a:lnTo>
                      <a:pt x="693" y="421"/>
                    </a:lnTo>
                    <a:lnTo>
                      <a:pt x="710" y="409"/>
                    </a:lnTo>
                    <a:lnTo>
                      <a:pt x="715" y="384"/>
                    </a:lnTo>
                    <a:lnTo>
                      <a:pt x="741" y="362"/>
                    </a:lnTo>
                    <a:lnTo>
                      <a:pt x="729" y="356"/>
                    </a:lnTo>
                    <a:lnTo>
                      <a:pt x="749" y="337"/>
                    </a:lnTo>
                    <a:lnTo>
                      <a:pt x="760" y="342"/>
                    </a:lnTo>
                    <a:lnTo>
                      <a:pt x="774" y="348"/>
                    </a:lnTo>
                    <a:lnTo>
                      <a:pt x="786" y="331"/>
                    </a:lnTo>
                    <a:lnTo>
                      <a:pt x="786" y="314"/>
                    </a:lnTo>
                    <a:lnTo>
                      <a:pt x="808" y="292"/>
                    </a:lnTo>
                    <a:lnTo>
                      <a:pt x="797" y="283"/>
                    </a:lnTo>
                    <a:lnTo>
                      <a:pt x="794" y="267"/>
                    </a:lnTo>
                    <a:lnTo>
                      <a:pt x="783" y="275"/>
                    </a:lnTo>
                    <a:lnTo>
                      <a:pt x="777" y="292"/>
                    </a:lnTo>
                    <a:lnTo>
                      <a:pt x="769" y="306"/>
                    </a:lnTo>
                    <a:lnTo>
                      <a:pt x="752" y="297"/>
                    </a:lnTo>
                    <a:lnTo>
                      <a:pt x="738" y="309"/>
                    </a:lnTo>
                    <a:lnTo>
                      <a:pt x="727" y="300"/>
                    </a:lnTo>
                    <a:lnTo>
                      <a:pt x="721" y="306"/>
                    </a:lnTo>
                    <a:lnTo>
                      <a:pt x="704" y="309"/>
                    </a:lnTo>
                    <a:lnTo>
                      <a:pt x="696" y="300"/>
                    </a:lnTo>
                    <a:lnTo>
                      <a:pt x="684" y="306"/>
                    </a:lnTo>
                    <a:lnTo>
                      <a:pt x="670" y="309"/>
                    </a:lnTo>
                    <a:lnTo>
                      <a:pt x="684" y="300"/>
                    </a:lnTo>
                    <a:lnTo>
                      <a:pt x="684" y="275"/>
                    </a:lnTo>
                    <a:lnTo>
                      <a:pt x="696" y="253"/>
                    </a:lnTo>
                    <a:lnTo>
                      <a:pt x="738" y="267"/>
                    </a:lnTo>
                    <a:lnTo>
                      <a:pt x="760" y="283"/>
                    </a:lnTo>
                    <a:lnTo>
                      <a:pt x="772" y="261"/>
                    </a:lnTo>
                    <a:lnTo>
                      <a:pt x="774" y="236"/>
                    </a:lnTo>
                    <a:lnTo>
                      <a:pt x="802" y="230"/>
                    </a:lnTo>
                    <a:lnTo>
                      <a:pt x="814" y="216"/>
                    </a:lnTo>
                    <a:lnTo>
                      <a:pt x="783" y="211"/>
                    </a:lnTo>
                    <a:lnTo>
                      <a:pt x="808" y="188"/>
                    </a:lnTo>
                    <a:lnTo>
                      <a:pt x="817" y="163"/>
                    </a:lnTo>
                    <a:lnTo>
                      <a:pt x="831" y="163"/>
                    </a:lnTo>
                    <a:lnTo>
                      <a:pt x="864" y="138"/>
                    </a:lnTo>
                    <a:lnTo>
                      <a:pt x="878" y="132"/>
                    </a:lnTo>
                    <a:lnTo>
                      <a:pt x="873" y="87"/>
                    </a:lnTo>
                    <a:lnTo>
                      <a:pt x="862" y="59"/>
                    </a:lnTo>
                    <a:lnTo>
                      <a:pt x="839" y="51"/>
                    </a:lnTo>
                    <a:lnTo>
                      <a:pt x="848" y="37"/>
                    </a:lnTo>
                    <a:lnTo>
                      <a:pt x="870" y="23"/>
                    </a:lnTo>
                    <a:lnTo>
                      <a:pt x="887" y="9"/>
                    </a:lnTo>
                    <a:lnTo>
                      <a:pt x="904" y="9"/>
                    </a:lnTo>
                    <a:lnTo>
                      <a:pt x="881" y="0"/>
                    </a:lnTo>
                    <a:lnTo>
                      <a:pt x="856" y="14"/>
                    </a:lnTo>
                    <a:lnTo>
                      <a:pt x="833" y="34"/>
                    </a:lnTo>
                    <a:lnTo>
                      <a:pt x="817" y="68"/>
                    </a:lnTo>
                    <a:lnTo>
                      <a:pt x="800" y="84"/>
                    </a:lnTo>
                    <a:lnTo>
                      <a:pt x="783" y="96"/>
                    </a:lnTo>
                    <a:lnTo>
                      <a:pt x="757" y="104"/>
                    </a:lnTo>
                    <a:lnTo>
                      <a:pt x="712" y="104"/>
                    </a:lnTo>
                    <a:lnTo>
                      <a:pt x="704" y="96"/>
                    </a:lnTo>
                    <a:lnTo>
                      <a:pt x="676" y="107"/>
                    </a:lnTo>
                    <a:lnTo>
                      <a:pt x="667" y="87"/>
                    </a:lnTo>
                    <a:lnTo>
                      <a:pt x="639" y="87"/>
                    </a:lnTo>
                    <a:lnTo>
                      <a:pt x="634" y="76"/>
                    </a:lnTo>
                    <a:lnTo>
                      <a:pt x="605" y="68"/>
                    </a:lnTo>
                    <a:lnTo>
                      <a:pt x="577" y="84"/>
                    </a:lnTo>
                    <a:lnTo>
                      <a:pt x="538" y="90"/>
                    </a:lnTo>
                    <a:lnTo>
                      <a:pt x="510" y="96"/>
                    </a:lnTo>
                    <a:lnTo>
                      <a:pt x="493" y="98"/>
                    </a:lnTo>
                    <a:lnTo>
                      <a:pt x="484" y="110"/>
                    </a:lnTo>
                    <a:lnTo>
                      <a:pt x="504" y="126"/>
                    </a:lnTo>
                    <a:lnTo>
                      <a:pt x="479" y="138"/>
                    </a:lnTo>
                    <a:lnTo>
                      <a:pt x="451" y="146"/>
                    </a:lnTo>
                    <a:lnTo>
                      <a:pt x="431" y="180"/>
                    </a:lnTo>
                    <a:lnTo>
                      <a:pt x="417" y="197"/>
                    </a:lnTo>
                    <a:lnTo>
                      <a:pt x="425" y="216"/>
                    </a:lnTo>
                    <a:lnTo>
                      <a:pt x="417" y="236"/>
                    </a:lnTo>
                    <a:lnTo>
                      <a:pt x="403" y="253"/>
                    </a:lnTo>
                    <a:lnTo>
                      <a:pt x="386" y="286"/>
                    </a:lnTo>
                    <a:lnTo>
                      <a:pt x="394" y="300"/>
                    </a:lnTo>
                    <a:lnTo>
                      <a:pt x="378" y="303"/>
                    </a:lnTo>
                    <a:lnTo>
                      <a:pt x="369" y="325"/>
                    </a:lnTo>
                    <a:lnTo>
                      <a:pt x="366" y="345"/>
                    </a:lnTo>
                    <a:lnTo>
                      <a:pt x="355" y="362"/>
                    </a:lnTo>
                    <a:lnTo>
                      <a:pt x="369" y="362"/>
                    </a:lnTo>
                    <a:lnTo>
                      <a:pt x="372" y="381"/>
                    </a:lnTo>
                    <a:lnTo>
                      <a:pt x="355" y="38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4" name=""/>
              <p:cNvSpPr/>
              <p:nvPr/>
            </p:nvSpPr>
            <p:spPr>
              <a:xfrm>
                <a:off x="4602600" y="5849640"/>
                <a:ext cx="62640" cy="72000"/>
              </a:xfrm>
              <a:custGeom>
                <a:avLst/>
                <a:gdLst/>
                <a:ahLst/>
                <a:rect l="l" t="t" r="r" b="b"/>
                <a:pathLst>
                  <a:path w="144" h="166">
                    <a:moveTo>
                      <a:pt x="93" y="0"/>
                    </a:moveTo>
                    <a:lnTo>
                      <a:pt x="116" y="28"/>
                    </a:lnTo>
                    <a:lnTo>
                      <a:pt x="144" y="51"/>
                    </a:lnTo>
                    <a:lnTo>
                      <a:pt x="121" y="98"/>
                    </a:lnTo>
                    <a:lnTo>
                      <a:pt x="138" y="115"/>
                    </a:lnTo>
                    <a:lnTo>
                      <a:pt x="119" y="126"/>
                    </a:lnTo>
                    <a:lnTo>
                      <a:pt x="102" y="143"/>
                    </a:lnTo>
                    <a:lnTo>
                      <a:pt x="74" y="146"/>
                    </a:lnTo>
                    <a:lnTo>
                      <a:pt x="54" y="146"/>
                    </a:lnTo>
                    <a:lnTo>
                      <a:pt x="12" y="166"/>
                    </a:lnTo>
                    <a:lnTo>
                      <a:pt x="0" y="138"/>
                    </a:lnTo>
                    <a:lnTo>
                      <a:pt x="12" y="124"/>
                    </a:lnTo>
                    <a:lnTo>
                      <a:pt x="29" y="110"/>
                    </a:lnTo>
                    <a:lnTo>
                      <a:pt x="29" y="98"/>
                    </a:lnTo>
                    <a:lnTo>
                      <a:pt x="40" y="73"/>
                    </a:lnTo>
                    <a:lnTo>
                      <a:pt x="57" y="68"/>
                    </a:lnTo>
                    <a:lnTo>
                      <a:pt x="54" y="51"/>
                    </a:lnTo>
                    <a:lnTo>
                      <a:pt x="68" y="37"/>
                    </a:lnTo>
                    <a:lnTo>
                      <a:pt x="74" y="23"/>
                    </a:lnTo>
                    <a:lnTo>
                      <a:pt x="93"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25200" bIns="25200" anchor="t">
                <a:noAutofit/>
              </a:bodyPr>
              <a:p>
                <a:endParaRPr b="0" lang="en-US" sz="2400" spc="-1" strike="noStrike">
                  <a:solidFill>
                    <a:srgbClr val="ffff00"/>
                  </a:solidFill>
                  <a:latin typeface="Times New Roman"/>
                </a:endParaRPr>
              </a:p>
            </p:txBody>
          </p:sp>
          <p:sp>
            <p:nvSpPr>
              <p:cNvPr id="85" name=""/>
              <p:cNvSpPr/>
              <p:nvPr/>
            </p:nvSpPr>
            <p:spPr>
              <a:xfrm>
                <a:off x="4461480" y="5871600"/>
                <a:ext cx="18000" cy="60480"/>
              </a:xfrm>
              <a:custGeom>
                <a:avLst/>
                <a:gdLst/>
                <a:ahLst/>
                <a:rect l="l" t="t" r="r" b="b"/>
                <a:pathLst>
                  <a:path w="42" h="140">
                    <a:moveTo>
                      <a:pt x="22" y="0"/>
                    </a:moveTo>
                    <a:lnTo>
                      <a:pt x="25" y="33"/>
                    </a:lnTo>
                    <a:lnTo>
                      <a:pt x="25" y="56"/>
                    </a:lnTo>
                    <a:lnTo>
                      <a:pt x="20" y="61"/>
                    </a:lnTo>
                    <a:lnTo>
                      <a:pt x="0" y="56"/>
                    </a:lnTo>
                    <a:lnTo>
                      <a:pt x="8" y="75"/>
                    </a:lnTo>
                    <a:lnTo>
                      <a:pt x="22" y="73"/>
                    </a:lnTo>
                    <a:lnTo>
                      <a:pt x="20" y="87"/>
                    </a:lnTo>
                    <a:lnTo>
                      <a:pt x="11" y="95"/>
                    </a:lnTo>
                    <a:lnTo>
                      <a:pt x="20" y="123"/>
                    </a:lnTo>
                    <a:lnTo>
                      <a:pt x="34" y="140"/>
                    </a:lnTo>
                    <a:lnTo>
                      <a:pt x="42" y="129"/>
                    </a:lnTo>
                    <a:lnTo>
                      <a:pt x="31" y="89"/>
                    </a:lnTo>
                    <a:lnTo>
                      <a:pt x="39" y="84"/>
                    </a:lnTo>
                    <a:lnTo>
                      <a:pt x="39" y="50"/>
                    </a:lnTo>
                    <a:lnTo>
                      <a:pt x="42" y="19"/>
                    </a:lnTo>
                    <a:lnTo>
                      <a:pt x="22"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13680" bIns="13680" anchor="t">
                <a:noAutofit/>
              </a:bodyPr>
              <a:p>
                <a:endParaRPr b="0" lang="en-US" sz="2400" spc="-1" strike="noStrike">
                  <a:solidFill>
                    <a:srgbClr val="ffff00"/>
                  </a:solidFill>
                  <a:latin typeface="Times New Roman"/>
                </a:endParaRPr>
              </a:p>
            </p:txBody>
          </p:sp>
          <p:sp>
            <p:nvSpPr>
              <p:cNvPr id="86" name=""/>
              <p:cNvSpPr/>
              <p:nvPr/>
            </p:nvSpPr>
            <p:spPr>
              <a:xfrm>
                <a:off x="4602600" y="5600520"/>
                <a:ext cx="347040" cy="596880"/>
              </a:xfrm>
              <a:custGeom>
                <a:avLst/>
                <a:gdLst/>
                <a:ahLst/>
                <a:rect l="l" t="t" r="r" b="b"/>
                <a:pathLst>
                  <a:path w="794" h="1376">
                    <a:moveTo>
                      <a:pt x="546" y="925"/>
                    </a:moveTo>
                    <a:lnTo>
                      <a:pt x="527" y="950"/>
                    </a:lnTo>
                    <a:lnTo>
                      <a:pt x="490" y="941"/>
                    </a:lnTo>
                    <a:lnTo>
                      <a:pt x="468" y="939"/>
                    </a:lnTo>
                    <a:lnTo>
                      <a:pt x="454" y="925"/>
                    </a:lnTo>
                    <a:lnTo>
                      <a:pt x="423" y="919"/>
                    </a:lnTo>
                    <a:lnTo>
                      <a:pt x="397" y="925"/>
                    </a:lnTo>
                    <a:lnTo>
                      <a:pt x="375" y="933"/>
                    </a:lnTo>
                    <a:lnTo>
                      <a:pt x="420" y="955"/>
                    </a:lnTo>
                    <a:lnTo>
                      <a:pt x="465" y="955"/>
                    </a:lnTo>
                    <a:lnTo>
                      <a:pt x="487" y="964"/>
                    </a:lnTo>
                    <a:lnTo>
                      <a:pt x="518" y="961"/>
                    </a:lnTo>
                    <a:lnTo>
                      <a:pt x="546" y="955"/>
                    </a:lnTo>
                    <a:lnTo>
                      <a:pt x="566" y="913"/>
                    </a:lnTo>
                    <a:lnTo>
                      <a:pt x="575" y="905"/>
                    </a:lnTo>
                    <a:lnTo>
                      <a:pt x="580" y="913"/>
                    </a:lnTo>
                    <a:lnTo>
                      <a:pt x="583" y="927"/>
                    </a:lnTo>
                    <a:lnTo>
                      <a:pt x="594" y="941"/>
                    </a:lnTo>
                    <a:lnTo>
                      <a:pt x="594" y="964"/>
                    </a:lnTo>
                    <a:lnTo>
                      <a:pt x="606" y="986"/>
                    </a:lnTo>
                    <a:lnTo>
                      <a:pt x="589" y="1031"/>
                    </a:lnTo>
                    <a:lnTo>
                      <a:pt x="572" y="1059"/>
                    </a:lnTo>
                    <a:lnTo>
                      <a:pt x="580" y="1073"/>
                    </a:lnTo>
                    <a:lnTo>
                      <a:pt x="594" y="1081"/>
                    </a:lnTo>
                    <a:lnTo>
                      <a:pt x="611" y="1084"/>
                    </a:lnTo>
                    <a:lnTo>
                      <a:pt x="620" y="1101"/>
                    </a:lnTo>
                    <a:lnTo>
                      <a:pt x="634" y="1124"/>
                    </a:lnTo>
                    <a:lnTo>
                      <a:pt x="622" y="1132"/>
                    </a:lnTo>
                    <a:lnTo>
                      <a:pt x="603" y="1154"/>
                    </a:lnTo>
                    <a:lnTo>
                      <a:pt x="594" y="1174"/>
                    </a:lnTo>
                    <a:lnTo>
                      <a:pt x="611" y="1194"/>
                    </a:lnTo>
                    <a:lnTo>
                      <a:pt x="611" y="1210"/>
                    </a:lnTo>
                    <a:lnTo>
                      <a:pt x="600" y="1224"/>
                    </a:lnTo>
                    <a:lnTo>
                      <a:pt x="606" y="1266"/>
                    </a:lnTo>
                    <a:lnTo>
                      <a:pt x="586" y="1283"/>
                    </a:lnTo>
                    <a:lnTo>
                      <a:pt x="552" y="1317"/>
                    </a:lnTo>
                    <a:lnTo>
                      <a:pt x="521" y="1334"/>
                    </a:lnTo>
                    <a:lnTo>
                      <a:pt x="490" y="1353"/>
                    </a:lnTo>
                    <a:lnTo>
                      <a:pt x="445" y="1376"/>
                    </a:lnTo>
                    <a:lnTo>
                      <a:pt x="414" y="1373"/>
                    </a:lnTo>
                    <a:lnTo>
                      <a:pt x="406" y="1364"/>
                    </a:lnTo>
                    <a:lnTo>
                      <a:pt x="383" y="1356"/>
                    </a:lnTo>
                    <a:lnTo>
                      <a:pt x="372" y="1339"/>
                    </a:lnTo>
                    <a:lnTo>
                      <a:pt x="358" y="1317"/>
                    </a:lnTo>
                    <a:lnTo>
                      <a:pt x="341" y="1308"/>
                    </a:lnTo>
                    <a:lnTo>
                      <a:pt x="316" y="1283"/>
                    </a:lnTo>
                    <a:lnTo>
                      <a:pt x="307" y="1269"/>
                    </a:lnTo>
                    <a:lnTo>
                      <a:pt x="313" y="1266"/>
                    </a:lnTo>
                    <a:lnTo>
                      <a:pt x="318" y="1247"/>
                    </a:lnTo>
                    <a:lnTo>
                      <a:pt x="324" y="1238"/>
                    </a:lnTo>
                    <a:lnTo>
                      <a:pt x="307" y="1230"/>
                    </a:lnTo>
                    <a:lnTo>
                      <a:pt x="290" y="1208"/>
                    </a:lnTo>
                    <a:lnTo>
                      <a:pt x="271" y="1199"/>
                    </a:lnTo>
                    <a:lnTo>
                      <a:pt x="254" y="1174"/>
                    </a:lnTo>
                    <a:lnTo>
                      <a:pt x="237" y="1149"/>
                    </a:lnTo>
                    <a:lnTo>
                      <a:pt x="200" y="1149"/>
                    </a:lnTo>
                    <a:lnTo>
                      <a:pt x="172" y="1157"/>
                    </a:lnTo>
                    <a:lnTo>
                      <a:pt x="105" y="1157"/>
                    </a:lnTo>
                    <a:lnTo>
                      <a:pt x="65" y="1146"/>
                    </a:lnTo>
                    <a:lnTo>
                      <a:pt x="45" y="1129"/>
                    </a:lnTo>
                    <a:lnTo>
                      <a:pt x="23" y="1110"/>
                    </a:lnTo>
                    <a:lnTo>
                      <a:pt x="3" y="1067"/>
                    </a:lnTo>
                    <a:lnTo>
                      <a:pt x="0" y="1059"/>
                    </a:lnTo>
                    <a:lnTo>
                      <a:pt x="15" y="1059"/>
                    </a:lnTo>
                    <a:lnTo>
                      <a:pt x="17" y="1042"/>
                    </a:lnTo>
                    <a:lnTo>
                      <a:pt x="20" y="1023"/>
                    </a:lnTo>
                    <a:lnTo>
                      <a:pt x="40" y="1009"/>
                    </a:lnTo>
                    <a:lnTo>
                      <a:pt x="60" y="989"/>
                    </a:lnTo>
                    <a:lnTo>
                      <a:pt x="74" y="978"/>
                    </a:lnTo>
                    <a:lnTo>
                      <a:pt x="99" y="972"/>
                    </a:lnTo>
                    <a:lnTo>
                      <a:pt x="116" y="953"/>
                    </a:lnTo>
                    <a:lnTo>
                      <a:pt x="147" y="955"/>
                    </a:lnTo>
                    <a:lnTo>
                      <a:pt x="178" y="933"/>
                    </a:lnTo>
                    <a:lnTo>
                      <a:pt x="203" y="936"/>
                    </a:lnTo>
                    <a:lnTo>
                      <a:pt x="228" y="927"/>
                    </a:lnTo>
                    <a:lnTo>
                      <a:pt x="228" y="941"/>
                    </a:lnTo>
                    <a:lnTo>
                      <a:pt x="245" y="950"/>
                    </a:lnTo>
                    <a:lnTo>
                      <a:pt x="276" y="955"/>
                    </a:lnTo>
                    <a:lnTo>
                      <a:pt x="313" y="936"/>
                    </a:lnTo>
                    <a:lnTo>
                      <a:pt x="338" y="927"/>
                    </a:lnTo>
                    <a:lnTo>
                      <a:pt x="355" y="930"/>
                    </a:lnTo>
                    <a:lnTo>
                      <a:pt x="361" y="916"/>
                    </a:lnTo>
                    <a:lnTo>
                      <a:pt x="358" y="922"/>
                    </a:lnTo>
                    <a:lnTo>
                      <a:pt x="380" y="908"/>
                    </a:lnTo>
                    <a:lnTo>
                      <a:pt x="380" y="897"/>
                    </a:lnTo>
                    <a:lnTo>
                      <a:pt x="378" y="874"/>
                    </a:lnTo>
                    <a:lnTo>
                      <a:pt x="361" y="883"/>
                    </a:lnTo>
                    <a:lnTo>
                      <a:pt x="335" y="891"/>
                    </a:lnTo>
                    <a:lnTo>
                      <a:pt x="321" y="885"/>
                    </a:lnTo>
                    <a:lnTo>
                      <a:pt x="316" y="877"/>
                    </a:lnTo>
                    <a:lnTo>
                      <a:pt x="327" y="863"/>
                    </a:lnTo>
                    <a:lnTo>
                      <a:pt x="349" y="852"/>
                    </a:lnTo>
                    <a:lnTo>
                      <a:pt x="369" y="846"/>
                    </a:lnTo>
                    <a:lnTo>
                      <a:pt x="375" y="843"/>
                    </a:lnTo>
                    <a:lnTo>
                      <a:pt x="389" y="815"/>
                    </a:lnTo>
                    <a:lnTo>
                      <a:pt x="375" y="813"/>
                    </a:lnTo>
                    <a:lnTo>
                      <a:pt x="347" y="832"/>
                    </a:lnTo>
                    <a:lnTo>
                      <a:pt x="313" y="832"/>
                    </a:lnTo>
                    <a:lnTo>
                      <a:pt x="316" y="843"/>
                    </a:lnTo>
                    <a:lnTo>
                      <a:pt x="307" y="852"/>
                    </a:lnTo>
                    <a:lnTo>
                      <a:pt x="307" y="877"/>
                    </a:lnTo>
                    <a:lnTo>
                      <a:pt x="299" y="885"/>
                    </a:lnTo>
                    <a:lnTo>
                      <a:pt x="310" y="899"/>
                    </a:lnTo>
                    <a:lnTo>
                      <a:pt x="310" y="908"/>
                    </a:lnTo>
                    <a:lnTo>
                      <a:pt x="293" y="913"/>
                    </a:lnTo>
                    <a:lnTo>
                      <a:pt x="282" y="905"/>
                    </a:lnTo>
                    <a:lnTo>
                      <a:pt x="268" y="874"/>
                    </a:lnTo>
                    <a:lnTo>
                      <a:pt x="245" y="877"/>
                    </a:lnTo>
                    <a:lnTo>
                      <a:pt x="223" y="871"/>
                    </a:lnTo>
                    <a:lnTo>
                      <a:pt x="243" y="891"/>
                    </a:lnTo>
                    <a:lnTo>
                      <a:pt x="268" y="891"/>
                    </a:lnTo>
                    <a:lnTo>
                      <a:pt x="271" y="905"/>
                    </a:lnTo>
                    <a:lnTo>
                      <a:pt x="262" y="913"/>
                    </a:lnTo>
                    <a:lnTo>
                      <a:pt x="228" y="905"/>
                    </a:lnTo>
                    <a:lnTo>
                      <a:pt x="214" y="899"/>
                    </a:lnTo>
                    <a:lnTo>
                      <a:pt x="200" y="905"/>
                    </a:lnTo>
                    <a:lnTo>
                      <a:pt x="186" y="902"/>
                    </a:lnTo>
                    <a:lnTo>
                      <a:pt x="178" y="925"/>
                    </a:lnTo>
                    <a:lnTo>
                      <a:pt x="158" y="930"/>
                    </a:lnTo>
                    <a:lnTo>
                      <a:pt x="144" y="941"/>
                    </a:lnTo>
                    <a:lnTo>
                      <a:pt x="119" y="941"/>
                    </a:lnTo>
                    <a:lnTo>
                      <a:pt x="105" y="933"/>
                    </a:lnTo>
                    <a:lnTo>
                      <a:pt x="105" y="894"/>
                    </a:lnTo>
                    <a:lnTo>
                      <a:pt x="127" y="891"/>
                    </a:lnTo>
                    <a:lnTo>
                      <a:pt x="144" y="883"/>
                    </a:lnTo>
                    <a:lnTo>
                      <a:pt x="133" y="869"/>
                    </a:lnTo>
                    <a:lnTo>
                      <a:pt x="133" y="857"/>
                    </a:lnTo>
                    <a:lnTo>
                      <a:pt x="133" y="835"/>
                    </a:lnTo>
                    <a:lnTo>
                      <a:pt x="133" y="821"/>
                    </a:lnTo>
                    <a:lnTo>
                      <a:pt x="124" y="843"/>
                    </a:lnTo>
                    <a:lnTo>
                      <a:pt x="110" y="838"/>
                    </a:lnTo>
                    <a:lnTo>
                      <a:pt x="113" y="818"/>
                    </a:lnTo>
                    <a:lnTo>
                      <a:pt x="130" y="813"/>
                    </a:lnTo>
                    <a:lnTo>
                      <a:pt x="130" y="796"/>
                    </a:lnTo>
                    <a:lnTo>
                      <a:pt x="147" y="779"/>
                    </a:lnTo>
                    <a:lnTo>
                      <a:pt x="164" y="770"/>
                    </a:lnTo>
                    <a:lnTo>
                      <a:pt x="172" y="762"/>
                    </a:lnTo>
                    <a:lnTo>
                      <a:pt x="189" y="740"/>
                    </a:lnTo>
                    <a:lnTo>
                      <a:pt x="195" y="717"/>
                    </a:lnTo>
                    <a:lnTo>
                      <a:pt x="197" y="698"/>
                    </a:lnTo>
                    <a:lnTo>
                      <a:pt x="214" y="675"/>
                    </a:lnTo>
                    <a:lnTo>
                      <a:pt x="237" y="689"/>
                    </a:lnTo>
                    <a:lnTo>
                      <a:pt x="257" y="689"/>
                    </a:lnTo>
                    <a:lnTo>
                      <a:pt x="268" y="675"/>
                    </a:lnTo>
                    <a:lnTo>
                      <a:pt x="276" y="650"/>
                    </a:lnTo>
                    <a:lnTo>
                      <a:pt x="279" y="633"/>
                    </a:lnTo>
                    <a:lnTo>
                      <a:pt x="262" y="611"/>
                    </a:lnTo>
                    <a:lnTo>
                      <a:pt x="271" y="600"/>
                    </a:lnTo>
                    <a:lnTo>
                      <a:pt x="257" y="594"/>
                    </a:lnTo>
                    <a:lnTo>
                      <a:pt x="245" y="577"/>
                    </a:lnTo>
                    <a:lnTo>
                      <a:pt x="251" y="569"/>
                    </a:lnTo>
                    <a:lnTo>
                      <a:pt x="231" y="563"/>
                    </a:lnTo>
                    <a:lnTo>
                      <a:pt x="237" y="558"/>
                    </a:lnTo>
                    <a:lnTo>
                      <a:pt x="259" y="538"/>
                    </a:lnTo>
                    <a:lnTo>
                      <a:pt x="243" y="510"/>
                    </a:lnTo>
                    <a:lnTo>
                      <a:pt x="240" y="490"/>
                    </a:lnTo>
                    <a:lnTo>
                      <a:pt x="206" y="473"/>
                    </a:lnTo>
                    <a:lnTo>
                      <a:pt x="186" y="459"/>
                    </a:lnTo>
                    <a:lnTo>
                      <a:pt x="172" y="457"/>
                    </a:lnTo>
                    <a:lnTo>
                      <a:pt x="158" y="445"/>
                    </a:lnTo>
                    <a:lnTo>
                      <a:pt x="138" y="445"/>
                    </a:lnTo>
                    <a:lnTo>
                      <a:pt x="130" y="434"/>
                    </a:lnTo>
                    <a:lnTo>
                      <a:pt x="133" y="415"/>
                    </a:lnTo>
                    <a:lnTo>
                      <a:pt x="158" y="401"/>
                    </a:lnTo>
                    <a:lnTo>
                      <a:pt x="158" y="378"/>
                    </a:lnTo>
                    <a:lnTo>
                      <a:pt x="181" y="375"/>
                    </a:lnTo>
                    <a:lnTo>
                      <a:pt x="206" y="373"/>
                    </a:lnTo>
                    <a:lnTo>
                      <a:pt x="223" y="350"/>
                    </a:lnTo>
                    <a:lnTo>
                      <a:pt x="254" y="336"/>
                    </a:lnTo>
                    <a:lnTo>
                      <a:pt x="265" y="356"/>
                    </a:lnTo>
                    <a:lnTo>
                      <a:pt x="240" y="373"/>
                    </a:lnTo>
                    <a:lnTo>
                      <a:pt x="220" y="375"/>
                    </a:lnTo>
                    <a:lnTo>
                      <a:pt x="206" y="398"/>
                    </a:lnTo>
                    <a:lnTo>
                      <a:pt x="226" y="395"/>
                    </a:lnTo>
                    <a:lnTo>
                      <a:pt x="245" y="387"/>
                    </a:lnTo>
                    <a:lnTo>
                      <a:pt x="262" y="381"/>
                    </a:lnTo>
                    <a:lnTo>
                      <a:pt x="276" y="403"/>
                    </a:lnTo>
                    <a:lnTo>
                      <a:pt x="310" y="401"/>
                    </a:lnTo>
                    <a:lnTo>
                      <a:pt x="310" y="387"/>
                    </a:lnTo>
                    <a:lnTo>
                      <a:pt x="327" y="375"/>
                    </a:lnTo>
                    <a:lnTo>
                      <a:pt x="349" y="364"/>
                    </a:lnTo>
                    <a:lnTo>
                      <a:pt x="369" y="350"/>
                    </a:lnTo>
                    <a:lnTo>
                      <a:pt x="380" y="342"/>
                    </a:lnTo>
                    <a:lnTo>
                      <a:pt x="397" y="325"/>
                    </a:lnTo>
                    <a:lnTo>
                      <a:pt x="389" y="314"/>
                    </a:lnTo>
                    <a:lnTo>
                      <a:pt x="358" y="331"/>
                    </a:lnTo>
                    <a:lnTo>
                      <a:pt x="333" y="347"/>
                    </a:lnTo>
                    <a:lnTo>
                      <a:pt x="335" y="319"/>
                    </a:lnTo>
                    <a:lnTo>
                      <a:pt x="364" y="319"/>
                    </a:lnTo>
                    <a:lnTo>
                      <a:pt x="375" y="297"/>
                    </a:lnTo>
                    <a:lnTo>
                      <a:pt x="400" y="291"/>
                    </a:lnTo>
                    <a:lnTo>
                      <a:pt x="425" y="291"/>
                    </a:lnTo>
                    <a:lnTo>
                      <a:pt x="437" y="300"/>
                    </a:lnTo>
                    <a:lnTo>
                      <a:pt x="448" y="286"/>
                    </a:lnTo>
                    <a:lnTo>
                      <a:pt x="465" y="280"/>
                    </a:lnTo>
                    <a:lnTo>
                      <a:pt x="473" y="297"/>
                    </a:lnTo>
                    <a:lnTo>
                      <a:pt x="493" y="311"/>
                    </a:lnTo>
                    <a:lnTo>
                      <a:pt x="504" y="345"/>
                    </a:lnTo>
                    <a:lnTo>
                      <a:pt x="521" y="361"/>
                    </a:lnTo>
                    <a:lnTo>
                      <a:pt x="544" y="367"/>
                    </a:lnTo>
                    <a:lnTo>
                      <a:pt x="569" y="373"/>
                    </a:lnTo>
                    <a:lnTo>
                      <a:pt x="577" y="401"/>
                    </a:lnTo>
                    <a:lnTo>
                      <a:pt x="594" y="409"/>
                    </a:lnTo>
                    <a:lnTo>
                      <a:pt x="608" y="406"/>
                    </a:lnTo>
                    <a:lnTo>
                      <a:pt x="611" y="431"/>
                    </a:lnTo>
                    <a:lnTo>
                      <a:pt x="628" y="415"/>
                    </a:lnTo>
                    <a:lnTo>
                      <a:pt x="648" y="406"/>
                    </a:lnTo>
                    <a:lnTo>
                      <a:pt x="665" y="423"/>
                    </a:lnTo>
                    <a:lnTo>
                      <a:pt x="682" y="423"/>
                    </a:lnTo>
                    <a:lnTo>
                      <a:pt x="684" y="431"/>
                    </a:lnTo>
                    <a:lnTo>
                      <a:pt x="676" y="457"/>
                    </a:lnTo>
                    <a:lnTo>
                      <a:pt x="667" y="473"/>
                    </a:lnTo>
                    <a:lnTo>
                      <a:pt x="690" y="473"/>
                    </a:lnTo>
                    <a:lnTo>
                      <a:pt x="704" y="462"/>
                    </a:lnTo>
                    <a:lnTo>
                      <a:pt x="718" y="423"/>
                    </a:lnTo>
                    <a:lnTo>
                      <a:pt x="729" y="392"/>
                    </a:lnTo>
                    <a:lnTo>
                      <a:pt x="698" y="350"/>
                    </a:lnTo>
                    <a:lnTo>
                      <a:pt x="673" y="336"/>
                    </a:lnTo>
                    <a:lnTo>
                      <a:pt x="662" y="325"/>
                    </a:lnTo>
                    <a:lnTo>
                      <a:pt x="648" y="319"/>
                    </a:lnTo>
                    <a:lnTo>
                      <a:pt x="656" y="305"/>
                    </a:lnTo>
                    <a:lnTo>
                      <a:pt x="653" y="294"/>
                    </a:lnTo>
                    <a:lnTo>
                      <a:pt x="673" y="286"/>
                    </a:lnTo>
                    <a:lnTo>
                      <a:pt x="659" y="258"/>
                    </a:lnTo>
                    <a:lnTo>
                      <a:pt x="628" y="216"/>
                    </a:lnTo>
                    <a:lnTo>
                      <a:pt x="583" y="165"/>
                    </a:lnTo>
                    <a:lnTo>
                      <a:pt x="549" y="126"/>
                    </a:lnTo>
                    <a:lnTo>
                      <a:pt x="521" y="101"/>
                    </a:lnTo>
                    <a:lnTo>
                      <a:pt x="513" y="81"/>
                    </a:lnTo>
                    <a:lnTo>
                      <a:pt x="496" y="45"/>
                    </a:lnTo>
                    <a:lnTo>
                      <a:pt x="473" y="20"/>
                    </a:lnTo>
                    <a:lnTo>
                      <a:pt x="504" y="34"/>
                    </a:lnTo>
                    <a:lnTo>
                      <a:pt x="496" y="17"/>
                    </a:lnTo>
                    <a:lnTo>
                      <a:pt x="482" y="0"/>
                    </a:lnTo>
                    <a:lnTo>
                      <a:pt x="510" y="0"/>
                    </a:lnTo>
                    <a:lnTo>
                      <a:pt x="530" y="25"/>
                    </a:lnTo>
                    <a:lnTo>
                      <a:pt x="544" y="53"/>
                    </a:lnTo>
                    <a:lnTo>
                      <a:pt x="546" y="39"/>
                    </a:lnTo>
                    <a:lnTo>
                      <a:pt x="555" y="48"/>
                    </a:lnTo>
                    <a:lnTo>
                      <a:pt x="566" y="59"/>
                    </a:lnTo>
                    <a:lnTo>
                      <a:pt x="575" y="73"/>
                    </a:lnTo>
                    <a:lnTo>
                      <a:pt x="580" y="104"/>
                    </a:lnTo>
                    <a:lnTo>
                      <a:pt x="606" y="137"/>
                    </a:lnTo>
                    <a:lnTo>
                      <a:pt x="617" y="148"/>
                    </a:lnTo>
                    <a:lnTo>
                      <a:pt x="611" y="171"/>
                    </a:lnTo>
                    <a:lnTo>
                      <a:pt x="648" y="182"/>
                    </a:lnTo>
                    <a:lnTo>
                      <a:pt x="648" y="193"/>
                    </a:lnTo>
                    <a:lnTo>
                      <a:pt x="659" y="199"/>
                    </a:lnTo>
                    <a:lnTo>
                      <a:pt x="656" y="224"/>
                    </a:lnTo>
                    <a:lnTo>
                      <a:pt x="673" y="238"/>
                    </a:lnTo>
                    <a:lnTo>
                      <a:pt x="687" y="230"/>
                    </a:lnTo>
                    <a:lnTo>
                      <a:pt x="684" y="255"/>
                    </a:lnTo>
                    <a:lnTo>
                      <a:pt x="721" y="255"/>
                    </a:lnTo>
                    <a:lnTo>
                      <a:pt x="704" y="263"/>
                    </a:lnTo>
                    <a:lnTo>
                      <a:pt x="704" y="286"/>
                    </a:lnTo>
                    <a:lnTo>
                      <a:pt x="724" y="303"/>
                    </a:lnTo>
                    <a:lnTo>
                      <a:pt x="738" y="331"/>
                    </a:lnTo>
                    <a:lnTo>
                      <a:pt x="741" y="359"/>
                    </a:lnTo>
                    <a:lnTo>
                      <a:pt x="741" y="370"/>
                    </a:lnTo>
                    <a:lnTo>
                      <a:pt x="760" y="392"/>
                    </a:lnTo>
                    <a:lnTo>
                      <a:pt x="752" y="423"/>
                    </a:lnTo>
                    <a:lnTo>
                      <a:pt x="769" y="406"/>
                    </a:lnTo>
                    <a:lnTo>
                      <a:pt x="763" y="387"/>
                    </a:lnTo>
                    <a:lnTo>
                      <a:pt x="760" y="359"/>
                    </a:lnTo>
                    <a:lnTo>
                      <a:pt x="755" y="328"/>
                    </a:lnTo>
                    <a:lnTo>
                      <a:pt x="746" y="317"/>
                    </a:lnTo>
                    <a:lnTo>
                      <a:pt x="746" y="286"/>
                    </a:lnTo>
                    <a:lnTo>
                      <a:pt x="763" y="297"/>
                    </a:lnTo>
                    <a:lnTo>
                      <a:pt x="760" y="314"/>
                    </a:lnTo>
                    <a:lnTo>
                      <a:pt x="769" y="333"/>
                    </a:lnTo>
                    <a:lnTo>
                      <a:pt x="786" y="370"/>
                    </a:lnTo>
                    <a:lnTo>
                      <a:pt x="786" y="412"/>
                    </a:lnTo>
                    <a:lnTo>
                      <a:pt x="794" y="431"/>
                    </a:lnTo>
                    <a:lnTo>
                      <a:pt x="774" y="487"/>
                    </a:lnTo>
                    <a:lnTo>
                      <a:pt x="763" y="527"/>
                    </a:lnTo>
                    <a:lnTo>
                      <a:pt x="732" y="521"/>
                    </a:lnTo>
                    <a:lnTo>
                      <a:pt x="721" y="504"/>
                    </a:lnTo>
                    <a:lnTo>
                      <a:pt x="727" y="473"/>
                    </a:lnTo>
                    <a:lnTo>
                      <a:pt x="715" y="479"/>
                    </a:lnTo>
                    <a:lnTo>
                      <a:pt x="713" y="496"/>
                    </a:lnTo>
                    <a:lnTo>
                      <a:pt x="690" y="501"/>
                    </a:lnTo>
                    <a:lnTo>
                      <a:pt x="662" y="504"/>
                    </a:lnTo>
                    <a:lnTo>
                      <a:pt x="653" y="513"/>
                    </a:lnTo>
                    <a:lnTo>
                      <a:pt x="653" y="535"/>
                    </a:lnTo>
                    <a:lnTo>
                      <a:pt x="639" y="549"/>
                    </a:lnTo>
                    <a:lnTo>
                      <a:pt x="620" y="560"/>
                    </a:lnTo>
                    <a:lnTo>
                      <a:pt x="608" y="577"/>
                    </a:lnTo>
                    <a:lnTo>
                      <a:pt x="620" y="591"/>
                    </a:lnTo>
                    <a:lnTo>
                      <a:pt x="637" y="608"/>
                    </a:lnTo>
                    <a:lnTo>
                      <a:pt x="642" y="630"/>
                    </a:lnTo>
                    <a:lnTo>
                      <a:pt x="651" y="647"/>
                    </a:lnTo>
                    <a:lnTo>
                      <a:pt x="673" y="664"/>
                    </a:lnTo>
                    <a:lnTo>
                      <a:pt x="687" y="667"/>
                    </a:lnTo>
                    <a:lnTo>
                      <a:pt x="696" y="656"/>
                    </a:lnTo>
                    <a:lnTo>
                      <a:pt x="698" y="650"/>
                    </a:lnTo>
                    <a:lnTo>
                      <a:pt x="713" y="653"/>
                    </a:lnTo>
                    <a:lnTo>
                      <a:pt x="727" y="667"/>
                    </a:lnTo>
                    <a:lnTo>
                      <a:pt x="713" y="672"/>
                    </a:lnTo>
                    <a:lnTo>
                      <a:pt x="690" y="675"/>
                    </a:lnTo>
                    <a:lnTo>
                      <a:pt x="704" y="695"/>
                    </a:lnTo>
                    <a:lnTo>
                      <a:pt x="704" y="703"/>
                    </a:lnTo>
                    <a:lnTo>
                      <a:pt x="667" y="717"/>
                    </a:lnTo>
                    <a:lnTo>
                      <a:pt x="642" y="726"/>
                    </a:lnTo>
                    <a:lnTo>
                      <a:pt x="620" y="731"/>
                    </a:lnTo>
                    <a:lnTo>
                      <a:pt x="606" y="717"/>
                    </a:lnTo>
                    <a:lnTo>
                      <a:pt x="608" y="731"/>
                    </a:lnTo>
                    <a:lnTo>
                      <a:pt x="594" y="740"/>
                    </a:lnTo>
                    <a:lnTo>
                      <a:pt x="580" y="740"/>
                    </a:lnTo>
                    <a:lnTo>
                      <a:pt x="577" y="726"/>
                    </a:lnTo>
                    <a:lnTo>
                      <a:pt x="566" y="737"/>
                    </a:lnTo>
                    <a:lnTo>
                      <a:pt x="561" y="770"/>
                    </a:lnTo>
                    <a:lnTo>
                      <a:pt x="544" y="779"/>
                    </a:lnTo>
                    <a:lnTo>
                      <a:pt x="535" y="801"/>
                    </a:lnTo>
                    <a:lnTo>
                      <a:pt x="530" y="813"/>
                    </a:lnTo>
                    <a:lnTo>
                      <a:pt x="504" y="821"/>
                    </a:lnTo>
                    <a:lnTo>
                      <a:pt x="487" y="835"/>
                    </a:lnTo>
                    <a:lnTo>
                      <a:pt x="459" y="832"/>
                    </a:lnTo>
                    <a:lnTo>
                      <a:pt x="468" y="849"/>
                    </a:lnTo>
                    <a:lnTo>
                      <a:pt x="490" y="849"/>
                    </a:lnTo>
                    <a:lnTo>
                      <a:pt x="518" y="843"/>
                    </a:lnTo>
                    <a:lnTo>
                      <a:pt x="530" y="821"/>
                    </a:lnTo>
                    <a:lnTo>
                      <a:pt x="544" y="815"/>
                    </a:lnTo>
                    <a:lnTo>
                      <a:pt x="561" y="818"/>
                    </a:lnTo>
                    <a:lnTo>
                      <a:pt x="569" y="838"/>
                    </a:lnTo>
                    <a:lnTo>
                      <a:pt x="561" y="874"/>
                    </a:lnTo>
                    <a:lnTo>
                      <a:pt x="561" y="902"/>
                    </a:lnTo>
                    <a:lnTo>
                      <a:pt x="546" y="925"/>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7" name=""/>
              <p:cNvSpPr/>
              <p:nvPr/>
            </p:nvSpPr>
            <p:spPr>
              <a:xfrm>
                <a:off x="4813560" y="5522760"/>
                <a:ext cx="189360" cy="191520"/>
              </a:xfrm>
              <a:custGeom>
                <a:avLst/>
                <a:gdLst/>
                <a:ahLst/>
                <a:rect l="l" t="t" r="r" b="b"/>
                <a:pathLst>
                  <a:path w="433" h="442">
                    <a:moveTo>
                      <a:pt x="98" y="16"/>
                    </a:moveTo>
                    <a:lnTo>
                      <a:pt x="79" y="28"/>
                    </a:lnTo>
                    <a:lnTo>
                      <a:pt x="53" y="30"/>
                    </a:lnTo>
                    <a:lnTo>
                      <a:pt x="28" y="47"/>
                    </a:lnTo>
                    <a:lnTo>
                      <a:pt x="5" y="61"/>
                    </a:lnTo>
                    <a:lnTo>
                      <a:pt x="0" y="75"/>
                    </a:lnTo>
                    <a:lnTo>
                      <a:pt x="28" y="89"/>
                    </a:lnTo>
                    <a:lnTo>
                      <a:pt x="45" y="114"/>
                    </a:lnTo>
                    <a:lnTo>
                      <a:pt x="53" y="140"/>
                    </a:lnTo>
                    <a:lnTo>
                      <a:pt x="64" y="157"/>
                    </a:lnTo>
                    <a:lnTo>
                      <a:pt x="67" y="187"/>
                    </a:lnTo>
                    <a:lnTo>
                      <a:pt x="79" y="204"/>
                    </a:lnTo>
                    <a:lnTo>
                      <a:pt x="84" y="229"/>
                    </a:lnTo>
                    <a:lnTo>
                      <a:pt x="93" y="221"/>
                    </a:lnTo>
                    <a:lnTo>
                      <a:pt x="124" y="210"/>
                    </a:lnTo>
                    <a:lnTo>
                      <a:pt x="140" y="224"/>
                    </a:lnTo>
                    <a:lnTo>
                      <a:pt x="157" y="249"/>
                    </a:lnTo>
                    <a:lnTo>
                      <a:pt x="152" y="274"/>
                    </a:lnTo>
                    <a:lnTo>
                      <a:pt x="157" y="291"/>
                    </a:lnTo>
                    <a:lnTo>
                      <a:pt x="177" y="305"/>
                    </a:lnTo>
                    <a:lnTo>
                      <a:pt x="200" y="322"/>
                    </a:lnTo>
                    <a:lnTo>
                      <a:pt x="208" y="313"/>
                    </a:lnTo>
                    <a:lnTo>
                      <a:pt x="214" y="330"/>
                    </a:lnTo>
                    <a:lnTo>
                      <a:pt x="231" y="336"/>
                    </a:lnTo>
                    <a:lnTo>
                      <a:pt x="236" y="355"/>
                    </a:lnTo>
                    <a:lnTo>
                      <a:pt x="256" y="355"/>
                    </a:lnTo>
                    <a:lnTo>
                      <a:pt x="273" y="375"/>
                    </a:lnTo>
                    <a:lnTo>
                      <a:pt x="292" y="383"/>
                    </a:lnTo>
                    <a:lnTo>
                      <a:pt x="323" y="406"/>
                    </a:lnTo>
                    <a:lnTo>
                      <a:pt x="335" y="428"/>
                    </a:lnTo>
                    <a:lnTo>
                      <a:pt x="352" y="442"/>
                    </a:lnTo>
                    <a:lnTo>
                      <a:pt x="394" y="442"/>
                    </a:lnTo>
                    <a:lnTo>
                      <a:pt x="433" y="395"/>
                    </a:lnTo>
                    <a:lnTo>
                      <a:pt x="419" y="364"/>
                    </a:lnTo>
                    <a:lnTo>
                      <a:pt x="402" y="344"/>
                    </a:lnTo>
                    <a:lnTo>
                      <a:pt x="382" y="325"/>
                    </a:lnTo>
                    <a:lnTo>
                      <a:pt x="354" y="288"/>
                    </a:lnTo>
                    <a:lnTo>
                      <a:pt x="298" y="227"/>
                    </a:lnTo>
                    <a:lnTo>
                      <a:pt x="264" y="187"/>
                    </a:lnTo>
                    <a:lnTo>
                      <a:pt x="250" y="140"/>
                    </a:lnTo>
                    <a:lnTo>
                      <a:pt x="231" y="120"/>
                    </a:lnTo>
                    <a:lnTo>
                      <a:pt x="191" y="70"/>
                    </a:lnTo>
                    <a:lnTo>
                      <a:pt x="169" y="58"/>
                    </a:lnTo>
                    <a:lnTo>
                      <a:pt x="143" y="33"/>
                    </a:lnTo>
                    <a:lnTo>
                      <a:pt x="155" y="30"/>
                    </a:lnTo>
                    <a:lnTo>
                      <a:pt x="169" y="47"/>
                    </a:lnTo>
                    <a:lnTo>
                      <a:pt x="180" y="30"/>
                    </a:lnTo>
                    <a:lnTo>
                      <a:pt x="174" y="16"/>
                    </a:lnTo>
                    <a:lnTo>
                      <a:pt x="160" y="8"/>
                    </a:lnTo>
                    <a:lnTo>
                      <a:pt x="143" y="0"/>
                    </a:lnTo>
                    <a:lnTo>
                      <a:pt x="126" y="2"/>
                    </a:lnTo>
                    <a:lnTo>
                      <a:pt x="118" y="11"/>
                    </a:lnTo>
                    <a:lnTo>
                      <a:pt x="129" y="19"/>
                    </a:lnTo>
                    <a:lnTo>
                      <a:pt x="129" y="33"/>
                    </a:lnTo>
                    <a:lnTo>
                      <a:pt x="115" y="28"/>
                    </a:lnTo>
                    <a:lnTo>
                      <a:pt x="98" y="16"/>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8" name=""/>
              <p:cNvSpPr/>
              <p:nvPr/>
            </p:nvSpPr>
            <p:spPr>
              <a:xfrm>
                <a:off x="4663080" y="5456160"/>
                <a:ext cx="97200" cy="36360"/>
              </a:xfrm>
              <a:custGeom>
                <a:avLst/>
                <a:gdLst/>
                <a:ahLst/>
                <a:rect l="l" t="t" r="r" b="b"/>
                <a:pathLst>
                  <a:path w="223" h="84">
                    <a:moveTo>
                      <a:pt x="172" y="0"/>
                    </a:moveTo>
                    <a:lnTo>
                      <a:pt x="152" y="11"/>
                    </a:lnTo>
                    <a:lnTo>
                      <a:pt x="133" y="11"/>
                    </a:lnTo>
                    <a:lnTo>
                      <a:pt x="110" y="25"/>
                    </a:lnTo>
                    <a:lnTo>
                      <a:pt x="82" y="22"/>
                    </a:lnTo>
                    <a:lnTo>
                      <a:pt x="48" y="33"/>
                    </a:lnTo>
                    <a:lnTo>
                      <a:pt x="20" y="39"/>
                    </a:lnTo>
                    <a:lnTo>
                      <a:pt x="0" y="53"/>
                    </a:lnTo>
                    <a:lnTo>
                      <a:pt x="34" y="53"/>
                    </a:lnTo>
                    <a:lnTo>
                      <a:pt x="57" y="58"/>
                    </a:lnTo>
                    <a:lnTo>
                      <a:pt x="68" y="58"/>
                    </a:lnTo>
                    <a:lnTo>
                      <a:pt x="82" y="70"/>
                    </a:lnTo>
                    <a:lnTo>
                      <a:pt x="88" y="84"/>
                    </a:lnTo>
                    <a:lnTo>
                      <a:pt x="130" y="78"/>
                    </a:lnTo>
                    <a:lnTo>
                      <a:pt x="105" y="64"/>
                    </a:lnTo>
                    <a:lnTo>
                      <a:pt x="96" y="58"/>
                    </a:lnTo>
                    <a:lnTo>
                      <a:pt x="96" y="36"/>
                    </a:lnTo>
                    <a:lnTo>
                      <a:pt x="121" y="36"/>
                    </a:lnTo>
                    <a:lnTo>
                      <a:pt x="223" y="19"/>
                    </a:lnTo>
                    <a:lnTo>
                      <a:pt x="172"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10440" bIns="-10440" anchor="t">
                <a:noAutofit/>
              </a:bodyPr>
              <a:p>
                <a:endParaRPr b="0" lang="en-US" sz="2400" spc="-1" strike="noStrike">
                  <a:solidFill>
                    <a:srgbClr val="ffff00"/>
                  </a:solidFill>
                  <a:latin typeface="Times New Roman"/>
                </a:endParaRPr>
              </a:p>
            </p:txBody>
          </p:sp>
          <p:sp>
            <p:nvSpPr>
              <p:cNvPr id="89" name=""/>
              <p:cNvSpPr/>
              <p:nvPr/>
            </p:nvSpPr>
            <p:spPr>
              <a:xfrm>
                <a:off x="4848120" y="5704920"/>
                <a:ext cx="26640" cy="41040"/>
              </a:xfrm>
              <a:custGeom>
                <a:avLst/>
                <a:gdLst/>
                <a:ahLst/>
                <a:rect l="l" t="t" r="r" b="b"/>
                <a:pathLst>
                  <a:path w="61" h="95">
                    <a:moveTo>
                      <a:pt x="59" y="3"/>
                    </a:moveTo>
                    <a:lnTo>
                      <a:pt x="39" y="0"/>
                    </a:lnTo>
                    <a:lnTo>
                      <a:pt x="39" y="8"/>
                    </a:lnTo>
                    <a:lnTo>
                      <a:pt x="25" y="14"/>
                    </a:lnTo>
                    <a:lnTo>
                      <a:pt x="39" y="25"/>
                    </a:lnTo>
                    <a:lnTo>
                      <a:pt x="16" y="39"/>
                    </a:lnTo>
                    <a:lnTo>
                      <a:pt x="30" y="53"/>
                    </a:lnTo>
                    <a:lnTo>
                      <a:pt x="16" y="64"/>
                    </a:lnTo>
                    <a:lnTo>
                      <a:pt x="5" y="70"/>
                    </a:lnTo>
                    <a:lnTo>
                      <a:pt x="0" y="95"/>
                    </a:lnTo>
                    <a:lnTo>
                      <a:pt x="22" y="87"/>
                    </a:lnTo>
                    <a:lnTo>
                      <a:pt x="33" y="92"/>
                    </a:lnTo>
                    <a:lnTo>
                      <a:pt x="42" y="70"/>
                    </a:lnTo>
                    <a:lnTo>
                      <a:pt x="42" y="56"/>
                    </a:lnTo>
                    <a:lnTo>
                      <a:pt x="47" y="48"/>
                    </a:lnTo>
                    <a:lnTo>
                      <a:pt x="61" y="36"/>
                    </a:lnTo>
                    <a:lnTo>
                      <a:pt x="59" y="22"/>
                    </a:lnTo>
                    <a:lnTo>
                      <a:pt x="59" y="3"/>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5760" bIns="-5760" anchor="t">
                <a:noAutofit/>
              </a:bodyPr>
              <a:p>
                <a:endParaRPr b="0" lang="en-US" sz="2400" spc="-1" strike="noStrike">
                  <a:solidFill>
                    <a:srgbClr val="ffff00"/>
                  </a:solidFill>
                  <a:latin typeface="Times New Roman"/>
                </a:endParaRPr>
              </a:p>
            </p:txBody>
          </p:sp>
          <p:sp>
            <p:nvSpPr>
              <p:cNvPr id="90" name=""/>
              <p:cNvSpPr/>
              <p:nvPr/>
            </p:nvSpPr>
            <p:spPr>
              <a:xfrm>
                <a:off x="4893840" y="6042960"/>
                <a:ext cx="27720" cy="47160"/>
              </a:xfrm>
              <a:custGeom>
                <a:avLst/>
                <a:gdLst/>
                <a:ahLst/>
                <a:rect l="l" t="t" r="r" b="b"/>
                <a:pathLst>
                  <a:path w="64" h="109">
                    <a:moveTo>
                      <a:pt x="33" y="0"/>
                    </a:moveTo>
                    <a:lnTo>
                      <a:pt x="17" y="0"/>
                    </a:lnTo>
                    <a:lnTo>
                      <a:pt x="11" y="22"/>
                    </a:lnTo>
                    <a:lnTo>
                      <a:pt x="11" y="47"/>
                    </a:lnTo>
                    <a:lnTo>
                      <a:pt x="0" y="64"/>
                    </a:lnTo>
                    <a:lnTo>
                      <a:pt x="2" y="95"/>
                    </a:lnTo>
                    <a:lnTo>
                      <a:pt x="17" y="109"/>
                    </a:lnTo>
                    <a:lnTo>
                      <a:pt x="42" y="106"/>
                    </a:lnTo>
                    <a:lnTo>
                      <a:pt x="64" y="95"/>
                    </a:lnTo>
                    <a:lnTo>
                      <a:pt x="62" y="73"/>
                    </a:lnTo>
                    <a:lnTo>
                      <a:pt x="56" y="31"/>
                    </a:lnTo>
                    <a:lnTo>
                      <a:pt x="42" y="19"/>
                    </a:lnTo>
                    <a:lnTo>
                      <a:pt x="33"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360" bIns="360" anchor="t">
                <a:noAutofit/>
              </a:bodyPr>
              <a:p>
                <a:endParaRPr b="0" lang="en-US" sz="2400" spc="-1" strike="noStrike">
                  <a:solidFill>
                    <a:srgbClr val="ffff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Background</a:t>
            </a:r>
            <a:endParaRPr b="0" lang="en-US" sz="4400" spc="-1" strike="noStrike">
              <a:solidFill>
                <a:srgbClr val="ccffcc"/>
              </a:solidFill>
              <a:latin typeface="Times New Roman"/>
            </a:endParaRPr>
          </a:p>
        </p:txBody>
      </p:sp>
      <p:sp>
        <p:nvSpPr>
          <p:cNvPr id="92"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Major developments:</a:t>
            </a:r>
            <a:endParaRPr b="0" lang="en-US" sz="3200" spc="-1" strike="noStrike">
              <a:solidFill>
                <a:srgbClr val="ffff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Eurostat pilot projects on exhaustiveness (in 1998-2000 and 2002-2003)</a:t>
            </a:r>
            <a:endParaRPr b="0" lang="en-US" sz="2800" spc="-1" strike="noStrike">
              <a:solidFill>
                <a:srgbClr val="ffff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OECD Handbook for measurement of the non-observed economy (2002)</a:t>
            </a:r>
            <a:endParaRPr b="0" lang="en-US" sz="2800" spc="-1" strike="noStrike">
              <a:solidFill>
                <a:srgbClr val="ffff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UNECE surveys</a:t>
            </a:r>
            <a:endParaRPr b="0" lang="en-US" sz="32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1991: 9 countries</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2001/02: 29 countries</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2005/06: 43 countries</a:t>
            </a:r>
            <a:endParaRPr b="0" lang="en-US" sz="2400" spc="-1" strike="noStrike">
              <a:solidFill>
                <a:srgbClr val="ffff00"/>
              </a:solidFill>
              <a:latin typeface="Times New Roman"/>
            </a:endParaRPr>
          </a:p>
        </p:txBody>
      </p:sp>
      <p:sp>
        <p:nvSpPr>
          <p:cNvPr id="93" name=""/>
          <p:cNvSpPr/>
          <p:nvPr/>
        </p:nvSpPr>
        <p:spPr>
          <a:xfrm>
            <a:off x="685800" y="1600200"/>
            <a:ext cx="7620120" cy="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NOE Survey 2005-Objectives</a:t>
            </a:r>
            <a:endParaRPr b="0" lang="en-US" sz="4400" spc="-1" strike="noStrike">
              <a:solidFill>
                <a:srgbClr val="ccffcc"/>
              </a:solidFill>
              <a:latin typeface="Times New Roman"/>
            </a:endParaRPr>
          </a:p>
        </p:txBody>
      </p:sp>
      <p:sp>
        <p:nvSpPr>
          <p:cNvPr id="95" name="PlaceHolder 2"/>
          <p:cNvSpPr>
            <a:spLocks noGrp="1"/>
          </p:cNvSpPr>
          <p:nvPr>
            <p:ph/>
          </p:nvPr>
        </p:nvSpPr>
        <p:spPr>
          <a:xfrm>
            <a:off x="685800" y="1676520"/>
            <a:ext cx="77724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ventory of current methods and practices in estimating NOE</a:t>
            </a:r>
            <a:endParaRPr b="0" lang="en-US" sz="3200" spc="-1" strike="noStrike">
              <a:solidFill>
                <a:srgbClr val="ffff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efinitions and concepts</a:t>
            </a:r>
            <a:endParaRPr b="0" lang="en-US" sz="2800" spc="-1" strike="noStrike">
              <a:solidFill>
                <a:srgbClr val="ffff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ata sources</a:t>
            </a:r>
            <a:endParaRPr b="0" lang="en-US" sz="2800" spc="-1" strike="noStrike">
              <a:solidFill>
                <a:srgbClr val="ffff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stimation methods: </a:t>
            </a:r>
            <a:endParaRPr b="0" lang="en-US" sz="2800" spc="-1" strike="noStrike">
              <a:solidFill>
                <a:srgbClr val="ffff00"/>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duction approach</a:t>
            </a:r>
            <a:endParaRPr b="0" lang="en-US" sz="2400" spc="-1" strike="noStrike">
              <a:solidFill>
                <a:srgbClr val="ffff00"/>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xpenditure approach</a:t>
            </a:r>
            <a:endParaRPr b="0" lang="en-US" sz="2400" spc="-1" strike="noStrike">
              <a:solidFill>
                <a:srgbClr val="ffff00"/>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come approach</a:t>
            </a:r>
            <a:endParaRPr b="0" lang="en-US" sz="2400" spc="-1" strike="noStrike">
              <a:solidFill>
                <a:srgbClr val="ffff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mplications and effects on National Accounts </a:t>
            </a:r>
            <a:endParaRPr b="0" lang="en-US" sz="3200" spc="-1" strike="noStrike">
              <a:solidFill>
                <a:srgbClr val="ffff00"/>
              </a:solidFill>
              <a:latin typeface="Times New Roman"/>
            </a:endParaRPr>
          </a:p>
        </p:txBody>
      </p:sp>
      <p:sp>
        <p:nvSpPr>
          <p:cNvPr id="96" name=""/>
          <p:cNvSpPr/>
          <p:nvPr/>
        </p:nvSpPr>
        <p:spPr>
          <a:xfrm>
            <a:off x="609480" y="1447920"/>
            <a:ext cx="7848720" cy="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NOE 2005 - </a:t>
            </a:r>
            <a:r>
              <a:rPr b="0" lang="en-US" sz="3600" spc="-1" strike="noStrike">
                <a:solidFill>
                  <a:srgbClr val="ccffcc"/>
                </a:solidFill>
                <a:latin typeface="Times New Roman"/>
              </a:rPr>
              <a:t>44 replies</a:t>
            </a:r>
            <a:endParaRPr b="0" lang="en-US" sz="3600" spc="-1" strike="noStrike">
              <a:solidFill>
                <a:srgbClr val="ccffcc"/>
              </a:solidFill>
              <a:latin typeface="Times New Roman"/>
            </a:endParaRPr>
          </a:p>
        </p:txBody>
      </p:sp>
      <p:sp>
        <p:nvSpPr>
          <p:cNvPr id="98" name="PlaceHolder 2"/>
          <p:cNvSpPr>
            <a:spLocks noGrp="1"/>
          </p:cNvSpPr>
          <p:nvPr>
            <p:ph/>
          </p:nvPr>
        </p:nvSpPr>
        <p:spPr>
          <a:xfrm>
            <a:off x="228240" y="1294920"/>
            <a:ext cx="4267080" cy="5715000"/>
          </a:xfrm>
          <a:prstGeom prst="rect">
            <a:avLst/>
          </a:prstGeom>
          <a:noFill/>
          <a:ln w="0">
            <a:noFill/>
          </a:ln>
        </p:spPr>
        <p:txBody>
          <a:bodyPr lIns="90000" rIns="90000" tIns="46800" bIns="46800" anchor="t">
            <a:normAutofit/>
          </a:bodyPr>
          <a:p>
            <a:pPr marL="343080" indent="-343080">
              <a:spcBef>
                <a:spcPts val="275"/>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ccff"/>
                </a:solidFill>
                <a:latin typeface="Times New Roman"/>
              </a:rPr>
              <a:t>16 EU members</a:t>
            </a:r>
            <a:endParaRPr b="0" lang="en-US" sz="2200" spc="-1" strike="noStrike">
              <a:solidFill>
                <a:srgbClr val="ffff00"/>
              </a:solidFill>
              <a:latin typeface="Times New Roman"/>
            </a:endParaRPr>
          </a:p>
          <a:p>
            <a:pPr lvl="1"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Austria, Belgium, Czech Republic, Estonia, Finland, Germany, Hungary, Ireland, Italy, Latvia, Lithuania, Netherlands, Poland, Spain, Sweden, United Kingdom</a:t>
            </a:r>
            <a:endParaRPr b="0" lang="en-US" sz="2200" spc="-1" strike="noStrike">
              <a:solidFill>
                <a:srgbClr val="ffff00"/>
              </a:solidFill>
              <a:latin typeface="Times New Roman"/>
            </a:endParaRPr>
          </a:p>
          <a:p>
            <a:pPr marL="343080" indent="-343080">
              <a:spcBef>
                <a:spcPts val="275"/>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ccff"/>
                </a:solidFill>
                <a:latin typeface="Times New Roman"/>
              </a:rPr>
              <a:t>5 EU acceding and candidate countries</a:t>
            </a:r>
            <a:endParaRPr b="0" lang="en-US" sz="2200" spc="-1" strike="noStrike">
              <a:solidFill>
                <a:srgbClr val="ffff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0" lang="en-US" sz="2200" spc="-1" strike="noStrike">
                <a:solidFill>
                  <a:srgbClr val="ffff00"/>
                </a:solidFill>
                <a:latin typeface="Times New Roman"/>
              </a:rPr>
              <a:t>  </a:t>
            </a:r>
            <a:r>
              <a:rPr b="0" lang="en-US" sz="2200" spc="-1" strike="noStrike">
                <a:solidFill>
                  <a:srgbClr val="ffff00"/>
                </a:solidFill>
                <a:latin typeface="Times New Roman"/>
              </a:rPr>
              <a:t>Bulgaria, Romania, Croatia,   The former Yugoslav Republic of Macedonia, Turkey</a:t>
            </a:r>
            <a:r>
              <a:rPr b="0" lang="en-US" sz="2000" spc="-1" strike="noStrike">
                <a:solidFill>
                  <a:srgbClr val="ffff00"/>
                </a:solidFill>
                <a:latin typeface="Times New Roman"/>
              </a:rPr>
              <a:t> </a:t>
            </a:r>
            <a:endParaRPr b="0" lang="en-US" sz="2000" spc="-1" strike="noStrike">
              <a:solidFill>
                <a:srgbClr val="ffff00"/>
              </a:solidFill>
              <a:latin typeface="Times New Roman"/>
            </a:endParaRPr>
          </a:p>
          <a:p>
            <a:pPr marL="343080" indent="-343080">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ccff"/>
                </a:solidFill>
                <a:latin typeface="Times New Roman"/>
              </a:rPr>
              <a:t>5 OECD countries – non-EU members</a:t>
            </a:r>
            <a:endParaRPr b="0" lang="en-US" sz="2200" spc="-1" strike="noStrike">
              <a:solidFill>
                <a:srgbClr val="ffff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0" lang="en-US" sz="2200" spc="-1" strike="noStrike">
                <a:solidFill>
                  <a:srgbClr val="ffff00"/>
                </a:solidFill>
                <a:latin typeface="Times New Roman"/>
              </a:rPr>
              <a:t>  </a:t>
            </a:r>
            <a:r>
              <a:rPr b="0" lang="en-US" sz="2200" spc="-1" strike="noStrike">
                <a:solidFill>
                  <a:srgbClr val="ffff00"/>
                </a:solidFill>
                <a:latin typeface="Times New Roman"/>
              </a:rPr>
              <a:t>Australia, Canada, Mexico,   Norway, United States</a:t>
            </a:r>
            <a:endParaRPr b="0" lang="en-US" sz="2200" spc="-1" strike="noStrike">
              <a:solidFill>
                <a:srgbClr val="ffff00"/>
              </a:solidFill>
              <a:latin typeface="Times New Roman"/>
            </a:endParaRPr>
          </a:p>
        </p:txBody>
      </p:sp>
      <p:sp>
        <p:nvSpPr>
          <p:cNvPr id="99" name="PlaceHolder 3"/>
          <p:cNvSpPr>
            <a:spLocks noGrp="1"/>
          </p:cNvSpPr>
          <p:nvPr>
            <p:ph/>
          </p:nvPr>
        </p:nvSpPr>
        <p:spPr>
          <a:xfrm>
            <a:off x="4495320" y="1371240"/>
            <a:ext cx="4496040" cy="5181480"/>
          </a:xfrm>
          <a:prstGeom prst="rect">
            <a:avLst/>
          </a:prstGeom>
          <a:noFill/>
          <a:ln w="0">
            <a:noFill/>
          </a:ln>
        </p:spPr>
        <p:txBody>
          <a:bodyPr lIns="90000" rIns="90000" tIns="46800" bIns="46800" anchor="t">
            <a:normAutofit/>
          </a:bodyPr>
          <a:p>
            <a:pPr marL="343080" indent="-343080">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Times New Roman"/>
              </a:rPr>
              <a:t> </a:t>
            </a:r>
            <a:r>
              <a:rPr b="1" lang="en-US" sz="2200" spc="-1" strike="noStrike">
                <a:solidFill>
                  <a:srgbClr val="ccccff"/>
                </a:solidFill>
                <a:latin typeface="Times New Roman"/>
              </a:rPr>
              <a:t>11 CIS countries</a:t>
            </a:r>
            <a:endParaRPr b="0" lang="en-US" sz="2200" spc="-1" strike="noStrike">
              <a:solidFill>
                <a:srgbClr val="ffff00"/>
              </a:solidFill>
              <a:latin typeface="Times New Roman"/>
            </a:endParaRPr>
          </a:p>
          <a:p>
            <a:pPr lvl="1"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0" lang="en-US" sz="2200" spc="-1" strike="noStrike">
                <a:solidFill>
                  <a:srgbClr val="ffff00"/>
                </a:solidFill>
                <a:latin typeface="Times New Roman"/>
              </a:rPr>
              <a:t>Armenia, Azerbaijan, Belarus, Georgia, Kazakhstan, Kyrgyzstan, Republic of Moldova, Russian Federation, Tajikistan, Ukraine, Uzbekistan</a:t>
            </a:r>
            <a:endParaRPr b="0" lang="en-US" sz="2200" spc="-1" strike="noStrike">
              <a:solidFill>
                <a:srgbClr val="ffff00"/>
              </a:solidFill>
              <a:latin typeface="Times New Roman"/>
            </a:endParaRPr>
          </a:p>
          <a:p>
            <a:pPr marL="343080" indent="-343080">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ccff"/>
                </a:solidFill>
                <a:latin typeface="Times New Roman"/>
              </a:rPr>
              <a:t>4 other countries</a:t>
            </a:r>
            <a:endParaRPr b="0" lang="en-US" sz="2200" spc="-1" strike="noStrike">
              <a:solidFill>
                <a:srgbClr val="ffff00"/>
              </a:solidFill>
              <a:latin typeface="Times New Roman"/>
            </a:endParaRPr>
          </a:p>
          <a:p>
            <a:pPr lvl="1"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0" lang="en-US" sz="2200" spc="-1" strike="noStrike">
                <a:solidFill>
                  <a:srgbClr val="ffff00"/>
                </a:solidFill>
                <a:latin typeface="Times New Roman"/>
              </a:rPr>
              <a:t>Albania, Brazil, Mongolia,</a:t>
            </a:r>
            <a:endParaRPr b="0" lang="en-US" sz="2200" spc="-1" strike="noStrike">
              <a:solidFill>
                <a:srgbClr val="ffff00"/>
              </a:solidFill>
              <a:latin typeface="Times New Roman"/>
            </a:endParaRPr>
          </a:p>
          <a:p>
            <a:pPr lvl="1"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0" lang="en-US" sz="2200" spc="-1" strike="noStrike">
                <a:solidFill>
                  <a:srgbClr val="ffff00"/>
                </a:solidFill>
                <a:latin typeface="Times New Roman"/>
              </a:rPr>
              <a:t>Serbia and Montenegro</a:t>
            </a:r>
            <a:endParaRPr b="0" lang="en-US" sz="2200" spc="-1" strike="noStrike">
              <a:solidFill>
                <a:srgbClr val="ffff00"/>
              </a:solidFill>
              <a:latin typeface="Times New Roman"/>
            </a:endParaRPr>
          </a:p>
          <a:p>
            <a:pPr marL="343080" indent="-343080">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ccff"/>
                </a:solidFill>
                <a:latin typeface="Times New Roman"/>
              </a:rPr>
              <a:t>2 do not estimate NOE</a:t>
            </a:r>
            <a:endParaRPr b="0" lang="en-US" sz="2200" spc="-1" strike="noStrike">
              <a:solidFill>
                <a:srgbClr val="ffff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0" lang="en-US" sz="2200" spc="-1" strike="noStrike">
                <a:solidFill>
                  <a:srgbClr val="ffff00"/>
                </a:solidFill>
                <a:latin typeface="Times New Roman"/>
              </a:rPr>
              <a:t>Japan, New Zealand</a:t>
            </a:r>
            <a:endParaRPr b="0" lang="en-US" sz="2200" spc="-1" strike="noStrike">
              <a:solidFill>
                <a:srgbClr val="ffff00"/>
              </a:solidFill>
              <a:latin typeface="Times New Roman"/>
            </a:endParaRPr>
          </a:p>
          <a:p>
            <a:pPr marL="343080" indent="-343080">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ccff"/>
                </a:solidFill>
                <a:latin typeface="Times New Roman"/>
              </a:rPr>
              <a:t>could not participate because of lack of resources</a:t>
            </a:r>
            <a:r>
              <a:rPr b="0" lang="en-US" sz="2200" spc="-1" strike="noStrike">
                <a:solidFill>
                  <a:srgbClr val="ffff00"/>
                </a:solidFill>
                <a:latin typeface="Times New Roman"/>
              </a:rPr>
              <a:t> </a:t>
            </a:r>
            <a:endParaRPr b="0" lang="en-US" sz="2200" spc="-1" strike="noStrike">
              <a:solidFill>
                <a:srgbClr val="ffff00"/>
              </a:solidFill>
              <a:latin typeface="Times New Roman"/>
            </a:endParaRPr>
          </a:p>
          <a:p>
            <a:pPr lvl="1"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0" lang="en-US" sz="2200" spc="-1" strike="noStrike">
                <a:solidFill>
                  <a:srgbClr val="ffff00"/>
                </a:solidFill>
                <a:latin typeface="Times New Roman"/>
              </a:rPr>
              <a:t>Portugal </a:t>
            </a:r>
            <a:endParaRPr b="0" lang="en-US" sz="2200" spc="-1" strike="noStrike">
              <a:solidFill>
                <a:srgbClr val="ffff00"/>
              </a:solidFill>
              <a:latin typeface="Times New Roman"/>
            </a:endParaRPr>
          </a:p>
        </p:txBody>
      </p:sp>
      <p:sp>
        <p:nvSpPr>
          <p:cNvPr id="100" name=""/>
          <p:cNvSpPr/>
          <p:nvPr/>
        </p:nvSpPr>
        <p:spPr>
          <a:xfrm>
            <a:off x="838080" y="1295280"/>
            <a:ext cx="7925040" cy="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1" name=""/>
          <p:cNvSpPr/>
          <p:nvPr/>
        </p:nvSpPr>
        <p:spPr>
          <a:xfrm>
            <a:off x="4495680" y="1828800"/>
            <a:ext cx="0" cy="4495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a:off x="4572000" y="6095880"/>
            <a:ext cx="4419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99"/>
                </a:solidFill>
                <a:latin typeface="Times New Roman"/>
              </a:rPr>
              <a:t>Thank you!</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Analysis of the results</a:t>
            </a:r>
            <a:endParaRPr b="0" lang="en-US" sz="4400" spc="-1" strike="noStrike">
              <a:solidFill>
                <a:srgbClr val="ccffcc"/>
              </a:solidFill>
              <a:latin typeface="Times New Roman"/>
            </a:endParaRPr>
          </a:p>
        </p:txBody>
      </p:sp>
      <p:sp>
        <p:nvSpPr>
          <p:cNvPr id="104" name="PlaceHolder 2"/>
          <p:cNvSpPr>
            <a:spLocks noGrp="1"/>
          </p:cNvSpPr>
          <p:nvPr>
            <p:ph/>
          </p:nvPr>
        </p:nvSpPr>
        <p:spPr>
          <a:xfrm>
            <a:off x="380880" y="1600200"/>
            <a:ext cx="8382240" cy="495288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CE now analysing the results, will contact authors with questions</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E tabular frameworks:</a:t>
            </a:r>
            <a:endParaRPr b="0" lang="en-US" sz="28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1 – T8: 1998-2000 EU Pilot Project on Exhaustiveness </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1 – N7: 2002-2003 EU Pilot Project on Exhaustiveness </a:t>
            </a:r>
            <a:endParaRPr b="0" lang="en-US" sz="24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CE tried to allocate the activities to the N1-N7 framework to allow comparison across countries</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common framework of NOE (similar to T1-T8 or N1-N7) would be useful</a:t>
            </a:r>
            <a:endParaRPr b="0" lang="en-US" sz="2800" spc="-1" strike="noStrike">
              <a:solidFill>
                <a:srgbClr val="ffff00"/>
              </a:solidFill>
              <a:latin typeface="Times New Roman"/>
            </a:endParaRPr>
          </a:p>
        </p:txBody>
      </p:sp>
      <p:sp>
        <p:nvSpPr>
          <p:cNvPr id="105" name=""/>
          <p:cNvSpPr/>
          <p:nvPr/>
        </p:nvSpPr>
        <p:spPr>
          <a:xfrm>
            <a:off x="685800" y="1447920"/>
            <a:ext cx="7924680" cy="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Preliminary results – </a:t>
            </a:r>
            <a:br>
              <a:rPr sz="4400"/>
            </a:br>
            <a:r>
              <a:rPr b="0" lang="en-US" sz="3600" spc="-1" strike="noStrike">
                <a:solidFill>
                  <a:srgbClr val="ccffcc"/>
                </a:solidFill>
                <a:latin typeface="Times New Roman"/>
              </a:rPr>
              <a:t>Share of NOE in GDP</a:t>
            </a:r>
            <a:endParaRPr b="0" lang="en-US" sz="3600" spc="-1" strike="noStrike">
              <a:solidFill>
                <a:srgbClr val="ccffcc"/>
              </a:solidFill>
              <a:latin typeface="Times New Roman"/>
            </a:endParaRPr>
          </a:p>
        </p:txBody>
      </p:sp>
      <p:sp>
        <p:nvSpPr>
          <p:cNvPr id="107" name="PlaceHolder 2"/>
          <p:cNvSpPr>
            <a:spLocks noGrp="1"/>
          </p:cNvSpPr>
          <p:nvPr>
            <p:ph/>
          </p:nvPr>
        </p:nvSpPr>
        <p:spPr>
          <a:xfrm>
            <a:off x="685800" y="1904760"/>
            <a:ext cx="777240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U member countries</a:t>
            </a:r>
            <a:endParaRPr b="0" lang="en-US" sz="32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rom ~ 1% to ~ 18.9% (from 6.6 to 18.9 among new EU members)</a:t>
            </a:r>
            <a:endParaRPr b="0" lang="en-US" sz="28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U acceding and candidate countries </a:t>
            </a:r>
            <a:endParaRPr b="0" lang="en-US" sz="32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rom 10.2 % to 17.7 %, except Turkey (1.7)</a:t>
            </a:r>
            <a:endParaRPr b="0" lang="en-US" sz="28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IS countries </a:t>
            </a:r>
            <a:endParaRPr b="0" lang="en-US" sz="32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rom 10.7 % to 31.6%</a:t>
            </a:r>
            <a:endParaRPr b="0" lang="en-US" sz="2800" spc="-1" strike="noStrike">
              <a:solidFill>
                <a:srgbClr val="ffff00"/>
              </a:solidFill>
              <a:latin typeface="Times New Roman"/>
            </a:endParaRPr>
          </a:p>
        </p:txBody>
      </p:sp>
      <p:sp>
        <p:nvSpPr>
          <p:cNvPr id="108" name=""/>
          <p:cNvSpPr/>
          <p:nvPr/>
        </p:nvSpPr>
        <p:spPr>
          <a:xfrm>
            <a:off x="685800" y="1600200"/>
            <a:ext cx="7696080" cy="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Preliminary results – </a:t>
            </a:r>
            <a:r>
              <a:rPr b="0" lang="en-US" sz="3600" spc="-1" strike="noStrike">
                <a:solidFill>
                  <a:srgbClr val="ccffff"/>
                </a:solidFill>
                <a:latin typeface="Times New Roman"/>
              </a:rPr>
              <a:t>types of NOE</a:t>
            </a:r>
            <a:endParaRPr b="0" lang="en-US" sz="3600" spc="-1" strike="noStrike">
              <a:solidFill>
                <a:srgbClr val="ccffcc"/>
              </a:solidFill>
              <a:latin typeface="Times New Roman"/>
            </a:endParaRPr>
          </a:p>
        </p:txBody>
      </p:sp>
      <p:sp>
        <p:nvSpPr>
          <p:cNvPr id="110" name="PlaceHolder 2"/>
          <p:cNvSpPr>
            <a:spLocks noGrp="1"/>
          </p:cNvSpPr>
          <p:nvPr>
            <p:ph/>
          </p:nvPr>
        </p:nvSpPr>
        <p:spPr>
          <a:xfrm>
            <a:off x="304920" y="1676160"/>
            <a:ext cx="853416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enerally: the economic underground and informal activities have a bigger share of NOE adjustments</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tors: construction, agriculture, trade, health care, education, transport, housing</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ost of the countries account for misreporting (N6) and other statistical deficiencies (N7) – tips, wages and salaries in kind, secondary activities, etc.</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IS countries - NOE estimated in most of the categories, except illegal activities (N2) </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llegal activities – 13 countries estimate, most of them do not include in GDP (4 +2? include)</a:t>
            </a:r>
            <a:endParaRPr b="0" lang="en-US" sz="2800" spc="-1" strike="noStrike">
              <a:solidFill>
                <a:srgbClr val="ffff00"/>
              </a:solidFill>
              <a:latin typeface="Times New Roman"/>
            </a:endParaRPr>
          </a:p>
        </p:txBody>
      </p:sp>
      <p:sp>
        <p:nvSpPr>
          <p:cNvPr id="111" name=""/>
          <p:cNvSpPr/>
          <p:nvPr/>
        </p:nvSpPr>
        <p:spPr>
          <a:xfrm>
            <a:off x="685800" y="1447920"/>
            <a:ext cx="7696080" cy="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onclusions from the survey</a:t>
            </a:r>
            <a:endParaRPr b="0" lang="en-US" sz="4400" spc="-1" strike="noStrike">
              <a:solidFill>
                <a:srgbClr val="ccffcc"/>
              </a:solidFill>
              <a:latin typeface="Times New Roman"/>
            </a:endParaRPr>
          </a:p>
        </p:txBody>
      </p:sp>
      <p:sp>
        <p:nvSpPr>
          <p:cNvPr id="113" name="PlaceHolder 2"/>
          <p:cNvSpPr>
            <a:spLocks noGrp="1"/>
          </p:cNvSpPr>
          <p:nvPr>
            <p:ph/>
          </p:nvPr>
        </p:nvSpPr>
        <p:spPr>
          <a:xfrm>
            <a:off x="609480" y="152388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ifficult to compare estimates across time and across countries</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several countries a declining trend in size of NOE, in several countries fluctuating around the same level, in some countries increasing</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untries are trying to be as exhaustive as possible in their GDP estimates</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E concentrated in economic underground and informal sector</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mmon NOE framework would be useful</a:t>
            </a:r>
            <a:endParaRPr b="0" lang="en-US" sz="2800" spc="-1" strike="noStrike">
              <a:solidFill>
                <a:srgbClr val="ffff00"/>
              </a:solidFill>
              <a:latin typeface="Times New Roman"/>
            </a:endParaRPr>
          </a:p>
        </p:txBody>
      </p:sp>
      <p:sp>
        <p:nvSpPr>
          <p:cNvPr id="114" name=""/>
          <p:cNvSpPr/>
          <p:nvPr/>
        </p:nvSpPr>
        <p:spPr>
          <a:xfrm>
            <a:off x="685800" y="1295280"/>
            <a:ext cx="792468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5" name=""/>
          <p:cNvSpPr/>
          <p:nvPr/>
        </p:nvSpPr>
        <p:spPr>
          <a:xfrm>
            <a:off x="838080" y="6019920"/>
            <a:ext cx="7696440" cy="0"/>
          </a:xfrm>
          <a:prstGeom prst="line">
            <a:avLst/>
          </a:prstGeom>
          <a:ln w="57240">
            <a:solidFill>
              <a:srgbClr val="ff0000"/>
            </a:solidFill>
            <a:prstDash val="lgDashDot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Further work</a:t>
            </a:r>
            <a:endParaRPr b="0" lang="en-US" sz="4400" spc="-1" strike="noStrike">
              <a:solidFill>
                <a:srgbClr val="ccffcc"/>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ECE continuing to analyse and summarise the result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If updated data available – can be included</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Preparation of the new publication “Non-observed economy in National Account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For any updates/corrections, please contact tiina.luige@unece.org</a:t>
            </a:r>
            <a:endParaRPr b="0" lang="en-US" sz="3200" spc="-1" strike="noStrike">
              <a:solidFill>
                <a:srgbClr val="ffff00"/>
              </a:solidFill>
              <a:latin typeface="Times New Roman"/>
            </a:endParaRPr>
          </a:p>
        </p:txBody>
      </p:sp>
      <p:sp>
        <p:nvSpPr>
          <p:cNvPr id="118" name=""/>
          <p:cNvSpPr/>
          <p:nvPr/>
        </p:nvSpPr>
        <p:spPr>
          <a:xfrm>
            <a:off x="685800" y="1523880"/>
            <a:ext cx="792468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19" name=""/>
          <p:cNvGrpSpPr/>
          <p:nvPr/>
        </p:nvGrpSpPr>
        <p:grpSpPr>
          <a:xfrm>
            <a:off x="6705720" y="5486400"/>
            <a:ext cx="1252080" cy="1066680"/>
            <a:chOff x="6705720" y="5486400"/>
            <a:chExt cx="1252080" cy="1066680"/>
          </a:xfrm>
        </p:grpSpPr>
        <p:sp>
          <p:nvSpPr>
            <p:cNvPr id="120" name=""/>
            <p:cNvSpPr/>
            <p:nvPr/>
          </p:nvSpPr>
          <p:spPr>
            <a:xfrm>
              <a:off x="6881400" y="5488560"/>
              <a:ext cx="891000" cy="87768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1" name=""/>
            <p:cNvSpPr/>
            <p:nvPr/>
          </p:nvSpPr>
          <p:spPr>
            <a:xfrm>
              <a:off x="6979680" y="5579280"/>
              <a:ext cx="703080" cy="69300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2" name=""/>
            <p:cNvSpPr/>
            <p:nvPr/>
          </p:nvSpPr>
          <p:spPr>
            <a:xfrm>
              <a:off x="7069320" y="5657400"/>
              <a:ext cx="519840" cy="52632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3" name=""/>
            <p:cNvGrpSpPr/>
            <p:nvPr/>
          </p:nvGrpSpPr>
          <p:grpSpPr>
            <a:xfrm>
              <a:off x="7152120" y="5750640"/>
              <a:ext cx="353520" cy="346680"/>
              <a:chOff x="7152120" y="5750640"/>
              <a:chExt cx="353520" cy="346680"/>
            </a:xfrm>
          </p:grpSpPr>
          <p:sp>
            <p:nvSpPr>
              <p:cNvPr id="124" name=""/>
              <p:cNvSpPr/>
              <p:nvPr/>
            </p:nvSpPr>
            <p:spPr>
              <a:xfrm>
                <a:off x="7152120" y="5750640"/>
                <a:ext cx="353520" cy="34668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5" name=""/>
              <p:cNvSpPr/>
              <p:nvPr/>
            </p:nvSpPr>
            <p:spPr>
              <a:xfrm>
                <a:off x="7240320" y="5838120"/>
                <a:ext cx="176400" cy="17532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6" name=""/>
            <p:cNvSpPr/>
            <p:nvPr/>
          </p:nvSpPr>
          <p:spPr>
            <a:xfrm>
              <a:off x="7331760" y="5486400"/>
              <a:ext cx="360" cy="88056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7014240" y="5616360"/>
              <a:ext cx="626400" cy="61560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a:off x="6883920" y="5922720"/>
              <a:ext cx="895680" cy="360"/>
            </a:xfrm>
            <a:prstGeom prst="line">
              <a:avLst/>
            </a:prstGeom>
            <a:ln w="6480">
              <a:solidFill>
                <a:srgbClr val="00ccff"/>
              </a:solidFill>
              <a:miter/>
            </a:ln>
          </p:spPr>
          <p:style>
            <a:lnRef idx="0"/>
            <a:fillRef idx="0"/>
            <a:effectRef idx="0"/>
            <a:fontRef idx="minor"/>
          </p:style>
          <p:txBody>
            <a:bodyPr lIns="90000" rIns="90000" tIns="-46440" bIns="-46440" anchor="t">
              <a:noAutofit/>
            </a:bodyPr>
            <a:p>
              <a:endParaRPr b="0" lang="en-US" sz="2400" spc="-1" strike="noStrike">
                <a:solidFill>
                  <a:srgbClr val="ffff00"/>
                </a:solidFill>
                <a:latin typeface="Times New Roman"/>
              </a:endParaRPr>
            </a:p>
          </p:txBody>
        </p:sp>
        <p:sp>
          <p:nvSpPr>
            <p:cNvPr id="129" name=""/>
            <p:cNvSpPr/>
            <p:nvPr/>
          </p:nvSpPr>
          <p:spPr>
            <a:xfrm flipH="1">
              <a:off x="7012800" y="5617800"/>
              <a:ext cx="624960" cy="61704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7302240" y="5990760"/>
              <a:ext cx="18360" cy="9360"/>
            </a:xfrm>
            <a:custGeom>
              <a:avLst/>
              <a:gdLst/>
              <a:ahLst/>
              <a:rect l="l" t="t" r="r" b="b"/>
              <a:pathLst>
                <a:path w="42" h="22">
                  <a:moveTo>
                    <a:pt x="11" y="22"/>
                  </a:moveTo>
                  <a:lnTo>
                    <a:pt x="39" y="22"/>
                  </a:lnTo>
                  <a:lnTo>
                    <a:pt x="42" y="5"/>
                  </a:lnTo>
                  <a:lnTo>
                    <a:pt x="25" y="0"/>
                  </a:lnTo>
                  <a:lnTo>
                    <a:pt x="0" y="0"/>
                  </a:lnTo>
                  <a:lnTo>
                    <a:pt x="11" y="14"/>
                  </a:lnTo>
                  <a:lnTo>
                    <a:pt x="11" y="22"/>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grpSp>
          <p:nvGrpSpPr>
            <p:cNvPr id="131" name=""/>
            <p:cNvGrpSpPr/>
            <p:nvPr/>
          </p:nvGrpSpPr>
          <p:grpSpPr>
            <a:xfrm>
              <a:off x="6705720" y="5528880"/>
              <a:ext cx="1252080" cy="1024200"/>
              <a:chOff x="6705720" y="5528880"/>
              <a:chExt cx="1252080" cy="1024200"/>
            </a:xfrm>
          </p:grpSpPr>
          <p:grpSp>
            <p:nvGrpSpPr>
              <p:cNvPr id="132" name=""/>
              <p:cNvGrpSpPr/>
              <p:nvPr/>
            </p:nvGrpSpPr>
            <p:grpSpPr>
              <a:xfrm>
                <a:off x="6705720" y="5528880"/>
                <a:ext cx="805680" cy="1024200"/>
                <a:chOff x="6705720" y="5528880"/>
                <a:chExt cx="805680" cy="1024200"/>
              </a:xfrm>
            </p:grpSpPr>
            <p:sp>
              <p:nvSpPr>
                <p:cNvPr id="133" name=""/>
                <p:cNvSpPr/>
                <p:nvPr/>
              </p:nvSpPr>
              <p:spPr>
                <a:xfrm>
                  <a:off x="6865560" y="5528880"/>
                  <a:ext cx="131400" cy="142200"/>
                </a:xfrm>
                <a:custGeom>
                  <a:avLst/>
                  <a:gdLst/>
                  <a:ahLst/>
                  <a:rect l="l" t="t" r="r" b="b"/>
                  <a:pathLst>
                    <a:path w="301" h="328">
                      <a:moveTo>
                        <a:pt x="301" y="3"/>
                      </a:moveTo>
                      <a:lnTo>
                        <a:pt x="287" y="0"/>
                      </a:lnTo>
                      <a:lnTo>
                        <a:pt x="233" y="20"/>
                      </a:lnTo>
                      <a:lnTo>
                        <a:pt x="177" y="56"/>
                      </a:lnTo>
                      <a:lnTo>
                        <a:pt x="118" y="101"/>
                      </a:lnTo>
                      <a:lnTo>
                        <a:pt x="92" y="123"/>
                      </a:lnTo>
                      <a:lnTo>
                        <a:pt x="67" y="157"/>
                      </a:lnTo>
                      <a:lnTo>
                        <a:pt x="47" y="205"/>
                      </a:lnTo>
                      <a:lnTo>
                        <a:pt x="22" y="255"/>
                      </a:lnTo>
                      <a:lnTo>
                        <a:pt x="0" y="320"/>
                      </a:lnTo>
                      <a:lnTo>
                        <a:pt x="5" y="328"/>
                      </a:lnTo>
                      <a:lnTo>
                        <a:pt x="45" y="308"/>
                      </a:lnTo>
                      <a:lnTo>
                        <a:pt x="92" y="269"/>
                      </a:lnTo>
                      <a:lnTo>
                        <a:pt x="143" y="224"/>
                      </a:lnTo>
                      <a:lnTo>
                        <a:pt x="174" y="185"/>
                      </a:lnTo>
                      <a:lnTo>
                        <a:pt x="213" y="135"/>
                      </a:lnTo>
                      <a:lnTo>
                        <a:pt x="256" y="62"/>
                      </a:lnTo>
                      <a:lnTo>
                        <a:pt x="301" y="3"/>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4" name=""/>
                <p:cNvSpPr/>
                <p:nvPr/>
              </p:nvSpPr>
              <p:spPr>
                <a:xfrm>
                  <a:off x="6808680" y="5560200"/>
                  <a:ext cx="155880" cy="227160"/>
                </a:xfrm>
                <a:custGeom>
                  <a:avLst/>
                  <a:gdLst/>
                  <a:ahLst/>
                  <a:rect l="l" t="t" r="r" b="b"/>
                  <a:pathLst>
                    <a:path w="357" h="524">
                      <a:moveTo>
                        <a:pt x="166" y="0"/>
                      </a:moveTo>
                      <a:lnTo>
                        <a:pt x="96" y="70"/>
                      </a:lnTo>
                      <a:lnTo>
                        <a:pt x="68" y="112"/>
                      </a:lnTo>
                      <a:lnTo>
                        <a:pt x="45" y="154"/>
                      </a:lnTo>
                      <a:lnTo>
                        <a:pt x="14" y="213"/>
                      </a:lnTo>
                      <a:lnTo>
                        <a:pt x="3" y="277"/>
                      </a:lnTo>
                      <a:lnTo>
                        <a:pt x="0" y="331"/>
                      </a:lnTo>
                      <a:lnTo>
                        <a:pt x="3" y="389"/>
                      </a:lnTo>
                      <a:lnTo>
                        <a:pt x="6" y="445"/>
                      </a:lnTo>
                      <a:lnTo>
                        <a:pt x="8" y="499"/>
                      </a:lnTo>
                      <a:lnTo>
                        <a:pt x="0" y="524"/>
                      </a:lnTo>
                      <a:lnTo>
                        <a:pt x="14" y="524"/>
                      </a:lnTo>
                      <a:lnTo>
                        <a:pt x="14" y="510"/>
                      </a:lnTo>
                      <a:lnTo>
                        <a:pt x="31" y="485"/>
                      </a:lnTo>
                      <a:lnTo>
                        <a:pt x="51" y="471"/>
                      </a:lnTo>
                      <a:lnTo>
                        <a:pt x="87" y="440"/>
                      </a:lnTo>
                      <a:lnTo>
                        <a:pt x="124" y="420"/>
                      </a:lnTo>
                      <a:lnTo>
                        <a:pt x="146" y="403"/>
                      </a:lnTo>
                      <a:lnTo>
                        <a:pt x="177" y="378"/>
                      </a:lnTo>
                      <a:lnTo>
                        <a:pt x="211" y="347"/>
                      </a:lnTo>
                      <a:lnTo>
                        <a:pt x="270" y="277"/>
                      </a:lnTo>
                      <a:lnTo>
                        <a:pt x="318" y="210"/>
                      </a:lnTo>
                      <a:lnTo>
                        <a:pt x="343" y="160"/>
                      </a:lnTo>
                      <a:lnTo>
                        <a:pt x="357" y="129"/>
                      </a:lnTo>
                      <a:lnTo>
                        <a:pt x="352" y="115"/>
                      </a:lnTo>
                      <a:lnTo>
                        <a:pt x="352" y="106"/>
                      </a:lnTo>
                      <a:lnTo>
                        <a:pt x="346" y="123"/>
                      </a:lnTo>
                      <a:lnTo>
                        <a:pt x="324" y="154"/>
                      </a:lnTo>
                      <a:lnTo>
                        <a:pt x="287" y="176"/>
                      </a:lnTo>
                      <a:lnTo>
                        <a:pt x="256" y="202"/>
                      </a:lnTo>
                      <a:lnTo>
                        <a:pt x="197" y="235"/>
                      </a:lnTo>
                      <a:lnTo>
                        <a:pt x="155" y="266"/>
                      </a:lnTo>
                      <a:lnTo>
                        <a:pt x="113" y="305"/>
                      </a:lnTo>
                      <a:lnTo>
                        <a:pt x="101" y="331"/>
                      </a:lnTo>
                      <a:lnTo>
                        <a:pt x="76" y="370"/>
                      </a:lnTo>
                      <a:lnTo>
                        <a:pt x="68" y="367"/>
                      </a:lnTo>
                      <a:lnTo>
                        <a:pt x="76" y="331"/>
                      </a:lnTo>
                      <a:lnTo>
                        <a:pt x="96" y="283"/>
                      </a:lnTo>
                      <a:lnTo>
                        <a:pt x="99" y="258"/>
                      </a:lnTo>
                      <a:lnTo>
                        <a:pt x="115" y="202"/>
                      </a:lnTo>
                      <a:lnTo>
                        <a:pt x="127" y="140"/>
                      </a:lnTo>
                      <a:lnTo>
                        <a:pt x="132" y="95"/>
                      </a:lnTo>
                      <a:lnTo>
                        <a:pt x="141" y="56"/>
                      </a:lnTo>
                      <a:lnTo>
                        <a:pt x="158" y="25"/>
                      </a:lnTo>
                      <a:lnTo>
                        <a:pt x="175" y="3"/>
                      </a:lnTo>
                      <a:lnTo>
                        <a:pt x="166"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5" name=""/>
                <p:cNvSpPr/>
                <p:nvPr/>
              </p:nvSpPr>
              <p:spPr>
                <a:xfrm>
                  <a:off x="6747120" y="5645520"/>
                  <a:ext cx="153720" cy="304920"/>
                </a:xfrm>
                <a:custGeom>
                  <a:avLst/>
                  <a:gdLst/>
                  <a:ahLst/>
                  <a:rect l="l" t="t" r="r" b="b"/>
                  <a:pathLst>
                    <a:path w="352" h="703">
                      <a:moveTo>
                        <a:pt x="119" y="0"/>
                      </a:moveTo>
                      <a:lnTo>
                        <a:pt x="102" y="11"/>
                      </a:lnTo>
                      <a:lnTo>
                        <a:pt x="79" y="51"/>
                      </a:lnTo>
                      <a:lnTo>
                        <a:pt x="57" y="90"/>
                      </a:lnTo>
                      <a:lnTo>
                        <a:pt x="28" y="171"/>
                      </a:lnTo>
                      <a:lnTo>
                        <a:pt x="17" y="213"/>
                      </a:lnTo>
                      <a:lnTo>
                        <a:pt x="6" y="297"/>
                      </a:lnTo>
                      <a:lnTo>
                        <a:pt x="3" y="345"/>
                      </a:lnTo>
                      <a:lnTo>
                        <a:pt x="0" y="384"/>
                      </a:lnTo>
                      <a:lnTo>
                        <a:pt x="6" y="426"/>
                      </a:lnTo>
                      <a:lnTo>
                        <a:pt x="17" y="468"/>
                      </a:lnTo>
                      <a:lnTo>
                        <a:pt x="37" y="560"/>
                      </a:lnTo>
                      <a:lnTo>
                        <a:pt x="51" y="617"/>
                      </a:lnTo>
                      <a:lnTo>
                        <a:pt x="71" y="692"/>
                      </a:lnTo>
                      <a:lnTo>
                        <a:pt x="76" y="703"/>
                      </a:lnTo>
                      <a:lnTo>
                        <a:pt x="79" y="689"/>
                      </a:lnTo>
                      <a:lnTo>
                        <a:pt x="90" y="650"/>
                      </a:lnTo>
                      <a:lnTo>
                        <a:pt x="99" y="622"/>
                      </a:lnTo>
                      <a:lnTo>
                        <a:pt x="113" y="600"/>
                      </a:lnTo>
                      <a:lnTo>
                        <a:pt x="135" y="569"/>
                      </a:lnTo>
                      <a:lnTo>
                        <a:pt x="164" y="524"/>
                      </a:lnTo>
                      <a:lnTo>
                        <a:pt x="186" y="504"/>
                      </a:lnTo>
                      <a:lnTo>
                        <a:pt x="214" y="465"/>
                      </a:lnTo>
                      <a:lnTo>
                        <a:pt x="220" y="451"/>
                      </a:lnTo>
                      <a:lnTo>
                        <a:pt x="248" y="404"/>
                      </a:lnTo>
                      <a:lnTo>
                        <a:pt x="296" y="314"/>
                      </a:lnTo>
                      <a:lnTo>
                        <a:pt x="352" y="193"/>
                      </a:lnTo>
                      <a:lnTo>
                        <a:pt x="352" y="182"/>
                      </a:lnTo>
                      <a:lnTo>
                        <a:pt x="290" y="244"/>
                      </a:lnTo>
                      <a:lnTo>
                        <a:pt x="251" y="275"/>
                      </a:lnTo>
                      <a:lnTo>
                        <a:pt x="203" y="311"/>
                      </a:lnTo>
                      <a:lnTo>
                        <a:pt x="164" y="359"/>
                      </a:lnTo>
                      <a:lnTo>
                        <a:pt x="138" y="401"/>
                      </a:lnTo>
                      <a:lnTo>
                        <a:pt x="121" y="432"/>
                      </a:lnTo>
                      <a:lnTo>
                        <a:pt x="110" y="460"/>
                      </a:lnTo>
                      <a:lnTo>
                        <a:pt x="102" y="488"/>
                      </a:lnTo>
                      <a:lnTo>
                        <a:pt x="93" y="530"/>
                      </a:lnTo>
                      <a:lnTo>
                        <a:pt x="90" y="476"/>
                      </a:lnTo>
                      <a:lnTo>
                        <a:pt x="107" y="390"/>
                      </a:lnTo>
                      <a:lnTo>
                        <a:pt x="107" y="328"/>
                      </a:lnTo>
                      <a:lnTo>
                        <a:pt x="104" y="247"/>
                      </a:lnTo>
                      <a:lnTo>
                        <a:pt x="93" y="143"/>
                      </a:lnTo>
                      <a:lnTo>
                        <a:pt x="102" y="73"/>
                      </a:lnTo>
                      <a:lnTo>
                        <a:pt x="116" y="39"/>
                      </a:lnTo>
                      <a:lnTo>
                        <a:pt x="121" y="14"/>
                      </a:lnTo>
                      <a:lnTo>
                        <a:pt x="119"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 name=""/>
                <p:cNvSpPr/>
                <p:nvPr/>
              </p:nvSpPr>
              <p:spPr>
                <a:xfrm>
                  <a:off x="6705720" y="5805720"/>
                  <a:ext cx="149760" cy="273240"/>
                </a:xfrm>
                <a:custGeom>
                  <a:avLst/>
                  <a:gdLst/>
                  <a:ahLst/>
                  <a:rect l="l" t="t" r="r" b="b"/>
                  <a:pathLst>
                    <a:path w="343" h="630">
                      <a:moveTo>
                        <a:pt x="337" y="104"/>
                      </a:moveTo>
                      <a:lnTo>
                        <a:pt x="287" y="176"/>
                      </a:lnTo>
                      <a:lnTo>
                        <a:pt x="250" y="233"/>
                      </a:lnTo>
                      <a:lnTo>
                        <a:pt x="233" y="275"/>
                      </a:lnTo>
                      <a:lnTo>
                        <a:pt x="219" y="339"/>
                      </a:lnTo>
                      <a:lnTo>
                        <a:pt x="199" y="415"/>
                      </a:lnTo>
                      <a:lnTo>
                        <a:pt x="194" y="454"/>
                      </a:lnTo>
                      <a:lnTo>
                        <a:pt x="197" y="507"/>
                      </a:lnTo>
                      <a:lnTo>
                        <a:pt x="183" y="496"/>
                      </a:lnTo>
                      <a:lnTo>
                        <a:pt x="166" y="420"/>
                      </a:lnTo>
                      <a:lnTo>
                        <a:pt x="146" y="347"/>
                      </a:lnTo>
                      <a:lnTo>
                        <a:pt x="135" y="311"/>
                      </a:lnTo>
                      <a:lnTo>
                        <a:pt x="104" y="238"/>
                      </a:lnTo>
                      <a:lnTo>
                        <a:pt x="70" y="162"/>
                      </a:lnTo>
                      <a:lnTo>
                        <a:pt x="42" y="92"/>
                      </a:lnTo>
                      <a:lnTo>
                        <a:pt x="31" y="62"/>
                      </a:lnTo>
                      <a:lnTo>
                        <a:pt x="19" y="0"/>
                      </a:lnTo>
                      <a:lnTo>
                        <a:pt x="14" y="0"/>
                      </a:lnTo>
                      <a:lnTo>
                        <a:pt x="5" y="31"/>
                      </a:lnTo>
                      <a:lnTo>
                        <a:pt x="0" y="78"/>
                      </a:lnTo>
                      <a:lnTo>
                        <a:pt x="0" y="126"/>
                      </a:lnTo>
                      <a:lnTo>
                        <a:pt x="0" y="162"/>
                      </a:lnTo>
                      <a:lnTo>
                        <a:pt x="5" y="193"/>
                      </a:lnTo>
                      <a:lnTo>
                        <a:pt x="11" y="230"/>
                      </a:lnTo>
                      <a:lnTo>
                        <a:pt x="31" y="297"/>
                      </a:lnTo>
                      <a:lnTo>
                        <a:pt x="64" y="392"/>
                      </a:lnTo>
                      <a:lnTo>
                        <a:pt x="95" y="459"/>
                      </a:lnTo>
                      <a:lnTo>
                        <a:pt x="143" y="524"/>
                      </a:lnTo>
                      <a:lnTo>
                        <a:pt x="166" y="560"/>
                      </a:lnTo>
                      <a:lnTo>
                        <a:pt x="177" y="583"/>
                      </a:lnTo>
                      <a:lnTo>
                        <a:pt x="197" y="608"/>
                      </a:lnTo>
                      <a:lnTo>
                        <a:pt x="214" y="630"/>
                      </a:lnTo>
                      <a:lnTo>
                        <a:pt x="230" y="630"/>
                      </a:lnTo>
                      <a:lnTo>
                        <a:pt x="225" y="588"/>
                      </a:lnTo>
                      <a:lnTo>
                        <a:pt x="230" y="544"/>
                      </a:lnTo>
                      <a:lnTo>
                        <a:pt x="270" y="454"/>
                      </a:lnTo>
                      <a:lnTo>
                        <a:pt x="290" y="415"/>
                      </a:lnTo>
                      <a:lnTo>
                        <a:pt x="312" y="345"/>
                      </a:lnTo>
                      <a:lnTo>
                        <a:pt x="332" y="289"/>
                      </a:lnTo>
                      <a:lnTo>
                        <a:pt x="340" y="238"/>
                      </a:lnTo>
                      <a:lnTo>
                        <a:pt x="343" y="176"/>
                      </a:lnTo>
                      <a:lnTo>
                        <a:pt x="337" y="10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7" name=""/>
                <p:cNvSpPr/>
                <p:nvPr/>
              </p:nvSpPr>
              <p:spPr>
                <a:xfrm>
                  <a:off x="6711840" y="5966280"/>
                  <a:ext cx="166680" cy="263520"/>
                </a:xfrm>
                <a:custGeom>
                  <a:avLst/>
                  <a:gdLst/>
                  <a:ahLst/>
                  <a:rect l="l" t="t" r="r" b="b"/>
                  <a:pathLst>
                    <a:path w="382" h="608">
                      <a:moveTo>
                        <a:pt x="0" y="47"/>
                      </a:moveTo>
                      <a:lnTo>
                        <a:pt x="14" y="137"/>
                      </a:lnTo>
                      <a:lnTo>
                        <a:pt x="36" y="224"/>
                      </a:lnTo>
                      <a:lnTo>
                        <a:pt x="81" y="333"/>
                      </a:lnTo>
                      <a:lnTo>
                        <a:pt x="104" y="375"/>
                      </a:lnTo>
                      <a:lnTo>
                        <a:pt x="124" y="400"/>
                      </a:lnTo>
                      <a:lnTo>
                        <a:pt x="194" y="465"/>
                      </a:lnTo>
                      <a:lnTo>
                        <a:pt x="306" y="555"/>
                      </a:lnTo>
                      <a:lnTo>
                        <a:pt x="377" y="608"/>
                      </a:lnTo>
                      <a:lnTo>
                        <a:pt x="368" y="580"/>
                      </a:lnTo>
                      <a:lnTo>
                        <a:pt x="363" y="552"/>
                      </a:lnTo>
                      <a:lnTo>
                        <a:pt x="363" y="524"/>
                      </a:lnTo>
                      <a:lnTo>
                        <a:pt x="363" y="490"/>
                      </a:lnTo>
                      <a:lnTo>
                        <a:pt x="366" y="420"/>
                      </a:lnTo>
                      <a:lnTo>
                        <a:pt x="371" y="364"/>
                      </a:lnTo>
                      <a:lnTo>
                        <a:pt x="382" y="314"/>
                      </a:lnTo>
                      <a:lnTo>
                        <a:pt x="377" y="255"/>
                      </a:lnTo>
                      <a:lnTo>
                        <a:pt x="371" y="218"/>
                      </a:lnTo>
                      <a:lnTo>
                        <a:pt x="366" y="182"/>
                      </a:lnTo>
                      <a:lnTo>
                        <a:pt x="326" y="0"/>
                      </a:lnTo>
                      <a:lnTo>
                        <a:pt x="318" y="0"/>
                      </a:lnTo>
                      <a:lnTo>
                        <a:pt x="304" y="73"/>
                      </a:lnTo>
                      <a:lnTo>
                        <a:pt x="281" y="224"/>
                      </a:lnTo>
                      <a:lnTo>
                        <a:pt x="281" y="274"/>
                      </a:lnTo>
                      <a:lnTo>
                        <a:pt x="292" y="378"/>
                      </a:lnTo>
                      <a:lnTo>
                        <a:pt x="301" y="429"/>
                      </a:lnTo>
                      <a:lnTo>
                        <a:pt x="309" y="468"/>
                      </a:lnTo>
                      <a:lnTo>
                        <a:pt x="326" y="507"/>
                      </a:lnTo>
                      <a:lnTo>
                        <a:pt x="309" y="490"/>
                      </a:lnTo>
                      <a:lnTo>
                        <a:pt x="264" y="406"/>
                      </a:lnTo>
                      <a:lnTo>
                        <a:pt x="208" y="322"/>
                      </a:lnTo>
                      <a:lnTo>
                        <a:pt x="146" y="246"/>
                      </a:lnTo>
                      <a:lnTo>
                        <a:pt x="76" y="165"/>
                      </a:lnTo>
                      <a:lnTo>
                        <a:pt x="56" y="137"/>
                      </a:lnTo>
                      <a:lnTo>
                        <a:pt x="28" y="87"/>
                      </a:lnTo>
                      <a:lnTo>
                        <a:pt x="5" y="39"/>
                      </a:lnTo>
                      <a:lnTo>
                        <a:pt x="0" y="47"/>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8" name=""/>
                <p:cNvSpPr/>
                <p:nvPr/>
              </p:nvSpPr>
              <p:spPr>
                <a:xfrm>
                  <a:off x="6751080" y="6108480"/>
                  <a:ext cx="238680" cy="245160"/>
                </a:xfrm>
                <a:custGeom>
                  <a:avLst/>
                  <a:gdLst/>
                  <a:ahLst/>
                  <a:rect l="l" t="t" r="r" b="b"/>
                  <a:pathLst>
                    <a:path w="546" h="566">
                      <a:moveTo>
                        <a:pt x="0" y="101"/>
                      </a:moveTo>
                      <a:lnTo>
                        <a:pt x="8" y="123"/>
                      </a:lnTo>
                      <a:lnTo>
                        <a:pt x="25" y="182"/>
                      </a:lnTo>
                      <a:lnTo>
                        <a:pt x="48" y="266"/>
                      </a:lnTo>
                      <a:lnTo>
                        <a:pt x="79" y="325"/>
                      </a:lnTo>
                      <a:lnTo>
                        <a:pt x="118" y="372"/>
                      </a:lnTo>
                      <a:lnTo>
                        <a:pt x="146" y="409"/>
                      </a:lnTo>
                      <a:lnTo>
                        <a:pt x="188" y="451"/>
                      </a:lnTo>
                      <a:lnTo>
                        <a:pt x="236" y="482"/>
                      </a:lnTo>
                      <a:lnTo>
                        <a:pt x="284" y="501"/>
                      </a:lnTo>
                      <a:lnTo>
                        <a:pt x="343" y="526"/>
                      </a:lnTo>
                      <a:lnTo>
                        <a:pt x="385" y="532"/>
                      </a:lnTo>
                      <a:lnTo>
                        <a:pt x="428" y="538"/>
                      </a:lnTo>
                      <a:lnTo>
                        <a:pt x="459" y="549"/>
                      </a:lnTo>
                      <a:lnTo>
                        <a:pt x="506" y="560"/>
                      </a:lnTo>
                      <a:lnTo>
                        <a:pt x="532" y="566"/>
                      </a:lnTo>
                      <a:lnTo>
                        <a:pt x="546" y="566"/>
                      </a:lnTo>
                      <a:lnTo>
                        <a:pt x="540" y="549"/>
                      </a:lnTo>
                      <a:lnTo>
                        <a:pt x="526" y="510"/>
                      </a:lnTo>
                      <a:lnTo>
                        <a:pt x="509" y="451"/>
                      </a:lnTo>
                      <a:lnTo>
                        <a:pt x="495" y="369"/>
                      </a:lnTo>
                      <a:lnTo>
                        <a:pt x="475" y="308"/>
                      </a:lnTo>
                      <a:lnTo>
                        <a:pt x="442" y="218"/>
                      </a:lnTo>
                      <a:lnTo>
                        <a:pt x="413" y="151"/>
                      </a:lnTo>
                      <a:lnTo>
                        <a:pt x="385" y="103"/>
                      </a:lnTo>
                      <a:lnTo>
                        <a:pt x="349" y="42"/>
                      </a:lnTo>
                      <a:lnTo>
                        <a:pt x="329" y="0"/>
                      </a:lnTo>
                      <a:lnTo>
                        <a:pt x="321" y="0"/>
                      </a:lnTo>
                      <a:lnTo>
                        <a:pt x="323" y="42"/>
                      </a:lnTo>
                      <a:lnTo>
                        <a:pt x="329" y="126"/>
                      </a:lnTo>
                      <a:lnTo>
                        <a:pt x="338" y="185"/>
                      </a:lnTo>
                      <a:lnTo>
                        <a:pt x="352" y="274"/>
                      </a:lnTo>
                      <a:lnTo>
                        <a:pt x="371" y="353"/>
                      </a:lnTo>
                      <a:lnTo>
                        <a:pt x="385" y="381"/>
                      </a:lnTo>
                      <a:lnTo>
                        <a:pt x="399" y="409"/>
                      </a:lnTo>
                      <a:lnTo>
                        <a:pt x="428" y="448"/>
                      </a:lnTo>
                      <a:lnTo>
                        <a:pt x="456" y="487"/>
                      </a:lnTo>
                      <a:lnTo>
                        <a:pt x="475" y="510"/>
                      </a:lnTo>
                      <a:lnTo>
                        <a:pt x="439" y="487"/>
                      </a:lnTo>
                      <a:lnTo>
                        <a:pt x="405" y="459"/>
                      </a:lnTo>
                      <a:lnTo>
                        <a:pt x="377" y="428"/>
                      </a:lnTo>
                      <a:lnTo>
                        <a:pt x="338" y="398"/>
                      </a:lnTo>
                      <a:lnTo>
                        <a:pt x="290" y="358"/>
                      </a:lnTo>
                      <a:lnTo>
                        <a:pt x="236" y="313"/>
                      </a:lnTo>
                      <a:lnTo>
                        <a:pt x="174" y="274"/>
                      </a:lnTo>
                      <a:lnTo>
                        <a:pt x="112" y="227"/>
                      </a:lnTo>
                      <a:lnTo>
                        <a:pt x="65" y="185"/>
                      </a:lnTo>
                      <a:lnTo>
                        <a:pt x="28" y="131"/>
                      </a:lnTo>
                      <a:lnTo>
                        <a:pt x="8" y="98"/>
                      </a:lnTo>
                      <a:lnTo>
                        <a:pt x="0" y="101"/>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9" name=""/>
                <p:cNvSpPr/>
                <p:nvPr/>
              </p:nvSpPr>
              <p:spPr>
                <a:xfrm>
                  <a:off x="6835680" y="6224040"/>
                  <a:ext cx="303840" cy="213840"/>
                </a:xfrm>
                <a:custGeom>
                  <a:avLst/>
                  <a:gdLst/>
                  <a:ahLst/>
                  <a:rect l="l" t="t" r="r" b="b"/>
                  <a:pathLst>
                    <a:path w="695" h="493">
                      <a:moveTo>
                        <a:pt x="304" y="14"/>
                      </a:moveTo>
                      <a:lnTo>
                        <a:pt x="315" y="42"/>
                      </a:lnTo>
                      <a:lnTo>
                        <a:pt x="332" y="101"/>
                      </a:lnTo>
                      <a:lnTo>
                        <a:pt x="346" y="168"/>
                      </a:lnTo>
                      <a:lnTo>
                        <a:pt x="371" y="232"/>
                      </a:lnTo>
                      <a:lnTo>
                        <a:pt x="394" y="263"/>
                      </a:lnTo>
                      <a:lnTo>
                        <a:pt x="425" y="300"/>
                      </a:lnTo>
                      <a:lnTo>
                        <a:pt x="459" y="339"/>
                      </a:lnTo>
                      <a:lnTo>
                        <a:pt x="487" y="364"/>
                      </a:lnTo>
                      <a:lnTo>
                        <a:pt x="515" y="384"/>
                      </a:lnTo>
                      <a:lnTo>
                        <a:pt x="554" y="401"/>
                      </a:lnTo>
                      <a:lnTo>
                        <a:pt x="588" y="417"/>
                      </a:lnTo>
                      <a:lnTo>
                        <a:pt x="535" y="406"/>
                      </a:lnTo>
                      <a:lnTo>
                        <a:pt x="484" y="392"/>
                      </a:lnTo>
                      <a:lnTo>
                        <a:pt x="428" y="378"/>
                      </a:lnTo>
                      <a:lnTo>
                        <a:pt x="388" y="364"/>
                      </a:lnTo>
                      <a:lnTo>
                        <a:pt x="341" y="356"/>
                      </a:lnTo>
                      <a:lnTo>
                        <a:pt x="295" y="347"/>
                      </a:lnTo>
                      <a:lnTo>
                        <a:pt x="231" y="325"/>
                      </a:lnTo>
                      <a:lnTo>
                        <a:pt x="160" y="302"/>
                      </a:lnTo>
                      <a:lnTo>
                        <a:pt x="98" y="280"/>
                      </a:lnTo>
                      <a:lnTo>
                        <a:pt x="70" y="266"/>
                      </a:lnTo>
                      <a:lnTo>
                        <a:pt x="28" y="249"/>
                      </a:lnTo>
                      <a:lnTo>
                        <a:pt x="0" y="232"/>
                      </a:lnTo>
                      <a:lnTo>
                        <a:pt x="8" y="258"/>
                      </a:lnTo>
                      <a:lnTo>
                        <a:pt x="31" y="294"/>
                      </a:lnTo>
                      <a:lnTo>
                        <a:pt x="73" y="344"/>
                      </a:lnTo>
                      <a:lnTo>
                        <a:pt x="127" y="395"/>
                      </a:lnTo>
                      <a:lnTo>
                        <a:pt x="186" y="434"/>
                      </a:lnTo>
                      <a:lnTo>
                        <a:pt x="262" y="459"/>
                      </a:lnTo>
                      <a:lnTo>
                        <a:pt x="324" y="479"/>
                      </a:lnTo>
                      <a:lnTo>
                        <a:pt x="360" y="487"/>
                      </a:lnTo>
                      <a:lnTo>
                        <a:pt x="414" y="493"/>
                      </a:lnTo>
                      <a:lnTo>
                        <a:pt x="490" y="485"/>
                      </a:lnTo>
                      <a:lnTo>
                        <a:pt x="549" y="476"/>
                      </a:lnTo>
                      <a:lnTo>
                        <a:pt x="597" y="468"/>
                      </a:lnTo>
                      <a:lnTo>
                        <a:pt x="659" y="451"/>
                      </a:lnTo>
                      <a:lnTo>
                        <a:pt x="695" y="434"/>
                      </a:lnTo>
                      <a:lnTo>
                        <a:pt x="670" y="423"/>
                      </a:lnTo>
                      <a:lnTo>
                        <a:pt x="639" y="403"/>
                      </a:lnTo>
                      <a:lnTo>
                        <a:pt x="611" y="378"/>
                      </a:lnTo>
                      <a:lnTo>
                        <a:pt x="588" y="328"/>
                      </a:lnTo>
                      <a:lnTo>
                        <a:pt x="566" y="297"/>
                      </a:lnTo>
                      <a:lnTo>
                        <a:pt x="540" y="258"/>
                      </a:lnTo>
                      <a:lnTo>
                        <a:pt x="523" y="227"/>
                      </a:lnTo>
                      <a:lnTo>
                        <a:pt x="490" y="179"/>
                      </a:lnTo>
                      <a:lnTo>
                        <a:pt x="459" y="146"/>
                      </a:lnTo>
                      <a:lnTo>
                        <a:pt x="428" y="118"/>
                      </a:lnTo>
                      <a:lnTo>
                        <a:pt x="402" y="95"/>
                      </a:lnTo>
                      <a:lnTo>
                        <a:pt x="363" y="59"/>
                      </a:lnTo>
                      <a:lnTo>
                        <a:pt x="346" y="36"/>
                      </a:lnTo>
                      <a:lnTo>
                        <a:pt x="324" y="11"/>
                      </a:lnTo>
                      <a:lnTo>
                        <a:pt x="310" y="0"/>
                      </a:lnTo>
                      <a:lnTo>
                        <a:pt x="304" y="1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 name=""/>
                <p:cNvSpPr/>
                <p:nvPr/>
              </p:nvSpPr>
              <p:spPr>
                <a:xfrm>
                  <a:off x="6936840" y="6424560"/>
                  <a:ext cx="574560" cy="128520"/>
                </a:xfrm>
                <a:custGeom>
                  <a:avLst/>
                  <a:gdLst/>
                  <a:ahLst/>
                  <a:rect l="l" t="t" r="r" b="b"/>
                  <a:pathLst>
                    <a:path w="1314" h="297">
                      <a:moveTo>
                        <a:pt x="0" y="62"/>
                      </a:moveTo>
                      <a:lnTo>
                        <a:pt x="5" y="76"/>
                      </a:lnTo>
                      <a:lnTo>
                        <a:pt x="25" y="98"/>
                      </a:lnTo>
                      <a:lnTo>
                        <a:pt x="64" y="121"/>
                      </a:lnTo>
                      <a:lnTo>
                        <a:pt x="112" y="149"/>
                      </a:lnTo>
                      <a:lnTo>
                        <a:pt x="183" y="171"/>
                      </a:lnTo>
                      <a:lnTo>
                        <a:pt x="270" y="182"/>
                      </a:lnTo>
                      <a:lnTo>
                        <a:pt x="312" y="185"/>
                      </a:lnTo>
                      <a:lnTo>
                        <a:pt x="357" y="182"/>
                      </a:lnTo>
                      <a:lnTo>
                        <a:pt x="408" y="174"/>
                      </a:lnTo>
                      <a:lnTo>
                        <a:pt x="473" y="165"/>
                      </a:lnTo>
                      <a:lnTo>
                        <a:pt x="529" y="151"/>
                      </a:lnTo>
                      <a:lnTo>
                        <a:pt x="599" y="129"/>
                      </a:lnTo>
                      <a:lnTo>
                        <a:pt x="667" y="104"/>
                      </a:lnTo>
                      <a:lnTo>
                        <a:pt x="723" y="79"/>
                      </a:lnTo>
                      <a:lnTo>
                        <a:pt x="774" y="67"/>
                      </a:lnTo>
                      <a:lnTo>
                        <a:pt x="816" y="62"/>
                      </a:lnTo>
                      <a:lnTo>
                        <a:pt x="867" y="62"/>
                      </a:lnTo>
                      <a:lnTo>
                        <a:pt x="912" y="67"/>
                      </a:lnTo>
                      <a:lnTo>
                        <a:pt x="962" y="81"/>
                      </a:lnTo>
                      <a:lnTo>
                        <a:pt x="996" y="93"/>
                      </a:lnTo>
                      <a:lnTo>
                        <a:pt x="1035" y="112"/>
                      </a:lnTo>
                      <a:lnTo>
                        <a:pt x="1061" y="129"/>
                      </a:lnTo>
                      <a:lnTo>
                        <a:pt x="1092" y="149"/>
                      </a:lnTo>
                      <a:lnTo>
                        <a:pt x="1145" y="188"/>
                      </a:lnTo>
                      <a:lnTo>
                        <a:pt x="1199" y="244"/>
                      </a:lnTo>
                      <a:lnTo>
                        <a:pt x="1235" y="286"/>
                      </a:lnTo>
                      <a:lnTo>
                        <a:pt x="1244" y="297"/>
                      </a:lnTo>
                      <a:lnTo>
                        <a:pt x="1283" y="294"/>
                      </a:lnTo>
                      <a:lnTo>
                        <a:pt x="1314" y="272"/>
                      </a:lnTo>
                      <a:lnTo>
                        <a:pt x="1294" y="252"/>
                      </a:lnTo>
                      <a:lnTo>
                        <a:pt x="1255" y="216"/>
                      </a:lnTo>
                      <a:lnTo>
                        <a:pt x="1216" y="182"/>
                      </a:lnTo>
                      <a:lnTo>
                        <a:pt x="1165" y="151"/>
                      </a:lnTo>
                      <a:lnTo>
                        <a:pt x="1120" y="126"/>
                      </a:lnTo>
                      <a:lnTo>
                        <a:pt x="1080" y="104"/>
                      </a:lnTo>
                      <a:lnTo>
                        <a:pt x="1047" y="87"/>
                      </a:lnTo>
                      <a:lnTo>
                        <a:pt x="1013" y="70"/>
                      </a:lnTo>
                      <a:lnTo>
                        <a:pt x="962" y="48"/>
                      </a:lnTo>
                      <a:lnTo>
                        <a:pt x="917" y="34"/>
                      </a:lnTo>
                      <a:lnTo>
                        <a:pt x="889" y="28"/>
                      </a:lnTo>
                      <a:lnTo>
                        <a:pt x="850" y="20"/>
                      </a:lnTo>
                      <a:lnTo>
                        <a:pt x="791" y="11"/>
                      </a:lnTo>
                      <a:lnTo>
                        <a:pt x="729" y="3"/>
                      </a:lnTo>
                      <a:lnTo>
                        <a:pt x="678" y="3"/>
                      </a:lnTo>
                      <a:lnTo>
                        <a:pt x="616" y="0"/>
                      </a:lnTo>
                      <a:lnTo>
                        <a:pt x="554" y="6"/>
                      </a:lnTo>
                      <a:lnTo>
                        <a:pt x="484" y="11"/>
                      </a:lnTo>
                      <a:lnTo>
                        <a:pt x="422" y="34"/>
                      </a:lnTo>
                      <a:lnTo>
                        <a:pt x="352" y="51"/>
                      </a:lnTo>
                      <a:lnTo>
                        <a:pt x="264" y="70"/>
                      </a:lnTo>
                      <a:lnTo>
                        <a:pt x="183" y="84"/>
                      </a:lnTo>
                      <a:lnTo>
                        <a:pt x="112" y="87"/>
                      </a:lnTo>
                      <a:lnTo>
                        <a:pt x="76" y="81"/>
                      </a:lnTo>
                      <a:lnTo>
                        <a:pt x="36" y="76"/>
                      </a:lnTo>
                      <a:lnTo>
                        <a:pt x="0" y="62"/>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141" name=""/>
              <p:cNvGrpSpPr/>
              <p:nvPr/>
            </p:nvGrpSpPr>
            <p:grpSpPr>
              <a:xfrm>
                <a:off x="7152120" y="5528880"/>
                <a:ext cx="805680" cy="1024200"/>
                <a:chOff x="7152120" y="5528880"/>
                <a:chExt cx="805680" cy="1024200"/>
              </a:xfrm>
            </p:grpSpPr>
            <p:sp>
              <p:nvSpPr>
                <p:cNvPr id="142" name=""/>
                <p:cNvSpPr/>
                <p:nvPr/>
              </p:nvSpPr>
              <p:spPr>
                <a:xfrm>
                  <a:off x="7666560" y="5528880"/>
                  <a:ext cx="131400" cy="142200"/>
                </a:xfrm>
                <a:custGeom>
                  <a:avLst/>
                  <a:gdLst/>
                  <a:ahLst/>
                  <a:rect l="l" t="t" r="r" b="b"/>
                  <a:pathLst>
                    <a:path w="301" h="328">
                      <a:moveTo>
                        <a:pt x="0" y="3"/>
                      </a:moveTo>
                      <a:lnTo>
                        <a:pt x="14" y="0"/>
                      </a:lnTo>
                      <a:lnTo>
                        <a:pt x="64" y="20"/>
                      </a:lnTo>
                      <a:lnTo>
                        <a:pt x="124" y="56"/>
                      </a:lnTo>
                      <a:lnTo>
                        <a:pt x="183" y="101"/>
                      </a:lnTo>
                      <a:lnTo>
                        <a:pt x="205" y="123"/>
                      </a:lnTo>
                      <a:lnTo>
                        <a:pt x="230" y="157"/>
                      </a:lnTo>
                      <a:lnTo>
                        <a:pt x="253" y="205"/>
                      </a:lnTo>
                      <a:lnTo>
                        <a:pt x="276" y="255"/>
                      </a:lnTo>
                      <a:lnTo>
                        <a:pt x="301" y="320"/>
                      </a:lnTo>
                      <a:lnTo>
                        <a:pt x="295" y="328"/>
                      </a:lnTo>
                      <a:lnTo>
                        <a:pt x="253" y="308"/>
                      </a:lnTo>
                      <a:lnTo>
                        <a:pt x="205" y="269"/>
                      </a:lnTo>
                      <a:lnTo>
                        <a:pt x="157" y="224"/>
                      </a:lnTo>
                      <a:lnTo>
                        <a:pt x="126" y="185"/>
                      </a:lnTo>
                      <a:lnTo>
                        <a:pt x="84" y="135"/>
                      </a:lnTo>
                      <a:lnTo>
                        <a:pt x="42" y="62"/>
                      </a:lnTo>
                      <a:lnTo>
                        <a:pt x="0" y="3"/>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3" name=""/>
                <p:cNvSpPr/>
                <p:nvPr/>
              </p:nvSpPr>
              <p:spPr>
                <a:xfrm>
                  <a:off x="7698600" y="5560200"/>
                  <a:ext cx="155880" cy="227160"/>
                </a:xfrm>
                <a:custGeom>
                  <a:avLst/>
                  <a:gdLst/>
                  <a:ahLst/>
                  <a:rect l="l" t="t" r="r" b="b"/>
                  <a:pathLst>
                    <a:path w="357" h="524">
                      <a:moveTo>
                        <a:pt x="191" y="0"/>
                      </a:moveTo>
                      <a:lnTo>
                        <a:pt x="259" y="70"/>
                      </a:lnTo>
                      <a:lnTo>
                        <a:pt x="287" y="112"/>
                      </a:lnTo>
                      <a:lnTo>
                        <a:pt x="312" y="154"/>
                      </a:lnTo>
                      <a:lnTo>
                        <a:pt x="340" y="213"/>
                      </a:lnTo>
                      <a:lnTo>
                        <a:pt x="355" y="277"/>
                      </a:lnTo>
                      <a:lnTo>
                        <a:pt x="357" y="331"/>
                      </a:lnTo>
                      <a:lnTo>
                        <a:pt x="355" y="389"/>
                      </a:lnTo>
                      <a:lnTo>
                        <a:pt x="349" y="445"/>
                      </a:lnTo>
                      <a:lnTo>
                        <a:pt x="349" y="499"/>
                      </a:lnTo>
                      <a:lnTo>
                        <a:pt x="357" y="524"/>
                      </a:lnTo>
                      <a:lnTo>
                        <a:pt x="343" y="524"/>
                      </a:lnTo>
                      <a:lnTo>
                        <a:pt x="340" y="510"/>
                      </a:lnTo>
                      <a:lnTo>
                        <a:pt x="326" y="485"/>
                      </a:lnTo>
                      <a:lnTo>
                        <a:pt x="307" y="471"/>
                      </a:lnTo>
                      <a:lnTo>
                        <a:pt x="267" y="440"/>
                      </a:lnTo>
                      <a:lnTo>
                        <a:pt x="233" y="420"/>
                      </a:lnTo>
                      <a:lnTo>
                        <a:pt x="211" y="403"/>
                      </a:lnTo>
                      <a:lnTo>
                        <a:pt x="180" y="378"/>
                      </a:lnTo>
                      <a:lnTo>
                        <a:pt x="146" y="347"/>
                      </a:lnTo>
                      <a:lnTo>
                        <a:pt x="84" y="277"/>
                      </a:lnTo>
                      <a:lnTo>
                        <a:pt x="39" y="210"/>
                      </a:lnTo>
                      <a:lnTo>
                        <a:pt x="11" y="160"/>
                      </a:lnTo>
                      <a:lnTo>
                        <a:pt x="0" y="129"/>
                      </a:lnTo>
                      <a:lnTo>
                        <a:pt x="3" y="115"/>
                      </a:lnTo>
                      <a:lnTo>
                        <a:pt x="3" y="106"/>
                      </a:lnTo>
                      <a:lnTo>
                        <a:pt x="8" y="123"/>
                      </a:lnTo>
                      <a:lnTo>
                        <a:pt x="34" y="154"/>
                      </a:lnTo>
                      <a:lnTo>
                        <a:pt x="67" y="176"/>
                      </a:lnTo>
                      <a:lnTo>
                        <a:pt x="98" y="202"/>
                      </a:lnTo>
                      <a:lnTo>
                        <a:pt x="160" y="235"/>
                      </a:lnTo>
                      <a:lnTo>
                        <a:pt x="203" y="266"/>
                      </a:lnTo>
                      <a:lnTo>
                        <a:pt x="245" y="305"/>
                      </a:lnTo>
                      <a:lnTo>
                        <a:pt x="256" y="331"/>
                      </a:lnTo>
                      <a:lnTo>
                        <a:pt x="284" y="370"/>
                      </a:lnTo>
                      <a:lnTo>
                        <a:pt x="287" y="367"/>
                      </a:lnTo>
                      <a:lnTo>
                        <a:pt x="284" y="331"/>
                      </a:lnTo>
                      <a:lnTo>
                        <a:pt x="262" y="283"/>
                      </a:lnTo>
                      <a:lnTo>
                        <a:pt x="256" y="258"/>
                      </a:lnTo>
                      <a:lnTo>
                        <a:pt x="242" y="202"/>
                      </a:lnTo>
                      <a:lnTo>
                        <a:pt x="228" y="140"/>
                      </a:lnTo>
                      <a:lnTo>
                        <a:pt x="225" y="95"/>
                      </a:lnTo>
                      <a:lnTo>
                        <a:pt x="214" y="56"/>
                      </a:lnTo>
                      <a:lnTo>
                        <a:pt x="200" y="25"/>
                      </a:lnTo>
                      <a:lnTo>
                        <a:pt x="183" y="3"/>
                      </a:lnTo>
                      <a:lnTo>
                        <a:pt x="191"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4" name=""/>
                <p:cNvSpPr/>
                <p:nvPr/>
              </p:nvSpPr>
              <p:spPr>
                <a:xfrm>
                  <a:off x="7762320" y="5645520"/>
                  <a:ext cx="152280" cy="304920"/>
                </a:xfrm>
                <a:custGeom>
                  <a:avLst/>
                  <a:gdLst/>
                  <a:ahLst/>
                  <a:rect l="l" t="t" r="r" b="b"/>
                  <a:pathLst>
                    <a:path w="349" h="703">
                      <a:moveTo>
                        <a:pt x="234" y="0"/>
                      </a:moveTo>
                      <a:lnTo>
                        <a:pt x="251" y="11"/>
                      </a:lnTo>
                      <a:lnTo>
                        <a:pt x="270" y="51"/>
                      </a:lnTo>
                      <a:lnTo>
                        <a:pt x="296" y="90"/>
                      </a:lnTo>
                      <a:lnTo>
                        <a:pt x="324" y="171"/>
                      </a:lnTo>
                      <a:lnTo>
                        <a:pt x="332" y="213"/>
                      </a:lnTo>
                      <a:lnTo>
                        <a:pt x="344" y="297"/>
                      </a:lnTo>
                      <a:lnTo>
                        <a:pt x="349" y="345"/>
                      </a:lnTo>
                      <a:lnTo>
                        <a:pt x="349" y="384"/>
                      </a:lnTo>
                      <a:lnTo>
                        <a:pt x="344" y="426"/>
                      </a:lnTo>
                      <a:lnTo>
                        <a:pt x="335" y="468"/>
                      </a:lnTo>
                      <a:lnTo>
                        <a:pt x="315" y="560"/>
                      </a:lnTo>
                      <a:lnTo>
                        <a:pt x="301" y="617"/>
                      </a:lnTo>
                      <a:lnTo>
                        <a:pt x="282" y="692"/>
                      </a:lnTo>
                      <a:lnTo>
                        <a:pt x="276" y="703"/>
                      </a:lnTo>
                      <a:lnTo>
                        <a:pt x="270" y="689"/>
                      </a:lnTo>
                      <a:lnTo>
                        <a:pt x="262" y="650"/>
                      </a:lnTo>
                      <a:lnTo>
                        <a:pt x="254" y="622"/>
                      </a:lnTo>
                      <a:lnTo>
                        <a:pt x="239" y="600"/>
                      </a:lnTo>
                      <a:lnTo>
                        <a:pt x="217" y="569"/>
                      </a:lnTo>
                      <a:lnTo>
                        <a:pt x="186" y="524"/>
                      </a:lnTo>
                      <a:lnTo>
                        <a:pt x="163" y="504"/>
                      </a:lnTo>
                      <a:lnTo>
                        <a:pt x="138" y="465"/>
                      </a:lnTo>
                      <a:lnTo>
                        <a:pt x="130" y="451"/>
                      </a:lnTo>
                      <a:lnTo>
                        <a:pt x="104" y="404"/>
                      </a:lnTo>
                      <a:lnTo>
                        <a:pt x="57" y="314"/>
                      </a:lnTo>
                      <a:lnTo>
                        <a:pt x="0" y="193"/>
                      </a:lnTo>
                      <a:lnTo>
                        <a:pt x="0" y="182"/>
                      </a:lnTo>
                      <a:lnTo>
                        <a:pt x="62" y="244"/>
                      </a:lnTo>
                      <a:lnTo>
                        <a:pt x="99" y="275"/>
                      </a:lnTo>
                      <a:lnTo>
                        <a:pt x="147" y="311"/>
                      </a:lnTo>
                      <a:lnTo>
                        <a:pt x="189" y="359"/>
                      </a:lnTo>
                      <a:lnTo>
                        <a:pt x="211" y="401"/>
                      </a:lnTo>
                      <a:lnTo>
                        <a:pt x="228" y="432"/>
                      </a:lnTo>
                      <a:lnTo>
                        <a:pt x="242" y="460"/>
                      </a:lnTo>
                      <a:lnTo>
                        <a:pt x="251" y="488"/>
                      </a:lnTo>
                      <a:lnTo>
                        <a:pt x="259" y="530"/>
                      </a:lnTo>
                      <a:lnTo>
                        <a:pt x="259" y="476"/>
                      </a:lnTo>
                      <a:lnTo>
                        <a:pt x="245" y="390"/>
                      </a:lnTo>
                      <a:lnTo>
                        <a:pt x="242" y="328"/>
                      </a:lnTo>
                      <a:lnTo>
                        <a:pt x="245" y="247"/>
                      </a:lnTo>
                      <a:lnTo>
                        <a:pt x="259" y="143"/>
                      </a:lnTo>
                      <a:lnTo>
                        <a:pt x="251" y="73"/>
                      </a:lnTo>
                      <a:lnTo>
                        <a:pt x="237" y="39"/>
                      </a:lnTo>
                      <a:lnTo>
                        <a:pt x="228" y="14"/>
                      </a:lnTo>
                      <a:lnTo>
                        <a:pt x="234"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5" name=""/>
                <p:cNvSpPr/>
                <p:nvPr/>
              </p:nvSpPr>
              <p:spPr>
                <a:xfrm>
                  <a:off x="7807680" y="5805720"/>
                  <a:ext cx="150120" cy="273240"/>
                </a:xfrm>
                <a:custGeom>
                  <a:avLst/>
                  <a:gdLst/>
                  <a:ahLst/>
                  <a:rect l="l" t="t" r="r" b="b"/>
                  <a:pathLst>
                    <a:path w="344" h="630">
                      <a:moveTo>
                        <a:pt x="3" y="104"/>
                      </a:moveTo>
                      <a:lnTo>
                        <a:pt x="57" y="176"/>
                      </a:lnTo>
                      <a:lnTo>
                        <a:pt x="90" y="233"/>
                      </a:lnTo>
                      <a:lnTo>
                        <a:pt x="107" y="275"/>
                      </a:lnTo>
                      <a:lnTo>
                        <a:pt x="124" y="339"/>
                      </a:lnTo>
                      <a:lnTo>
                        <a:pt x="141" y="415"/>
                      </a:lnTo>
                      <a:lnTo>
                        <a:pt x="147" y="454"/>
                      </a:lnTo>
                      <a:lnTo>
                        <a:pt x="147" y="507"/>
                      </a:lnTo>
                      <a:lnTo>
                        <a:pt x="158" y="496"/>
                      </a:lnTo>
                      <a:lnTo>
                        <a:pt x="175" y="420"/>
                      </a:lnTo>
                      <a:lnTo>
                        <a:pt x="197" y="347"/>
                      </a:lnTo>
                      <a:lnTo>
                        <a:pt x="206" y="311"/>
                      </a:lnTo>
                      <a:lnTo>
                        <a:pt x="240" y="238"/>
                      </a:lnTo>
                      <a:lnTo>
                        <a:pt x="273" y="162"/>
                      </a:lnTo>
                      <a:lnTo>
                        <a:pt x="302" y="92"/>
                      </a:lnTo>
                      <a:lnTo>
                        <a:pt x="313" y="62"/>
                      </a:lnTo>
                      <a:lnTo>
                        <a:pt x="324" y="0"/>
                      </a:lnTo>
                      <a:lnTo>
                        <a:pt x="330" y="0"/>
                      </a:lnTo>
                      <a:lnTo>
                        <a:pt x="338" y="31"/>
                      </a:lnTo>
                      <a:lnTo>
                        <a:pt x="344" y="78"/>
                      </a:lnTo>
                      <a:lnTo>
                        <a:pt x="344" y="126"/>
                      </a:lnTo>
                      <a:lnTo>
                        <a:pt x="344" y="162"/>
                      </a:lnTo>
                      <a:lnTo>
                        <a:pt x="338" y="193"/>
                      </a:lnTo>
                      <a:lnTo>
                        <a:pt x="332" y="230"/>
                      </a:lnTo>
                      <a:lnTo>
                        <a:pt x="313" y="297"/>
                      </a:lnTo>
                      <a:lnTo>
                        <a:pt x="276" y="392"/>
                      </a:lnTo>
                      <a:lnTo>
                        <a:pt x="245" y="459"/>
                      </a:lnTo>
                      <a:lnTo>
                        <a:pt x="200" y="524"/>
                      </a:lnTo>
                      <a:lnTo>
                        <a:pt x="175" y="560"/>
                      </a:lnTo>
                      <a:lnTo>
                        <a:pt x="164" y="583"/>
                      </a:lnTo>
                      <a:lnTo>
                        <a:pt x="147" y="608"/>
                      </a:lnTo>
                      <a:lnTo>
                        <a:pt x="130" y="630"/>
                      </a:lnTo>
                      <a:lnTo>
                        <a:pt x="110" y="630"/>
                      </a:lnTo>
                      <a:lnTo>
                        <a:pt x="116" y="588"/>
                      </a:lnTo>
                      <a:lnTo>
                        <a:pt x="113" y="544"/>
                      </a:lnTo>
                      <a:lnTo>
                        <a:pt x="74" y="454"/>
                      </a:lnTo>
                      <a:lnTo>
                        <a:pt x="51" y="415"/>
                      </a:lnTo>
                      <a:lnTo>
                        <a:pt x="29" y="345"/>
                      </a:lnTo>
                      <a:lnTo>
                        <a:pt x="9" y="289"/>
                      </a:lnTo>
                      <a:lnTo>
                        <a:pt x="0" y="238"/>
                      </a:lnTo>
                      <a:lnTo>
                        <a:pt x="0" y="176"/>
                      </a:lnTo>
                      <a:lnTo>
                        <a:pt x="3" y="10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7784640" y="5966280"/>
                  <a:ext cx="165960" cy="263520"/>
                </a:xfrm>
                <a:custGeom>
                  <a:avLst/>
                  <a:gdLst/>
                  <a:ahLst/>
                  <a:rect l="l" t="t" r="r" b="b"/>
                  <a:pathLst>
                    <a:path w="380" h="608">
                      <a:moveTo>
                        <a:pt x="380" y="47"/>
                      </a:moveTo>
                      <a:lnTo>
                        <a:pt x="369" y="137"/>
                      </a:lnTo>
                      <a:lnTo>
                        <a:pt x="346" y="224"/>
                      </a:lnTo>
                      <a:lnTo>
                        <a:pt x="298" y="333"/>
                      </a:lnTo>
                      <a:lnTo>
                        <a:pt x="276" y="375"/>
                      </a:lnTo>
                      <a:lnTo>
                        <a:pt x="256" y="400"/>
                      </a:lnTo>
                      <a:lnTo>
                        <a:pt x="186" y="465"/>
                      </a:lnTo>
                      <a:lnTo>
                        <a:pt x="76" y="555"/>
                      </a:lnTo>
                      <a:lnTo>
                        <a:pt x="6" y="608"/>
                      </a:lnTo>
                      <a:lnTo>
                        <a:pt x="14" y="580"/>
                      </a:lnTo>
                      <a:lnTo>
                        <a:pt x="17" y="552"/>
                      </a:lnTo>
                      <a:lnTo>
                        <a:pt x="17" y="524"/>
                      </a:lnTo>
                      <a:lnTo>
                        <a:pt x="17" y="490"/>
                      </a:lnTo>
                      <a:lnTo>
                        <a:pt x="14" y="420"/>
                      </a:lnTo>
                      <a:lnTo>
                        <a:pt x="11" y="364"/>
                      </a:lnTo>
                      <a:lnTo>
                        <a:pt x="0" y="314"/>
                      </a:lnTo>
                      <a:lnTo>
                        <a:pt x="6" y="255"/>
                      </a:lnTo>
                      <a:lnTo>
                        <a:pt x="11" y="218"/>
                      </a:lnTo>
                      <a:lnTo>
                        <a:pt x="17" y="182"/>
                      </a:lnTo>
                      <a:lnTo>
                        <a:pt x="53" y="0"/>
                      </a:lnTo>
                      <a:lnTo>
                        <a:pt x="62" y="0"/>
                      </a:lnTo>
                      <a:lnTo>
                        <a:pt x="79" y="73"/>
                      </a:lnTo>
                      <a:lnTo>
                        <a:pt x="98" y="224"/>
                      </a:lnTo>
                      <a:lnTo>
                        <a:pt x="101" y="274"/>
                      </a:lnTo>
                      <a:lnTo>
                        <a:pt x="87" y="378"/>
                      </a:lnTo>
                      <a:lnTo>
                        <a:pt x="79" y="429"/>
                      </a:lnTo>
                      <a:lnTo>
                        <a:pt x="70" y="468"/>
                      </a:lnTo>
                      <a:lnTo>
                        <a:pt x="56" y="507"/>
                      </a:lnTo>
                      <a:lnTo>
                        <a:pt x="73" y="490"/>
                      </a:lnTo>
                      <a:lnTo>
                        <a:pt x="118" y="406"/>
                      </a:lnTo>
                      <a:lnTo>
                        <a:pt x="174" y="322"/>
                      </a:lnTo>
                      <a:lnTo>
                        <a:pt x="236" y="246"/>
                      </a:lnTo>
                      <a:lnTo>
                        <a:pt x="307" y="165"/>
                      </a:lnTo>
                      <a:lnTo>
                        <a:pt x="326" y="137"/>
                      </a:lnTo>
                      <a:lnTo>
                        <a:pt x="355" y="87"/>
                      </a:lnTo>
                      <a:lnTo>
                        <a:pt x="377" y="39"/>
                      </a:lnTo>
                      <a:lnTo>
                        <a:pt x="380" y="47"/>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7674120" y="6108480"/>
                  <a:ext cx="238680" cy="245160"/>
                </a:xfrm>
                <a:custGeom>
                  <a:avLst/>
                  <a:gdLst/>
                  <a:ahLst/>
                  <a:rect l="l" t="t" r="r" b="b"/>
                  <a:pathLst>
                    <a:path w="546" h="566">
                      <a:moveTo>
                        <a:pt x="546" y="101"/>
                      </a:moveTo>
                      <a:lnTo>
                        <a:pt x="537" y="123"/>
                      </a:lnTo>
                      <a:lnTo>
                        <a:pt x="520" y="182"/>
                      </a:lnTo>
                      <a:lnTo>
                        <a:pt x="495" y="266"/>
                      </a:lnTo>
                      <a:lnTo>
                        <a:pt x="467" y="325"/>
                      </a:lnTo>
                      <a:lnTo>
                        <a:pt x="427" y="372"/>
                      </a:lnTo>
                      <a:lnTo>
                        <a:pt x="396" y="409"/>
                      </a:lnTo>
                      <a:lnTo>
                        <a:pt x="357" y="451"/>
                      </a:lnTo>
                      <a:lnTo>
                        <a:pt x="309" y="482"/>
                      </a:lnTo>
                      <a:lnTo>
                        <a:pt x="259" y="501"/>
                      </a:lnTo>
                      <a:lnTo>
                        <a:pt x="202" y="526"/>
                      </a:lnTo>
                      <a:lnTo>
                        <a:pt x="160" y="532"/>
                      </a:lnTo>
                      <a:lnTo>
                        <a:pt x="115" y="538"/>
                      </a:lnTo>
                      <a:lnTo>
                        <a:pt x="84" y="549"/>
                      </a:lnTo>
                      <a:lnTo>
                        <a:pt x="39" y="560"/>
                      </a:lnTo>
                      <a:lnTo>
                        <a:pt x="14" y="566"/>
                      </a:lnTo>
                      <a:lnTo>
                        <a:pt x="0" y="566"/>
                      </a:lnTo>
                      <a:lnTo>
                        <a:pt x="2" y="549"/>
                      </a:lnTo>
                      <a:lnTo>
                        <a:pt x="19" y="510"/>
                      </a:lnTo>
                      <a:lnTo>
                        <a:pt x="36" y="451"/>
                      </a:lnTo>
                      <a:lnTo>
                        <a:pt x="50" y="369"/>
                      </a:lnTo>
                      <a:lnTo>
                        <a:pt x="67" y="308"/>
                      </a:lnTo>
                      <a:lnTo>
                        <a:pt x="104" y="218"/>
                      </a:lnTo>
                      <a:lnTo>
                        <a:pt x="129" y="151"/>
                      </a:lnTo>
                      <a:lnTo>
                        <a:pt x="160" y="103"/>
                      </a:lnTo>
                      <a:lnTo>
                        <a:pt x="197" y="42"/>
                      </a:lnTo>
                      <a:lnTo>
                        <a:pt x="213" y="0"/>
                      </a:lnTo>
                      <a:lnTo>
                        <a:pt x="225" y="0"/>
                      </a:lnTo>
                      <a:lnTo>
                        <a:pt x="222" y="42"/>
                      </a:lnTo>
                      <a:lnTo>
                        <a:pt x="213" y="126"/>
                      </a:lnTo>
                      <a:lnTo>
                        <a:pt x="208" y="185"/>
                      </a:lnTo>
                      <a:lnTo>
                        <a:pt x="194" y="274"/>
                      </a:lnTo>
                      <a:lnTo>
                        <a:pt x="171" y="353"/>
                      </a:lnTo>
                      <a:lnTo>
                        <a:pt x="160" y="381"/>
                      </a:lnTo>
                      <a:lnTo>
                        <a:pt x="146" y="409"/>
                      </a:lnTo>
                      <a:lnTo>
                        <a:pt x="115" y="448"/>
                      </a:lnTo>
                      <a:lnTo>
                        <a:pt x="90" y="487"/>
                      </a:lnTo>
                      <a:lnTo>
                        <a:pt x="70" y="510"/>
                      </a:lnTo>
                      <a:lnTo>
                        <a:pt x="107" y="487"/>
                      </a:lnTo>
                      <a:lnTo>
                        <a:pt x="138" y="459"/>
                      </a:lnTo>
                      <a:lnTo>
                        <a:pt x="168" y="428"/>
                      </a:lnTo>
                      <a:lnTo>
                        <a:pt x="205" y="398"/>
                      </a:lnTo>
                      <a:lnTo>
                        <a:pt x="256" y="358"/>
                      </a:lnTo>
                      <a:lnTo>
                        <a:pt x="309" y="313"/>
                      </a:lnTo>
                      <a:lnTo>
                        <a:pt x="371" y="274"/>
                      </a:lnTo>
                      <a:lnTo>
                        <a:pt x="433" y="227"/>
                      </a:lnTo>
                      <a:lnTo>
                        <a:pt x="481" y="185"/>
                      </a:lnTo>
                      <a:lnTo>
                        <a:pt x="517" y="131"/>
                      </a:lnTo>
                      <a:lnTo>
                        <a:pt x="537" y="98"/>
                      </a:lnTo>
                      <a:lnTo>
                        <a:pt x="546" y="101"/>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a:off x="7523640" y="6224040"/>
                  <a:ext cx="302760" cy="213840"/>
                </a:xfrm>
                <a:custGeom>
                  <a:avLst/>
                  <a:gdLst/>
                  <a:ahLst/>
                  <a:rect l="l" t="t" r="r" b="b"/>
                  <a:pathLst>
                    <a:path w="693" h="493">
                      <a:moveTo>
                        <a:pt x="391" y="14"/>
                      </a:moveTo>
                      <a:lnTo>
                        <a:pt x="377" y="42"/>
                      </a:lnTo>
                      <a:lnTo>
                        <a:pt x="363" y="101"/>
                      </a:lnTo>
                      <a:lnTo>
                        <a:pt x="346" y="168"/>
                      </a:lnTo>
                      <a:lnTo>
                        <a:pt x="321" y="232"/>
                      </a:lnTo>
                      <a:lnTo>
                        <a:pt x="299" y="263"/>
                      </a:lnTo>
                      <a:lnTo>
                        <a:pt x="270" y="300"/>
                      </a:lnTo>
                      <a:lnTo>
                        <a:pt x="234" y="339"/>
                      </a:lnTo>
                      <a:lnTo>
                        <a:pt x="209" y="364"/>
                      </a:lnTo>
                      <a:lnTo>
                        <a:pt x="180" y="384"/>
                      </a:lnTo>
                      <a:lnTo>
                        <a:pt x="141" y="401"/>
                      </a:lnTo>
                      <a:lnTo>
                        <a:pt x="104" y="417"/>
                      </a:lnTo>
                      <a:lnTo>
                        <a:pt x="161" y="406"/>
                      </a:lnTo>
                      <a:lnTo>
                        <a:pt x="209" y="392"/>
                      </a:lnTo>
                      <a:lnTo>
                        <a:pt x="268" y="378"/>
                      </a:lnTo>
                      <a:lnTo>
                        <a:pt x="307" y="364"/>
                      </a:lnTo>
                      <a:lnTo>
                        <a:pt x="355" y="356"/>
                      </a:lnTo>
                      <a:lnTo>
                        <a:pt x="400" y="347"/>
                      </a:lnTo>
                      <a:lnTo>
                        <a:pt x="465" y="325"/>
                      </a:lnTo>
                      <a:lnTo>
                        <a:pt x="532" y="302"/>
                      </a:lnTo>
                      <a:lnTo>
                        <a:pt x="594" y="280"/>
                      </a:lnTo>
                      <a:lnTo>
                        <a:pt x="625" y="266"/>
                      </a:lnTo>
                      <a:lnTo>
                        <a:pt x="667" y="249"/>
                      </a:lnTo>
                      <a:lnTo>
                        <a:pt x="693" y="232"/>
                      </a:lnTo>
                      <a:lnTo>
                        <a:pt x="684" y="258"/>
                      </a:lnTo>
                      <a:lnTo>
                        <a:pt x="664" y="294"/>
                      </a:lnTo>
                      <a:lnTo>
                        <a:pt x="622" y="344"/>
                      </a:lnTo>
                      <a:lnTo>
                        <a:pt x="569" y="395"/>
                      </a:lnTo>
                      <a:lnTo>
                        <a:pt x="507" y="434"/>
                      </a:lnTo>
                      <a:lnTo>
                        <a:pt x="434" y="459"/>
                      </a:lnTo>
                      <a:lnTo>
                        <a:pt x="369" y="479"/>
                      </a:lnTo>
                      <a:lnTo>
                        <a:pt x="335" y="487"/>
                      </a:lnTo>
                      <a:lnTo>
                        <a:pt x="282" y="493"/>
                      </a:lnTo>
                      <a:lnTo>
                        <a:pt x="206" y="485"/>
                      </a:lnTo>
                      <a:lnTo>
                        <a:pt x="147" y="476"/>
                      </a:lnTo>
                      <a:lnTo>
                        <a:pt x="96" y="468"/>
                      </a:lnTo>
                      <a:lnTo>
                        <a:pt x="37" y="451"/>
                      </a:lnTo>
                      <a:lnTo>
                        <a:pt x="0" y="434"/>
                      </a:lnTo>
                      <a:lnTo>
                        <a:pt x="26" y="423"/>
                      </a:lnTo>
                      <a:lnTo>
                        <a:pt x="57" y="403"/>
                      </a:lnTo>
                      <a:lnTo>
                        <a:pt x="85" y="378"/>
                      </a:lnTo>
                      <a:lnTo>
                        <a:pt x="107" y="328"/>
                      </a:lnTo>
                      <a:lnTo>
                        <a:pt x="130" y="297"/>
                      </a:lnTo>
                      <a:lnTo>
                        <a:pt x="152" y="258"/>
                      </a:lnTo>
                      <a:lnTo>
                        <a:pt x="172" y="227"/>
                      </a:lnTo>
                      <a:lnTo>
                        <a:pt x="206" y="179"/>
                      </a:lnTo>
                      <a:lnTo>
                        <a:pt x="237" y="146"/>
                      </a:lnTo>
                      <a:lnTo>
                        <a:pt x="265" y="118"/>
                      </a:lnTo>
                      <a:lnTo>
                        <a:pt x="293" y="95"/>
                      </a:lnTo>
                      <a:lnTo>
                        <a:pt x="332" y="59"/>
                      </a:lnTo>
                      <a:lnTo>
                        <a:pt x="346" y="36"/>
                      </a:lnTo>
                      <a:lnTo>
                        <a:pt x="369" y="11"/>
                      </a:lnTo>
                      <a:lnTo>
                        <a:pt x="386" y="0"/>
                      </a:lnTo>
                      <a:lnTo>
                        <a:pt x="391" y="1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9" name=""/>
                <p:cNvSpPr/>
                <p:nvPr/>
              </p:nvSpPr>
              <p:spPr>
                <a:xfrm>
                  <a:off x="7152120" y="6424560"/>
                  <a:ext cx="574920" cy="128520"/>
                </a:xfrm>
                <a:custGeom>
                  <a:avLst/>
                  <a:gdLst/>
                  <a:ahLst/>
                  <a:rect l="l" t="t" r="r" b="b"/>
                  <a:pathLst>
                    <a:path w="1315" h="297">
                      <a:moveTo>
                        <a:pt x="1315" y="62"/>
                      </a:moveTo>
                      <a:lnTo>
                        <a:pt x="1306" y="76"/>
                      </a:lnTo>
                      <a:lnTo>
                        <a:pt x="1289" y="98"/>
                      </a:lnTo>
                      <a:lnTo>
                        <a:pt x="1250" y="121"/>
                      </a:lnTo>
                      <a:lnTo>
                        <a:pt x="1202" y="149"/>
                      </a:lnTo>
                      <a:lnTo>
                        <a:pt x="1129" y="171"/>
                      </a:lnTo>
                      <a:lnTo>
                        <a:pt x="1044" y="182"/>
                      </a:lnTo>
                      <a:lnTo>
                        <a:pt x="999" y="185"/>
                      </a:lnTo>
                      <a:lnTo>
                        <a:pt x="957" y="182"/>
                      </a:lnTo>
                      <a:lnTo>
                        <a:pt x="904" y="174"/>
                      </a:lnTo>
                      <a:lnTo>
                        <a:pt x="839" y="165"/>
                      </a:lnTo>
                      <a:lnTo>
                        <a:pt x="783" y="151"/>
                      </a:lnTo>
                      <a:lnTo>
                        <a:pt x="715" y="129"/>
                      </a:lnTo>
                      <a:lnTo>
                        <a:pt x="645" y="104"/>
                      </a:lnTo>
                      <a:lnTo>
                        <a:pt x="588" y="79"/>
                      </a:lnTo>
                      <a:lnTo>
                        <a:pt x="541" y="67"/>
                      </a:lnTo>
                      <a:lnTo>
                        <a:pt x="498" y="62"/>
                      </a:lnTo>
                      <a:lnTo>
                        <a:pt x="448" y="62"/>
                      </a:lnTo>
                      <a:lnTo>
                        <a:pt x="400" y="67"/>
                      </a:lnTo>
                      <a:lnTo>
                        <a:pt x="352" y="81"/>
                      </a:lnTo>
                      <a:lnTo>
                        <a:pt x="318" y="93"/>
                      </a:lnTo>
                      <a:lnTo>
                        <a:pt x="279" y="112"/>
                      </a:lnTo>
                      <a:lnTo>
                        <a:pt x="254" y="129"/>
                      </a:lnTo>
                      <a:lnTo>
                        <a:pt x="223" y="149"/>
                      </a:lnTo>
                      <a:lnTo>
                        <a:pt x="169" y="188"/>
                      </a:lnTo>
                      <a:lnTo>
                        <a:pt x="116" y="244"/>
                      </a:lnTo>
                      <a:lnTo>
                        <a:pt x="76" y="286"/>
                      </a:lnTo>
                      <a:lnTo>
                        <a:pt x="68" y="297"/>
                      </a:lnTo>
                      <a:lnTo>
                        <a:pt x="31" y="294"/>
                      </a:lnTo>
                      <a:lnTo>
                        <a:pt x="0" y="272"/>
                      </a:lnTo>
                      <a:lnTo>
                        <a:pt x="20" y="252"/>
                      </a:lnTo>
                      <a:lnTo>
                        <a:pt x="59" y="216"/>
                      </a:lnTo>
                      <a:lnTo>
                        <a:pt x="99" y="182"/>
                      </a:lnTo>
                      <a:lnTo>
                        <a:pt x="149" y="151"/>
                      </a:lnTo>
                      <a:lnTo>
                        <a:pt x="197" y="126"/>
                      </a:lnTo>
                      <a:lnTo>
                        <a:pt x="231" y="104"/>
                      </a:lnTo>
                      <a:lnTo>
                        <a:pt x="265" y="87"/>
                      </a:lnTo>
                      <a:lnTo>
                        <a:pt x="301" y="70"/>
                      </a:lnTo>
                      <a:lnTo>
                        <a:pt x="352" y="48"/>
                      </a:lnTo>
                      <a:lnTo>
                        <a:pt x="397" y="34"/>
                      </a:lnTo>
                      <a:lnTo>
                        <a:pt x="425" y="28"/>
                      </a:lnTo>
                      <a:lnTo>
                        <a:pt x="465" y="20"/>
                      </a:lnTo>
                      <a:lnTo>
                        <a:pt x="524" y="11"/>
                      </a:lnTo>
                      <a:lnTo>
                        <a:pt x="586" y="3"/>
                      </a:lnTo>
                      <a:lnTo>
                        <a:pt x="636" y="3"/>
                      </a:lnTo>
                      <a:lnTo>
                        <a:pt x="698" y="0"/>
                      </a:lnTo>
                      <a:lnTo>
                        <a:pt x="757" y="6"/>
                      </a:lnTo>
                      <a:lnTo>
                        <a:pt x="831" y="11"/>
                      </a:lnTo>
                      <a:lnTo>
                        <a:pt x="895" y="34"/>
                      </a:lnTo>
                      <a:lnTo>
                        <a:pt x="963" y="51"/>
                      </a:lnTo>
                      <a:lnTo>
                        <a:pt x="1050" y="70"/>
                      </a:lnTo>
                      <a:lnTo>
                        <a:pt x="1132" y="84"/>
                      </a:lnTo>
                      <a:lnTo>
                        <a:pt x="1202" y="87"/>
                      </a:lnTo>
                      <a:lnTo>
                        <a:pt x="1236" y="81"/>
                      </a:lnTo>
                      <a:lnTo>
                        <a:pt x="1278" y="76"/>
                      </a:lnTo>
                      <a:lnTo>
                        <a:pt x="1315" y="62"/>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grpSp>
          <p:nvGrpSpPr>
            <p:cNvPr id="150" name=""/>
            <p:cNvGrpSpPr/>
            <p:nvPr/>
          </p:nvGrpSpPr>
          <p:grpSpPr>
            <a:xfrm>
              <a:off x="6939000" y="5532480"/>
              <a:ext cx="730440" cy="740880"/>
              <a:chOff x="6939000" y="5532480"/>
              <a:chExt cx="730440" cy="740880"/>
            </a:xfrm>
          </p:grpSpPr>
          <p:sp>
            <p:nvSpPr>
              <p:cNvPr id="151" name=""/>
              <p:cNvSpPr/>
              <p:nvPr/>
            </p:nvSpPr>
            <p:spPr>
              <a:xfrm>
                <a:off x="6939000" y="5815080"/>
                <a:ext cx="394920" cy="359640"/>
              </a:xfrm>
              <a:custGeom>
                <a:avLst/>
                <a:gdLst/>
                <a:ahLst/>
                <a:rect l="l" t="t" r="r" b="b"/>
                <a:pathLst>
                  <a:path w="904" h="830">
                    <a:moveTo>
                      <a:pt x="355" y="384"/>
                    </a:moveTo>
                    <a:lnTo>
                      <a:pt x="313" y="362"/>
                    </a:lnTo>
                    <a:lnTo>
                      <a:pt x="282" y="362"/>
                    </a:lnTo>
                    <a:lnTo>
                      <a:pt x="254" y="393"/>
                    </a:lnTo>
                    <a:lnTo>
                      <a:pt x="234" y="429"/>
                    </a:lnTo>
                    <a:lnTo>
                      <a:pt x="234" y="457"/>
                    </a:lnTo>
                    <a:lnTo>
                      <a:pt x="223" y="474"/>
                    </a:lnTo>
                    <a:lnTo>
                      <a:pt x="231" y="488"/>
                    </a:lnTo>
                    <a:lnTo>
                      <a:pt x="223" y="513"/>
                    </a:lnTo>
                    <a:lnTo>
                      <a:pt x="186" y="527"/>
                    </a:lnTo>
                    <a:lnTo>
                      <a:pt x="164" y="524"/>
                    </a:lnTo>
                    <a:lnTo>
                      <a:pt x="141" y="522"/>
                    </a:lnTo>
                    <a:lnTo>
                      <a:pt x="116" y="524"/>
                    </a:lnTo>
                    <a:lnTo>
                      <a:pt x="105" y="516"/>
                    </a:lnTo>
                    <a:lnTo>
                      <a:pt x="102" y="510"/>
                    </a:lnTo>
                    <a:lnTo>
                      <a:pt x="76" y="516"/>
                    </a:lnTo>
                    <a:lnTo>
                      <a:pt x="57" y="530"/>
                    </a:lnTo>
                    <a:lnTo>
                      <a:pt x="43" y="527"/>
                    </a:lnTo>
                    <a:lnTo>
                      <a:pt x="37" y="505"/>
                    </a:lnTo>
                    <a:lnTo>
                      <a:pt x="14" y="519"/>
                    </a:lnTo>
                    <a:lnTo>
                      <a:pt x="0" y="550"/>
                    </a:lnTo>
                    <a:lnTo>
                      <a:pt x="6" y="564"/>
                    </a:lnTo>
                    <a:lnTo>
                      <a:pt x="6" y="592"/>
                    </a:lnTo>
                    <a:lnTo>
                      <a:pt x="12" y="608"/>
                    </a:lnTo>
                    <a:lnTo>
                      <a:pt x="17" y="620"/>
                    </a:lnTo>
                    <a:lnTo>
                      <a:pt x="20" y="631"/>
                    </a:lnTo>
                    <a:lnTo>
                      <a:pt x="29" y="648"/>
                    </a:lnTo>
                    <a:lnTo>
                      <a:pt x="37" y="670"/>
                    </a:lnTo>
                    <a:lnTo>
                      <a:pt x="45" y="659"/>
                    </a:lnTo>
                    <a:lnTo>
                      <a:pt x="31" y="642"/>
                    </a:lnTo>
                    <a:lnTo>
                      <a:pt x="31" y="625"/>
                    </a:lnTo>
                    <a:lnTo>
                      <a:pt x="51" y="631"/>
                    </a:lnTo>
                    <a:lnTo>
                      <a:pt x="74" y="650"/>
                    </a:lnTo>
                    <a:lnTo>
                      <a:pt x="85" y="650"/>
                    </a:lnTo>
                    <a:lnTo>
                      <a:pt x="93" y="645"/>
                    </a:lnTo>
                    <a:lnTo>
                      <a:pt x="119" y="667"/>
                    </a:lnTo>
                    <a:lnTo>
                      <a:pt x="147" y="684"/>
                    </a:lnTo>
                    <a:lnTo>
                      <a:pt x="158" y="684"/>
                    </a:lnTo>
                    <a:lnTo>
                      <a:pt x="155" y="701"/>
                    </a:lnTo>
                    <a:lnTo>
                      <a:pt x="175" y="715"/>
                    </a:lnTo>
                    <a:lnTo>
                      <a:pt x="183" y="723"/>
                    </a:lnTo>
                    <a:lnTo>
                      <a:pt x="186" y="732"/>
                    </a:lnTo>
                    <a:lnTo>
                      <a:pt x="226" y="732"/>
                    </a:lnTo>
                    <a:lnTo>
                      <a:pt x="226" y="748"/>
                    </a:lnTo>
                    <a:lnTo>
                      <a:pt x="237" y="762"/>
                    </a:lnTo>
                    <a:lnTo>
                      <a:pt x="290" y="782"/>
                    </a:lnTo>
                    <a:lnTo>
                      <a:pt x="321" y="796"/>
                    </a:lnTo>
                    <a:lnTo>
                      <a:pt x="347" y="793"/>
                    </a:lnTo>
                    <a:lnTo>
                      <a:pt x="372" y="807"/>
                    </a:lnTo>
                    <a:lnTo>
                      <a:pt x="403" y="821"/>
                    </a:lnTo>
                    <a:lnTo>
                      <a:pt x="411" y="830"/>
                    </a:lnTo>
                    <a:lnTo>
                      <a:pt x="482" y="830"/>
                    </a:lnTo>
                    <a:lnTo>
                      <a:pt x="490" y="816"/>
                    </a:lnTo>
                    <a:lnTo>
                      <a:pt x="518" y="816"/>
                    </a:lnTo>
                    <a:lnTo>
                      <a:pt x="552" y="805"/>
                    </a:lnTo>
                    <a:lnTo>
                      <a:pt x="563" y="799"/>
                    </a:lnTo>
                    <a:lnTo>
                      <a:pt x="566" y="762"/>
                    </a:lnTo>
                    <a:lnTo>
                      <a:pt x="560" y="757"/>
                    </a:lnTo>
                    <a:lnTo>
                      <a:pt x="532" y="732"/>
                    </a:lnTo>
                    <a:lnTo>
                      <a:pt x="507" y="712"/>
                    </a:lnTo>
                    <a:lnTo>
                      <a:pt x="499" y="690"/>
                    </a:lnTo>
                    <a:lnTo>
                      <a:pt x="490" y="673"/>
                    </a:lnTo>
                    <a:lnTo>
                      <a:pt x="482" y="670"/>
                    </a:lnTo>
                    <a:lnTo>
                      <a:pt x="459" y="676"/>
                    </a:lnTo>
                    <a:lnTo>
                      <a:pt x="451" y="664"/>
                    </a:lnTo>
                    <a:lnTo>
                      <a:pt x="451" y="659"/>
                    </a:lnTo>
                    <a:lnTo>
                      <a:pt x="473" y="648"/>
                    </a:lnTo>
                    <a:lnTo>
                      <a:pt x="473" y="617"/>
                    </a:lnTo>
                    <a:lnTo>
                      <a:pt x="462" y="586"/>
                    </a:lnTo>
                    <a:lnTo>
                      <a:pt x="448" y="555"/>
                    </a:lnTo>
                    <a:lnTo>
                      <a:pt x="445" y="527"/>
                    </a:lnTo>
                    <a:lnTo>
                      <a:pt x="462" y="522"/>
                    </a:lnTo>
                    <a:lnTo>
                      <a:pt x="454" y="510"/>
                    </a:lnTo>
                    <a:lnTo>
                      <a:pt x="434" y="488"/>
                    </a:lnTo>
                    <a:lnTo>
                      <a:pt x="431" y="474"/>
                    </a:lnTo>
                    <a:lnTo>
                      <a:pt x="434" y="443"/>
                    </a:lnTo>
                    <a:lnTo>
                      <a:pt x="414" y="449"/>
                    </a:lnTo>
                    <a:lnTo>
                      <a:pt x="408" y="443"/>
                    </a:lnTo>
                    <a:lnTo>
                      <a:pt x="425" y="437"/>
                    </a:lnTo>
                    <a:lnTo>
                      <a:pt x="431" y="423"/>
                    </a:lnTo>
                    <a:lnTo>
                      <a:pt x="420" y="421"/>
                    </a:lnTo>
                    <a:lnTo>
                      <a:pt x="403" y="407"/>
                    </a:lnTo>
                    <a:lnTo>
                      <a:pt x="389" y="390"/>
                    </a:lnTo>
                    <a:lnTo>
                      <a:pt x="397" y="379"/>
                    </a:lnTo>
                    <a:lnTo>
                      <a:pt x="392" y="356"/>
                    </a:lnTo>
                    <a:lnTo>
                      <a:pt x="383" y="348"/>
                    </a:lnTo>
                    <a:lnTo>
                      <a:pt x="386" y="339"/>
                    </a:lnTo>
                    <a:lnTo>
                      <a:pt x="400" y="328"/>
                    </a:lnTo>
                    <a:lnTo>
                      <a:pt x="423" y="325"/>
                    </a:lnTo>
                    <a:lnTo>
                      <a:pt x="428" y="317"/>
                    </a:lnTo>
                    <a:lnTo>
                      <a:pt x="428" y="295"/>
                    </a:lnTo>
                    <a:lnTo>
                      <a:pt x="437" y="300"/>
                    </a:lnTo>
                    <a:lnTo>
                      <a:pt x="459" y="292"/>
                    </a:lnTo>
                    <a:lnTo>
                      <a:pt x="439" y="244"/>
                    </a:lnTo>
                    <a:lnTo>
                      <a:pt x="442" y="227"/>
                    </a:lnTo>
                    <a:lnTo>
                      <a:pt x="473" y="216"/>
                    </a:lnTo>
                    <a:lnTo>
                      <a:pt x="493" y="216"/>
                    </a:lnTo>
                    <a:lnTo>
                      <a:pt x="501" y="225"/>
                    </a:lnTo>
                    <a:lnTo>
                      <a:pt x="493" y="244"/>
                    </a:lnTo>
                    <a:lnTo>
                      <a:pt x="501" y="261"/>
                    </a:lnTo>
                    <a:lnTo>
                      <a:pt x="501" y="286"/>
                    </a:lnTo>
                    <a:lnTo>
                      <a:pt x="515" y="300"/>
                    </a:lnTo>
                    <a:lnTo>
                      <a:pt x="501" y="300"/>
                    </a:lnTo>
                    <a:lnTo>
                      <a:pt x="504" y="317"/>
                    </a:lnTo>
                    <a:lnTo>
                      <a:pt x="490" y="323"/>
                    </a:lnTo>
                    <a:lnTo>
                      <a:pt x="484" y="334"/>
                    </a:lnTo>
                    <a:lnTo>
                      <a:pt x="484" y="342"/>
                    </a:lnTo>
                    <a:lnTo>
                      <a:pt x="499" y="339"/>
                    </a:lnTo>
                    <a:lnTo>
                      <a:pt x="521" y="334"/>
                    </a:lnTo>
                    <a:lnTo>
                      <a:pt x="541" y="345"/>
                    </a:lnTo>
                    <a:lnTo>
                      <a:pt x="549" y="356"/>
                    </a:lnTo>
                    <a:lnTo>
                      <a:pt x="563" y="362"/>
                    </a:lnTo>
                    <a:lnTo>
                      <a:pt x="583" y="362"/>
                    </a:lnTo>
                    <a:lnTo>
                      <a:pt x="597" y="376"/>
                    </a:lnTo>
                    <a:lnTo>
                      <a:pt x="620" y="379"/>
                    </a:lnTo>
                    <a:lnTo>
                      <a:pt x="634" y="395"/>
                    </a:lnTo>
                    <a:lnTo>
                      <a:pt x="622" y="409"/>
                    </a:lnTo>
                    <a:lnTo>
                      <a:pt x="636" y="415"/>
                    </a:lnTo>
                    <a:lnTo>
                      <a:pt x="653" y="421"/>
                    </a:lnTo>
                    <a:lnTo>
                      <a:pt x="667" y="412"/>
                    </a:lnTo>
                    <a:lnTo>
                      <a:pt x="673" y="418"/>
                    </a:lnTo>
                    <a:lnTo>
                      <a:pt x="673" y="437"/>
                    </a:lnTo>
                    <a:lnTo>
                      <a:pt x="684" y="451"/>
                    </a:lnTo>
                    <a:lnTo>
                      <a:pt x="693" y="437"/>
                    </a:lnTo>
                    <a:lnTo>
                      <a:pt x="693" y="421"/>
                    </a:lnTo>
                    <a:lnTo>
                      <a:pt x="710" y="409"/>
                    </a:lnTo>
                    <a:lnTo>
                      <a:pt x="715" y="384"/>
                    </a:lnTo>
                    <a:lnTo>
                      <a:pt x="741" y="362"/>
                    </a:lnTo>
                    <a:lnTo>
                      <a:pt x="729" y="356"/>
                    </a:lnTo>
                    <a:lnTo>
                      <a:pt x="749" y="337"/>
                    </a:lnTo>
                    <a:lnTo>
                      <a:pt x="760" y="342"/>
                    </a:lnTo>
                    <a:lnTo>
                      <a:pt x="774" y="348"/>
                    </a:lnTo>
                    <a:lnTo>
                      <a:pt x="786" y="331"/>
                    </a:lnTo>
                    <a:lnTo>
                      <a:pt x="786" y="314"/>
                    </a:lnTo>
                    <a:lnTo>
                      <a:pt x="808" y="292"/>
                    </a:lnTo>
                    <a:lnTo>
                      <a:pt x="797" y="283"/>
                    </a:lnTo>
                    <a:lnTo>
                      <a:pt x="794" y="267"/>
                    </a:lnTo>
                    <a:lnTo>
                      <a:pt x="783" y="275"/>
                    </a:lnTo>
                    <a:lnTo>
                      <a:pt x="777" y="292"/>
                    </a:lnTo>
                    <a:lnTo>
                      <a:pt x="769" y="306"/>
                    </a:lnTo>
                    <a:lnTo>
                      <a:pt x="752" y="297"/>
                    </a:lnTo>
                    <a:lnTo>
                      <a:pt x="738" y="309"/>
                    </a:lnTo>
                    <a:lnTo>
                      <a:pt x="727" y="300"/>
                    </a:lnTo>
                    <a:lnTo>
                      <a:pt x="721" y="306"/>
                    </a:lnTo>
                    <a:lnTo>
                      <a:pt x="704" y="309"/>
                    </a:lnTo>
                    <a:lnTo>
                      <a:pt x="696" y="300"/>
                    </a:lnTo>
                    <a:lnTo>
                      <a:pt x="684" y="306"/>
                    </a:lnTo>
                    <a:lnTo>
                      <a:pt x="670" y="309"/>
                    </a:lnTo>
                    <a:lnTo>
                      <a:pt x="684" y="300"/>
                    </a:lnTo>
                    <a:lnTo>
                      <a:pt x="684" y="275"/>
                    </a:lnTo>
                    <a:lnTo>
                      <a:pt x="696" y="253"/>
                    </a:lnTo>
                    <a:lnTo>
                      <a:pt x="738" y="267"/>
                    </a:lnTo>
                    <a:lnTo>
                      <a:pt x="760" y="283"/>
                    </a:lnTo>
                    <a:lnTo>
                      <a:pt x="772" y="261"/>
                    </a:lnTo>
                    <a:lnTo>
                      <a:pt x="774" y="236"/>
                    </a:lnTo>
                    <a:lnTo>
                      <a:pt x="802" y="230"/>
                    </a:lnTo>
                    <a:lnTo>
                      <a:pt x="814" y="216"/>
                    </a:lnTo>
                    <a:lnTo>
                      <a:pt x="783" y="211"/>
                    </a:lnTo>
                    <a:lnTo>
                      <a:pt x="808" y="188"/>
                    </a:lnTo>
                    <a:lnTo>
                      <a:pt x="817" y="163"/>
                    </a:lnTo>
                    <a:lnTo>
                      <a:pt x="831" y="163"/>
                    </a:lnTo>
                    <a:lnTo>
                      <a:pt x="864" y="138"/>
                    </a:lnTo>
                    <a:lnTo>
                      <a:pt x="878" y="132"/>
                    </a:lnTo>
                    <a:lnTo>
                      <a:pt x="873" y="87"/>
                    </a:lnTo>
                    <a:lnTo>
                      <a:pt x="862" y="59"/>
                    </a:lnTo>
                    <a:lnTo>
                      <a:pt x="839" y="51"/>
                    </a:lnTo>
                    <a:lnTo>
                      <a:pt x="848" y="37"/>
                    </a:lnTo>
                    <a:lnTo>
                      <a:pt x="870" y="23"/>
                    </a:lnTo>
                    <a:lnTo>
                      <a:pt x="887" y="9"/>
                    </a:lnTo>
                    <a:lnTo>
                      <a:pt x="904" y="9"/>
                    </a:lnTo>
                    <a:lnTo>
                      <a:pt x="881" y="0"/>
                    </a:lnTo>
                    <a:lnTo>
                      <a:pt x="856" y="14"/>
                    </a:lnTo>
                    <a:lnTo>
                      <a:pt x="833" y="34"/>
                    </a:lnTo>
                    <a:lnTo>
                      <a:pt x="817" y="68"/>
                    </a:lnTo>
                    <a:lnTo>
                      <a:pt x="800" y="84"/>
                    </a:lnTo>
                    <a:lnTo>
                      <a:pt x="783" y="96"/>
                    </a:lnTo>
                    <a:lnTo>
                      <a:pt x="757" y="104"/>
                    </a:lnTo>
                    <a:lnTo>
                      <a:pt x="712" y="104"/>
                    </a:lnTo>
                    <a:lnTo>
                      <a:pt x="704" y="96"/>
                    </a:lnTo>
                    <a:lnTo>
                      <a:pt x="676" y="107"/>
                    </a:lnTo>
                    <a:lnTo>
                      <a:pt x="667" y="87"/>
                    </a:lnTo>
                    <a:lnTo>
                      <a:pt x="639" y="87"/>
                    </a:lnTo>
                    <a:lnTo>
                      <a:pt x="634" y="76"/>
                    </a:lnTo>
                    <a:lnTo>
                      <a:pt x="605" y="68"/>
                    </a:lnTo>
                    <a:lnTo>
                      <a:pt x="577" y="84"/>
                    </a:lnTo>
                    <a:lnTo>
                      <a:pt x="538" y="90"/>
                    </a:lnTo>
                    <a:lnTo>
                      <a:pt x="510" y="96"/>
                    </a:lnTo>
                    <a:lnTo>
                      <a:pt x="493" y="98"/>
                    </a:lnTo>
                    <a:lnTo>
                      <a:pt x="484" y="110"/>
                    </a:lnTo>
                    <a:lnTo>
                      <a:pt x="504" y="126"/>
                    </a:lnTo>
                    <a:lnTo>
                      <a:pt x="479" y="138"/>
                    </a:lnTo>
                    <a:lnTo>
                      <a:pt x="451" y="146"/>
                    </a:lnTo>
                    <a:lnTo>
                      <a:pt x="431" y="180"/>
                    </a:lnTo>
                    <a:lnTo>
                      <a:pt x="417" y="197"/>
                    </a:lnTo>
                    <a:lnTo>
                      <a:pt x="425" y="216"/>
                    </a:lnTo>
                    <a:lnTo>
                      <a:pt x="417" y="236"/>
                    </a:lnTo>
                    <a:lnTo>
                      <a:pt x="403" y="253"/>
                    </a:lnTo>
                    <a:lnTo>
                      <a:pt x="386" y="286"/>
                    </a:lnTo>
                    <a:lnTo>
                      <a:pt x="394" y="300"/>
                    </a:lnTo>
                    <a:lnTo>
                      <a:pt x="378" y="303"/>
                    </a:lnTo>
                    <a:lnTo>
                      <a:pt x="369" y="325"/>
                    </a:lnTo>
                    <a:lnTo>
                      <a:pt x="366" y="345"/>
                    </a:lnTo>
                    <a:lnTo>
                      <a:pt x="355" y="362"/>
                    </a:lnTo>
                    <a:lnTo>
                      <a:pt x="369" y="362"/>
                    </a:lnTo>
                    <a:lnTo>
                      <a:pt x="372" y="381"/>
                    </a:lnTo>
                    <a:lnTo>
                      <a:pt x="355" y="38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2" name=""/>
              <p:cNvSpPr/>
              <p:nvPr/>
            </p:nvSpPr>
            <p:spPr>
              <a:xfrm>
                <a:off x="7269840" y="5925600"/>
                <a:ext cx="62640" cy="71640"/>
              </a:xfrm>
              <a:custGeom>
                <a:avLst/>
                <a:gdLst/>
                <a:ahLst/>
                <a:rect l="l" t="t" r="r" b="b"/>
                <a:pathLst>
                  <a:path w="144" h="166">
                    <a:moveTo>
                      <a:pt x="93" y="0"/>
                    </a:moveTo>
                    <a:lnTo>
                      <a:pt x="116" y="28"/>
                    </a:lnTo>
                    <a:lnTo>
                      <a:pt x="144" y="51"/>
                    </a:lnTo>
                    <a:lnTo>
                      <a:pt x="121" y="98"/>
                    </a:lnTo>
                    <a:lnTo>
                      <a:pt x="138" y="115"/>
                    </a:lnTo>
                    <a:lnTo>
                      <a:pt x="119" y="126"/>
                    </a:lnTo>
                    <a:lnTo>
                      <a:pt x="102" y="143"/>
                    </a:lnTo>
                    <a:lnTo>
                      <a:pt x="74" y="146"/>
                    </a:lnTo>
                    <a:lnTo>
                      <a:pt x="54" y="146"/>
                    </a:lnTo>
                    <a:lnTo>
                      <a:pt x="12" y="166"/>
                    </a:lnTo>
                    <a:lnTo>
                      <a:pt x="0" y="138"/>
                    </a:lnTo>
                    <a:lnTo>
                      <a:pt x="12" y="124"/>
                    </a:lnTo>
                    <a:lnTo>
                      <a:pt x="29" y="110"/>
                    </a:lnTo>
                    <a:lnTo>
                      <a:pt x="29" y="98"/>
                    </a:lnTo>
                    <a:lnTo>
                      <a:pt x="40" y="73"/>
                    </a:lnTo>
                    <a:lnTo>
                      <a:pt x="57" y="68"/>
                    </a:lnTo>
                    <a:lnTo>
                      <a:pt x="54" y="51"/>
                    </a:lnTo>
                    <a:lnTo>
                      <a:pt x="68" y="37"/>
                    </a:lnTo>
                    <a:lnTo>
                      <a:pt x="74" y="23"/>
                    </a:lnTo>
                    <a:lnTo>
                      <a:pt x="93"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3" name=""/>
              <p:cNvSpPr/>
              <p:nvPr/>
            </p:nvSpPr>
            <p:spPr>
              <a:xfrm>
                <a:off x="7128720" y="5947920"/>
                <a:ext cx="18000" cy="60480"/>
              </a:xfrm>
              <a:custGeom>
                <a:avLst/>
                <a:gdLst/>
                <a:ahLst/>
                <a:rect l="l" t="t" r="r" b="b"/>
                <a:pathLst>
                  <a:path w="42" h="140">
                    <a:moveTo>
                      <a:pt x="22" y="0"/>
                    </a:moveTo>
                    <a:lnTo>
                      <a:pt x="25" y="33"/>
                    </a:lnTo>
                    <a:lnTo>
                      <a:pt x="25" y="56"/>
                    </a:lnTo>
                    <a:lnTo>
                      <a:pt x="20" y="61"/>
                    </a:lnTo>
                    <a:lnTo>
                      <a:pt x="0" y="56"/>
                    </a:lnTo>
                    <a:lnTo>
                      <a:pt x="8" y="75"/>
                    </a:lnTo>
                    <a:lnTo>
                      <a:pt x="22" y="73"/>
                    </a:lnTo>
                    <a:lnTo>
                      <a:pt x="20" y="87"/>
                    </a:lnTo>
                    <a:lnTo>
                      <a:pt x="11" y="95"/>
                    </a:lnTo>
                    <a:lnTo>
                      <a:pt x="20" y="123"/>
                    </a:lnTo>
                    <a:lnTo>
                      <a:pt x="34" y="140"/>
                    </a:lnTo>
                    <a:lnTo>
                      <a:pt x="42" y="129"/>
                    </a:lnTo>
                    <a:lnTo>
                      <a:pt x="31" y="89"/>
                    </a:lnTo>
                    <a:lnTo>
                      <a:pt x="39" y="84"/>
                    </a:lnTo>
                    <a:lnTo>
                      <a:pt x="39" y="50"/>
                    </a:lnTo>
                    <a:lnTo>
                      <a:pt x="42" y="19"/>
                    </a:lnTo>
                    <a:lnTo>
                      <a:pt x="22"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13680" bIns="13680" anchor="t">
                <a:noAutofit/>
              </a:bodyPr>
              <a:p>
                <a:endParaRPr b="0" lang="en-US" sz="2400" spc="-1" strike="noStrike">
                  <a:solidFill>
                    <a:srgbClr val="ffff00"/>
                  </a:solidFill>
                  <a:latin typeface="Times New Roman"/>
                </a:endParaRPr>
              </a:p>
            </p:txBody>
          </p:sp>
          <p:sp>
            <p:nvSpPr>
              <p:cNvPr id="154" name=""/>
              <p:cNvSpPr/>
              <p:nvPr/>
            </p:nvSpPr>
            <p:spPr>
              <a:xfrm>
                <a:off x="7269840" y="5676840"/>
                <a:ext cx="347040" cy="596520"/>
              </a:xfrm>
              <a:custGeom>
                <a:avLst/>
                <a:gdLst/>
                <a:ahLst/>
                <a:rect l="l" t="t" r="r" b="b"/>
                <a:pathLst>
                  <a:path w="794" h="1376">
                    <a:moveTo>
                      <a:pt x="546" y="925"/>
                    </a:moveTo>
                    <a:lnTo>
                      <a:pt x="527" y="950"/>
                    </a:lnTo>
                    <a:lnTo>
                      <a:pt x="490" y="941"/>
                    </a:lnTo>
                    <a:lnTo>
                      <a:pt x="468" y="939"/>
                    </a:lnTo>
                    <a:lnTo>
                      <a:pt x="454" y="925"/>
                    </a:lnTo>
                    <a:lnTo>
                      <a:pt x="423" y="919"/>
                    </a:lnTo>
                    <a:lnTo>
                      <a:pt x="397" y="925"/>
                    </a:lnTo>
                    <a:lnTo>
                      <a:pt x="375" y="933"/>
                    </a:lnTo>
                    <a:lnTo>
                      <a:pt x="420" y="955"/>
                    </a:lnTo>
                    <a:lnTo>
                      <a:pt x="465" y="955"/>
                    </a:lnTo>
                    <a:lnTo>
                      <a:pt x="487" y="964"/>
                    </a:lnTo>
                    <a:lnTo>
                      <a:pt x="518" y="961"/>
                    </a:lnTo>
                    <a:lnTo>
                      <a:pt x="546" y="955"/>
                    </a:lnTo>
                    <a:lnTo>
                      <a:pt x="566" y="913"/>
                    </a:lnTo>
                    <a:lnTo>
                      <a:pt x="575" y="905"/>
                    </a:lnTo>
                    <a:lnTo>
                      <a:pt x="580" y="913"/>
                    </a:lnTo>
                    <a:lnTo>
                      <a:pt x="583" y="927"/>
                    </a:lnTo>
                    <a:lnTo>
                      <a:pt x="594" y="941"/>
                    </a:lnTo>
                    <a:lnTo>
                      <a:pt x="594" y="964"/>
                    </a:lnTo>
                    <a:lnTo>
                      <a:pt x="606" y="986"/>
                    </a:lnTo>
                    <a:lnTo>
                      <a:pt x="589" y="1031"/>
                    </a:lnTo>
                    <a:lnTo>
                      <a:pt x="572" y="1059"/>
                    </a:lnTo>
                    <a:lnTo>
                      <a:pt x="580" y="1073"/>
                    </a:lnTo>
                    <a:lnTo>
                      <a:pt x="594" y="1081"/>
                    </a:lnTo>
                    <a:lnTo>
                      <a:pt x="611" y="1084"/>
                    </a:lnTo>
                    <a:lnTo>
                      <a:pt x="620" y="1101"/>
                    </a:lnTo>
                    <a:lnTo>
                      <a:pt x="634" y="1124"/>
                    </a:lnTo>
                    <a:lnTo>
                      <a:pt x="622" y="1132"/>
                    </a:lnTo>
                    <a:lnTo>
                      <a:pt x="603" y="1154"/>
                    </a:lnTo>
                    <a:lnTo>
                      <a:pt x="594" y="1174"/>
                    </a:lnTo>
                    <a:lnTo>
                      <a:pt x="611" y="1194"/>
                    </a:lnTo>
                    <a:lnTo>
                      <a:pt x="611" y="1210"/>
                    </a:lnTo>
                    <a:lnTo>
                      <a:pt x="600" y="1224"/>
                    </a:lnTo>
                    <a:lnTo>
                      <a:pt x="606" y="1266"/>
                    </a:lnTo>
                    <a:lnTo>
                      <a:pt x="586" y="1283"/>
                    </a:lnTo>
                    <a:lnTo>
                      <a:pt x="552" y="1317"/>
                    </a:lnTo>
                    <a:lnTo>
                      <a:pt x="521" y="1334"/>
                    </a:lnTo>
                    <a:lnTo>
                      <a:pt x="490" y="1353"/>
                    </a:lnTo>
                    <a:lnTo>
                      <a:pt x="445" y="1376"/>
                    </a:lnTo>
                    <a:lnTo>
                      <a:pt x="414" y="1373"/>
                    </a:lnTo>
                    <a:lnTo>
                      <a:pt x="406" y="1364"/>
                    </a:lnTo>
                    <a:lnTo>
                      <a:pt x="383" y="1356"/>
                    </a:lnTo>
                    <a:lnTo>
                      <a:pt x="372" y="1339"/>
                    </a:lnTo>
                    <a:lnTo>
                      <a:pt x="358" y="1317"/>
                    </a:lnTo>
                    <a:lnTo>
                      <a:pt x="341" y="1308"/>
                    </a:lnTo>
                    <a:lnTo>
                      <a:pt x="316" y="1283"/>
                    </a:lnTo>
                    <a:lnTo>
                      <a:pt x="307" y="1269"/>
                    </a:lnTo>
                    <a:lnTo>
                      <a:pt x="313" y="1266"/>
                    </a:lnTo>
                    <a:lnTo>
                      <a:pt x="318" y="1247"/>
                    </a:lnTo>
                    <a:lnTo>
                      <a:pt x="324" y="1238"/>
                    </a:lnTo>
                    <a:lnTo>
                      <a:pt x="307" y="1230"/>
                    </a:lnTo>
                    <a:lnTo>
                      <a:pt x="290" y="1208"/>
                    </a:lnTo>
                    <a:lnTo>
                      <a:pt x="271" y="1199"/>
                    </a:lnTo>
                    <a:lnTo>
                      <a:pt x="254" y="1174"/>
                    </a:lnTo>
                    <a:lnTo>
                      <a:pt x="237" y="1149"/>
                    </a:lnTo>
                    <a:lnTo>
                      <a:pt x="200" y="1149"/>
                    </a:lnTo>
                    <a:lnTo>
                      <a:pt x="172" y="1157"/>
                    </a:lnTo>
                    <a:lnTo>
                      <a:pt x="105" y="1157"/>
                    </a:lnTo>
                    <a:lnTo>
                      <a:pt x="65" y="1146"/>
                    </a:lnTo>
                    <a:lnTo>
                      <a:pt x="45" y="1129"/>
                    </a:lnTo>
                    <a:lnTo>
                      <a:pt x="23" y="1110"/>
                    </a:lnTo>
                    <a:lnTo>
                      <a:pt x="3" y="1067"/>
                    </a:lnTo>
                    <a:lnTo>
                      <a:pt x="0" y="1059"/>
                    </a:lnTo>
                    <a:lnTo>
                      <a:pt x="15" y="1059"/>
                    </a:lnTo>
                    <a:lnTo>
                      <a:pt x="17" y="1042"/>
                    </a:lnTo>
                    <a:lnTo>
                      <a:pt x="20" y="1023"/>
                    </a:lnTo>
                    <a:lnTo>
                      <a:pt x="40" y="1009"/>
                    </a:lnTo>
                    <a:lnTo>
                      <a:pt x="60" y="989"/>
                    </a:lnTo>
                    <a:lnTo>
                      <a:pt x="74" y="978"/>
                    </a:lnTo>
                    <a:lnTo>
                      <a:pt x="99" y="972"/>
                    </a:lnTo>
                    <a:lnTo>
                      <a:pt x="116" y="953"/>
                    </a:lnTo>
                    <a:lnTo>
                      <a:pt x="147" y="955"/>
                    </a:lnTo>
                    <a:lnTo>
                      <a:pt x="178" y="933"/>
                    </a:lnTo>
                    <a:lnTo>
                      <a:pt x="203" y="936"/>
                    </a:lnTo>
                    <a:lnTo>
                      <a:pt x="228" y="927"/>
                    </a:lnTo>
                    <a:lnTo>
                      <a:pt x="228" y="941"/>
                    </a:lnTo>
                    <a:lnTo>
                      <a:pt x="245" y="950"/>
                    </a:lnTo>
                    <a:lnTo>
                      <a:pt x="276" y="955"/>
                    </a:lnTo>
                    <a:lnTo>
                      <a:pt x="313" y="936"/>
                    </a:lnTo>
                    <a:lnTo>
                      <a:pt x="338" y="927"/>
                    </a:lnTo>
                    <a:lnTo>
                      <a:pt x="355" y="930"/>
                    </a:lnTo>
                    <a:lnTo>
                      <a:pt x="361" y="916"/>
                    </a:lnTo>
                    <a:lnTo>
                      <a:pt x="358" y="922"/>
                    </a:lnTo>
                    <a:lnTo>
                      <a:pt x="380" y="908"/>
                    </a:lnTo>
                    <a:lnTo>
                      <a:pt x="380" y="897"/>
                    </a:lnTo>
                    <a:lnTo>
                      <a:pt x="378" y="874"/>
                    </a:lnTo>
                    <a:lnTo>
                      <a:pt x="361" y="883"/>
                    </a:lnTo>
                    <a:lnTo>
                      <a:pt x="335" y="891"/>
                    </a:lnTo>
                    <a:lnTo>
                      <a:pt x="321" y="885"/>
                    </a:lnTo>
                    <a:lnTo>
                      <a:pt x="316" y="877"/>
                    </a:lnTo>
                    <a:lnTo>
                      <a:pt x="327" y="863"/>
                    </a:lnTo>
                    <a:lnTo>
                      <a:pt x="349" y="852"/>
                    </a:lnTo>
                    <a:lnTo>
                      <a:pt x="369" y="846"/>
                    </a:lnTo>
                    <a:lnTo>
                      <a:pt x="375" y="843"/>
                    </a:lnTo>
                    <a:lnTo>
                      <a:pt x="389" y="815"/>
                    </a:lnTo>
                    <a:lnTo>
                      <a:pt x="375" y="813"/>
                    </a:lnTo>
                    <a:lnTo>
                      <a:pt x="347" y="832"/>
                    </a:lnTo>
                    <a:lnTo>
                      <a:pt x="313" y="832"/>
                    </a:lnTo>
                    <a:lnTo>
                      <a:pt x="316" y="843"/>
                    </a:lnTo>
                    <a:lnTo>
                      <a:pt x="307" y="852"/>
                    </a:lnTo>
                    <a:lnTo>
                      <a:pt x="307" y="877"/>
                    </a:lnTo>
                    <a:lnTo>
                      <a:pt x="299" y="885"/>
                    </a:lnTo>
                    <a:lnTo>
                      <a:pt x="310" y="899"/>
                    </a:lnTo>
                    <a:lnTo>
                      <a:pt x="310" y="908"/>
                    </a:lnTo>
                    <a:lnTo>
                      <a:pt x="293" y="913"/>
                    </a:lnTo>
                    <a:lnTo>
                      <a:pt x="282" y="905"/>
                    </a:lnTo>
                    <a:lnTo>
                      <a:pt x="268" y="874"/>
                    </a:lnTo>
                    <a:lnTo>
                      <a:pt x="245" y="877"/>
                    </a:lnTo>
                    <a:lnTo>
                      <a:pt x="223" y="871"/>
                    </a:lnTo>
                    <a:lnTo>
                      <a:pt x="243" y="891"/>
                    </a:lnTo>
                    <a:lnTo>
                      <a:pt x="268" y="891"/>
                    </a:lnTo>
                    <a:lnTo>
                      <a:pt x="271" y="905"/>
                    </a:lnTo>
                    <a:lnTo>
                      <a:pt x="262" y="913"/>
                    </a:lnTo>
                    <a:lnTo>
                      <a:pt x="228" y="905"/>
                    </a:lnTo>
                    <a:lnTo>
                      <a:pt x="214" y="899"/>
                    </a:lnTo>
                    <a:lnTo>
                      <a:pt x="200" y="905"/>
                    </a:lnTo>
                    <a:lnTo>
                      <a:pt x="186" y="902"/>
                    </a:lnTo>
                    <a:lnTo>
                      <a:pt x="178" y="925"/>
                    </a:lnTo>
                    <a:lnTo>
                      <a:pt x="158" y="930"/>
                    </a:lnTo>
                    <a:lnTo>
                      <a:pt x="144" y="941"/>
                    </a:lnTo>
                    <a:lnTo>
                      <a:pt x="119" y="941"/>
                    </a:lnTo>
                    <a:lnTo>
                      <a:pt x="105" y="933"/>
                    </a:lnTo>
                    <a:lnTo>
                      <a:pt x="105" y="894"/>
                    </a:lnTo>
                    <a:lnTo>
                      <a:pt x="127" y="891"/>
                    </a:lnTo>
                    <a:lnTo>
                      <a:pt x="144" y="883"/>
                    </a:lnTo>
                    <a:lnTo>
                      <a:pt x="133" y="869"/>
                    </a:lnTo>
                    <a:lnTo>
                      <a:pt x="133" y="857"/>
                    </a:lnTo>
                    <a:lnTo>
                      <a:pt x="133" y="835"/>
                    </a:lnTo>
                    <a:lnTo>
                      <a:pt x="133" y="821"/>
                    </a:lnTo>
                    <a:lnTo>
                      <a:pt x="124" y="843"/>
                    </a:lnTo>
                    <a:lnTo>
                      <a:pt x="110" y="838"/>
                    </a:lnTo>
                    <a:lnTo>
                      <a:pt x="113" y="818"/>
                    </a:lnTo>
                    <a:lnTo>
                      <a:pt x="130" y="813"/>
                    </a:lnTo>
                    <a:lnTo>
                      <a:pt x="130" y="796"/>
                    </a:lnTo>
                    <a:lnTo>
                      <a:pt x="147" y="779"/>
                    </a:lnTo>
                    <a:lnTo>
                      <a:pt x="164" y="770"/>
                    </a:lnTo>
                    <a:lnTo>
                      <a:pt x="172" y="762"/>
                    </a:lnTo>
                    <a:lnTo>
                      <a:pt x="189" y="740"/>
                    </a:lnTo>
                    <a:lnTo>
                      <a:pt x="195" y="717"/>
                    </a:lnTo>
                    <a:lnTo>
                      <a:pt x="197" y="698"/>
                    </a:lnTo>
                    <a:lnTo>
                      <a:pt x="214" y="675"/>
                    </a:lnTo>
                    <a:lnTo>
                      <a:pt x="237" y="689"/>
                    </a:lnTo>
                    <a:lnTo>
                      <a:pt x="257" y="689"/>
                    </a:lnTo>
                    <a:lnTo>
                      <a:pt x="268" y="675"/>
                    </a:lnTo>
                    <a:lnTo>
                      <a:pt x="276" y="650"/>
                    </a:lnTo>
                    <a:lnTo>
                      <a:pt x="279" y="633"/>
                    </a:lnTo>
                    <a:lnTo>
                      <a:pt x="262" y="611"/>
                    </a:lnTo>
                    <a:lnTo>
                      <a:pt x="271" y="600"/>
                    </a:lnTo>
                    <a:lnTo>
                      <a:pt x="257" y="594"/>
                    </a:lnTo>
                    <a:lnTo>
                      <a:pt x="245" y="577"/>
                    </a:lnTo>
                    <a:lnTo>
                      <a:pt x="251" y="569"/>
                    </a:lnTo>
                    <a:lnTo>
                      <a:pt x="231" y="563"/>
                    </a:lnTo>
                    <a:lnTo>
                      <a:pt x="237" y="558"/>
                    </a:lnTo>
                    <a:lnTo>
                      <a:pt x="259" y="538"/>
                    </a:lnTo>
                    <a:lnTo>
                      <a:pt x="243" y="510"/>
                    </a:lnTo>
                    <a:lnTo>
                      <a:pt x="240" y="490"/>
                    </a:lnTo>
                    <a:lnTo>
                      <a:pt x="206" y="473"/>
                    </a:lnTo>
                    <a:lnTo>
                      <a:pt x="186" y="459"/>
                    </a:lnTo>
                    <a:lnTo>
                      <a:pt x="172" y="457"/>
                    </a:lnTo>
                    <a:lnTo>
                      <a:pt x="158" y="445"/>
                    </a:lnTo>
                    <a:lnTo>
                      <a:pt x="138" y="445"/>
                    </a:lnTo>
                    <a:lnTo>
                      <a:pt x="130" y="434"/>
                    </a:lnTo>
                    <a:lnTo>
                      <a:pt x="133" y="415"/>
                    </a:lnTo>
                    <a:lnTo>
                      <a:pt x="158" y="401"/>
                    </a:lnTo>
                    <a:lnTo>
                      <a:pt x="158" y="378"/>
                    </a:lnTo>
                    <a:lnTo>
                      <a:pt x="181" y="375"/>
                    </a:lnTo>
                    <a:lnTo>
                      <a:pt x="206" y="373"/>
                    </a:lnTo>
                    <a:lnTo>
                      <a:pt x="223" y="350"/>
                    </a:lnTo>
                    <a:lnTo>
                      <a:pt x="254" y="336"/>
                    </a:lnTo>
                    <a:lnTo>
                      <a:pt x="265" y="356"/>
                    </a:lnTo>
                    <a:lnTo>
                      <a:pt x="240" y="373"/>
                    </a:lnTo>
                    <a:lnTo>
                      <a:pt x="220" y="375"/>
                    </a:lnTo>
                    <a:lnTo>
                      <a:pt x="206" y="398"/>
                    </a:lnTo>
                    <a:lnTo>
                      <a:pt x="226" y="395"/>
                    </a:lnTo>
                    <a:lnTo>
                      <a:pt x="245" y="387"/>
                    </a:lnTo>
                    <a:lnTo>
                      <a:pt x="262" y="381"/>
                    </a:lnTo>
                    <a:lnTo>
                      <a:pt x="276" y="403"/>
                    </a:lnTo>
                    <a:lnTo>
                      <a:pt x="310" y="401"/>
                    </a:lnTo>
                    <a:lnTo>
                      <a:pt x="310" y="387"/>
                    </a:lnTo>
                    <a:lnTo>
                      <a:pt x="327" y="375"/>
                    </a:lnTo>
                    <a:lnTo>
                      <a:pt x="349" y="364"/>
                    </a:lnTo>
                    <a:lnTo>
                      <a:pt x="369" y="350"/>
                    </a:lnTo>
                    <a:lnTo>
                      <a:pt x="380" y="342"/>
                    </a:lnTo>
                    <a:lnTo>
                      <a:pt x="397" y="325"/>
                    </a:lnTo>
                    <a:lnTo>
                      <a:pt x="389" y="314"/>
                    </a:lnTo>
                    <a:lnTo>
                      <a:pt x="358" y="331"/>
                    </a:lnTo>
                    <a:lnTo>
                      <a:pt x="333" y="347"/>
                    </a:lnTo>
                    <a:lnTo>
                      <a:pt x="335" y="319"/>
                    </a:lnTo>
                    <a:lnTo>
                      <a:pt x="364" y="319"/>
                    </a:lnTo>
                    <a:lnTo>
                      <a:pt x="375" y="297"/>
                    </a:lnTo>
                    <a:lnTo>
                      <a:pt x="400" y="291"/>
                    </a:lnTo>
                    <a:lnTo>
                      <a:pt x="425" y="291"/>
                    </a:lnTo>
                    <a:lnTo>
                      <a:pt x="437" y="300"/>
                    </a:lnTo>
                    <a:lnTo>
                      <a:pt x="448" y="286"/>
                    </a:lnTo>
                    <a:lnTo>
                      <a:pt x="465" y="280"/>
                    </a:lnTo>
                    <a:lnTo>
                      <a:pt x="473" y="297"/>
                    </a:lnTo>
                    <a:lnTo>
                      <a:pt x="493" y="311"/>
                    </a:lnTo>
                    <a:lnTo>
                      <a:pt x="504" y="345"/>
                    </a:lnTo>
                    <a:lnTo>
                      <a:pt x="521" y="361"/>
                    </a:lnTo>
                    <a:lnTo>
                      <a:pt x="544" y="367"/>
                    </a:lnTo>
                    <a:lnTo>
                      <a:pt x="569" y="373"/>
                    </a:lnTo>
                    <a:lnTo>
                      <a:pt x="577" y="401"/>
                    </a:lnTo>
                    <a:lnTo>
                      <a:pt x="594" y="409"/>
                    </a:lnTo>
                    <a:lnTo>
                      <a:pt x="608" y="406"/>
                    </a:lnTo>
                    <a:lnTo>
                      <a:pt x="611" y="431"/>
                    </a:lnTo>
                    <a:lnTo>
                      <a:pt x="628" y="415"/>
                    </a:lnTo>
                    <a:lnTo>
                      <a:pt x="648" y="406"/>
                    </a:lnTo>
                    <a:lnTo>
                      <a:pt x="665" y="423"/>
                    </a:lnTo>
                    <a:lnTo>
                      <a:pt x="682" y="423"/>
                    </a:lnTo>
                    <a:lnTo>
                      <a:pt x="684" y="431"/>
                    </a:lnTo>
                    <a:lnTo>
                      <a:pt x="676" y="457"/>
                    </a:lnTo>
                    <a:lnTo>
                      <a:pt x="667" y="473"/>
                    </a:lnTo>
                    <a:lnTo>
                      <a:pt x="690" y="473"/>
                    </a:lnTo>
                    <a:lnTo>
                      <a:pt x="704" y="462"/>
                    </a:lnTo>
                    <a:lnTo>
                      <a:pt x="718" y="423"/>
                    </a:lnTo>
                    <a:lnTo>
                      <a:pt x="729" y="392"/>
                    </a:lnTo>
                    <a:lnTo>
                      <a:pt x="698" y="350"/>
                    </a:lnTo>
                    <a:lnTo>
                      <a:pt x="673" y="336"/>
                    </a:lnTo>
                    <a:lnTo>
                      <a:pt x="662" y="325"/>
                    </a:lnTo>
                    <a:lnTo>
                      <a:pt x="648" y="319"/>
                    </a:lnTo>
                    <a:lnTo>
                      <a:pt x="656" y="305"/>
                    </a:lnTo>
                    <a:lnTo>
                      <a:pt x="653" y="294"/>
                    </a:lnTo>
                    <a:lnTo>
                      <a:pt x="673" y="286"/>
                    </a:lnTo>
                    <a:lnTo>
                      <a:pt x="659" y="258"/>
                    </a:lnTo>
                    <a:lnTo>
                      <a:pt x="628" y="216"/>
                    </a:lnTo>
                    <a:lnTo>
                      <a:pt x="583" y="165"/>
                    </a:lnTo>
                    <a:lnTo>
                      <a:pt x="549" y="126"/>
                    </a:lnTo>
                    <a:lnTo>
                      <a:pt x="521" y="101"/>
                    </a:lnTo>
                    <a:lnTo>
                      <a:pt x="513" y="81"/>
                    </a:lnTo>
                    <a:lnTo>
                      <a:pt x="496" y="45"/>
                    </a:lnTo>
                    <a:lnTo>
                      <a:pt x="473" y="20"/>
                    </a:lnTo>
                    <a:lnTo>
                      <a:pt x="504" y="34"/>
                    </a:lnTo>
                    <a:lnTo>
                      <a:pt x="496" y="17"/>
                    </a:lnTo>
                    <a:lnTo>
                      <a:pt x="482" y="0"/>
                    </a:lnTo>
                    <a:lnTo>
                      <a:pt x="510" y="0"/>
                    </a:lnTo>
                    <a:lnTo>
                      <a:pt x="530" y="25"/>
                    </a:lnTo>
                    <a:lnTo>
                      <a:pt x="544" y="53"/>
                    </a:lnTo>
                    <a:lnTo>
                      <a:pt x="546" y="39"/>
                    </a:lnTo>
                    <a:lnTo>
                      <a:pt x="555" y="48"/>
                    </a:lnTo>
                    <a:lnTo>
                      <a:pt x="566" y="59"/>
                    </a:lnTo>
                    <a:lnTo>
                      <a:pt x="575" y="73"/>
                    </a:lnTo>
                    <a:lnTo>
                      <a:pt x="580" y="104"/>
                    </a:lnTo>
                    <a:lnTo>
                      <a:pt x="606" y="137"/>
                    </a:lnTo>
                    <a:lnTo>
                      <a:pt x="617" y="148"/>
                    </a:lnTo>
                    <a:lnTo>
                      <a:pt x="611" y="171"/>
                    </a:lnTo>
                    <a:lnTo>
                      <a:pt x="648" y="182"/>
                    </a:lnTo>
                    <a:lnTo>
                      <a:pt x="648" y="193"/>
                    </a:lnTo>
                    <a:lnTo>
                      <a:pt x="659" y="199"/>
                    </a:lnTo>
                    <a:lnTo>
                      <a:pt x="656" y="224"/>
                    </a:lnTo>
                    <a:lnTo>
                      <a:pt x="673" y="238"/>
                    </a:lnTo>
                    <a:lnTo>
                      <a:pt x="687" y="230"/>
                    </a:lnTo>
                    <a:lnTo>
                      <a:pt x="684" y="255"/>
                    </a:lnTo>
                    <a:lnTo>
                      <a:pt x="721" y="255"/>
                    </a:lnTo>
                    <a:lnTo>
                      <a:pt x="704" y="263"/>
                    </a:lnTo>
                    <a:lnTo>
                      <a:pt x="704" y="286"/>
                    </a:lnTo>
                    <a:lnTo>
                      <a:pt x="724" y="303"/>
                    </a:lnTo>
                    <a:lnTo>
                      <a:pt x="738" y="331"/>
                    </a:lnTo>
                    <a:lnTo>
                      <a:pt x="741" y="359"/>
                    </a:lnTo>
                    <a:lnTo>
                      <a:pt x="741" y="370"/>
                    </a:lnTo>
                    <a:lnTo>
                      <a:pt x="760" y="392"/>
                    </a:lnTo>
                    <a:lnTo>
                      <a:pt x="752" y="423"/>
                    </a:lnTo>
                    <a:lnTo>
                      <a:pt x="769" y="406"/>
                    </a:lnTo>
                    <a:lnTo>
                      <a:pt x="763" y="387"/>
                    </a:lnTo>
                    <a:lnTo>
                      <a:pt x="760" y="359"/>
                    </a:lnTo>
                    <a:lnTo>
                      <a:pt x="755" y="328"/>
                    </a:lnTo>
                    <a:lnTo>
                      <a:pt x="746" y="317"/>
                    </a:lnTo>
                    <a:lnTo>
                      <a:pt x="746" y="286"/>
                    </a:lnTo>
                    <a:lnTo>
                      <a:pt x="763" y="297"/>
                    </a:lnTo>
                    <a:lnTo>
                      <a:pt x="760" y="314"/>
                    </a:lnTo>
                    <a:lnTo>
                      <a:pt x="769" y="333"/>
                    </a:lnTo>
                    <a:lnTo>
                      <a:pt x="786" y="370"/>
                    </a:lnTo>
                    <a:lnTo>
                      <a:pt x="786" y="412"/>
                    </a:lnTo>
                    <a:lnTo>
                      <a:pt x="794" y="431"/>
                    </a:lnTo>
                    <a:lnTo>
                      <a:pt x="774" y="487"/>
                    </a:lnTo>
                    <a:lnTo>
                      <a:pt x="763" y="527"/>
                    </a:lnTo>
                    <a:lnTo>
                      <a:pt x="732" y="521"/>
                    </a:lnTo>
                    <a:lnTo>
                      <a:pt x="721" y="504"/>
                    </a:lnTo>
                    <a:lnTo>
                      <a:pt x="727" y="473"/>
                    </a:lnTo>
                    <a:lnTo>
                      <a:pt x="715" y="479"/>
                    </a:lnTo>
                    <a:lnTo>
                      <a:pt x="713" y="496"/>
                    </a:lnTo>
                    <a:lnTo>
                      <a:pt x="690" y="501"/>
                    </a:lnTo>
                    <a:lnTo>
                      <a:pt x="662" y="504"/>
                    </a:lnTo>
                    <a:lnTo>
                      <a:pt x="653" y="513"/>
                    </a:lnTo>
                    <a:lnTo>
                      <a:pt x="653" y="535"/>
                    </a:lnTo>
                    <a:lnTo>
                      <a:pt x="639" y="549"/>
                    </a:lnTo>
                    <a:lnTo>
                      <a:pt x="620" y="560"/>
                    </a:lnTo>
                    <a:lnTo>
                      <a:pt x="608" y="577"/>
                    </a:lnTo>
                    <a:lnTo>
                      <a:pt x="620" y="591"/>
                    </a:lnTo>
                    <a:lnTo>
                      <a:pt x="637" y="608"/>
                    </a:lnTo>
                    <a:lnTo>
                      <a:pt x="642" y="630"/>
                    </a:lnTo>
                    <a:lnTo>
                      <a:pt x="651" y="647"/>
                    </a:lnTo>
                    <a:lnTo>
                      <a:pt x="673" y="664"/>
                    </a:lnTo>
                    <a:lnTo>
                      <a:pt x="687" y="667"/>
                    </a:lnTo>
                    <a:lnTo>
                      <a:pt x="696" y="656"/>
                    </a:lnTo>
                    <a:lnTo>
                      <a:pt x="698" y="650"/>
                    </a:lnTo>
                    <a:lnTo>
                      <a:pt x="713" y="653"/>
                    </a:lnTo>
                    <a:lnTo>
                      <a:pt x="727" y="667"/>
                    </a:lnTo>
                    <a:lnTo>
                      <a:pt x="713" y="672"/>
                    </a:lnTo>
                    <a:lnTo>
                      <a:pt x="690" y="675"/>
                    </a:lnTo>
                    <a:lnTo>
                      <a:pt x="704" y="695"/>
                    </a:lnTo>
                    <a:lnTo>
                      <a:pt x="704" y="703"/>
                    </a:lnTo>
                    <a:lnTo>
                      <a:pt x="667" y="717"/>
                    </a:lnTo>
                    <a:lnTo>
                      <a:pt x="642" y="726"/>
                    </a:lnTo>
                    <a:lnTo>
                      <a:pt x="620" y="731"/>
                    </a:lnTo>
                    <a:lnTo>
                      <a:pt x="606" y="717"/>
                    </a:lnTo>
                    <a:lnTo>
                      <a:pt x="608" y="731"/>
                    </a:lnTo>
                    <a:lnTo>
                      <a:pt x="594" y="740"/>
                    </a:lnTo>
                    <a:lnTo>
                      <a:pt x="580" y="740"/>
                    </a:lnTo>
                    <a:lnTo>
                      <a:pt x="577" y="726"/>
                    </a:lnTo>
                    <a:lnTo>
                      <a:pt x="566" y="737"/>
                    </a:lnTo>
                    <a:lnTo>
                      <a:pt x="561" y="770"/>
                    </a:lnTo>
                    <a:lnTo>
                      <a:pt x="544" y="779"/>
                    </a:lnTo>
                    <a:lnTo>
                      <a:pt x="535" y="801"/>
                    </a:lnTo>
                    <a:lnTo>
                      <a:pt x="530" y="813"/>
                    </a:lnTo>
                    <a:lnTo>
                      <a:pt x="504" y="821"/>
                    </a:lnTo>
                    <a:lnTo>
                      <a:pt x="487" y="835"/>
                    </a:lnTo>
                    <a:lnTo>
                      <a:pt x="459" y="832"/>
                    </a:lnTo>
                    <a:lnTo>
                      <a:pt x="468" y="849"/>
                    </a:lnTo>
                    <a:lnTo>
                      <a:pt x="490" y="849"/>
                    </a:lnTo>
                    <a:lnTo>
                      <a:pt x="518" y="843"/>
                    </a:lnTo>
                    <a:lnTo>
                      <a:pt x="530" y="821"/>
                    </a:lnTo>
                    <a:lnTo>
                      <a:pt x="544" y="815"/>
                    </a:lnTo>
                    <a:lnTo>
                      <a:pt x="561" y="818"/>
                    </a:lnTo>
                    <a:lnTo>
                      <a:pt x="569" y="838"/>
                    </a:lnTo>
                    <a:lnTo>
                      <a:pt x="561" y="874"/>
                    </a:lnTo>
                    <a:lnTo>
                      <a:pt x="561" y="902"/>
                    </a:lnTo>
                    <a:lnTo>
                      <a:pt x="546" y="925"/>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5" name=""/>
              <p:cNvSpPr/>
              <p:nvPr/>
            </p:nvSpPr>
            <p:spPr>
              <a:xfrm>
                <a:off x="7480440" y="5599080"/>
                <a:ext cx="189000" cy="191520"/>
              </a:xfrm>
              <a:custGeom>
                <a:avLst/>
                <a:gdLst/>
                <a:ahLst/>
                <a:rect l="l" t="t" r="r" b="b"/>
                <a:pathLst>
                  <a:path w="433" h="442">
                    <a:moveTo>
                      <a:pt x="98" y="16"/>
                    </a:moveTo>
                    <a:lnTo>
                      <a:pt x="79" y="28"/>
                    </a:lnTo>
                    <a:lnTo>
                      <a:pt x="53" y="30"/>
                    </a:lnTo>
                    <a:lnTo>
                      <a:pt x="28" y="47"/>
                    </a:lnTo>
                    <a:lnTo>
                      <a:pt x="5" y="61"/>
                    </a:lnTo>
                    <a:lnTo>
                      <a:pt x="0" y="75"/>
                    </a:lnTo>
                    <a:lnTo>
                      <a:pt x="28" y="89"/>
                    </a:lnTo>
                    <a:lnTo>
                      <a:pt x="45" y="114"/>
                    </a:lnTo>
                    <a:lnTo>
                      <a:pt x="53" y="140"/>
                    </a:lnTo>
                    <a:lnTo>
                      <a:pt x="64" y="157"/>
                    </a:lnTo>
                    <a:lnTo>
                      <a:pt x="67" y="187"/>
                    </a:lnTo>
                    <a:lnTo>
                      <a:pt x="79" y="204"/>
                    </a:lnTo>
                    <a:lnTo>
                      <a:pt x="84" y="229"/>
                    </a:lnTo>
                    <a:lnTo>
                      <a:pt x="93" y="221"/>
                    </a:lnTo>
                    <a:lnTo>
                      <a:pt x="124" y="210"/>
                    </a:lnTo>
                    <a:lnTo>
                      <a:pt x="140" y="224"/>
                    </a:lnTo>
                    <a:lnTo>
                      <a:pt x="157" y="249"/>
                    </a:lnTo>
                    <a:lnTo>
                      <a:pt x="152" y="274"/>
                    </a:lnTo>
                    <a:lnTo>
                      <a:pt x="157" y="291"/>
                    </a:lnTo>
                    <a:lnTo>
                      <a:pt x="177" y="305"/>
                    </a:lnTo>
                    <a:lnTo>
                      <a:pt x="200" y="322"/>
                    </a:lnTo>
                    <a:lnTo>
                      <a:pt x="208" y="313"/>
                    </a:lnTo>
                    <a:lnTo>
                      <a:pt x="214" y="330"/>
                    </a:lnTo>
                    <a:lnTo>
                      <a:pt x="231" y="336"/>
                    </a:lnTo>
                    <a:lnTo>
                      <a:pt x="236" y="355"/>
                    </a:lnTo>
                    <a:lnTo>
                      <a:pt x="256" y="355"/>
                    </a:lnTo>
                    <a:lnTo>
                      <a:pt x="273" y="375"/>
                    </a:lnTo>
                    <a:lnTo>
                      <a:pt x="292" y="383"/>
                    </a:lnTo>
                    <a:lnTo>
                      <a:pt x="323" y="406"/>
                    </a:lnTo>
                    <a:lnTo>
                      <a:pt x="335" y="428"/>
                    </a:lnTo>
                    <a:lnTo>
                      <a:pt x="352" y="442"/>
                    </a:lnTo>
                    <a:lnTo>
                      <a:pt x="394" y="442"/>
                    </a:lnTo>
                    <a:lnTo>
                      <a:pt x="433" y="395"/>
                    </a:lnTo>
                    <a:lnTo>
                      <a:pt x="419" y="364"/>
                    </a:lnTo>
                    <a:lnTo>
                      <a:pt x="402" y="344"/>
                    </a:lnTo>
                    <a:lnTo>
                      <a:pt x="382" y="325"/>
                    </a:lnTo>
                    <a:lnTo>
                      <a:pt x="354" y="288"/>
                    </a:lnTo>
                    <a:lnTo>
                      <a:pt x="298" y="227"/>
                    </a:lnTo>
                    <a:lnTo>
                      <a:pt x="264" y="187"/>
                    </a:lnTo>
                    <a:lnTo>
                      <a:pt x="250" y="140"/>
                    </a:lnTo>
                    <a:lnTo>
                      <a:pt x="231" y="120"/>
                    </a:lnTo>
                    <a:lnTo>
                      <a:pt x="191" y="70"/>
                    </a:lnTo>
                    <a:lnTo>
                      <a:pt x="169" y="58"/>
                    </a:lnTo>
                    <a:lnTo>
                      <a:pt x="143" y="33"/>
                    </a:lnTo>
                    <a:lnTo>
                      <a:pt x="155" y="30"/>
                    </a:lnTo>
                    <a:lnTo>
                      <a:pt x="169" y="47"/>
                    </a:lnTo>
                    <a:lnTo>
                      <a:pt x="180" y="30"/>
                    </a:lnTo>
                    <a:lnTo>
                      <a:pt x="174" y="16"/>
                    </a:lnTo>
                    <a:lnTo>
                      <a:pt x="160" y="8"/>
                    </a:lnTo>
                    <a:lnTo>
                      <a:pt x="143" y="0"/>
                    </a:lnTo>
                    <a:lnTo>
                      <a:pt x="126" y="2"/>
                    </a:lnTo>
                    <a:lnTo>
                      <a:pt x="118" y="11"/>
                    </a:lnTo>
                    <a:lnTo>
                      <a:pt x="129" y="19"/>
                    </a:lnTo>
                    <a:lnTo>
                      <a:pt x="129" y="33"/>
                    </a:lnTo>
                    <a:lnTo>
                      <a:pt x="115" y="28"/>
                    </a:lnTo>
                    <a:lnTo>
                      <a:pt x="98" y="16"/>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6" name=""/>
              <p:cNvSpPr/>
              <p:nvPr/>
            </p:nvSpPr>
            <p:spPr>
              <a:xfrm>
                <a:off x="7330320" y="5532480"/>
                <a:ext cx="97200" cy="36360"/>
              </a:xfrm>
              <a:custGeom>
                <a:avLst/>
                <a:gdLst/>
                <a:ahLst/>
                <a:rect l="l" t="t" r="r" b="b"/>
                <a:pathLst>
                  <a:path w="223" h="84">
                    <a:moveTo>
                      <a:pt x="172" y="0"/>
                    </a:moveTo>
                    <a:lnTo>
                      <a:pt x="152" y="11"/>
                    </a:lnTo>
                    <a:lnTo>
                      <a:pt x="133" y="11"/>
                    </a:lnTo>
                    <a:lnTo>
                      <a:pt x="110" y="25"/>
                    </a:lnTo>
                    <a:lnTo>
                      <a:pt x="82" y="22"/>
                    </a:lnTo>
                    <a:lnTo>
                      <a:pt x="48" y="33"/>
                    </a:lnTo>
                    <a:lnTo>
                      <a:pt x="20" y="39"/>
                    </a:lnTo>
                    <a:lnTo>
                      <a:pt x="0" y="53"/>
                    </a:lnTo>
                    <a:lnTo>
                      <a:pt x="34" y="53"/>
                    </a:lnTo>
                    <a:lnTo>
                      <a:pt x="57" y="58"/>
                    </a:lnTo>
                    <a:lnTo>
                      <a:pt x="68" y="58"/>
                    </a:lnTo>
                    <a:lnTo>
                      <a:pt x="82" y="70"/>
                    </a:lnTo>
                    <a:lnTo>
                      <a:pt x="88" y="84"/>
                    </a:lnTo>
                    <a:lnTo>
                      <a:pt x="130" y="78"/>
                    </a:lnTo>
                    <a:lnTo>
                      <a:pt x="105" y="64"/>
                    </a:lnTo>
                    <a:lnTo>
                      <a:pt x="96" y="58"/>
                    </a:lnTo>
                    <a:lnTo>
                      <a:pt x="96" y="36"/>
                    </a:lnTo>
                    <a:lnTo>
                      <a:pt x="121" y="36"/>
                    </a:lnTo>
                    <a:lnTo>
                      <a:pt x="223" y="19"/>
                    </a:lnTo>
                    <a:lnTo>
                      <a:pt x="172"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10440" bIns="-10440" anchor="t">
                <a:noAutofit/>
              </a:bodyPr>
              <a:p>
                <a:endParaRPr b="0" lang="en-US" sz="2400" spc="-1" strike="noStrike">
                  <a:solidFill>
                    <a:srgbClr val="ffff00"/>
                  </a:solidFill>
                  <a:latin typeface="Times New Roman"/>
                </a:endParaRPr>
              </a:p>
            </p:txBody>
          </p:sp>
          <p:sp>
            <p:nvSpPr>
              <p:cNvPr id="157" name=""/>
              <p:cNvSpPr/>
              <p:nvPr/>
            </p:nvSpPr>
            <p:spPr>
              <a:xfrm>
                <a:off x="7515000" y="5781240"/>
                <a:ext cx="26640" cy="41040"/>
              </a:xfrm>
              <a:custGeom>
                <a:avLst/>
                <a:gdLst/>
                <a:ahLst/>
                <a:rect l="l" t="t" r="r" b="b"/>
                <a:pathLst>
                  <a:path w="61" h="95">
                    <a:moveTo>
                      <a:pt x="59" y="3"/>
                    </a:moveTo>
                    <a:lnTo>
                      <a:pt x="39" y="0"/>
                    </a:lnTo>
                    <a:lnTo>
                      <a:pt x="39" y="8"/>
                    </a:lnTo>
                    <a:lnTo>
                      <a:pt x="25" y="14"/>
                    </a:lnTo>
                    <a:lnTo>
                      <a:pt x="39" y="25"/>
                    </a:lnTo>
                    <a:lnTo>
                      <a:pt x="16" y="39"/>
                    </a:lnTo>
                    <a:lnTo>
                      <a:pt x="30" y="53"/>
                    </a:lnTo>
                    <a:lnTo>
                      <a:pt x="16" y="64"/>
                    </a:lnTo>
                    <a:lnTo>
                      <a:pt x="5" y="70"/>
                    </a:lnTo>
                    <a:lnTo>
                      <a:pt x="0" y="95"/>
                    </a:lnTo>
                    <a:lnTo>
                      <a:pt x="22" y="87"/>
                    </a:lnTo>
                    <a:lnTo>
                      <a:pt x="33" y="92"/>
                    </a:lnTo>
                    <a:lnTo>
                      <a:pt x="42" y="70"/>
                    </a:lnTo>
                    <a:lnTo>
                      <a:pt x="42" y="56"/>
                    </a:lnTo>
                    <a:lnTo>
                      <a:pt x="47" y="48"/>
                    </a:lnTo>
                    <a:lnTo>
                      <a:pt x="61" y="36"/>
                    </a:lnTo>
                    <a:lnTo>
                      <a:pt x="59" y="22"/>
                    </a:lnTo>
                    <a:lnTo>
                      <a:pt x="59" y="3"/>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5760" bIns="-5760" anchor="t">
                <a:noAutofit/>
              </a:bodyPr>
              <a:p>
                <a:endParaRPr b="0" lang="en-US" sz="2400" spc="-1" strike="noStrike">
                  <a:solidFill>
                    <a:srgbClr val="ffff00"/>
                  </a:solidFill>
                  <a:latin typeface="Times New Roman"/>
                </a:endParaRPr>
              </a:p>
            </p:txBody>
          </p:sp>
          <p:sp>
            <p:nvSpPr>
              <p:cNvPr id="158" name=""/>
              <p:cNvSpPr/>
              <p:nvPr/>
            </p:nvSpPr>
            <p:spPr>
              <a:xfrm>
                <a:off x="7560720" y="6119280"/>
                <a:ext cx="27720" cy="47160"/>
              </a:xfrm>
              <a:custGeom>
                <a:avLst/>
                <a:gdLst/>
                <a:ahLst/>
                <a:rect l="l" t="t" r="r" b="b"/>
                <a:pathLst>
                  <a:path w="64" h="109">
                    <a:moveTo>
                      <a:pt x="33" y="0"/>
                    </a:moveTo>
                    <a:lnTo>
                      <a:pt x="17" y="0"/>
                    </a:lnTo>
                    <a:lnTo>
                      <a:pt x="11" y="22"/>
                    </a:lnTo>
                    <a:lnTo>
                      <a:pt x="11" y="47"/>
                    </a:lnTo>
                    <a:lnTo>
                      <a:pt x="0" y="64"/>
                    </a:lnTo>
                    <a:lnTo>
                      <a:pt x="2" y="95"/>
                    </a:lnTo>
                    <a:lnTo>
                      <a:pt x="17" y="109"/>
                    </a:lnTo>
                    <a:lnTo>
                      <a:pt x="42" y="106"/>
                    </a:lnTo>
                    <a:lnTo>
                      <a:pt x="64" y="95"/>
                    </a:lnTo>
                    <a:lnTo>
                      <a:pt x="62" y="73"/>
                    </a:lnTo>
                    <a:lnTo>
                      <a:pt x="56" y="31"/>
                    </a:lnTo>
                    <a:lnTo>
                      <a:pt x="42" y="19"/>
                    </a:lnTo>
                    <a:lnTo>
                      <a:pt x="33"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360" bIns="360" anchor="t">
                <a:noAutofit/>
              </a:bodyPr>
              <a:p>
                <a:endParaRPr b="0" lang="en-US" sz="2400" spc="-1" strike="noStrike">
                  <a:solidFill>
                    <a:srgbClr val="ffff00"/>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08:44:10Z</dcterms:created>
  <dc:creator>khanna</dc:creator>
  <dc:description/>
  <dc:language>en-US</dc:language>
  <cp:lastModifiedBy>Luige</cp:lastModifiedBy>
  <dcterms:modified xsi:type="dcterms:W3CDTF">2006-04-20T13:08:08Z</dcterms:modified>
  <cp:revision>397</cp:revision>
  <dc:subject/>
  <dc:title>Non-Observed Economy A Survey of National Practices</dc:title>
</cp:coreProperties>
</file>