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6CC2-28B0-4F73-AFB5-DB4338FC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4506-E741-422F-BBC6-16A462C8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8158-812F-4946-8F70-8EF98FAF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F6B7-81D2-4707-92A4-9B13D8FB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9B0-093C-4D05-A3A8-7BC03311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9E41-03C8-40BA-8767-91298D8E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7D7B-0597-497D-B405-07678F0E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4CE7-5951-48BA-AA07-398DF765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F728-9E65-4316-A27E-0AAD187E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694-3D09-4A6F-8B06-74BA6911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DFB4-B6EC-4927-8878-3885065E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A7F9-F410-4B0E-8190-B557B0AF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3DE8-7013-4808-9549-86CD00516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Problems of measurement and analysis in the national accounts under rapidly growing globalization. </a:t>
            </a:r>
            <a:br>
              <a:rPr sz="3600"/>
            </a:br>
            <a:br>
              <a:rPr sz="3600"/>
            </a:br>
            <a:r>
              <a:rPr b="1" i="1" lang="en-GB" sz="28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Soli Peleg</a:t>
            </a:r>
            <a:br>
              <a:rPr sz="2800"/>
            </a:br>
            <a:r>
              <a:rPr b="1" i="1" lang="en-GB" sz="28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Central Bureau of Statistics, Isra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F8C4-D2E3-4E64-8496-E0FD6EB61D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Improving measurement of joint production across bord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wever, coverage not sufficient for a full picture of the joint activities, since IN data only cover domestic affili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ta also deficient – use of “transfer prices” and lack of information on market value of parts in joint produ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327B-62D8-4DE7-881C-40268F47AD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Improving measurement of joint production across bord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urther improvement by combining and analyzing domestic data together with data collected abroad on enterprises that engage in joint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f not possible to obtain data on share in joint international production, at least figures on gross joint international produ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7A32-8A2F-47CB-8DE7-AD48B2F4C3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Outsourcing across borders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utsourcing across borders has become common – clothing, textiles, diamonds, semiconducto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ny enterprises with full outsourcing of processing - so called fabless enterpr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proposal for measurement of fabless enterprises, also useful for deciding how to treat partial outsourc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109B-608D-4AF7-9015-8E418C5DEF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abless enterpris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ll processing outsourced, and often final product sent directly from the sub-contractor to customers, so that no flow of imports or exports of goods from the domestic countr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lthough resemble merchanting services – additional important activities, such as R&amp;D and management of joint produ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et income of domestic enterprise usually amounts to a substantial percentage of the value of the product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1049-6B16-43FA-9F9A-EE96D7F514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posal for measuring fabless enterpris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 activities of enterprise using concept of “converter” from NACE 1.1 to decide how to classify enterprise (under trade or manufacturing) and account for transactions with RO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abless enterprises that own patent rights on products, engage in R&amp;D activity, and own and sell final products under their name, defined as converters and classified as manufactur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8D5-0B35-4C00-A458-8A8FA2B728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posal for measuring fabless enterpris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oss registration of flows of goods, since converter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o facilitate use: separate sub-category: Goods/services under outsourced produ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urther divide between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. Outsourced to affili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. Outsourced to non-affiliated enterpri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115A-4F65-44A7-9003-7738142800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Takeovers of companies across borders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keovers of companies (especially start-ups) across borders common since late 1990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asurement of mergers of companies  in different countries are problemat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 many cases the prices of takeovers will reflect the value of a product - a new communication technology, originals of software etc. - developed within the compa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1F2F-4997-47D5-A58F-1F93148FBD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Takeovers of companies across borders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nce most such products are of an intangible nature, in practice, the transfer of the product in connection with sales of enterprises is often not registered, and only a financial transaction is recorded. As a result exports or imports are undervalu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CEE7-1A42-4E2A-8112-27BA3E1625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mprovement in measurement of takeovers of companies across borders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010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ewspaper clippings or reports by market analysts on sales of companies to abroad collected on a daily basi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ed with banking data collected for Balance of Payments estimates, to check how the transactions are register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etails on takeovers examined, information gathered from persons involved in the transaction, if possibl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decision tree to decide if sale of a product involved or no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C43-8728-4840-B635-86E8E867D3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457200" y="-324000"/>
            <a:ext cx="10134720" cy="716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651A-32F0-44C2-A621-EFB7A4FB60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ain issues due to globaliza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bundance of flows of services and intangib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oint international produ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utsourcing across bor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licated transactions in mergers and swaps of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03B-930A-4148-BF73-33EFAF3825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New issues</a:t>
            </a:r>
            <a:br>
              <a:rPr sz="36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8377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rovement of measurement is an ongoing process, and new problems are revealed over tim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mong recent issues: production involving a number of countries in Qualified Industrial Zones (QIZs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Impact on production and trade in the countries involved, and not clear if adequately measured and register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Necessary to separate the data for such zon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FD27-AA06-4599-B699-E7EBEBE4A6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Problems of analysis</a:t>
            </a:r>
            <a:br>
              <a:rPr sz="36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685800"/>
            <a:ext cx="8381880" cy="40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Even if problems of coverage and classifications in data sources solved, problems of analysis due to joint international production and outsourcing across border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Proposed to publish figures for joint international production with details on input, output, and income distribution, either through cooperation by partner countries, or by international organization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The structure of input-output tables could be changed to facilitate such work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CD2-7E4D-4424-B65C-B355D1CCCF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Flows of services and intangibl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lows of services and transactions not sufficiently covered in existing surveys and administration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r main source of data – banking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 foreign currenc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irm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ay leave foreign currency abroad, classification less rel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5726-FDF0-43B2-8F79-268BF210F7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Improving coverag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ata gradu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lemented and compared with other data sour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T dat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enue classified using business regis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inked to customs data, banking data and comp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urvey on foreign transactions in servi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C11-D770-4484-A994-C99CACB61C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s more data become available comparisons between various data sources reveal problems with existing 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ed for solutions of important specific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40080" y="457200"/>
            <a:ext cx="41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Specific 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4253-F684-4DA7-BB26-6635EA6532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Joint production across borders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ny services and intangibles, which can be transferred abroad over the internet or telephone, and may not be regist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ffiliates often only registration of finance of compensation of employee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ven if is transfer registered, may be valued at cost or at “transfer” prices and not at market valu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80CB-DE17-4991-BD1A-39F47C1E58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Joint production across bord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s banking data gradually replaced by enterprise data, enterprises mostly include a minimum mark-up as required by tax authorities in the countries involv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ut since a joint production, market value of production should be divided to reflect  their part adequate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C373-9F72-499F-9729-4E73C7A7D1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Improving measurement of joint production across bord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parately identify enterprises that engage in a joint international production, since their structure and production methods diffe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data on multinational enterprises (MNE’s) collected according to guidelines in OECD Handbook on Economic Globalization Indicat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6B11-B1CF-433A-8323-4829B91A3C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Improving measurement of joint production across bord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1725480"/>
            <a:ext cx="8229600" cy="361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CA12-C279-470C-837F-67BAF81472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06:13:35Z</dcterms:created>
  <dc:creator>soli peleg</dc:creator>
  <dc:description/>
  <dc:language>en-US</dc:language>
  <cp:lastModifiedBy>Dimova</cp:lastModifiedBy>
  <dcterms:modified xsi:type="dcterms:W3CDTF">2006-04-19T08:42:05Z</dcterms:modified>
  <cp:revision>92</cp:revision>
  <dc:subject/>
  <dc:title>PowerPoint Presentation</dc:title>
</cp:coreProperties>
</file>