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5A1D-AA88-46A8-AC58-2F004CAA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E743-919E-464D-B029-C44F48D0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5253-705E-4624-B191-97829D6CC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175A-67F9-4FFB-B28D-D596C671C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9A43-7D26-47DE-8908-0B9BAA1D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76A3-CCBC-4059-B962-953D4CAF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9F90-25F8-4B55-A26E-6000D806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8B53-003D-4FD6-B682-2F0D30E7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9A95-3BB8-4FE0-8680-7BAFDA23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D4B3-94A2-4BD8-B861-41A6F94B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BAAB-2B67-49C5-99E7-A02A88C0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872A-5E22-44A0-8156-BBFEDF3B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1F53-BD5E-467E-800B-3C389A19A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Problems of measurement and analysis in the national accounts under rapidly growing globalization. </a:t>
            </a:r>
            <a:br>
              <a:rPr sz="3600"/>
            </a:br>
            <a:br>
              <a:rPr sz="3600"/>
            </a:br>
            <a:r>
              <a:rPr b="1" i="1" lang="en-GB" sz="2800" spc="-1" strike="noStrike">
                <a:solidFill>
                  <a:srgbClr val="333399"/>
                </a:solidFill>
                <a:latin typeface="Times New Roman"/>
                <a:ea typeface="Times New Roman (Hebrew)"/>
              </a:rPr>
              <a:t>Soli Peleg</a:t>
            </a:r>
            <a:br>
              <a:rPr sz="2800"/>
            </a:br>
            <a:r>
              <a:rPr b="1" i="1" lang="en-GB" sz="2800" spc="-1" strike="noStrike">
                <a:solidFill>
                  <a:srgbClr val="333399"/>
                </a:solidFill>
                <a:latin typeface="Times New Roman"/>
                <a:ea typeface="Times New Roman (Hebrew)"/>
              </a:rPr>
              <a:t>Central Bureau of Statistics, Isra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D02B-0EA7-4929-9288-7D14FCF300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Improving measurement of joint production across border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2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owever, coverage not sufficient for a full picture of the joint activities, since IN data only cover domestic affili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ata also deficient – use of “transfer prices” and lack of information on market value of parts in joint produ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3F3E-3063-4E15-8EDE-8B741765BD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Improving measurement of joint production across border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urther improvement by combining and analyzing domestic data together with data collected abroad on enterprises that engage in joint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f not possible to obtain data on share in joint international production, at least figures on gross joint international produ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D240-59F7-48DE-83DE-8266B4929E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Outsourcing across borders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utsourcing across borders has become common – clothing, textiles, diamonds, semiconductor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ny enterprises with full outsourcing of processing - so called fabless enterpri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proposal for measurement of fabless enterprises, also useful for deciding how to treat partial outsourc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EB22-2A0E-4B5B-9936-6ED5BCDFB9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Fabless enterpris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ll processing outsourced, and often final product sent directly from the sub-contractor to customers, so that no flow of imports or exports of goods from the domestic country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lthough resemble merchanting services – additional important activities, such as R&amp;D and management of joint produ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Net income of domestic enterprise usually amounts to a substantial percentage of the value of the product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F898-1F35-4AA8-B3E8-9A564EE2FE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posal for measuring fabless enterprise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 activities of enterprise using concept of “converter” from NACE 1.1 to decide how to classify enterprise (under trade or manufacturing) and account for transactions with ROW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Fabless enterprises that own patent rights on products, engage in R&amp;D activity, and own and sell final products under their name, defined as converters and classified as manufacturin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8857-1E6D-4A53-AF0C-C471A96E01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posal for measuring fabless enterprise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Gross registration of flows of goods, since converter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o facilitate use: separate sub-category: Goods/services under outsourced produ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Further divide between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. Outsourced to affili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. Outsourced to non-affiliated enterpri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9653-370C-41C0-BD40-1C13383150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Takeovers of companies across borders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akeovers of companies (especially start-ups) across borders common since late 1990’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asurement of mergers of companies  in different countries are problemati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 many cases the prices of takeovers will reflect the value of a product - a new communication technology, originals of software etc. - developed within the compan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58AF-73BB-4C37-9999-673A544326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Takeovers of companies across borders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nce most such products are of an intangible nature, in practice, the transfer of the product in connection with sales of enterprises is often not registered, and only a financial transaction is recorded. As a result exports or imports are undervalu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4382-828C-40AF-B133-BDC6B6A16F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Improvement in measurement of takeovers of companies across borders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010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Newspaper clippings or reports by market analysts on sales of companies to abroad collected on a daily basi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ed with banking data collected for Balance of Payments estimates, to check how the transactions are register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Details on takeovers examined, information gathered from persons involved in the transaction, if possible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 decision tree to decide if sale of a product involved or no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0D39-CB68-4E4B-AC09-C8813AD221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457200" y="-324000"/>
            <a:ext cx="10134720" cy="7169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4D0D-3097-408B-B991-4C4C29D479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Main issues due to globaliza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bundance of flows of services and intangib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oint international produ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utsourcing across bor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plicated transactions in mergers and swaps of st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C925-EFC1-45E5-A288-4A83703CDF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New issues</a:t>
            </a:r>
            <a:br>
              <a:rPr sz="36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8377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rovement of measurement is an ongoing process, and new problems are revealed over tim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mong recent issues: production involving a number of countries in Qualified Industrial Zones (QIZs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Impact on production and trade in the countries involved, and not clear if adequately measured and register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Necessary to separate the data for such zon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ACCE-A539-406B-9325-A86D0236C6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Problems of analysis</a:t>
            </a:r>
            <a:br>
              <a:rPr sz="36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160" y="685800"/>
            <a:ext cx="8381880" cy="40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Even if problems of coverage and classifications in data sources solved, problems of analysis due to joint international production and outsourcing across border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Proposed to publish figures for joint international production with details on input, output, and income distribution, either through cooperation by partner countries, or by international organizations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The structure of input-output tables could be changed to facilitate such work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3646-E693-4C07-B9B0-C40F5D2955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Flows of services and intangibl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lows of services and transactions not sufficiently covered in existing surveys and administration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r main source of data – banking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f foreign currenc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irm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ay leave foreign currency abroad, classification less rel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9035-2C03-4CCF-9CB7-98B64AB86E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Improving coverage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ata gradu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lemented and compared with other data sour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T dat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rt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enue classified using business regis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inked to customs data, banking data and compa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urvey on foreign transactions in servi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A22D-21BA-4300-AA84-0CE24ECAAC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s more data become available comparisons between various data sources reveal problems with existing 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eed for solutions of important specific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40080" y="457200"/>
            <a:ext cx="411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Specific probl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34AE-CE76-41E4-81D9-0BBC569639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Joint production across borders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ny services and intangibles, which can be transferred abroad over the internet or telephone, and may not be regist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ffiliates often only registration of finance of compensation of employee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ven if is transfer registered, may be valued at cost or at “transfer” prices and not at market valu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E6D3-2AD4-41B6-B598-D45E1EADE5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Joint production across border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s banking data gradually replaced by enterprise data, enterprises mostly include a minimum mark-up as required by tax authorities in the countries involv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ut since a joint production, market value of production should be divided to reflect  their part adequate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2171-386D-41A0-BC93-C304E3F9D0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Improving measurement of joint production across border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parately identify enterprises that engage in a joint international production, since their structure and production methods diffe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data on multinational enterprises (MNE’s) collected according to guidelines in OECD Handbook on Economic Globalization Indicato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318C-4AF4-4379-87B7-B24C03882C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Improving measurement of joint production across border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1725480"/>
            <a:ext cx="8229600" cy="361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62AF-A7D0-4162-AE17-4AD84554A7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06:13:35Z</dcterms:created>
  <dc:creator>soli peleg</dc:creator>
  <dc:description/>
  <dc:language>en-US</dc:language>
  <cp:lastModifiedBy>Dimova</cp:lastModifiedBy>
  <dcterms:modified xsi:type="dcterms:W3CDTF">2006-04-19T08:42:05Z</dcterms:modified>
  <cp:revision>92</cp:revision>
  <dc:subject/>
  <dc:title>PowerPoint Presentation</dc:title>
</cp:coreProperties>
</file>