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B56-358E-46FA-82B4-D91E9AFC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104-AAA7-4C31-9672-FC2D0121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01E-37F2-4F5A-8563-4D8CB8DA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EA8-0CAB-460B-8000-E179D9C2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FD6-E8B3-4CF5-AF9B-E5FF3625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8C2-3D77-4D98-B314-3B9431CF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9FD-21C2-4AF0-B633-859EE3B5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A6C-714A-44E8-9F5C-C66A4954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B58-46CF-4EB9-BFFD-FE74457C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9C8-5715-496A-A8B3-844EC0DF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19F-5282-4FD7-B842-B2A2D524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B55-943A-4381-9D23-587DC041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218E-5928-45CB-81F5-21D64C80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6646"/>
          <a:stretch/>
        </p:blipFill>
        <p:spPr>
          <a:xfrm>
            <a:off x="0" y="8380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95280"/>
            <a:ext cx="9144000" cy="5091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em 7: National Accounts And Employment 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Employment Statistic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Russian National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xander Surin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uty Head of Ros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52280"/>
            <a:ext cx="62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int UNECE / Eurostat / OEC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on National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eneva, 25 - 28 April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1915920" cy="952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0A6-89BA-421F-A345-58877412CF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80880" y="1447920"/>
          <a:ext cx="8381880" cy="5028840"/>
        </p:xfrm>
        <a:graphic>
          <a:graphicData uri="http://schemas.openxmlformats.org/drawingml/2006/table">
            <a:tbl>
              <a:tblPr/>
              <a:tblGrid>
                <a:gridCol w="2585160"/>
                <a:gridCol w="3044160"/>
                <a:gridCol w="2752560"/>
              </a:tblGrid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pris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 forc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working on civil agreement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umber of employees calculated similar to the average reported number of employe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who worked at least one hour during the survey week or those who had job but were temporarily abs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ing of special catego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s temporarily absent due 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1843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nity and child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leave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p to 1.5 years ol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cluded in the averag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number of employe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1843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care leave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 – 3 years ol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cluded in the averag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number of employe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hired on oral agreement without job contr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cluded in the number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employe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UMBER OF EMPLOYEES: ON THE BASIS OF ENTERPRISE SURVEYS AND LABOR FORCE SURVEY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3B0-9CD7-400F-A214-0CE4E2FADE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80880" y="1447920"/>
          <a:ext cx="8382240" cy="5028840"/>
        </p:xfrm>
        <a:graphic>
          <a:graphicData uri="http://schemas.openxmlformats.org/drawingml/2006/table">
            <a:tbl>
              <a:tblPr/>
              <a:tblGrid>
                <a:gridCol w="2600280"/>
                <a:gridCol w="3038760"/>
                <a:gridCol w="27432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pris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 forc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ing family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cluded in the number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employe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from penitentiary institutions working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he enterpr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ed in average number of employees by actual days of work in the industry which the enterprise using this type of labor belongs t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rveyed. When general estimators are obtained,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hare of employed in the surveyed population is us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 structure by sectors of the economy is used for distribution by sector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9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ed personnel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the entities providing legal order and national secu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ly covered by observatio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ed; 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us figures and auxiliary personnel of religious instit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covered by observatio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ed; 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UMBER OF EMPLOYEES: ON THE BASIS OF ENTERPRISE SURVEYS AND LABOR FORCE SURVEY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B54-68D4-429C-AFDC-5240F294EA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BOR INPUT BY ALL TYPES OF WORK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FULL-TIME EQUIVALENT BY TYPES OF ENT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76280" y="1676520"/>
          <a:ext cx="8191440" cy="54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1676520"/>
                    <a:ext cx="8191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B5B-ED6C-4678-B391-D160BE4D21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IN JOB 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476280" y="1676520"/>
          <a:ext cx="8191440" cy="54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1676520"/>
                    <a:ext cx="8191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B05-D9FC-4FA1-A11E-7FC4214FE1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BOR PRODUCTIVITY DYNAM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1523880"/>
            <a:ext cx="761976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5, Rosstat has developed a methodolog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measuring dynamics of labor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OECD Manual - Measuring Productivity: Measurement of Aggrega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Industry-Level Productivity Growth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base of Ross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ing dynamics of labor productivity (without internation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isons of productivity lev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ing productivity measures in the framework of Russi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ification of Economi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ing productivity within SNA production bound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ttention is paid to sectors with prevailing market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A93-6B93-4BCA-8259-9129E1FB5A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BOR PRODUCTIVITY DYNAM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380880" y="1676520"/>
          <a:ext cx="8382240" cy="4427280"/>
        </p:xfrm>
        <a:graphic>
          <a:graphicData uri="http://schemas.openxmlformats.org/drawingml/2006/table">
            <a:tbl>
              <a:tblPr/>
              <a:tblGrid>
                <a:gridCol w="2895840"/>
                <a:gridCol w="533160"/>
                <a:gridCol w="4953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Econom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Domestic Produc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dependant on the proportions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intermediate product input and labor input, and on vertical integr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s of Activit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by kinds of activit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- to reflect labor needs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unit of physical outp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at describing sectors’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s in labor for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36C-B78A-483A-8BCF-1409E243A3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BOR PRODUCTIVITY DYNAM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90720" y="2057400"/>
          <a:ext cx="7162560" cy="3200400"/>
        </p:xfrm>
        <a:graphic>
          <a:graphicData uri="http://schemas.openxmlformats.org/drawingml/2006/table">
            <a:tbl>
              <a:tblPr/>
              <a:tblGrid>
                <a:gridCol w="2415960"/>
                <a:gridCol w="540000"/>
                <a:gridCol w="4206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ly, at previous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700"/>
                      </a:b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pric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ati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the dynamics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700"/>
                      </a:b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labor productivit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823-F92E-4F70-BCB4-AC26EE11A9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IMATION OF TOTAL LABOR INPU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523880"/>
            <a:ext cx="83822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ccordance with the SNA concept, estim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otal labor input in production of goods and services by all kinds of work is done on the basis of three main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of work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hours wor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-time equivalent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9F9-8BD8-4616-B86D-40804FE59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ASURES OF TOTAL LABOR INPU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79520" y="1523880"/>
          <a:ext cx="8183520" cy="547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9520" y="1523880"/>
                    <a:ext cx="818352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295280" y="5410080"/>
            <a:ext cx="6553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W = WP x average actual hours worked in the accounting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E = HW / average hours worked by full-time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E – number of work-places in full-time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280-F230-411F-AEC3-7E19F91349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VERAGE HOURS WORKED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Y FULL-TIME EMPLOYE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1680" y="1523880"/>
            <a:ext cx="8001000" cy="47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 hours worked by full-time employe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accounting period is determined as the maximum possible number of work hours in case of 40 work hour week with the exclus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leave time stipulated by legislation in the given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aximum possible annual hours worked = 1920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52 calendar weeks – 4 weeks of leave) x 40 hou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9C6-B74B-4404-88B5-D4954A2425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BSERVATION UNITS AND DATA SOURCES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 ESTIMATE TOTAL LABOR INPU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463680" y="1523880"/>
          <a:ext cx="821664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523880"/>
                    <a:ext cx="82166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EBC-72FD-481A-B1A8-D1D1014D64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OLIDATION OF DAT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ROM VARIOUS 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1680" y="1523880"/>
            <a:ext cx="8001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labor input estimation: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Analysis of estimates obtained from different sour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in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age of employed 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of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Work with primary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survey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 force survey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Comparison of data from different sources; data divergence analysis; assessment of necessary adjust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Estimates of total number of employees and total hours work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kinds of w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Calculation of labor input to production of goods and servic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ll kinds of w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767-F148-4009-B089-3B3466F6ED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IASES IN THE LABOR FORCE SURVEY DATA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ENTERPRISE SURVEY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1523880"/>
            <a:ext cx="838224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r force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per industry code of the employ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by a 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per type of employer repor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 respondent (legal entity or employ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legal ent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as due to sampl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coverage of interregional labor migration, when regional estimates are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152-EE74-4F35-9F39-11F286ED3A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IASES IN THE LABOR FORCE SURVEY DATA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ENTERPRISE SURVEY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152388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prise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coverage of workplaces cre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oral agre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2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of the 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2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2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citiz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26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coverage of workplaces cre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work contracts in the organizations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reporting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B69-0293-4FF1-B4C7-06353DC6C4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UMBER OF EMPLOYEES: ON THE BASIS OF ENTERPRISE SURVEYS AND LABOR FORCE SURVEY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395280" y="1523880"/>
          <a:ext cx="8353440" cy="4940280"/>
        </p:xfrm>
        <a:graphic>
          <a:graphicData uri="http://schemas.openxmlformats.org/drawingml/2006/table">
            <a:tbl>
              <a:tblPr/>
              <a:tblGrid>
                <a:gridCol w="2576520"/>
                <a:gridCol w="3048120"/>
                <a:gridCol w="27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pris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 forc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s for: month, quarter, year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week of February, May, August, November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y of repor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working on job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51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jo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51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reported number of employees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 a sum of reported number of employees on each calendar day divided by the number of calendar day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part of the year and for the year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 sum of average reported numbers of employees for all months of the period divided by the number of month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who worked at least one hour during the survey week or those who had job but were temporarily abs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51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j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51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umber of external part-time workers is calculated proportionally to the hours work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who worked at least one hour at additional job during the survey week or those who had an additional job but were temporarily abs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B9D-6C96-4D58-A0C4-D9C77BF276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11:50:15Z</dcterms:created>
  <dc:creator>Трензелев С.А.</dc:creator>
  <dc:description/>
  <dc:language>en-US</dc:language>
  <cp:lastModifiedBy>Kosarev</cp:lastModifiedBy>
  <dcterms:modified xsi:type="dcterms:W3CDTF">2006-04-17T12:33:14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7107914</vt:r8>
  </property>
  <property fmtid="{D5CDD505-2E9C-101B-9397-08002B2CF9AE}" pid="3" name="_AuthorEmail">
    <vt:lpwstr>a_kosarev@beafnd.org</vt:lpwstr>
  </property>
  <property fmtid="{D5CDD505-2E9C-101B-9397-08002B2CF9AE}" pid="4" name="_AuthorEmailDisplayName">
    <vt:lpwstr>Косарев Андрей</vt:lpwstr>
  </property>
  <property fmtid="{D5CDD505-2E9C-101B-9397-08002B2CF9AE}" pid="5" name="_EmailSubject">
    <vt:lpwstr>Set-up Session on NA and employment data, Geneva, April 28th</vt:lpwstr>
  </property>
</Properties>
</file>