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C32-FB67-4DD7-AC08-27312CA2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896-15EF-4446-BCA4-558192BC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013-9240-45F7-A71A-29D70B7C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0E2-41F2-4569-8438-9E5ACB26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803-235B-4ADB-8A2F-1C4EA5A1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CBF-67B2-4D88-B8DC-DAEAB459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BB5-B5C0-4021-9D12-318C237F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A14-9F4C-4E00-97A1-C9480B0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128-DA26-409A-A994-57028A7D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D7C-1E80-4F50-AEA6-E323E112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7A6-A71A-4C26-A563-79F1DD3A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115-A030-459F-BF97-36F54C7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B6FE-6BB1-4FEF-B4E4-4864AD34D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6646"/>
          <a:stretch/>
        </p:blipFill>
        <p:spPr>
          <a:xfrm>
            <a:off x="0" y="8380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9144000" cy="5091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em 7: National Accounts And Employment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Employment Statistic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Russian National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xander Suri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uty Head of Ros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52280"/>
            <a:ext cx="62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t UNECE / Eurostat / OEC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on National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eneva, 25 - 28 April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191592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125-7D0B-49D1-8F1D-823448AA8C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80880" y="1447920"/>
          <a:ext cx="8381880" cy="5028840"/>
        </p:xfrm>
        <a:graphic>
          <a:graphicData uri="http://schemas.openxmlformats.org/drawingml/2006/table">
            <a:tbl>
              <a:tblPr/>
              <a:tblGrid>
                <a:gridCol w="2585160"/>
                <a:gridCol w="3044160"/>
                <a:gridCol w="2752560"/>
              </a:tblGrid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forc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orking on civil agreemen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employees calculated similar to the average reported number 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ho worked at least one hour during the survey week or those who had job but were temporarily abs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ing of special categ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s temporarily absent due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1843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nity and child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leave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 to 1.5 years ol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averag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number 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9440" indent="-1843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care leave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– 3 years ol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averag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number 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hired on oral agreement without job contr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numbe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BER OF EMPLOYEES: ON THE BASIS OF ENTERPRISE SURVEYS AND LABOR FORCE SURVE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949-EA11-4D1C-B52C-D10FC5DB12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80880" y="1447920"/>
          <a:ext cx="8382240" cy="5028840"/>
        </p:xfrm>
        <a:graphic>
          <a:graphicData uri="http://schemas.openxmlformats.org/drawingml/2006/table">
            <a:tbl>
              <a:tblPr/>
              <a:tblGrid>
                <a:gridCol w="2600280"/>
                <a:gridCol w="3038760"/>
                <a:gridCol w="27432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forc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ing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cluded in the numbe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mploye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from penitentiary institutions working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he enterpr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ed in average number of employees by actual days of work in the industry which the enterprise using this type of labor belongs 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veyed. When general estimators are obtained,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are of employed in the surveyed population is us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structure by sectors of the economy is used for distribution by sector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ed personnel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the entities providing legal order and national 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ly covered by observatio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ed; 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us figures and auxiliary personnel of religious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covered by observatio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ed; included in the total employm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BER OF EMPLOYEES: ON THE BASIS OF ENTERPRISE SURVEYS AND LABOR FORCE SURVE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5B4-1355-48E9-B57E-A280F0E7DB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BOR INPUT BY ALL TYPES OF WORK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FULL-TIME EQUIVALENT BY TYPES OF ENT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76280" y="1676520"/>
          <a:ext cx="8191440" cy="54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676520"/>
                    <a:ext cx="8191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D9E-EC41-4022-9FB5-5F5D762A3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IN JOB 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76280" y="1676520"/>
          <a:ext cx="8191440" cy="54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676520"/>
                    <a:ext cx="8191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DCD-204F-43ED-ACE1-4FD600EAF4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OR PRODUCTIVITY DYNAM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1523880"/>
            <a:ext cx="761976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5, Rosstat has developed a methodolog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measuring dynamics of labor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OECD Manual - Measuring Productivity: Measurement of Aggrega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Industry-Level Productivity Growth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base of Ross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ing dynamics of labor productivity (without internation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isons of productivity lev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ing productivity measures in the framework of Russi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fication of Economi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ing productivity within SNA production bound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ttention is paid to sectors with prevailing market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CA4-A75D-4C77-AD24-0325F659DD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OR PRODUCTIVITY DYNAM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380880" y="1676520"/>
          <a:ext cx="8382240" cy="4427280"/>
        </p:xfrm>
        <a:graphic>
          <a:graphicData uri="http://schemas.openxmlformats.org/drawingml/2006/table">
            <a:tbl>
              <a:tblPr/>
              <a:tblGrid>
                <a:gridCol w="2895840"/>
                <a:gridCol w="533160"/>
                <a:gridCol w="4953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conom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Domestic Produc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dependant on the proportions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intermediate product input and labor input, and on vertical integ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s of Activit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by kinds of activit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- to reflect labor needs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unit of physical outp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at describing sectors’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in labor fo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7C0-0371-44B3-844F-42EBFB04B0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OR PRODUCTIVITY DYNAM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2057400"/>
          <a:ext cx="7162560" cy="3200400"/>
        </p:xfrm>
        <a:graphic>
          <a:graphicData uri="http://schemas.openxmlformats.org/drawingml/2006/table">
            <a:tbl>
              <a:tblPr/>
              <a:tblGrid>
                <a:gridCol w="2415960"/>
                <a:gridCol w="540000"/>
                <a:gridCol w="4206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ly, at previous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700"/>
                      </a:b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pric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ati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the dynamics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700"/>
                      </a:b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labor productivit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213-457E-408D-9108-C162FA2DE1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IMATION OF TOTAL LABOR INP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523880"/>
            <a:ext cx="83822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ccordance with the SNA concept, esti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otal labor input in production of goods and services by all kinds of work is done on the basis of three main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of work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hours wor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-time equivalent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630-156E-49D5-B27E-DFF8909B0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ASURES OF TOTAL LABOR INP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79520" y="1523880"/>
          <a:ext cx="8183520" cy="547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9520" y="1523880"/>
                    <a:ext cx="818352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295280" y="5410080"/>
            <a:ext cx="655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W = WP x average actual hours worked in the accounting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E = HW / average hours worked by full-time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E – number of work-places in full-time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CE4-01E9-44BA-A162-C832C04992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VERAGE HOURS WORKED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Y FULL-TIME EMPLOYE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680" y="1523880"/>
            <a:ext cx="8001000" cy="47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hours worked by full-time employe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accounting period is determined as the maximum possible number of work hours in case of 40 work hour week with the exclu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leave time stipulated by legislation in the given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aximum possible annual hours worked = 1920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52 calendar weeks – 4 weeks of leave) x 40 hou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488-832D-4EEF-9B04-19CA094BB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BSERVATION UNITS AND DATA SOURCE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ESTIMATE TOTAL LABOR INPU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63680" y="1523880"/>
          <a:ext cx="821664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523880"/>
                    <a:ext cx="8216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5CC-7715-45B6-B45E-F689F32868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OLIDATION OF DAT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ROM VARIOUS 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1680" y="1523880"/>
            <a:ext cx="8001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labor input estimation: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nalysis of estimates obtained from different 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in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age of employed 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of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ork with primary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survey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force survey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Comparison of data from different sources; data divergence analysis; assessment of necessary adjust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stimates of total number of employees and total hours work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kinds of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Calculation of labor input to production of goods and servi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ll kinds of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AB2-E9DF-40E3-88B2-541A63CA24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IASES IN THE LABOR FORCE SURVEY DAT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ENTERPRISE SURVEY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1523880"/>
            <a:ext cx="838224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r forc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per industry code of the employ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by a 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per type of employer repor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respondent (legal entity or employ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legal ent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 due to sampl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interregional labor migration, when regional estimates are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BFA-8E10-4477-8725-061A9CF3DE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IASES IN THE LABOR FORCE SURVEY DAT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ENTERPRISE SURVEY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152388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pris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workplaces cre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oral agre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of the 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citiz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26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workplaces cre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ork contracts in the organizations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repor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4E6-D9CF-442D-B749-50A81F778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BER OF EMPLOYEES: ON THE BASIS OF ENTERPRISE SURVEYS AND LABOR FORCE SURVE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86800" y="6608880"/>
            <a:ext cx="380880" cy="19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395280" y="1523880"/>
          <a:ext cx="8353440" cy="4940280"/>
        </p:xfrm>
        <a:graphic>
          <a:graphicData uri="http://schemas.openxmlformats.org/drawingml/2006/table">
            <a:tbl>
              <a:tblPr/>
              <a:tblGrid>
                <a:gridCol w="2576520"/>
                <a:gridCol w="3048120"/>
                <a:gridCol w="27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forc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s for: month, quarter, year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week of February, May, August, November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 of repor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orking on job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jo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eported number of employees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 a sum of reported number of employees on each calendar day divided by the number of calendar day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part of the year and for the yea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 sum of average reported numbers of employees for all months of the period divided by the number of month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ho worked at least one hour during the survey week or those who had job but were temporarily abs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j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51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external part-time workers is calculated proportionally to the hours work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s who worked at least one hour at additional job during the survey week or those who had an additional job but were temporarily absen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646240" y="658512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DERAL STATE STATISTICS SERVICE (ROSSTA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435-59DF-4C5C-92F6-B717B3379B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1:50:15Z</dcterms:created>
  <dc:creator>Трензелев С.А.</dc:creator>
  <dc:description/>
  <dc:language>en-US</dc:language>
  <cp:lastModifiedBy>Kosarev</cp:lastModifiedBy>
  <dcterms:modified xsi:type="dcterms:W3CDTF">2006-04-17T12:33:14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7107914</vt:r8>
  </property>
  <property fmtid="{D5CDD505-2E9C-101B-9397-08002B2CF9AE}" pid="3" name="_AuthorEmail">
    <vt:lpwstr>a_kosarev@beafnd.org</vt:lpwstr>
  </property>
  <property fmtid="{D5CDD505-2E9C-101B-9397-08002B2CF9AE}" pid="4" name="_AuthorEmailDisplayName">
    <vt:lpwstr>Косарев Андрей</vt:lpwstr>
  </property>
  <property fmtid="{D5CDD505-2E9C-101B-9397-08002B2CF9AE}" pid="5" name="_EmailSubject">
    <vt:lpwstr>Set-up Session on NA and employment data, Geneva, April 28th</vt:lpwstr>
  </property>
</Properties>
</file>