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82F-E1FB-45E9-AD76-833C0B68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3E1-DF05-4719-8DED-7E66483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62F-8821-4F5C-919A-DCEF4C3E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179-212A-4E84-BBAF-E50C6527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6F5-A7F1-4818-B7F9-BB6DB4B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B67-C5DC-466B-AAA8-DB7F7715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5DC-B9DA-4D47-9D96-3DAEC06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4E0-DD09-471C-A0FC-E2159093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2D6-623B-402F-9B7B-7474780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3DB-8C89-472D-AFDB-3EFB82F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0B5-B25D-48EB-84CC-59AF6A2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CFD-B63E-47E3-A232-4F27A002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EF28-25CC-4B7F-AB2C-DA37A1C93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9144000" cy="5091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 Long time series when major changes occu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culation of the Russian GDP Series due to Introduction of New Classificatio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ina Masa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62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 / Eurostat / OEC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on 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neva, 25 - 28 April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91592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C28-3C31-4840-9B83-AE31F34F6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28960" y="138096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ss Value Added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23493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alue ad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_rat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intermediate consumption to gros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*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_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  -  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9FE-4554-411F-8136-BA0F5097D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444600" y="2133720"/>
          <a:ext cx="2590560" cy="2587680"/>
        </p:xfrm>
        <a:graphic>
          <a:graphicData uri="http://schemas.openxmlformats.org/drawingml/2006/table">
            <a:tbl>
              <a:tblPr/>
              <a:tblGrid>
                <a:gridCol w="519120"/>
                <a:gridCol w="517320"/>
                <a:gridCol w="517680"/>
                <a:gridCol w="51912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416400" y="2133720"/>
          <a:ext cx="2438280" cy="2587680"/>
        </p:xfrm>
        <a:graphic>
          <a:graphicData uri="http://schemas.openxmlformats.org/drawingml/2006/table">
            <a:tbl>
              <a:tblPr/>
              <a:tblGrid>
                <a:gridCol w="487440"/>
                <a:gridCol w="487440"/>
                <a:gridCol w="488880"/>
                <a:gridCol w="487440"/>
                <a:gridCol w="48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49236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4956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48308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40280" y="3284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97480" y="3284640"/>
                <a:ext cx="360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9236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4956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43052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9402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974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6311880" y="2133720"/>
          <a:ext cx="2666880" cy="3105000"/>
        </p:xfrm>
        <a:graphic>
          <a:graphicData uri="http://schemas.openxmlformats.org/drawingml/2006/table">
            <a:tbl>
              <a:tblPr/>
              <a:tblGrid>
                <a:gridCol w="444240"/>
                <a:gridCol w="446040"/>
                <a:gridCol w="443160"/>
                <a:gridCol w="444240"/>
                <a:gridCol w="444600"/>
                <a:gridCol w="44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205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58904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397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7976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054080" y="2276640"/>
                <a:ext cx="358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118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226280" y="2276640"/>
                <a:ext cx="38088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834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1406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69080" y="2276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06072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66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056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5408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51128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04480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579760" y="2781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2056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540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89040" y="3789360"/>
                <a:ext cx="3794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4480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7976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3118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690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22628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683480" y="3789360"/>
                <a:ext cx="38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40680" y="378936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118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7690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2262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834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140680" y="2852640"/>
                <a:ext cx="3715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3118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7690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2262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83480" y="335772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140680" y="3357720"/>
                <a:ext cx="358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3118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7690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2262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834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8140680" y="4292640"/>
                <a:ext cx="371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8597880" y="227664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8597880" y="285264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597880" y="3357720"/>
                <a:ext cx="343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8597880" y="3789360"/>
                <a:ext cx="3618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597880" y="429264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311880" y="479736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7690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2262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683480" y="479736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140680" y="4797360"/>
                <a:ext cx="382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912320" y="14320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culation of output in consta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53402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rix obtained by extrap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4920" y="53402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rix obtained by def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53402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put in constant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00D-57F1-49F7-A859-DB7A6DE5D8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results of the GDP re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26920" y="1422360"/>
            <a:ext cx="784872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GDP to Q1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ONK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VE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3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23.0                   123.0                   0.0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30.7                   131.6                  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51.3                   150.8                 -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44.8                   148.7                   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31.9                   131.8                 - 0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40.5                   141.9                  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62.1                   161.6                 -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154.6                  158.7                    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3F3-E850-4E43-9961-EFAE82991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989000"/>
            <a:ext cx="83822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ONKh: previously u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 (institutional indus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VED: new classification (kinds of economic ac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in the accounting standards and  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 approach to recalculation of the GDP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results of the GDP series 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B53-1A25-443C-A77F-C82E801BB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KON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23880"/>
            <a:ext cx="838224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n classification of the industries of the economy  - OKONK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 by kinds of activities of different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uni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ment of the enterprise realizing an homogen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s of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A1F-B74C-4846-ADDE-0B4373997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K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523880"/>
            <a:ext cx="83822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n Classification of Kinds of Economic Activit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V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y – kind of economic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s of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force since January 1, 200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-200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the transition period; dat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ed by two classifications (OKONK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K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F7B-2D57-4469-82C1-CF52A93FA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nterprise in the framework of OKONK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95280" y="2092320"/>
          <a:ext cx="8548560" cy="3392640"/>
        </p:xfrm>
        <a:graphic>
          <a:graphicData uri="http://schemas.openxmlformats.org/drawingml/2006/table">
            <a:tbl>
              <a:tblPr/>
              <a:tblGrid>
                <a:gridCol w="1336680"/>
                <a:gridCol w="1106640"/>
                <a:gridCol w="1352520"/>
                <a:gridCol w="1224000"/>
                <a:gridCol w="1223640"/>
                <a:gridCol w="1008360"/>
                <a:gridCol w="1296720"/>
              </a:tblGrid>
              <a:tr h="6159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urgy plan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-ho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ng of ferrous metal 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d met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blocks product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ware product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-ion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-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FC1-2F08-4761-A36F-070D964845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son of OKONKh and OK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37520" y="13161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ON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2708280"/>
            <a:ext cx="10015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lone boi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708280"/>
            <a:ext cx="1224000" cy="641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ion of ferrous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70280" y="2708280"/>
            <a:ext cx="94464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el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81360"/>
            <a:ext cx="1047960" cy="76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erground mining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rrous metal  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270828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ing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708280"/>
            <a:ext cx="936360" cy="64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block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217980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lectric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8640" y="2217600"/>
            <a:ext cx="36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errous metallu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2708280"/>
            <a:ext cx="1008000" cy="64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ight metal 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251080"/>
            <a:ext cx="223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achine-building and me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789360"/>
            <a:ext cx="878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6720" y="6093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44640"/>
            <a:ext cx="8645400" cy="33732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16640"/>
            <a:ext cx="2124000" cy="7333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ity, gas, water: production and distrib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01080" y="2708280"/>
            <a:ext cx="1041480" cy="641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lic construction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55720" y="2251080"/>
            <a:ext cx="11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38400" y="3933720"/>
            <a:ext cx="175248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ng exclusive of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5400" y="5521320"/>
            <a:ext cx="1830240" cy="7333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-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0" y="3933720"/>
            <a:ext cx="2043360" cy="1006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roduction and finished metal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8240" y="3941640"/>
            <a:ext cx="1320840" cy="1006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coke, oil products and nuclear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9040" y="5518080"/>
            <a:ext cx="4405320" cy="307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35772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35772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32148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211640" y="3357720"/>
            <a:ext cx="22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7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321300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013360"/>
            <a:ext cx="165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84360" y="3357720"/>
            <a:ext cx="3166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84360" y="3357720"/>
            <a:ext cx="4319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8ED-CEEC-49A5-9832-E6DC89109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the accounting standards and  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2427120"/>
            <a:ext cx="83822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on the composi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x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efinition of the main kind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9B1-5B51-4C12-BD2D-92DE8E865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608120"/>
            <a:ext cx="43210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volume of ship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ventories of finished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changes in unfinishe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materials for to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es on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es on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f th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716360" y="3141720"/>
            <a:ext cx="4032000" cy="3239640"/>
            <a:chOff x="4716360" y="3141720"/>
            <a:chExt cx="4032000" cy="3239640"/>
          </a:xfrm>
        </p:grpSpPr>
        <p:grpSp>
          <p:nvGrpSpPr>
            <p:cNvPr id="122" name=""/>
            <p:cNvGrpSpPr/>
            <p:nvPr/>
          </p:nvGrpSpPr>
          <p:grpSpPr>
            <a:xfrm>
              <a:off x="4716360" y="3141720"/>
              <a:ext cx="4032000" cy="3239640"/>
              <a:chOff x="4716360" y="3141720"/>
              <a:chExt cx="4032000" cy="3239640"/>
            </a:xfrm>
          </p:grpSpPr>
          <p:sp>
            <p:nvSpPr>
              <p:cNvPr id="123" name=""/>
              <p:cNvSpPr/>
              <p:nvPr/>
            </p:nvSpPr>
            <p:spPr>
              <a:xfrm>
                <a:off x="5377680" y="3538080"/>
                <a:ext cx="3370680" cy="2843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68760" y="3538080"/>
                <a:ext cx="528840" cy="2843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7680" y="4794480"/>
                <a:ext cx="337068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34080" y="3141720"/>
                <a:ext cx="0" cy="33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6360" y="4992840"/>
                <a:ext cx="52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368760" y="479448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97960" y="479448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219640" y="1484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3300"/>
                </a:solidFill>
                <a:latin typeface="Arial"/>
              </a:rPr>
              <a:t>For each </a:t>
            </a:r>
            <a:r>
              <a:rPr b="0" i="1" lang="ru-RU" sz="2200" spc="-1" strike="noStrike">
                <a:solidFill>
                  <a:srgbClr val="663300"/>
                </a:solidFill>
                <a:latin typeface="Arial"/>
              </a:rPr>
              <a:t>   А, …, Х </a:t>
            </a:r>
            <a:br>
              <a:rPr sz="2200"/>
            </a:br>
            <a:r>
              <a:rPr b="0" i="1" lang="en-US" sz="2200" spc="-1" strike="noStrike">
                <a:solidFill>
                  <a:srgbClr val="663300"/>
                </a:solidFill>
                <a:latin typeface="Arial"/>
              </a:rPr>
              <a:t>a matrix is constru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278136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stitutional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7912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ur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516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A + B + C + D – E +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0A6-8A53-436F-9279-60702B9D5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approach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8000" y="1833480"/>
            <a:ext cx="1568520" cy="130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60640"/>
            <a:ext cx="156852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276640"/>
            <a:ext cx="151272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3657600"/>
            <a:ext cx="866520" cy="131760"/>
          </a:xfrm>
          <a:prstGeom prst="rightArrow">
            <a:avLst>
              <a:gd name="adj1" fmla="val 50000"/>
              <a:gd name="adj2" fmla="val 164413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20" y="179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6480" y="412596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9520" y="2549520"/>
            <a:ext cx="1446480" cy="138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560" y="202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480" y="2239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4280" y="2502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2960" y="2852640"/>
            <a:ext cx="14446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9440" y="28576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2852640"/>
            <a:ext cx="5032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221000"/>
            <a:ext cx="194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4292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299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37400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4797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by institutional indu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869000"/>
            <a:ext cx="2952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55640" y="4508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148428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by pure indu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1484280"/>
            <a:ext cx="1297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141300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360" y="580536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erprise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141300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1484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ion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5958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native data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38560" y="1484280"/>
            <a:ext cx="1873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645000"/>
            <a:ext cx="866880" cy="131760"/>
          </a:xfrm>
          <a:prstGeom prst="rightArrow">
            <a:avLst>
              <a:gd name="adj1" fmla="val 50000"/>
              <a:gd name="adj2" fmla="val 164481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2852640"/>
            <a:ext cx="143964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2852640"/>
            <a:ext cx="144000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29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3716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852640"/>
            <a:ext cx="5032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4221000"/>
            <a:ext cx="194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28000" y="29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28000" y="37400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1360" y="285264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1628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484280"/>
            <a:ext cx="216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FED-39C8-40CD-A4EA-0AB77D238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1:50:15Z</dcterms:created>
  <dc:creator>Трензелев С.А.</dc:creator>
  <dc:description/>
  <dc:language>en-US</dc:language>
  <cp:lastModifiedBy>Kosarev</cp:lastModifiedBy>
  <dcterms:modified xsi:type="dcterms:W3CDTF">2006-04-19T05:37:08Z</dcterms:modified>
  <cp:revision>133</cp:revision>
  <dc:subject/>
  <dc:title>Презентация PowerPoint</dc:title>
</cp:coreProperties>
</file>