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9E123-FD9A-41EF-80BA-70461FAD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41292-E20B-4FB3-8F05-C7FD680D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49A30-D2D6-42E3-B240-6FE20FA9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F351B-810A-4E22-A2BC-9020EBE1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8969-A75F-41AE-BAB1-C9E66589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4952-39F4-40A3-ABDE-C0B59E1A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2287-98BA-4AB4-8C4F-0BF4DB89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5578-AF1A-45D9-BAAA-803DEB29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D6A6-D729-4DF3-92ED-C0B75B11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3390-2CBB-4F01-A177-59DC42A7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8013-93DA-4B75-A5F8-E44A1015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435C1-B939-4F9C-9F6D-04A7D861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1D8B-BAF0-4F0C-9303-7810AFE5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B753-E413-4C90-95DF-A136111D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931E-D4CA-41C1-ACDC-D96311BD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A51D-43B5-45CE-85D8-B7ADF72E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5418-9B2E-410C-AE5A-EDE1D181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932A0-82A1-4298-95C2-D11FCD2C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247EB-CF0A-4933-BE87-DE153E84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5C0B4-8C6B-404D-B92C-74C0312F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1D927-833E-40B9-BB70-5664A95D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50943-D696-47BC-BF85-4EBC0343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EB506-BA9A-4B82-A79B-6C7A8EE4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E9100-8365-4CAB-8BED-E709DD22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DDF7-444E-4098-B02B-1BD27D2157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E844-F734-4B47-8686-57EB8A3384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t UNECE/EUROSTAT/OECD Meeting on National Accou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666880" y="4267080"/>
            <a:ext cx="6096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siness Register and Globaliza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e Business Register as a Basis for Dealing with Measurement Issues Related to Globalization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 complexity of production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ree trade zones – agreement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DI: shift from horizontal to vertical integra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itioning of produ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nternational contractual arrangements of production – to capture gains from trad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hallen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ing track of increasingly complex economic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ing coherence between production accounts (establishment-based) and income/capital/financial accounts (enterprise-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urrent BR in Canad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 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LE, Operating, CE, Statistica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LE only relate to domestic legal contex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pdates not synchronize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databases on ownership/control are not linked to B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New BR in Canad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ing other databases - BOP regi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legal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xternal children of parent compani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ltimate country of contro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Ownership links with parents or other companies abroa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 ownership/control relationship &gt;1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 around LE and operating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New BR in Canad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e to use business accounting to define enterprises, establishments and ancillary un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ment Center: Enterpr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it centre: Establish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centre: Establishment - Ancillary un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xpected Benefi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ter classification of units (loc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ill help regional accoun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ate enterprise-establishments al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ter coverage of ancillary un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P/Enterprise surveys: Better coverage because more information on ownership/control for all legal ent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monitor foreign direct inves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ward and outwar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help strengthen trade in services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orth mention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M – Enterprise Portfolio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ing surplus 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 &amp; Administrative data: Powerful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Labour incom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oherenc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16:10:51Z</dcterms:created>
  <dc:creator>maynard</dc:creator>
  <dc:description/>
  <dc:language>en-US</dc:language>
  <cp:lastModifiedBy>maynard</cp:lastModifiedBy>
  <dcterms:modified xsi:type="dcterms:W3CDTF">2006-04-27T05:19:34Z</dcterms:modified>
  <cp:revision>18</cp:revision>
  <dc:subject/>
  <dc:title>Slide 1</dc:title>
</cp:coreProperties>
</file>