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C4BE-9B53-43B1-A567-3C65BDF8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AE8C-3C72-46CF-8AA0-9E9EAB17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C2CE-F171-4782-8B2E-46BBAD4E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6A05F-9074-4846-B92D-8E9777FA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1619-C666-4D5F-9C9F-52F86D00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E598-0C4A-4B0E-825C-F245D731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7046-1050-4821-88A6-96BA5892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C072-8368-4E26-816D-05072D06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FF9C-335F-4193-A14A-3FCFBD81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11D6-4BEA-46C0-8654-0341265C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C547-A0DD-41BD-978C-A8C85D7A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14C3-91C5-450C-BBD5-925A2A7B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1036-8625-4A3D-9064-FB7A3F4F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9C4A-0B1F-444E-8841-CD30B638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52F8-A554-4268-8ED1-6B8CF00A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3429-00B3-4CE1-9027-BFB54E86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8FC3-1B2E-4165-90C6-B69CDEDD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49D5-AA8B-4E0A-B484-BACF0A5B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94CF-6B79-4DCA-B464-58A648A3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EC6B-9FDA-4F82-83B3-9008D8BB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FEC1-3B25-4547-A70A-48FA8D19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07E6B-996F-40C2-A771-A6539C71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27F4-0659-47B6-8D8C-8D7C84FF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37D7-57E3-4F1A-AD17-FF58FC5B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1108-0161-4D3B-91A5-0BAFCD3F77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E4D1-F08D-4180-9221-C0F567516A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t UNECE/EUROSTAT/OECD Meeting on National Accou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666880" y="4267080"/>
            <a:ext cx="6096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siness Register and Globaliz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Business Register as a Basis for Dealing with Measurement Issues Related to Globalizatio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 complexity of productio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ree trade zones – agreeme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DI: shift from horizontal to vertical integr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itioning of produ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ternational contractual arrangements of production – to capture gains from trad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alle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ing track of increasingly complex economic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ing coherence between production accounts (establishment-based) and income/capital/financial accounts (enterprise-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urrent BR in Canad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E, Operating, CE, Statistic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E only relate to domestic legal contex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pdates not synchroniz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databases on ownership/control are not linked to B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ew BR in Canad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ing other databases - BOP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lega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ternal children of parent compani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ltimate country of contro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wnership links with parents or other companies abroa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ownership/control relationship &gt;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around LE and operating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ew BR in Canad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to use business accounting to define enterprises, establishments and ancillary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ment Center: Enter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t centre: Establ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centre: Establishment - Ancillary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xpected Benefi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classification of units (lo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ill help regional accoun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 enterprise-establishments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coverage of ancillary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P/Enterprise surveys: Better coverage because more information on ownership/control for all legal ent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monitor foreign direct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ward and outwar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help strengthen trade in service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orth mention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M – Enterprise Portfolio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ng surplus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 &amp; Administrative data: Powerful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bour incom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here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6:10:51Z</dcterms:created>
  <dc:creator>maynard</dc:creator>
  <dc:description/>
  <dc:language>en-US</dc:language>
  <cp:lastModifiedBy>maynard</cp:lastModifiedBy>
  <dcterms:modified xsi:type="dcterms:W3CDTF">2006-04-27T05:19:34Z</dcterms:modified>
  <cp:revision>18</cp:revision>
  <dc:subject/>
  <dc:title>Slide 1</dc:title>
</cp:coreProperties>
</file>