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1B26-EEF6-40CE-A35C-C999BFF80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69000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398B2-B352-4B78-8E7F-BD1C733306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6900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6900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961A-0FD6-4E84-A277-DE4BA8478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1426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1426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6900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6900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6900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EB3B4-4D25-4B52-BF12-2B706828C7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6900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42CF5-A355-4FBA-BD69-E342BE4DD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6900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69000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69000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6900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6900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1426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1426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6900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6900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6900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54A0D-DCB4-40D4-99D4-394950229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6F1E5-2FC0-41BF-B2AB-721493D60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7F477-4C3C-48F4-83BC-F25306160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D9ECF-1F5E-4761-ACA9-75EB2C9B1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6900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049F1-942C-4A93-9305-A9F31DF19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6900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6800-26BB-4EC8-B4E6-13813878D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69000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EA726-9D6B-4ACC-912C-928B3DB75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7000" y="6035760"/>
            <a:ext cx="8812080" cy="669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6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D570-000D-4143-B8F3-A4453997D0C4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9840" y="64904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67f"/>
                </a:solidFill>
                <a:latin typeface="Trebuchet MS"/>
              </a:rPr>
              <a:t>www.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55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920" y="5711760"/>
            <a:ext cx="8812080" cy="831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9d1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455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The Importance of, and Pitfalls in, Measuring Globalization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"/>
          <p:cNvSpPr/>
          <p:nvPr/>
        </p:nvSpPr>
        <p:spPr>
          <a:xfrm>
            <a:off x="2513160" y="4114800"/>
            <a:ext cx="63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J. Steven Landefeld and Obie G. Whic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nference of European Statisticians/OECD National Accounts Meeting</a:t>
            </a:r>
            <a:endParaRPr b="0" lang="en-US" sz="2800" spc="-1" strike="noStrike">
              <a:solidFill>
                <a:srgbClr val="f7e9d1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Geneva, April 25-28, 2006</a:t>
            </a:r>
            <a:endParaRPr b="0" lang="en-US" sz="2800" spc="-1" strike="noStrike">
              <a:solidFill>
                <a:srgbClr val="f7e9d1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e9d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Measuring Globalization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NC Operations Data (Foreign Affiliated Trade and Other Data) key in presenting baseline facts for offshoring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 MNC’s employment, sales, spending in the U.S. vs. abroad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 MNC’s overseas sales to local area vs. other regions, and the U.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.S. MNC investments in large in growing markets vs. low wage countries.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D575-B5E2-426A-AF3B-358B1D5579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Measuring Globalization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NC Operations Data Issue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creasing use of holding compani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982 – Holding companies accounted for 9% of USDIA; by 2004 this share had risen to 34%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creasing problems for industry and geographic dat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75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ndustry of parent vs. industry of subsidiar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75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OP vs. Ultimate beneficial owner (other treatments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creasing incidence of invers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milar issues (to India) relating to bilateral dat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creasing importance of publicizing and explaining MNC data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12E9A-C2CA-4A88-9CE9-B66F067DD2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hina Statistics Comparison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668920"/>
            <a:ext cx="85341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 u="sng">
                <a:solidFill>
                  <a:srgbClr val="000000"/>
                </a:solidFill>
                <a:uFillTx/>
                <a:latin typeface="Trebuchet MS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ource:  UN, </a:t>
            </a:r>
            <a:r>
              <a:rPr b="0" i="1" lang="en-US" sz="1200" spc="-1" strike="noStrike">
                <a:solidFill>
                  <a:srgbClr val="000000"/>
                </a:solidFill>
                <a:latin typeface="Trebuchet MS"/>
              </a:rPr>
              <a:t>World Investment Report 2005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42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C3EDC-3B16-4755-8634-711597F02F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Possible Causes of a Change in the Domestic (U.S.) Share of Employment by a U.S. MNC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39440" cy="42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1E97A-0094-4791-96E1-C8DA8E4124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Measuring Globalization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5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mportance of globalization and Cross-Border Trad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5000"/>
              </a:lnSpc>
              <a:spcBef>
                <a:spcPts val="14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Globalization, offshoring, and Lou Dobb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5000"/>
              </a:lnSpc>
              <a:spcBef>
                <a:spcPts val="14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dian Software Servi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5000"/>
              </a:lnSpc>
              <a:spcBef>
                <a:spcPts val="14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rk Matter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05000"/>
              </a:lnSpc>
              <a:spcBef>
                <a:spcPts val="11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ver or underestimate of current account defici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A82CD-9B8D-4D0F-AD4A-E527874874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GDP and Employmen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4262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5562720"/>
            <a:ext cx="853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ource:  BEA and BLS (CES dat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E0E8B-B04A-4506-AB9F-7564BFB614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U.S. and Indian Data on Trade in BPT Services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197320"/>
            <a:ext cx="853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ource:  BEA, NASCOMM, Reserve Bank of India (RBI), and BEA estimates based on RBI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* BEA unaffiliated trade with India increased by the ratio of total unaffiliated trade to total unaffiliated and affiliated trade in computer and information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42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91C6D-1382-45E2-9F49-86197C3197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Measuring Globalization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3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ark Matter: The problem of distentangling services trade from financial transaction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5000"/>
              </a:lnSpc>
              <a:spcBef>
                <a:spcPts val="11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igher returns on USDIA than FDIU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05000"/>
              </a:lnSpc>
              <a:spcBef>
                <a:spcPts val="10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sult of implicit exports of U.S. knowledge capital that raise U.S. profits and or lower IIP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05000"/>
              </a:lnSpc>
              <a:spcBef>
                <a:spcPts val="10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sult of transfer pricing that lowers USDIA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05000"/>
              </a:lnSpc>
              <a:spcBef>
                <a:spcPts val="10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ost of other factors controlling returns and asset price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105000"/>
              </a:lnSpc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urrency risk, country political risk, country cyclical risk, relative effective tax rates, relative interest rates/opportunity costs, historical investment pattern, and capital gains and losse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105000"/>
              </a:lnSpc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ry difficult – and risky - to impute to services.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33979-2A30-40DD-96D4-8E734DE9CE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International Transactions an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Alternative Measures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5562720"/>
            <a:ext cx="853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ource:  B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381880" cy="436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EDC77-0FA1-47D4-B7BF-5A8AFB3097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Potential Volatility Involved i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Measuring Intangibles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5121360"/>
            <a:ext cx="85341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 u="sng">
                <a:solidFill>
                  <a:srgbClr val="000000"/>
                </a:solidFill>
                <a:uFillTx/>
                <a:latin typeface="Trebuchet MS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ource:  FRB Flow of Funds (L.102 and B.102) release March 9, 2006.  Data based on nonfarm nonfinancial corporate busi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Note:  A number of analysts attributed the large difference between equity values and the replacement value of plant and equipment to intangibles during the market run-up in the late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1054080"/>
            <a:ext cx="853416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28F6E-24FC-4D80-9B53-44AE2A957A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Measuring Globalization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itfalls in (and techniques for) estimating cross-border servi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portance of detailed estimat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s of counter-party dat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Joint-products”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imating financial servic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lobalization and incomplete reporting by large compani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rise in direct transactions and small-firms in international trad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FB3B-228C-4ED1-B32F-DEE8AAA5FE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Measuring Globalization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itfalls in (and techniques for) estimating cross-border services (continued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ravel and passenger survey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lobal competition and differential pric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E7D1E-6000-4E37-97C3-A4E3108CCF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18:36:32Z</dcterms:created>
  <dc:creator>Cindy Vojtech</dc:creator>
  <dc:description/>
  <dc:language>en-US</dc:language>
  <cp:lastModifiedBy>CSD</cp:lastModifiedBy>
  <dcterms:modified xsi:type="dcterms:W3CDTF">2006-04-27T10:35:59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