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20AFF-1E19-46BA-8B21-ACA673D139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690000"/>
            <a:ext cx="8534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FFB91-6ADE-4E5E-A576-74C54E8DBE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14264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69000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69000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F9E3D-F02F-43F0-AC7B-85A608999E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14264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14264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69000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69000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69000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C0BC8-FAB4-4B04-96DC-4C4D2C4E2D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14264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9d1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164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1142640"/>
            <a:ext cx="4164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7e9d1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142640"/>
            <a:ext cx="4164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69000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14264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9d1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6420A-21D6-4598-8524-37FC6E96AC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164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14264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369000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14264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690000"/>
            <a:ext cx="8534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690000"/>
            <a:ext cx="8534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114264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69000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369000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114264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14264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69000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369000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69000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8246A-2B20-4B53-B415-0CCE83599C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164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142640"/>
            <a:ext cx="4164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A7AC1-45C1-446A-A144-0E77E69AD0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9CDAB-1832-482C-932C-532F6B4C2E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7e9d1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255F9-48BF-4F42-962A-65D0E8DEF4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142640"/>
            <a:ext cx="4164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69000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F558F-1688-41CD-9F25-66186694C2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164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14264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69000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4799F-0546-4EC8-98CE-0AF18A2301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14264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690000"/>
            <a:ext cx="8534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86EB5-6C68-45F1-A51A-026E3172D7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7000" y="6035760"/>
            <a:ext cx="8812080" cy="6699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26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114264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34520" y="6477120"/>
            <a:ext cx="38088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26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B9809-0CF4-48A5-9526-C76FB972DFC0}" type="slidenum">
              <a:rPr b="0" lang="en-US" sz="1200" spc="-1" strike="noStrike">
                <a:solidFill>
                  <a:srgbClr val="0026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9840" y="6490440"/>
            <a:ext cx="138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67f"/>
                </a:solidFill>
                <a:latin typeface="Trebuchet MS"/>
              </a:rPr>
              <a:t>www.bea.g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26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455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920" y="5711760"/>
            <a:ext cx="8812080" cy="831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e9d1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7e9d1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455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The Importance of, and Pitfalls in, Measuring Globalization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"/>
          <p:cNvSpPr/>
          <p:nvPr/>
        </p:nvSpPr>
        <p:spPr>
          <a:xfrm>
            <a:off x="2513160" y="4114800"/>
            <a:ext cx="632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J. Steven Landefeld and Obie G. Which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onference of European Statisticians/OECD National Accounts Meeting</a:t>
            </a:r>
            <a:endParaRPr b="0" lang="en-US" sz="2800" spc="-1" strike="noStrike">
              <a:solidFill>
                <a:srgbClr val="f7e9d1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Geneva, April 25-28, 2006</a:t>
            </a:r>
            <a:endParaRPr b="0" lang="en-US" sz="2800" spc="-1" strike="noStrike">
              <a:solidFill>
                <a:srgbClr val="f7e9d1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e9d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Measuring Globalization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NC Operations Data (Foreign Affiliated Trade and Other Data) key in presenting baseline facts for offshoring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9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S MNC’s employment, sales, spending in the U.S. vs. abroad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9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S MNC’s overseas sales to local area vs. other regions, and the U.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9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.S. MNC investments in large in growing markets vs. low wage countries.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82035-4DF1-420E-8DDF-9B06709BD3F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Measuring Globalization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NC Operations Data Issues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9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creasing use of holding compani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5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1982 – Holding companies accounted for 9% of USDIA; by 2004 this share had risen to 34%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5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ncreasing problems for industry and geographic dat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675"/>
              </a:spcBef>
              <a:buClr>
                <a:srgbClr val="c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ndustry of parent vs. industry of subsidiary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675"/>
              </a:spcBef>
              <a:buClr>
                <a:srgbClr val="c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BOP vs. Ultimate beneficial owner (other treatments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5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ncreasing incidence of inversio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9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milar issues (to India) relating to bilateral dat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9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creasing importance of publicizing and explaining MNC data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99B3C-339A-4F58-B530-E48ECDD699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China Statistics Comparison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5668920"/>
            <a:ext cx="853416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 u="sng">
                <a:solidFill>
                  <a:srgbClr val="000000"/>
                </a:solidFill>
                <a:uFillTx/>
                <a:latin typeface="Trebuchet MS"/>
              </a:rPr>
              <a:t>	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Source:  UN, </a:t>
            </a:r>
            <a:r>
              <a:rPr b="0" i="1" lang="en-US" sz="1200" spc="-1" strike="noStrike">
                <a:solidFill>
                  <a:srgbClr val="000000"/>
                </a:solidFill>
                <a:latin typeface="Trebuchet MS"/>
              </a:rPr>
              <a:t>World Investment Report 2005</a:t>
            </a: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534160" cy="42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7B857-0F6C-4D73-B824-C29CB523D7A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Possible Causes of a Change in the Domestic (U.S.) Share of Employment by a U.S. MNC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8839440" cy="420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84E17-1660-4F5D-9935-1ACE8D3938E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Measuring Globalization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15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Importance of globalization and Cross-Border Trade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5000"/>
              </a:lnSpc>
              <a:spcBef>
                <a:spcPts val="14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Globalization, offshoring, and Lou Dobb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5000"/>
              </a:lnSpc>
              <a:spcBef>
                <a:spcPts val="14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ndian Software Servic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5000"/>
              </a:lnSpc>
              <a:spcBef>
                <a:spcPts val="14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ark Matter”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105000"/>
              </a:lnSpc>
              <a:spcBef>
                <a:spcPts val="11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ver or underestimate of current account defici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D2868-F3DC-40AA-822A-4C9DD43E79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GDP and Employment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534160" cy="42624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04920" y="5562720"/>
            <a:ext cx="8534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rebuchet MS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Source:  BEA and BLS (CES data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D91C3-3CD5-4B37-B197-F819BBA0B37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U.S. and Indian Data on Trade in BPT Services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5197320"/>
            <a:ext cx="8534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rebuchet MS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Source:  BEA, NASCOMM, Reserve Bank of India (RBI), and BEA estimates based on RBI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* BEA unaffiliated trade with India increased by the ratio of total unaffiliated trade to total unaffiliated and affiliated trade in computer and information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534160" cy="42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D986E-3D61-4BD1-BFFA-0358FE10EC0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Measuring Globalization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13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Dark Matter: The problem of distentangling services trade from financial transactions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5000"/>
              </a:lnSpc>
              <a:spcBef>
                <a:spcPts val="11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igher returns on USDIA than FDIU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105000"/>
              </a:lnSpc>
              <a:spcBef>
                <a:spcPts val="10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sult of implicit exports of U.S. knowledge capital that raise U.S. profits and or lower IIP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105000"/>
              </a:lnSpc>
              <a:spcBef>
                <a:spcPts val="10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sult of transfer pricing that lowers USDIA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105000"/>
              </a:lnSpc>
              <a:spcBef>
                <a:spcPts val="10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ost of other factors controlling returns and asset prices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lnSpc>
                <a:spcPct val="105000"/>
              </a:lnSpc>
              <a:spcBef>
                <a:spcPts val="9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urrency risk, country political risk, country cyclical risk, relative effective tax rates, relative interest rates/opportunity costs, historical investment pattern, and capital gains and losses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lnSpc>
                <a:spcPct val="105000"/>
              </a:lnSpc>
              <a:spcBef>
                <a:spcPts val="9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Very difficult – and risky - to impute to services.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6C284-38FC-4DB9-AEA1-25BBEC83F6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International Transactions and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Alternative Measures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5562720"/>
            <a:ext cx="8534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rebuchet MS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Source:  B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381880" cy="4367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1E071-FAE7-477F-A2F5-E5D83AD1CE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Potential Volatility Involved i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Measuring Intangibles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5121360"/>
            <a:ext cx="85341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 u="sng">
                <a:solidFill>
                  <a:srgbClr val="000000"/>
                </a:solidFill>
                <a:uFillTx/>
                <a:latin typeface="Trebuchet MS"/>
              </a:rPr>
              <a:t>	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Source:  FRB Flow of Funds (L.102 and B.102) release March 9, 2006.  Data based on nonfarm nonfinancial corporate busin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Note:  A number of analysts attributed the large difference between equity values and the replacement value of plant and equipment to intangibles during the market run-up in the late 1990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04920" y="1054080"/>
            <a:ext cx="8534160" cy="417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D33F4-19F2-4E15-868D-8FAE78326C4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Measuring Globalization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itfalls in (and techniques for) estimating cross-border servic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9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mportance of detailed estimat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9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ses of counter-party dat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9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Joint-products”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9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stimating financial servic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9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Globalization and incomplete reporting by large compani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9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rise in direct transactions and small-firms in international trad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AB631-1CF4-4A1A-8171-AB4349B6D63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Measuring Globalization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itfalls in (and techniques for) estimating cross-border services (continued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9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ravel and passenger survey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9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Global competition and differential pric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A706C-52B7-4184-B4EA-13A62AF6B1F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2T18:36:32Z</dcterms:created>
  <dc:creator>Cindy Vojtech</dc:creator>
  <dc:description/>
  <dc:language>en-US</dc:language>
  <cp:lastModifiedBy>CSD</cp:lastModifiedBy>
  <dcterms:modified xsi:type="dcterms:W3CDTF">2006-04-27T10:35:59Z</dcterms:modified>
  <cp:revision>6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