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F97-C6CD-498B-98F5-967AB105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3F3-E9B9-4275-AE6E-542472F1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EA1-B287-422F-8F07-290636E0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435-A6A9-4DA8-A349-EB6BA172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550-EDAD-470A-A601-662C7D66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2A4-81D2-4A5B-895C-2E0AE40E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9D0-B52D-402F-A7FC-6466BD5A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2CA-22CF-4112-9103-B8405E00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F1F-53FA-47E4-9C6A-B80D170A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BD6-0B40-4E8F-B8F0-501656C8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8DE5-6D0A-4E4F-9F17-3DA469DD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BE0-72D1-4527-BCF9-91540592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AD94-50E0-49D0-A73B-8C58F44C2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ension schemes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n intrepretation of the AEG short min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rançois Lequi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e second pi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wo different « paradigm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anglo saxon 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second pillar is organised through employer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role of the government in retirement is limited to its own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The recommendation of the AEG is perfectly ada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continental Europe paradigm 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second pillar is organised through a government sponsored multi-employer scheme for the private sector (sometimes called social secu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 addition, the government has also a scheme for its own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The recommendation of the AEG is more difficult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General government sche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 the « continental Europe paradigm 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pension promise made by the government for its own employ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Arial"/>
              </a:rPr>
              <a:t>is not significantly different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om the pension promise made by the  government sponsored multi-employer scheme for private sector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t is difficult to understand why the SNA would recognise a pension asset for civil servants and not for private sector employe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rong message to policy make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clude or Exclud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the nature of the pension promise for government sponsored multi employer scheme is the same as the pension promise by government as an employ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&gt;why not recognise a liability for bo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wev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 the pension promise of a sufficient strength to record it as a lia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ssive negative net worth of govern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ssive property income generating structural deficit even if scheme is systematically bala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ord « contribution assets » (Swedish Inkomstpe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=&gt; Better not include in core accounts but in supplementary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mplementation 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in AEG recommendation implies the use of complex actuari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n be applied only if employers particip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me governments do not make these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t would be difficult for the statistical office to estimate (specially for govern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owever, the AEG did not retain these consideration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accounts are going in this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ublic sector accounts will follow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riod of transition between now and 2012 can be used to make pilot exerc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urope can calculate a special deficit for the EDP procedure, excluding these a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ew criteria: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ature of the pension prom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conceptual issue re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AEG requested to explore new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criterion of employer/non employer is not suffici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ne possibili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cus on the nature (on the « strength») of the pension 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iabilities, provisions and contingent li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usiness accounts make distinction betwe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i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vision (liability of uncertain value and ti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gent liabilities (liability depending on a future event outside the scope of the busines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upplementary accou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hen pension promised is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st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liability (F6) in the core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hen pension promise is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w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Provision recorded in supplementary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mportance of those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supplementary account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for international compa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ature of pension 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rong (F6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uaranteed by the spon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gal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sponsor shows a liability in its own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sructive obl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eak (Supplementary accou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alue not guaranteed even retroa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 legal ground (German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ther AE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cit exchanges of implicit pension oblig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en the obligation to pay pensions from one unit to the other, this should be recorded as a transaction in pension liability even if neither unit has previously recorded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xed social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liability should be recorded for schemes that are funded and where the benefits are related to the contributions even though the scheme may be discribed as a social security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tatus of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AEG made significant progress on pension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dopted a number of recommendations that will improve the S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e extracts of short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sent paper is limi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o explain the minutes of the AEG regarding pension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pose some directions of work for these « additional criteria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t is only a small contribution in a sequence of work that will continue (Eurostat, IMF-BEA Task Force on Pension Sche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in AEG 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cord a liability for all employer pension schemes, even if the scheme is unf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All » includes general government schemes for their own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me rationale as in business accou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employment contract gives to the pension promise the status of a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cus is on the li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t on the mode of financing as in SNA 93 (where the criterion was whether the scheme was fun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mployer scheme: scheme where the pension promise is made based on an employment contract (relation employer/employ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employer continues to be responsible for the pension obligation even after he has paid its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AEG recommen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does not apply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to schemes where the employer is no more responsible for the pension promise after it has paid its contribution (multi-employer sche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Thus does not exten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to « social security » even if contributions are based on salary, thus on an employment con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pretation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SNA 93 criterion was to recognise a liability only when the scheme was f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new criterion does not replace the old one, but extend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 the new SNA: one recognises a liability when the scheme is funded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nd/o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when it is an employer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Justification of main AEG recomme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s in line with the principles of the recognition of an asset (the pension ass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conciles SNA and business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voids treating differently defined benefit schemes and defined contribution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arifies the measurement of cost of labour (actuarial calculation of contrib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ever the AE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cognised that there remained some issues were to be clar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 some countries, the delineation between general government employee schemes and social security schemes is not so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pened the possibility that supplementary accounts be created in which to record social security « liabilitie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pened the possibility to record « liabilities » of some general government employee schemes in these supplementary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IMPORTANT: consensus on non government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wo issues in the A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ceptual issue: borderline between employer and social securi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general government schemes for their own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mplementation issue: accuracy of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ceptual issu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three pilla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rst pillar: « basic » social security (benefits are not linked to contribu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sensus: no pension 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cond pillar: collective schemes, often compul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?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ird pillar: individual retirement schemes (e.g. life-insu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sensus: pension 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5:58:04Z</dcterms:created>
  <dc:creator>Lequiller_F</dc:creator>
  <dc:description/>
  <dc:language>en-US</dc:language>
  <cp:lastModifiedBy>lequiller_f</cp:lastModifiedBy>
  <dcterms:modified xsi:type="dcterms:W3CDTF">2006-03-29T12:49:37Z</dcterms:modified>
  <cp:revision>13</cp:revision>
  <dc:subject/>
  <dc:title>Pension schemes  After the February 2006 AE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70324258</vt:r8>
  </property>
  <property fmtid="{D5CDD505-2E9C-101B-9397-08002B2CF9AE}" pid="3" name="_AuthorEmail">
    <vt:lpwstr>Francois.LEQUILLER@oecd.org</vt:lpwstr>
  </property>
  <property fmtid="{D5CDD505-2E9C-101B-9397-08002B2CF9AE}" pid="4" name="_AuthorEmailDisplayName">
    <vt:lpwstr>LEQUILLER François, STD/NAFS</vt:lpwstr>
  </property>
  <property fmtid="{D5CDD505-2E9C-101B-9397-08002B2CF9AE}" pid="5" name="_EmailSubject">
    <vt:lpwstr>Papers for April meeting</vt:lpwstr>
  </property>
</Properties>
</file>