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00B-0CD4-4741-B074-A1A69BAA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927-F4D6-4280-B0A6-1CD2853E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117-DD03-4B5C-9AF7-FFF6F4D5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050-EC0F-4E3B-8881-C75FB131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C89-2129-405A-B861-984047F6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CDD-7A09-4C13-BDCA-14193DC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B24-324A-4EA6-A095-E4E56A9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E20-1386-49B9-AC7B-86BD1681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F61-F422-4D89-A3C9-C53D6031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818-2C6E-45DA-B09D-E59118B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859-FAEF-4245-8692-94EA7B0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01B-493E-4AAB-9540-F538F08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21E6-6F7D-4575-B53E-01A4A731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ension schemes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 intrepretation of the AEG short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çois Lequi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second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wo different « paradigm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anglo saxon 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second pillar is organised through employer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role of the government in retirement is limited to its own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The recommendation of the AEG is perfectly ada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continental Europe paradigm 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second pillar is organised through a government sponsored multi-employer scheme for the private sector (sometimes called social secu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addition, the government has also a scheme for its own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The recommendation of the AEG is more difficult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eneral government sc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the « continental Europe paradigm 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pension promise made by the government for its own employ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is not significantly different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the pension promise made by the  government sponsored multi-employer scheme for private sect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difficult to understand why the SNA would recognise a pension asset for civil servants and not for private sector employe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rong message to policy mak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lude or Exclud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the nature of the pension promise for government sponsored multi employer scheme is the same as the pension promise by government as an employ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&gt;why not recognise a liability for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 the pension promise of a sufficient strength to record it as a 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ssive negative net worth of govern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ssive property income generating structural deficit even if scheme is systematically bal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ord « contribution assets » (Swedish Inkomst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=&gt; Better not include in core accounts but in supplementary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lementatio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n AEG recommendation implies the use of complex actuari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n be applied only if employers particip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me governments do not make these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t would be difficult for the statistical office to estimate (specially for gover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owever, the AEG did not retain these considera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accounts are going in this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sector accounts will follow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iod of transition between now and 2012 can be used to make pilot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 can calculate a special deficit for the EDP procedure, excluding these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ew criteria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ature of the pension pr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conceptual issu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AEG requested to explore new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criterion of employer/non employer is not 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e possibil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on the nature (on the « strength») of the pension 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iabilities, provisions and contingent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siness accounts make distinction betw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ision (liability of uncertain value and ti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gent liabilities (liability depending on a future event outside the scope of the busine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pplementary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en pension promised is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liability (F6) in the core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en pension promise is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Provision recorded in supplementar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ortance of those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upplementary accoun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for international compa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ature of pension 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rong (F6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uaranteed by the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gal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sponsor shows a liability in its ow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sructive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ak (Supplementary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ue not guaranteed even retroa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 legal ground (German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ther AE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cit exchanges of implicit pension oblig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n the obligation to pay pensions from one unit to the other, this should be recorded as a transaction in pension liability even if neither unit has previously recorde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xed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iability should be recorded for schemes that are funded and where the benefits are related to the contributions even though the scheme may be discribed as a social security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atus of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EG made significant progress on pens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opted a number of recommendations that will improve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e extracts of short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 paper is limi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 explain the minutes of the AEG regarding pension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ose some directions of work for these « additional criteria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only a small contribution in a sequence of work that will continue (Eurostat, IMF-BEA Task Force on Pension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in AEG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ord a liability for all employer pension schemes, even if the scheme is un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All » includes general government schemes for their own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me rationale as in business accou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employment contract gives to the pension promise the status of a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is on the 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 on the mode of financing as in SNA 93 (where the criterion was whether the scheme was fu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ployer scheme: scheme where the pension promise is made based on an employment contract (relation employer/employ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employer continues to be responsible for the pension obligation even after he has paid its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EG recommen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does not appl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o schemes where the employer is no more responsible for the pension promise after it has paid its contribution (multi-employer sche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hus does not exte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o « social security » even if contributions are based on salary, thus on an employment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pretatio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NA 93 criterion was to recognise a liability only when the scheme wa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new criterion does not replace the old one, but extend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new SNA: one recognises a liability when the scheme is funded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hen it is an employe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Justification of main AEG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 in line with the principles of the recognition of an asset (the pension as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onciles SNA and business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voids treating differently defined benefit schemes and defined contribu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arifies the measurement of cost of labour (actuarial calculation of con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ever the A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gnised that there remained some issues were to be clar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some countries, the delineation between general government employee schemes and social security schemes is not so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ened the possibility that supplementary accounts be created in which to record social security « liabiliti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ened the possibility to record « liabilities » of some general government employee schemes in these supplementary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MPORTANT: consensus on non government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wo issues in the A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ual issue: borderline between employer and social secur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general government schemes for their own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plementation issue: accuracy of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ual iss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three pilla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rst pillar: « basic » social security (benefits are not linked to contribu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nsus: no pension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ond pillar: collective schemes, often compul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rd pillar: individual retirement schemes (e.g. life-insu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nsus: pension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5:58:04Z</dcterms:created>
  <dc:creator>Lequiller_F</dc:creator>
  <dc:description/>
  <dc:language>en-US</dc:language>
  <cp:lastModifiedBy>lequiller_f</cp:lastModifiedBy>
  <dcterms:modified xsi:type="dcterms:W3CDTF">2006-03-29T12:49:37Z</dcterms:modified>
  <cp:revision>13</cp:revision>
  <dc:subject/>
  <dc:title>Pension schemes  After the February 2006 AE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0324258</vt:r8>
  </property>
  <property fmtid="{D5CDD505-2E9C-101B-9397-08002B2CF9AE}" pid="3" name="_AuthorEmail">
    <vt:lpwstr>Francois.LEQUILLER@oecd.org</vt:lpwstr>
  </property>
  <property fmtid="{D5CDD505-2E9C-101B-9397-08002B2CF9AE}" pid="4" name="_AuthorEmailDisplayName">
    <vt:lpwstr>LEQUILLER François, STD/NAFS</vt:lpwstr>
  </property>
  <property fmtid="{D5CDD505-2E9C-101B-9397-08002B2CF9AE}" pid="5" name="_EmailSubject">
    <vt:lpwstr>Papers for April meeting</vt:lpwstr>
  </property>
</Properties>
</file>