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BEA-0D24-4E01-9523-7A3AA81C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AC9-A7AD-4E67-B56A-96B093D9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F8B-BAD6-409B-9C03-B81408BD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213-FC4D-49F2-BDC7-E3209163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FB4-3D6C-4676-9C3D-B8C4DC1B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041-CC83-4994-BE0E-F45AAA41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E02-951F-40AE-B14A-777A8501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C24-91E3-4A73-9792-AAB6F5A4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877-A544-4ACD-BCA5-D3D7F662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84B-7D75-4B1F-9423-FE44AC1F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1CC-D0A3-4165-93A1-FC6C530C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C6A-2E20-47A5-AB30-E95D9050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037E-DD95-4EA7-B6CB-DD93C61E7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50240" y="6207120"/>
            <a:ext cx="1823760" cy="336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85800" y="609480"/>
            <a:ext cx="1425600" cy="2881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886880" y="621036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3239-E07D-4025-A209-6E48CC3E8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EG recommendations on the Measurement of Non-life Insurance Productio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. Lequiller, OE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ther AEG recommendations fo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urrent pric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nge of terminology: use the term « insurance technical provisions 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nd the range of insurance provisions in the S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 not include revenues from own funds in the form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 not include holding gains/losses in th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couple the value of net insurance premiums (D71) and non life insurance claims incurred (D72). The difference is a transfer from insurance companies to policy 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s difference can be treated, in cases of catastrophes, as a capital transfer (D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eat reinsurance on a gross basis and use exactly the same formulae as for direct insu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26920" y="1685880"/>
            <a:ext cx="7705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offices do calculate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price ind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-life insurance services included as a PPI or as a CPI. These price indices, called here “premium price indices”, measure the change in the price of insurance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policies with fixed character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y are different from the ideal index, and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should not be used to deflate the current price out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there is evidence that the deflator for claims moves with the premium price ind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692280"/>
            <a:ext cx="860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ces and volumes : insurance servic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4076640"/>
            <a:ext cx="7993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Direct volume mea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Deflated premiu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728720"/>
            <a:ext cx="8280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absence of this ideal deflator, it is recommended to compil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volume indic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one of the methods proposed below, and obtain the price index as the ratio between the current price series and the volume seri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692280"/>
            <a:ext cx="860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ces and volumes : insurance servic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3479760"/>
            <a:ext cx="8893080" cy="3385800"/>
          </a:xfrm>
          <a:prstGeom prst="rect">
            <a:avLst/>
          </a:prstGeom>
          <a:solidFill>
            <a:srgbClr val="7da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tain a direct volume measure of the output (and by extension, the consumption) of non-life insurance services by extrapolating the current price measure of the base year by the rate of change of a volume index, which is  obtained deflating gross premiums earned by a premium price index (PPI or CPI, depending of the context). When the premium price index covers premium supplements, it is advisable to use the rate of change of a volume index compiled as gross premiums plus adjusted premium supplements deflated by this extended premium price inde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9280" y="3444840"/>
            <a:ext cx="8893080" cy="2288520"/>
          </a:xfrm>
          <a:prstGeom prst="rect">
            <a:avLst/>
          </a:prstGeom>
          <a:solidFill>
            <a:srgbClr val="7da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absence of adequate premium price indices, a volume indicator can be compiled using quantity indicators such as the number of policies, by line of product (house-owner insurance, motor vehicle insurance, third party liability, etc.) appropriately weighted preferably by net premiums or, when not possible, by gross premiu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current recommendation of the SNA leads to uninterpretable movements in the current price value of non life insurance output and consumption, in particular in the context of catastrop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 general, NA compilers neutralise this unwelcome impact on volume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wever, the impact is as unwelcome on price indices of output or consum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 the USA, in the third quarter of 2001 (9/11 terrorist attack), the implementation of the current SNA recommendation led to a decrease to the price index of household consumption of 0.3%, and an increase of 0.2% of the price of GDP: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 France, the implementation of the current recommendation on the fourth quarter on 1999 (exceptional storm) would have decreased total household consumption by 1.3%: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objective of the AEG recommandations is to avoid such un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the SNA the output of insurance is to « provide financial protection against the occurence of specified events 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ever, the SNA recognises that there is no explicit charge for this outpu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refore one must use an indirect estimate based on th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mula (1)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ual premiums earned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lu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emium supplements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inu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claims d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AEG confirmed that, conceptually, the SNA should not be changed. In particular it rejected other conceptually based measures of output (such as premium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eneral principle (continued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wever, the AEG rejected the mechanical implementation of formula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measure of the concept of insurance output should not be affected by the occurence of the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unusual difference between premium and claims in a given period is not to be attributed to a movement of output in this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The volatility of claims should not affect the measure of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principle: same formula but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justed claim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ather than observed 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justed premiums supplemen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ather than observed premium sup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is principle can be obtained through three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sing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hanced ac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m of costs plus « normal »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olution 1: using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surers fix their premiums based on their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xpectatio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of the occurence of risks, and of their other revenues (of which premium suppleme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ased on these expected claims and expected premium supplements, the insurer is capable of fixing the level of premium that will normally cover its administrative costs and its normal prof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measurement of the SNA service margin (premiums plus supplements minus claims) should be based on such expec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is is a way to obtain a measure of output and consumption consistent with the concept aimed by the S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principle of us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Recommendation 3:  expected claims and expected premium supplements should replace actual claims and actual investment income in the calculation of the output and consumption of non-life insurance services.  This applies for all claims –regular, catastrophic and unexpected – and for all years.  This applies for all investment income.  Formula (1) should be adapted to this recommendation and bec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ormula (3):  [Actual premiums earned [i.e. premiums receivable less changes in the reserves due to pre-payment of premiums] + Expected premiums supplements - Expected claims d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imation of expected cl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insurers were willing to transmit the amount of their (confidential) expected claims, it could be used by national accounts comp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wever, a macro estimate is more realistic (smoothed past clai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veral methods were discussed to estimate expected claims. They should be available in a new annex for insurance or in an implementation ma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6:46:39Z</dcterms:created>
  <dc:creator>Francois Lequiller</dc:creator>
  <dc:description/>
  <dc:language>en-US</dc:language>
  <cp:lastModifiedBy>Dimova</cp:lastModifiedBy>
  <dcterms:modified xsi:type="dcterms:W3CDTF">2006-04-10T15:31:25Z</dcterms:modified>
  <cp:revision>14</cp:revision>
  <dc:subject/>
  <dc:title>OECD Task Force on the Measurement of Non-life Insurance Production in the context of Catastroph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28018414</vt:r8>
  </property>
  <property fmtid="{D5CDD505-2E9C-101B-9397-08002B2CF9AE}" pid="3" name="_AuthorEmail">
    <vt:lpwstr>Francois.LEQUILLER@oecd.org</vt:lpwstr>
  </property>
  <property fmtid="{D5CDD505-2E9C-101B-9397-08002B2CF9AE}" pid="4" name="_AuthorEmailDisplayName">
    <vt:lpwstr>LEQUILLER François, STD/NAFS</vt:lpwstr>
  </property>
  <property fmtid="{D5CDD505-2E9C-101B-9397-08002B2CF9AE}" pid="5" name="_EmailSubject">
    <vt:lpwstr>Papers for April meeting</vt:lpwstr>
  </property>
</Properties>
</file>