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CE7-0F91-4727-B1C8-4DFD6FF8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B86-00DC-4A1E-B993-B8B4AA4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546-A486-4309-A641-18E4EF4E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AAB-4B46-4432-A7B1-D726815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99A-61D1-4FD4-962C-95602F7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BC0-CE2C-443F-A6DF-5DAD75C3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11E-D70C-45D5-8FFA-C93727F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C87-5438-4AA8-BB06-6B04C2C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78B-1436-4C68-8BFD-65AD69F2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9FA-69B2-4A54-ABC2-B719294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2C7-CE05-47BF-B3B2-8D1EDFA9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788-E10F-4AF3-9503-18B16EB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C387-21F0-45E1-A970-E35611706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425600" cy="288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886880" y="6210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880-FC2D-41C5-8D25-8C7A04AB4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EG recommendations on the Measurement of Non-life Insurance Produc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. Lequiller, 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ther AEG recommendations fo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urrent pric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ge of terminology: use the term « insurance technical provisions 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nd the range of insurance provisions in the 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not include revenues from own funds in the form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not include holding gains/losses in th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ouple the value of net insurance premiums (D71) and non life insurance claims incurred (D72). The difference is a transfer from insurance companies to policy 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s difference can be treated, in cases of catastrophes, as a capital transfer (D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eat reinsurance on a gross basis and use exactly the same formulae as for direct insu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6920" y="1685880"/>
            <a:ext cx="7705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offices do calculat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price ind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-life insurance services included as a PPI or as a CPI. These price indices, called here “premium price indices”, measure the change in the price of insuranc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policies with fixed character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y are different from the ideal index, and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should not be used to deflate the current price 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there is evidence that the deflator for claims moves with the premium price ind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69228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and volumes : insurance servic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4076640"/>
            <a:ext cx="7993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Direct volume mea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Deflated premi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72872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of this ideal deflator, it is recommended to compil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volume 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one of the methods proposed below, and obtain the price index as the ratio between the current price series and the volume ser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69228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and volumes : insurance servic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479760"/>
            <a:ext cx="8893080" cy="3385800"/>
          </a:xfrm>
          <a:prstGeom prst="rect">
            <a:avLst/>
          </a:prstGeom>
          <a:solidFill>
            <a:srgbClr val="7d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tain a direct volume measure of the output (and by extension, the consumption) of non-life insurance services by extrapolating the current price measure of the base year by the rate of change of a volume index, which is  obtained deflating gross premiums earned by a premium price index (PPI or CPI, depending of the context). When the premium price index covers premium supplements, it is advisable to use the rate of change of a volume index compiled as gross premiums plus adjusted premium supplements deflated by this extended premium price ind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3444840"/>
            <a:ext cx="8893080" cy="2288520"/>
          </a:xfrm>
          <a:prstGeom prst="rect">
            <a:avLst/>
          </a:prstGeom>
          <a:solidFill>
            <a:srgbClr val="7d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absence of adequate premium price indices, a volume indicator can be compiled using quantity indicators such as the number of policies, by line of product (house-owner insurance, motor vehicle insurance, third party liability, etc.) appropriately weighted preferably by net premiums or, when not possible, by gross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urrent recommendation of the SNA leads to uninterpretable movements in the current price value of non life insurance output and consumption, in particular in the context of catastrop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general, NA compilers neutralise this unwelcome impact on volum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, the impact is as unwelcome on price indices of output o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USA, in the third quarter of 2001 (9/11 terrorist attack), the implementation of the current SNA recommendation led to a decrease to the price index of household consumption of 0.3%, and an increase of 0.2% of the price of GDP: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France, the implementation of the current recommendation on the fourth quarter on 1999 (exceptional storm) would have decreased total household consumption by 1.3%: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objective of the AEG recommandations is to avoid such un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the SNA the output of insurance is to « provide financial protection against the occurence of specified events 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ever, the SNA recognises that there is no explicit charge for this outp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refore one must use an indirect estimate based on th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mula (1)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ual premiums earned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emium supplements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inu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claims d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AEG confirmed that, conceptually, the SNA should not be changed. In particular it rejected other conceptually based measures of output (such as premiu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neral principle (continued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, the AEG rejected the mechanical implementation of formul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measure of the concept of insurance output should not be affected by the occurence of th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unusual difference between premium and claims in a given period is not to be attributed to a movement of output in this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The volatility of claims should not affect the measure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principle: same formula bu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justed clai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ather than observed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justed premiums supple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ather than observed premium sup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principle can be obtained through thre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ing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hanced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m of costs plus « normal »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lution 1: using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urers fix their premiums based on their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pecta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f the occurence of risks, and of their other revenues (of which premium suppl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sed on these expected claims and expected premium supplements, the insurer is capable of fixing the level of premium that will normally cover its administrative costs and its normal pro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measurement of the SNA service margin (premiums plus supplements minus claims) should be based on such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is a way to obtain a measure of output and consumption consistent with the concept aimed by the S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principle of us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commendation 3:  expected claims and expected premium supplements should replace actual claims and actual investment income in the calculation of the output and consumption of non-life insurance services.  This applies for all claims –regular, catastrophic and unexpected – and for all years.  This applies for all investment income.  Formula (1) should be adapted to this recommendation and be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rmula (3):  [Actual premiums earned [i.e. premiums receivable less changes in the reserves due to pre-payment of premiums] + Expected premiums supplements - Expected claims d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imation of expected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insurers were willing to transmit the amount of their (confidential) expected claims, it could be used by national accounts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, a macro estimate is more realistic (smoothed past cla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veral methods were discussed to estimate expected claims. They should be available in a new annex for insurance or in an implementation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6:46:39Z</dcterms:created>
  <dc:creator>Francois Lequiller</dc:creator>
  <dc:description/>
  <dc:language>en-US</dc:language>
  <cp:lastModifiedBy>Dimova</cp:lastModifiedBy>
  <dcterms:modified xsi:type="dcterms:W3CDTF">2006-04-10T15:31:25Z</dcterms:modified>
  <cp:revision>14</cp:revision>
  <dc:subject/>
  <dc:title>OECD Task Force on the Measurement of Non-life Insurance Production in the context of Catastroph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28018414</vt:r8>
  </property>
  <property fmtid="{D5CDD505-2E9C-101B-9397-08002B2CF9AE}" pid="3" name="_AuthorEmail">
    <vt:lpwstr>Francois.LEQUILLER@oecd.org</vt:lpwstr>
  </property>
  <property fmtid="{D5CDD505-2E9C-101B-9397-08002B2CF9AE}" pid="4" name="_AuthorEmailDisplayName">
    <vt:lpwstr>LEQUILLER François, STD/NAFS</vt:lpwstr>
  </property>
  <property fmtid="{D5CDD505-2E9C-101B-9397-08002B2CF9AE}" pid="5" name="_EmailSubject">
    <vt:lpwstr>Papers for April meeting</vt:lpwstr>
  </property>
</Properties>
</file>