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8420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1040" y="4374360"/>
            <a:ext cx="8420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10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856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8280" y="257472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65160" y="257472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1040" y="437436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8280" y="437436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65160" y="437436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71040" y="2574720"/>
            <a:ext cx="84200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84200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710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1040" y="2574720"/>
            <a:ext cx="84200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856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71040" y="4374360"/>
            <a:ext cx="8420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8420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71040" y="4374360"/>
            <a:ext cx="8420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856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18280" y="257472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65160" y="257472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71040" y="437436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18280" y="437436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65160" y="437436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84200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10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856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1040" y="4374360"/>
            <a:ext cx="8420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71040" y="2574720"/>
            <a:ext cx="84200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616680" indent="-2372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948600" indent="-18972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328040" indent="-18972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1707480" indent="-18972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ftr" idx="1"/>
          </p:nvPr>
        </p:nvSpPr>
        <p:spPr>
          <a:xfrm>
            <a:off x="3440160" y="6241680"/>
            <a:ext cx="31017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© Copyright 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0160" y="1267920"/>
            <a:ext cx="8458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Goods for Processing / Toll Processing … a pragmatic approach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1440" y="2420640"/>
            <a:ext cx="84200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at is ‘toll processing’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y is toll processing used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at is the problem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ow has ONS dealt with the issue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siderations for a longer-term solu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85917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NS procedure – new toll processor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24160" y="1916280"/>
            <a:ext cx="691344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proach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rincipal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if in sampling fram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onthly turnover and price data relating to the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65800" y="258444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f not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52520" y="2997360"/>
            <a:ext cx="6913440" cy="1059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sk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gen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to supply monthly turnover and price da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f unavailable, request volume data, and estimate turnover data as price x volume (both collected from the ag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414972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84880" y="41497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f not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24160" y="4581360"/>
            <a:ext cx="691344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sk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gen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for monthly price or turnover data to act as a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roxy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for factory gate prices and turn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53737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29240" y="544500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f not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60160" y="1267920"/>
            <a:ext cx="83754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NS procedure – new toll processor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1800" y="1773360"/>
            <a:ext cx="849780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sk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gen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for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nnual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turnover data, or obtain this from annual financial statements. Alternatively, use Annual Business Survey data to calculate weights. Benchmark the imputed monthly data against this annual data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852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8880" y="3357720"/>
            <a:ext cx="900108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Use an auxiliary variable as a proxy for sales data, e.g. work done recorded by  PRODCOM survey. A number of approaches are possible to obtain a monthly path through annually benchmarked se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852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4880" y="5084640"/>
            <a:ext cx="849636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mpute agent’s weights, turnover and price data using normal imputation methods on the domestic producer prices, export and import 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05440" y="294480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f not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4520" y="465300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f not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520" y="1371600"/>
            <a:ext cx="9217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ONS procedure – Where a business has been a toll processor for some tim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20880" y="2349360"/>
            <a:ext cx="84978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lect agent (toll processor) into the survey sample in usual way and ask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rincipal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for turnover and price data relating to the toll processing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8520" y="306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33577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f not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0880" y="3860640"/>
            <a:ext cx="849780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s above, but use the annual turnover as the last turnover value collected or impute a last turnover value from the turnover provided by a company with a similar size and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59176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ummary of ONS short-term solu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0160" y="1988640"/>
            <a:ext cx="853092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bove procedures implemented in mid-2005 for a range of survey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ork done’ measured by PRODCOM used as auxiliary variable to update last weight calculated for toll processors in the output price index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ill investigate obtaining PRODCOM ‘work done’ data analysed by product typ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S Business Register Unit continue to classify toll processors as manufacturer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4470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NS’s longer-term approac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4160" y="1628640"/>
            <a:ext cx="907236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ur options identified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ntinue indefinitely with the short-term solu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move toll processors from manufacturing and possibly services survey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vestigate new estimation methods and confirm/increase accuracy of existing estimation methods. Request Eurostat to clarify toll processing reporting but continue to treat as manufacturing until further advice receive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ampaign for amendment of UK legislation to enable ONS to obtain correct/full data from businesse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tion 3 considered most realistic and was implemented in 2005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1440" y="1371240"/>
            <a:ext cx="84358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04880" y="2060640"/>
            <a:ext cx="8712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S’s pragmatic approach is just one possible approach to the toll processing issu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S is interested in other approaches/suggestions and further discussion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ONS approach has not yet fully considered all aspects (e.g. capital expenditure, inventories etc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bviously, a consistent approach internationally is the ideal and so clear international guidance on definition, treatment and measurement of toll processing activity is require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0160" y="1483920"/>
            <a:ext cx="8591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What is ‘toll processing’?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4160" y="2060280"/>
            <a:ext cx="84200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form of outsourcing (also known as goods for processing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sually takes place across national bord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ften undertaken within a corporate group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volves the transfer of goods without change of legal ownership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volves the charging of a ‘toll’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84470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Why do businesses use toll processing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8880" y="2133360"/>
            <a:ext cx="8602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Why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conomic reasons – specialisation, economies of scale, access to global markets et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voidance (or possible evasion) of tax liabilit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Where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oll processing is commonly found within industries such as chemicals, pharmaceuticals, oil &amp; gas, metal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6648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Variations of Outsourcing (UK-HMRC definitions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2880" y="1844640"/>
            <a:ext cx="7561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censed manufacturer –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oods manufactured under a long-term licence. Manufacturer buys materials on own account and bears risks of selling finished product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ract manufacturer –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nufacturer acts as agent, producing goods/components for the principal who guarantees to buy outputs. The agent bears risks of buying and stocking materials/component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oll Manufacturer –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ncipal buys the materials/components although these usually pass direct to the agent.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uying and selling risks lie with the principal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61240" y="35733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61240" y="400536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ed 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pped ri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nufactur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37576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What is the problem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8520" y="1988640"/>
            <a:ext cx="84200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usinesses argue that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transactions are the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provision of service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rather than buying / selling of goo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o arm’s length transaction in goods has taken place (as no change of ownership occur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s leads to issues of statistical classification and measurement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1440" y="1268280"/>
            <a:ext cx="85201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What is the problem? … statistical issu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4520" y="2060640"/>
            <a:ext cx="9145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uld transfer of goods be treated as a sale and subsequent purchase, or ignored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f treated as a sale/purchase – should values be recorded on a net or gross basis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f businesses cannot provide ‘gross’ data, which method(s) of estimation should statisticians use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ssible misalignment of inputs and outputs if different services/goods classifications are used by responden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clear guidance on the recording of toll processing activity has yet been produced, though work continu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4470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Other issues for consideratio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8880" y="2060640"/>
            <a:ext cx="86025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dentifying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wnership/location of inventor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ocation of capital expenditur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ocation of labour cos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idden’ turnover via recharging practices within a corporate group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6648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How has the UK Office for National Statistics (ONS) dealt with the issue?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8520" y="2420640"/>
            <a:ext cx="84200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orks on the assumptions that: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oll processing activity should be treated as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an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ssociated transfers of goods should be treated as arm’s-length transactions in goods, at full valu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djustments should be made to statistical outputs, where necessary, to reflect this approach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5201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How does the ONS approach operate?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5440" y="1915920"/>
            <a:ext cx="8929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ere ONS identifies that a respondent has started to act as a toll processor, in order to ascertain the value of goods being transferred in and out, the adopted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short-term solution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, is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96880" y="3284640"/>
            <a:ext cx="655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1:21:38Z</dcterms:created>
  <dc:creator>hobbsd</dc:creator>
  <dc:description/>
  <dc:language>en-US</dc:language>
  <cp:lastModifiedBy>hobbsd</cp:lastModifiedBy>
  <cp:lastPrinted>2005-02-03T10:48:40Z</cp:lastPrinted>
  <dcterms:modified xsi:type="dcterms:W3CDTF">2006-04-24T13:52:42Z</dcterms:modified>
  <cp:revision>20</cp:revision>
  <dc:subject/>
  <dc:title>Goods for Processing / Toll Processing … a pragmatic approach</dc:title>
</cp:coreProperties>
</file>