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C44-991F-44A7-9961-F52B76C4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E81-DAFA-47CC-A16A-86C00955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83F-253E-4847-B1C6-87D0A63E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878-525C-4C66-A460-6E87C21A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305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5C8-A3AB-4ECD-9352-7056C3B5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3683520"/>
            <a:ext cx="2674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67D-B5D0-447C-BE59-0065256C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2F9-D0C3-433B-BAC2-8405AECB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784-0CE4-454A-AD70-C0A27BA7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305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887-18D8-47F9-B4A9-9190BFAA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8BF-5241-418F-9ABE-6B545797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368352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4E0-E79D-4D73-9F33-E3FD078C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3059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6A0-8B2E-4396-AA44-EACF3586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1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1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99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99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914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9DE8-09B8-4D10-B1F4-184D43F91EF9}" type="slidenum">
              <a:rPr b="1" lang="en-US" sz="1400" spc="-1" strike="noStrike">
                <a:solidFill>
                  <a:srgbClr val="01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5943600"/>
            <a:ext cx="958680" cy="644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243828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38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5943600"/>
            <a:ext cx="958680" cy="644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1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1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10000"/>
              </a:buClr>
              <a:buFont typeface="Wingdings" charset="2"/>
              <a:buChar char="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6920" y="1774800"/>
            <a:ext cx="6882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10000"/>
                </a:solidFill>
                <a:latin typeface="Times New Roman"/>
              </a:rPr>
              <a:t>Measuring employment in national accounts</a:t>
            </a:r>
            <a:endParaRPr b="1" lang="en-US" sz="3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3141720"/>
            <a:ext cx="655344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imes New Roman"/>
              </a:rPr>
              <a:t>Arturo de la Fuente (Eurostat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imes New Roman"/>
              </a:rPr>
              <a:t>Paper co-authored by François Lequiller (OECD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6019920"/>
            <a:ext cx="5943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imes New Roman"/>
              </a:rPr>
              <a:t>Eurostat - Unit C2</a:t>
            </a:r>
            <a:br>
              <a:rPr sz="2000"/>
            </a:br>
            <a:r>
              <a:rPr b="1" lang="en-US" sz="1600" spc="-1" strike="noStrike">
                <a:solidFill>
                  <a:srgbClr val="010000"/>
                </a:solidFill>
                <a:latin typeface="Times New Roman"/>
              </a:rPr>
              <a:t>National Accounts - productio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OECD/Eurostat employment questionnaire</a:t>
            </a: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267920"/>
            <a:ext cx="830592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Common OECD/Eurostat exercise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Questionnaire launched in 2005 &amp; early 2006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36 responding countrie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Questionnaire contents:  persons in employment and hours worked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Only results for persons presented here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Questionnaire results: persons in employment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Times New Roman"/>
              </a:rPr>
              <a:t>4 country groups identified according to use of LFS: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-181080" y="1844640"/>
            <a:ext cx="104047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Adjustments LFS – national accounts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305920" cy="47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Times New Roman"/>
              </a:rPr>
              <a:t>Countries using LFS adjust for conceptual differences with SNA93/ESA95: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Times New Roman"/>
              </a:rPr>
              <a:t>Geographical coverage:  national vs domestic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Times New Roman"/>
              </a:rPr>
              <a:t>Age boundary, collective household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Times New Roman"/>
              </a:rPr>
              <a:t>Conscripts, unpaid apprentices, extended parental leave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Countries using LFS as main source 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8305920" cy="47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Times New Roman"/>
              </a:rPr>
              <a:t>Some countries use LFS as only source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9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Times New Roman"/>
              </a:rPr>
              <a:t>Only conceptual adjustment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Times New Roman"/>
              </a:rPr>
              <a:t>Other countries replace LFS in certain industries</a:t>
            </a: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9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Times New Roman"/>
              </a:rPr>
              <a:t>Agriculture, Government, financial services,…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Countries not using LFS as only source</a:t>
            </a: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26828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These countries combine many sources: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imes New Roman"/>
              </a:rPr>
              <a:t>Employment registers, social insurance statistic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imes New Roman"/>
              </a:rPr>
              <a:t>Tax records, other government data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imes New Roman"/>
              </a:rPr>
              <a:t>Population censuses, household survey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imes New Roman"/>
              </a:rPr>
              <a:t>Business surveys, earnings statistics, business register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imes New Roman"/>
              </a:rPr>
              <a:t>LFS too?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Combination methods very demanding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imes New Roman"/>
              </a:rPr>
              <a:t>certain countries benchmark + extrapolate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Future work</a:t>
            </a:r>
            <a:r>
              <a:rPr b="1" lang="en-US" sz="30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268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Times New Roman"/>
              </a:rPr>
              <a:t>Further analysis of questionnaire result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Times New Roman"/>
              </a:rPr>
              <a:t>Persons in employment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Times New Roman"/>
              </a:rPr>
              <a:t>Total hours worked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Times New Roman"/>
              </a:rPr>
              <a:t>Discuss questionnaire results with countrie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1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Times New Roman"/>
              </a:rPr>
              <a:t>Next Eurostat NAWG in May 2006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Times New Roman"/>
              </a:rPr>
              <a:t>Study discrepancies LFS – NA in trends and level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1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Times New Roman"/>
              </a:rPr>
              <a:t>Publish metadata: country sheet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305920" cy="571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66ccff"/>
            </a:solidFill>
            <a:miter/>
          </a:ln>
        </p:spPr>
        <p:txBody>
          <a:bodyPr lIns="111240" rIns="11124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87280" y="1989000"/>
            <a:ext cx="6624720" cy="209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  you 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Contact: Arturo.de-la-fuente@cec.eu.int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entar</cp:lastModifiedBy>
  <dcterms:modified xsi:type="dcterms:W3CDTF">2006-04-12T10:11:40Z</dcterms:modified>
  <cp:revision>41</cp:revision>
  <dc:subject/>
  <dc:title>General</dc:title>
</cp:coreProperties>
</file>