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A88-4D02-407C-BA73-E616A8BA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DB9-3EFC-4A36-907E-99B10F8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388-3927-4D63-A1D1-18D0A8FF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2FC-7DD5-4706-AD31-E0B56F77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BDB-0422-43C0-B6F5-DEB4617C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911-B029-466D-8E27-E467964E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F9F-707F-486D-B033-542AC1EB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039-A303-476F-A1F2-CE251C5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17D-97E2-4CAF-A27B-630CCB0D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20C-7086-4989-B398-23DBA62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D2B-6234-4964-ABD7-50CB01A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AF0-A240-4468-B96D-A13F338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1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1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914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187-343F-4DB5-B1A0-190024360330}" type="slidenum">
              <a:rPr b="1" lang="en-US" sz="14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1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0000"/>
              </a:buClr>
              <a:buFont typeface="Wingdings" charset="2"/>
              <a:buChar char="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1774800"/>
            <a:ext cx="6882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10000"/>
                </a:solidFill>
                <a:latin typeface="Times New Roman"/>
              </a:rPr>
              <a:t>Measuring employment in national accounts</a:t>
            </a:r>
            <a:endParaRPr b="1" lang="en-US" sz="3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65534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imes New Roman"/>
              </a:rPr>
              <a:t>Arturo de la Fuente (Eurostat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imes New Roman"/>
              </a:rPr>
              <a:t>Paper co-authored by François Lequiller (OECD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6019920"/>
            <a:ext cx="5943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Eurostat - Unit C2</a:t>
            </a:r>
            <a:br>
              <a:rPr sz="2000"/>
            </a:br>
            <a:r>
              <a:rPr b="1" lang="en-US" sz="1600" spc="-1" strike="noStrike">
                <a:solidFill>
                  <a:srgbClr val="010000"/>
                </a:solidFill>
                <a:latin typeface="Times New Roman"/>
              </a:rPr>
              <a:t>National Accounts - produc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OECD/Eurostat employment questionnaire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267920"/>
            <a:ext cx="8305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ommon OECD/Eurostat exercis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Questionnaire launched in 2005 &amp; early 2006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36 responding countr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Questionnaire contents:  persons in employment and hours worke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Only results for persons presented her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Questionnaire results: persons in employment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Times New Roman"/>
              </a:rPr>
              <a:t>4 country groups identified according to use of LFS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81080" y="1844640"/>
            <a:ext cx="1040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Adjustments LFS – national accounts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Times New Roman"/>
              </a:rPr>
              <a:t>Countries using LFS adjust for conceptual differences with SNA93/ESA95: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Geographical coverage:  national vs domestic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Age boundary, collective household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Conscripts, unpaid apprentices, extended parental leave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untries using LFS as main source 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830592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Times New Roman"/>
              </a:rPr>
              <a:t>Some countries use LFS as only source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9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Only conceptual adjustment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Times New Roman"/>
              </a:rPr>
              <a:t>Other countries replace LFS in certain industri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9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Agriculture, Government, financial services,…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untries not using LFS as only source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26828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These countries combine many sources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Employment registers, social insurance statistic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Tax records, other government data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Population censuses, household survey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Business surveys, earnings statistics, business register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LFS too?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ombination methods very demanding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certain countries benchmark + extrapolate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Future work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268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Further analysis of questionnaire resul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Persons in employment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Total hours worked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Discuss questionnaire results with countr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Next Eurostat NAWG in May 2006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Study discrepancies LFS – NA in trends and level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Publish metadata: country shee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30592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111240" rIns="11124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1989000"/>
            <a:ext cx="6624720" cy="20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  you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Contact: Arturo.de-la-fuente@cec.eu.in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entar</cp:lastModifiedBy>
  <dcterms:modified xsi:type="dcterms:W3CDTF">2006-04-12T10:11:40Z</dcterms:modified>
  <cp:revision>41</cp:revision>
  <dc:subject/>
  <dc:title>General</dc:title>
</cp:coreProperties>
</file>