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BF1-578A-4AB0-8827-51FA29A8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1A6-1B54-41EA-9F64-B712CA49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B2A4-101B-46E6-BA6E-339A1696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A7A-D825-49AF-A796-DEA446DD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7A2-450C-4491-894F-17DC0ADB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044-AD9B-41FD-9D58-5C69361E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7A57-C4AE-4C56-A3B8-9D91879A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88E4-ED23-45AF-A40F-D699A300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24C-BF56-4F70-9EFA-946A93F8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70E-80EE-476E-8C4C-4FA781DF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537-0F48-429F-A2E2-8E3DE346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31A-2251-46B1-BD09-F835E015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DD57-D85A-4D92-A5A6-94FA3A362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781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balization in the Updated 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ol S. Ca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 Manager, SNA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ssion on Globalization and the Effect on National Accou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int National Accounts Mee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 25-28, 2006, Genev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0983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2004 A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ed interest in including a discussion of the statistical challenges of multinational enterprises within the context of globalization in the upda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to be carried forward by a sub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on Globalization met in in July 2005, aiming toward a modest amount of new text drawing on evolving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79EC-D25A-4CDC-812A-8DAAC116BC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ard a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utline attached to the paper is the current state of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utline will ev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by AEG in January-Febr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pecific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d potential implications of globalization for updated S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ne-day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work o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nchmark Definition of  Foreign Direct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F92-7668-4A53-800B-2CA6EAE3D8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and characterization of globalization, with key role of multinational enter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 of globalization to N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: complexity of recording a variety of stocks and flows and relating them to units, using examples such as goods for processing, merchanting, SPEs, non-permanent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data issues: for example, transfer pricing, multinationals, free zones, with general concern about consistency of the several set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9546-E05C-4E16-8D82-67CD7454C1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outli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of globalization to NAs: Conceptual issues: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ization points to the analytical usefulness of ownership- or control-based statistics to supplement traditional statistics on cross-border transactions and pos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&amp;D: accounting is complex in a closed economy, but the complexity is multiplied in an internation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212-64F9-41F4-B309-FB567B4A0F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oints for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draft outline capture the main topics for a modest amount of new text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v.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globalization in general and multinational enterprises in particular? What is miss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wo, perhaps three, issues dealt with in the SNA Update were to be described briefly to illustrate the accounting challenges stemming from globalization (see section II.A), which should they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at the SNA is not meant to be a compilation guide, how much attention should be given to practical consider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dditional sources should be consult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176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19320" y="1295280"/>
            <a:ext cx="7467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1A4-D317-4AFA-B196-6D8BD4DF08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276720" y="1828800"/>
            <a:ext cx="2361960" cy="3581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15000" y="5791320"/>
            <a:ext cx="2819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:: ccarson@im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D2B-950D-47F5-995F-651BA8C5DC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00:31:32Z</dcterms:created>
  <dc:creator> </dc:creator>
  <dc:description/>
  <dc:language>en-US</dc:language>
  <cp:lastModifiedBy>Dimova</cp:lastModifiedBy>
  <dcterms:modified xsi:type="dcterms:W3CDTF">2006-04-07T13:09:04Z</dcterms:modified>
  <cp:revision>27</cp:revision>
  <dc:subject/>
  <dc:title>Progress Report on the Review of the SNA</dc:title>
</cp:coreProperties>
</file>