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FFF-E574-4FBE-8EA0-F72CADEA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241-5A70-4D94-9DA2-35FB92C6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8FF-A22E-43B6-AA14-3231A138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8C3-38DB-4DBF-8A62-65302FE0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6ED-6355-4CAA-857E-48190825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16E-5799-419B-B669-1145EA71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999-86AC-40C7-9E4A-2E9D6569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766-5ADD-406D-8DF9-70A4E668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83C-951F-46C7-8A1E-33A7106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AC5-D3E1-4305-B49A-7984F2F7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C3A-531C-4389-ABC8-5C84080C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C91-1D60-4FD9-93E9-7D1D9AC5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C69D-0B3B-4814-BE66-82B9A3D5C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ization in the Updated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ol S. Ca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Manager, SNA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ssion on Globalization and the Effect on National Accou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National Accounts M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25-28, 2006, Genev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09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2004 A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d interest in including a discussion of the statistical challenges of multinational enterprises within the context of globalization in the upd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to be carried forward by a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on Globalization met in in July 2005, aiming toward a modest amount of new text drawing on evolving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072-E082-4F1F-88C2-DCDCCCEED3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 a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line attached to the paper is the current state of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line will e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by AEG in January-Febr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pecific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d potential implications of globalization for updated 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-day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work o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nchmark Definition of  Foreign Direct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469-8602-4452-AB41-FEF9D3B6F9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and characterization of globalization, with key role of multinational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 of globalization to N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: complexity of recording a variety of stocks and flows and relating them to units, using examples such as goods for processing, merchanting, SPEs, non-perman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data issues: for example, transfer pricing, multinationals, free zones, with general concern about consistency of the several 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E5C-C3AB-45A3-B74A-352F30F162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out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of globalization to NAs: Conceptual issues: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tion points to the analytical usefulness of ownership- or control-based statistics to supplement traditional statistics on cross-border transactions and pos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: accounting is complex in a closed economy, but the complexity is multiplied in an internation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E03-D3C3-43B5-9BB3-FAF15FC883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oints for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draft outline capture the main topics for a modest amount of new tex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.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globalization in general and multinational enterprises in particular? What is miss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, perhaps three, issues dealt with in the SNA Update were to be described briefly to illustrate the accounting challenges stemming from globalization (see section II.A), which should they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at the SNA is not meant to be a compilation guide, how much attention should be given to practical consider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dditional sources should be consul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A83-35C6-45F1-B8DF-D9A35EDF4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76720" y="1828800"/>
            <a:ext cx="236196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15000" y="5791320"/>
            <a:ext cx="2819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:: ccarson@im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A1B-F288-4882-B641-851F1B80C5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31:32Z</dcterms:created>
  <dc:creator> </dc:creator>
  <dc:description/>
  <dc:language>en-US</dc:language>
  <cp:lastModifiedBy>Dimova</cp:lastModifiedBy>
  <dcterms:modified xsi:type="dcterms:W3CDTF">2006-04-07T13:09:04Z</dcterms:modified>
  <cp:revision>27</cp:revision>
  <dc:subject/>
  <dc:title>Progress Report on the Review of the SNA</dc:title>
</cp:coreProperties>
</file>