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A7A-230D-4372-BC0A-EF29DADB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5F5-9132-4E4F-B1ED-E8B3F5FE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97B-4E7D-49C7-A16E-7A10FCFC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D05-8462-457E-962B-261DB7B4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22EE-AC8A-4CAA-A896-D5A2FA0C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E51D-3F8F-435F-A7FC-2DE74E2C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98C0-C21A-4CD3-AEE5-3F337CCA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E693-B8AA-4123-9349-6E92A186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5084-4121-49C6-B2D8-E58FE1D1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C850-50A5-469C-B3BC-CECCFEE3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1E4E-9483-453B-847D-C8B1807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69D-A5BA-4470-9EB8-30693C7C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2A25-E3E2-46B9-86EE-8C234007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E32B-2F3A-45E8-8377-28DA1F6A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2DC8-AC96-4BF7-82C7-9BA98BD1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8D89-7FF6-45FB-95AB-01A97126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4074-9F0C-47DD-90A8-12D74E29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589-0AA7-497C-90C5-0DCE951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713-1A36-4FCC-800E-D4A48697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C58-4428-415C-9A2C-28DDC088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7C1-8482-44D4-AD67-FC39FF91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EED-D8DD-4C12-B193-4D4DC9E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1C5-87AE-4D1D-965C-930B3150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FD2-2EA2-46EA-9A21-48CD094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FEF9-1FD0-4B22-98CA-1A071C2BB3F3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CBD3-2C94-4393-97B4-141483918B3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1FF9-CAD1-4025-9012-70909AF7017E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6A22-1D76-4E07-8F7C-4D80606662D0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97AF-F6FF-4B99-8EF6-D8C8C04EBCE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3399"/>
                </a:solidFill>
                <a:latin typeface="Arial"/>
              </a:rPr>
              <a:t>Registers as a source for labour market data in the Norwegian National Accounts</a:t>
            </a: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 Lisbet Bratha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r@ssb.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AB1C-927C-45E3-A67C-75BD793747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Estimation approach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basic employment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loyed pe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-time equivalent  pe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hours wo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objective is to obtain consistency between employment figures, wages and compensation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hours worked is estimated by using information on hours worked in each industry, by adding overtime and subtracting hours of absence (vacation, sickness absence etc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934-0DD9-47A5-9B7A-DEAA5F97FC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ourc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Force Survey (L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er-based employment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 statistics on sickness ab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prise/establishment surveys (structural business stat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 and local government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y-based wage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01A-C630-4ADB-A604-4DC8FC3632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entral register on employe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ional Insurance Administration is responsible for maintaining the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verage is extended considerably in recent years, by supplementing information from other administrative sources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entral Register of Establishment and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d of the Year Certificate Register (complete EYC is submitted to the Tax Directorate each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gister of con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gister of Personal Tax Payers (covering self-employ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FS is important, as the total number of employed persons in the register based employment statistics is adjusted to the total number of employees and self-employed in the LFS the same quar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8ED-DCAE-4A30-ACB1-0EBB8D59C2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Problems related to register-based employmen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for 4th quarter not  always equivalent to averages for the who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 concerning persons who work only occas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onsistency between numbers of employees in the registers and compensation of employees (surveys) and wages and sa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resident employees not covered by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and improvements in the registers have reduced comparability over tim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2CF-CF1A-4031-BFA0-FAB5EC3FCC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61920" y="1827000"/>
            <a:ext cx="78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mployed persons estimated in the national accounts and in the register-based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mployment statistics.  4</a:t>
            </a:r>
            <a:r>
              <a:rPr b="1" lang="en-US" sz="1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quarter. 100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63720" y="2597040"/>
          <a:ext cx="5848200" cy="2670120"/>
        </p:xfrm>
        <a:graphic>
          <a:graphicData uri="http://schemas.openxmlformats.org/drawingml/2006/table">
            <a:tbl>
              <a:tblPr/>
              <a:tblGrid>
                <a:gridCol w="1860480"/>
                <a:gridCol w="1328760"/>
                <a:gridCol w="1328760"/>
                <a:gridCol w="1330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ational accounts 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96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8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9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Register-based employment statistics*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67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6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74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ifference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on-residents estimated in                                      the national accounts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atistical discrepanc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1187280" y="5232240"/>
            <a:ext cx="44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8280" y="5463360"/>
            <a:ext cx="47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sistent with the number of employees and self-employed in the LF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B57-B10D-4962-818A-E15B9E723C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8:34:59Z</dcterms:created>
  <dc:creator>Ann Lisbet Brathaug</dc:creator>
  <dc:description/>
  <cp:keywords/>
  <dc:language>en-US</dc:language>
  <cp:lastModifiedBy>Ann Lisbet Brathaug</cp:lastModifiedBy>
  <cp:lastPrinted>1999-08-31T12:20:00Z</cp:lastPrinted>
  <dcterms:modified xsi:type="dcterms:W3CDTF">2006-04-24T09:39:40Z</dcterms:modified>
  <cp:revision>2</cp:revision>
  <dc:subject/>
  <dc:title>Registers as a source for labour market data in the Norwegian National Accou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6274551</vt:r8>
  </property>
  <property fmtid="{D5CDD505-2E9C-101B-9397-08002B2CF9AE}" pid="3" name="_AuthorEmail">
    <vt:lpwstr>ann.lisbet.brathaug@ssb.no</vt:lpwstr>
  </property>
  <property fmtid="{D5CDD505-2E9C-101B-9397-08002B2CF9AE}" pid="4" name="_AuthorEmailDisplayName">
    <vt:lpwstr>Brathaug, Ann Lisbet</vt:lpwstr>
  </property>
  <property fmtid="{D5CDD505-2E9C-101B-9397-08002B2CF9AE}" pid="5" name="_EmailSubject">
    <vt:lpwstr>Set-up Session on NA and employment data, Geneva, April 28th</vt:lpwstr>
  </property>
  <property fmtid="{D5CDD505-2E9C-101B-9397-08002B2CF9AE}" pid="6" name="_NewReviewCycle">
    <vt:lpwstr/>
  </property>
</Properties>
</file>