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032-E74A-4BBD-AC03-41802A61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5E1-A425-4AFB-912B-AAE38BA3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453-8308-475C-9C68-303BCE73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EA7-910F-4D6C-8004-9890AB38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38D2-9CC9-4024-BFAB-EB1ADB9F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6BEC-2A8D-48D8-A9B2-38704C2A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B8C8-3DA1-49D3-B943-4B076E3F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9BC5-F8BD-4537-AF02-4DBCF38E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C37F-CCCA-41D8-96C7-3A1BE107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1548-0942-4CE3-903E-BAD5E767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AFCC-3CE5-4460-A7D1-A63D0230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F24E-D3CF-44DF-83F5-8E428039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591F-D63F-4E8E-A4E3-DDB2AC3E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5BA7-BCA8-4567-8D02-D63EE514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6110-A295-40F1-8FBC-D4B13B67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8AE8-8239-47B8-8AF8-A374E76B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1471-71B8-41B8-83D9-2DE64F6B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7FC-3965-4CA9-BF9C-08779D37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4C6-F399-45A3-8B9C-B9A9575B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F81D-5E53-4FC2-AE71-B4526FA1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F7C-6098-4099-B67E-273307A3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78F-42F8-459C-B5CB-D52AC722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F1B3-B350-47DC-9F04-0E2E792E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D32-2EA8-4522-BACA-43F165E5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spcBef>
                <a:spcPts val="901"/>
              </a:spcBef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26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0" y="65163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620D-2AC1-4137-895C-F6A187885B87}" type="datetime">
              <a:rPr b="0" lang="en-GB" sz="10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8840" y="6516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6505560"/>
            <a:ext cx="469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DD3E-7477-4FC0-8E99-3575FA8F5808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723852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7D7F-C40D-4FF4-B380-A385721195CB}" type="datetime">
              <a:rPr b="0" lang="en-GB" sz="10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4267080" y="6477120"/>
            <a:ext cx="2819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76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C0F3-1F1D-456C-A5B8-83845CE7E214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53416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6B52-6EFE-4218-B9B2-DF932B440C1E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algn="ctr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buClr>
                <a:srgbClr val="003399"/>
              </a:buClr>
              <a:buSzPct val="9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544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3399"/>
                </a:solidFill>
                <a:latin typeface="Arial"/>
              </a:rPr>
              <a:t>Registers as a source for labour market data in the Norwegian National Accounts</a:t>
            </a: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162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 Lisbet Bratha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r@ssb.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44D5-C73C-4DED-A54B-C9B7732033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Estimation approach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basic employment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ployed per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-time equivalent  per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 hours wo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objective is to obtain consistency between employment figures, wages and compensation of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hours worked is estimated by using information on hours worked in each industry, by adding overtime and subtracting hours of absence (vacation, sickness absence etc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3D8-DEA2-4EE5-8024-1437E1B13D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Source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ur Force Survey (L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ister-based employment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ntral statistics on sickness ab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prise/establishment surveys (structural business statis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ntral and local government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y-based wage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314-0797-4277-903B-CFC25BC3AB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entral register on employee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ational Insurance Administration is responsible for maintaining the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verage is extended considerably in recent years, by supplementing information from other administrative sources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entral Register of Establishment and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nd of the Year Certificate Register (complete EYC is submitted to the Tax Directorate each 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gister of con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gister of Personal Tax Payers (covering self-employ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FS is important, as the total number of employed persons in the register based employment statistics is adjusted to the total number of employees and self-employed in the LFS the same quar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45E-0E13-425F-9964-3A19F0AFFC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Problems related to register-based employmen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s for 4th quarter not  always equivalent to averages for the whol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s concerning persons who work only occasi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onsistency between numbers of employees in the registers and compensation of employees (surveys) and wages and sa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-resident employees not covered by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s and improvements in the registers have reduced comparability over tim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14C-B251-4015-98EF-1EB0BFA0A3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61920" y="1827000"/>
            <a:ext cx="78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mployed persons estimated in the national accounts and in the register-based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mployment statistics.  4</a:t>
            </a:r>
            <a:r>
              <a:rPr b="1" lang="en-US" sz="1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th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quarter. 100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63720" y="2597040"/>
          <a:ext cx="5848200" cy="2670120"/>
        </p:xfrm>
        <a:graphic>
          <a:graphicData uri="http://schemas.openxmlformats.org/drawingml/2006/table">
            <a:tbl>
              <a:tblPr/>
              <a:tblGrid>
                <a:gridCol w="1860480"/>
                <a:gridCol w="1328760"/>
                <a:gridCol w="1328760"/>
                <a:gridCol w="1330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ational accounts 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296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280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295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Register-based employment statistics*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267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260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274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ifference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on-residents estimated in                                      the national accounts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tatistical discrepanc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1187280" y="5232240"/>
            <a:ext cx="44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8280" y="5463360"/>
            <a:ext cx="47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Consistent with the number of employees and self-employed in the LF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8B1-68DA-4AE9-BDCB-57B7BB177D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08:34:59Z</dcterms:created>
  <dc:creator>Ann Lisbet Brathaug</dc:creator>
  <dc:description/>
  <cp:keywords/>
  <dc:language>en-US</dc:language>
  <cp:lastModifiedBy>Ann Lisbet Brathaug</cp:lastModifiedBy>
  <cp:lastPrinted>1999-08-31T12:20:00Z</cp:lastPrinted>
  <dcterms:modified xsi:type="dcterms:W3CDTF">2006-04-24T09:39:40Z</dcterms:modified>
  <cp:revision>2</cp:revision>
  <dc:subject/>
  <dc:title>Registers as a source for labour market data in the Norwegian National Accou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6274551</vt:r8>
  </property>
  <property fmtid="{D5CDD505-2E9C-101B-9397-08002B2CF9AE}" pid="3" name="_AuthorEmail">
    <vt:lpwstr>ann.lisbet.brathaug@ssb.no</vt:lpwstr>
  </property>
  <property fmtid="{D5CDD505-2E9C-101B-9397-08002B2CF9AE}" pid="4" name="_AuthorEmailDisplayName">
    <vt:lpwstr>Brathaug, Ann Lisbet</vt:lpwstr>
  </property>
  <property fmtid="{D5CDD505-2E9C-101B-9397-08002B2CF9AE}" pid="5" name="_EmailSubject">
    <vt:lpwstr>Set-up Session on NA and employment data, Geneva, April 28th</vt:lpwstr>
  </property>
  <property fmtid="{D5CDD505-2E9C-101B-9397-08002B2CF9AE}" pid="6" name="_NewReviewCycle">
    <vt:lpwstr/>
  </property>
</Properties>
</file>