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6284-4069-406C-8CF5-C62FC3E1B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E5F-6D8C-4AC8-A46A-4C93D97B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ce the paper was written, LU response has arr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EBE-76C9-48A8-9AF9-128EB20A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19C-0DEA-49DE-B6A1-44E1E37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BB7-D434-4DDF-8D01-E0051F70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E00-4A9D-4241-A71F-4ABDC760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DC8-FCAB-49BF-A20F-36A9719B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BE8-06D1-4A05-97F4-73AE5BF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DD5-90EB-4A10-95FF-8748B7B2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B79-5A68-4325-9836-E89BAA54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B29-F5FC-4853-89C5-2289976B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231-2097-4F99-850F-6FA1846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C0B-23E5-469C-8DAD-386A6FF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F51-DBD2-4782-B6E4-8B156E9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1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1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914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3285-1207-4048-9CC7-327E1A725297}" type="slidenum">
              <a:rPr b="1" lang="en-US" sz="1400" spc="-1" strike="noStrike">
                <a:solidFill>
                  <a:srgbClr val="01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1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0000"/>
              </a:buClr>
              <a:buFont typeface="Wingdings" charset="2"/>
              <a:buChar char="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2643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10000"/>
                </a:solidFill>
                <a:latin typeface="Times New Roman"/>
              </a:rPr>
              <a:t>The Regional Accounts System of the EU</a:t>
            </a:r>
            <a:endParaRPr b="1" lang="en-US" sz="3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65534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imes New Roman"/>
              </a:rPr>
              <a:t>Andreas Krüger (Eurostat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6019920"/>
            <a:ext cx="5943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Eurostat - Unit C2</a:t>
            </a:r>
            <a:br>
              <a:rPr sz="2000"/>
            </a:br>
            <a:r>
              <a:rPr b="1" lang="en-US" sz="1600" spc="-1" strike="noStrike">
                <a:solidFill>
                  <a:srgbClr val="010000"/>
                </a:solidFill>
                <a:latin typeface="Times New Roman"/>
              </a:rPr>
              <a:t>National Accounts - produc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nclusions (1)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9476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10000"/>
                </a:solidFill>
                <a:uFillTx/>
                <a:latin typeface="Times New Roman"/>
              </a:rPr>
              <a:t>What helps to make good regional accounts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Up-to-date business register with local KAU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Detailed Structural Business Statistic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Access to appropriate administrative data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Regional classification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Regions that are comparable in population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Stability over time: Avoids break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nclusions (2)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3912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10000"/>
                </a:solidFill>
                <a:uFillTx/>
                <a:latin typeface="Times New Roman"/>
              </a:rPr>
              <a:t>Lessons learnt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Don’t estimate variables at too much regional detai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Protect regional classification against political pressur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Don’t be too ambitious (example: regional FISIM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If resources dictate priorities, go first for GVA, then household accounts and GFCF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Contact: Andreas.Krueger@cec.eu.int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590400"/>
            <a:ext cx="8305920" cy="57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111240" rIns="11124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63640" y="3213000"/>
            <a:ext cx="48243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Structure of the presentation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7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ESA95: Legal basi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Key element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Who does what?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Available data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Quality Monitoring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Future Development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ESA95: Legal basis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Council Regulation No. 2223/1996 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Chapter 13: Basic definitions for Regional Account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Annex B: Obligatory data transmission programme (Regional accounts: Tables 1000, 1200 and 1300)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Methodological Recommendations published separately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Key elements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3600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Same concepts and definitions as on national level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Common rules and definitions on basic issu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Common data transmission programme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GVA compilation: Mostly production, some income, but no expenditure approach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No obligation for using specific sources or regionalisation method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Only current prices; but some NSIs have also COP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Who does what?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National Statistical Institutes (NSIs):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imary data collection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ata compilation at regional levels NUTS1-NUTS3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ransmission of data to Eurostat in national currenc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Eurostat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lidation of data received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onversion into € and PP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stimation of regional GDP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alculation of per-inhabitant figures and 3-year averag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evelopment work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Available data (1)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Regional level NUTS 2 (254 units in the EU-25)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VA, compensation of employees, employment (total and employees) in persons, GFCF for 17 industri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Regional GDP (calculated by Eurostat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Primary income of households: Property income (paid and received), operating surplus/mixed income, compensation of employe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Secondary distribution of household income: Taxes on income/wealth, social contributions, social benefits, other current transfers (paid and received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Available data (2) 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31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10000"/>
                </a:solidFill>
                <a:uFillTx/>
                <a:latin typeface="Times New Roman"/>
              </a:rPr>
              <a:t>Regional level NUTS 3 (1213 units in the EU-25):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GVA at 3 industri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Employment (total and employees) in persons for 3 industri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Times New Roman"/>
              </a:rPr>
              <a:t>Regional GDP (calculated by Eurostat)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Quality Monitoring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332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Quality reporting project (1999-2005) led by CBS Netherlands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10000"/>
                </a:solidFill>
                <a:uFillTx/>
                <a:latin typeface="Times New Roman"/>
              </a:rPr>
              <a:t>Future quality monitoring:</a:t>
            </a: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Lighter, but more regular and accessible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Concentrates on accuracy and comparability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Inventories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Times New Roman"/>
              </a:rPr>
              <a:t>Quality standards: difficult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Future Developments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22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More focused data transmission programme: GVA in A6, employment in hours worked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Regular calculation of regional growth rates (voluntary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Quality monitoring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Methodological work: Extra-regio, FISIM, growth rates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uegan</cp:lastModifiedBy>
  <dcterms:modified xsi:type="dcterms:W3CDTF">2006-04-12T09:57:53Z</dcterms:modified>
  <cp:revision>88</cp:revision>
  <dc:subject/>
  <dc:title>General</dc:title>
</cp:coreProperties>
</file>