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69B8-DA3C-4C51-825F-C6B665BCE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4ECC-FF4D-495A-A667-22C4F73AB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ce the paper was written, LU response has arr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ce the paper was written, LU response has arr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ce the paper was written, LU response has arr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ce the paper was written, LU response has arr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ce the paper was written, LU response has arr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ce the paper was written, LU response has arr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D92-4626-4AA0-929F-1FD883BE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FD7-614D-4E3C-82B8-EBA43FDB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99D-DFA6-42BE-8631-F2D9EA49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260-C239-4DC7-92E3-EA63C9DB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305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4FC-58F6-47A6-8D91-CD4103A2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D41-F729-437E-B280-732C6FBA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C50-2F03-47F5-8C62-2F839DE4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667-3641-4E5B-903A-4D39E57E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305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ADB-7FA9-4331-ABDF-739A2718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FCA-21EB-4BC1-81B2-AA6AC0BF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38B-B74E-4756-A36A-6ED11878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CFE-0811-4322-9C4C-E06DC71D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1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1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99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99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914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A136-D5AF-4B91-8026-700A48EF4964}" type="slidenum">
              <a:rPr b="1" lang="en-US" sz="1400" spc="-1" strike="noStrike">
                <a:solidFill>
                  <a:srgbClr val="01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5943600"/>
            <a:ext cx="958680" cy="644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243828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38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5943600"/>
            <a:ext cx="958680" cy="644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1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1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10000"/>
              </a:buClr>
              <a:buFont typeface="Wingdings" charset="2"/>
              <a:buChar char="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1844640"/>
            <a:ext cx="62643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10000"/>
                </a:solidFill>
                <a:latin typeface="Times New Roman"/>
              </a:rPr>
              <a:t>The Regional Accounts System of the EU</a:t>
            </a:r>
            <a:endParaRPr b="1" lang="en-US" sz="3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7280" y="3141720"/>
            <a:ext cx="655344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imes New Roman"/>
              </a:rPr>
              <a:t>Andreas Krüger (Eurostat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6019920"/>
            <a:ext cx="5943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imes New Roman"/>
              </a:rPr>
              <a:t>Eurostat - Unit C2</a:t>
            </a:r>
            <a:br>
              <a:rPr sz="2000"/>
            </a:br>
            <a:r>
              <a:rPr b="1" lang="en-US" sz="1600" spc="-1" strike="noStrike">
                <a:solidFill>
                  <a:srgbClr val="010000"/>
                </a:solidFill>
                <a:latin typeface="Times New Roman"/>
              </a:rPr>
              <a:t>National Accounts - productio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Conclusions (1)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9476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10000"/>
                </a:solidFill>
                <a:uFillTx/>
                <a:latin typeface="Times New Roman"/>
              </a:rPr>
              <a:t>What helps to make good regional accounts: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Up-to-date business register with local KAU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Detailed Structural Business Statistic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Access to appropriate administrative data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Regional classification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Times New Roman"/>
              </a:rPr>
              <a:t>Regions that are comparable in population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Times New Roman"/>
              </a:rPr>
              <a:t>Stability over time: Avoids breaks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Conclusions (2)</a:t>
            </a: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39120" cy="45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10000"/>
                </a:solidFill>
                <a:uFillTx/>
                <a:latin typeface="Times New Roman"/>
              </a:rPr>
              <a:t>Lessons learnt: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Don’t estimate variables at too much regional detai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Protect regional classification against political pressure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Don’t be too ambitious (example: regional FISIM)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If resources dictate priorities, go first for GVA, then household accounts and GFCF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Times New Roman"/>
              </a:rPr>
              <a:t>Contact: Andreas.Krueger@cec.eu.int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590400"/>
            <a:ext cx="8305920" cy="571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111240" rIns="11124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63640" y="3213000"/>
            <a:ext cx="482436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you 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Structure of the presentation</a:t>
            </a: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744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ESA95: Legal basi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Key element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Who does what?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Available data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Quality Monitoring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Future Development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Conclusion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ESA95: Legal basis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35344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Council Regulation No. 2223/1996 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Chapter 13: Basic definitions for Regional Account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Annex B: Obligatory data transmission programme (Regional accounts: Tables 1000, 1200 and 1300)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Methodological Recommendations published separately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Key elements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1360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Same concepts and definitions as on national level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Common rules and definitions on basic issue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Common data transmission programme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GVA compilation: Mostly production, some income, but no expenditure approach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No obligation for using specific sources or regionalisation method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Only current prices; but some NSIs have also COP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Who does what?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National Statistical Institutes (NSIs):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rimary data collection 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ata compilation at regional levels NUTS1-NUTS3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Transmission of data to Eurostat in national currency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Eurostat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Validation of data received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onversion into € and PP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stimation of regional GDP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alculation of per-inhabitant figures and 3-year average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evelopment work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Available data (1)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Regional level NUTS 2 (254 units in the EU-25):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VA, compensation of employees, employment (total and employees) in persons, GFCF for 17 industrie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Regional GDP (calculated by Eurostat)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Primary income of households: Property income (paid and received), operating surplus/mixed income, compensation of employee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Secondary distribution of household income: Taxes on income/wealth, social contributions, social benefits, other current transfers (paid and received)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Available data (2) 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31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Times New Roman"/>
              </a:rPr>
              <a:t>Regional level NUTS 3 (1213 units in the EU-25):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GVA at 3 industrie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Employment (total and employees) in persons for 3 industrie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Regional GDP (calculated by Eurostat)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Quality Monitoring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332920" cy="39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Quality reporting project (1999-2005) led by CBS Netherlands 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10000"/>
                </a:solidFill>
                <a:uFillTx/>
                <a:latin typeface="Times New Roman"/>
              </a:rPr>
              <a:t>Future quality monitoring:</a:t>
            </a:r>
            <a:r>
              <a:rPr b="0" lang="en-GB" sz="20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Times New Roman"/>
              </a:rPr>
              <a:t>Lighter, but more regular and accessible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Times New Roman"/>
              </a:rPr>
              <a:t>Concentrates on accuracy and comparability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Times New Roman"/>
              </a:rPr>
              <a:t>Inventories 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Times New Roman"/>
              </a:rPr>
              <a:t>Quality standards: difficult 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Future Developments</a:t>
            </a: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2200" cy="37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More focused data transmission programme: GVA in A6, employment in hours worked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Regular calculation of regional growth rates (voluntary)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Quality monitoring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Methodological work: Extra-regio, FISIM, growth rates 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uegan</cp:lastModifiedBy>
  <dcterms:modified xsi:type="dcterms:W3CDTF">2006-04-12T09:57:53Z</dcterms:modified>
  <cp:revision>88</cp:revision>
  <dc:subject/>
  <dc:title>General</dc:title>
</cp:coreProperties>
</file>