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933-20B7-4667-BCE4-5E4B6063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B66-CDFC-4385-994E-D5EA9407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227-A7DA-465B-8297-DD0A3E0A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BAF-F6A1-450E-A689-10A84EB4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FE5-398A-4BAB-9DE7-9B102BD4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4F2-3229-4A73-B65E-962AF26A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44E-784B-47AC-94D4-B22B39FA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0B7-3A43-484D-9195-AEC5C869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A4B-8212-47E4-AB02-C5959A9F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315-19B4-4EFE-8704-BD2714E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8E2-805A-4AAA-9550-BC610ED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85C-7267-4A9F-97A5-0E4459D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2C51-A0E2-4FD6-856F-6F1A1B65B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3360" y="419040"/>
            <a:ext cx="866880" cy="25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3640" y="3716280"/>
            <a:ext cx="658332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2133720"/>
            <a:ext cx="692640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wards an improvement of current migration estimates for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omenico Gabrielli, Maria Pia Sorvi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Istat -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32472" t="18527" r="0" b="6009"/>
          <a:stretch/>
        </p:blipFill>
        <p:spPr>
          <a:xfrm>
            <a:off x="-4680" y="0"/>
            <a:ext cx="1619280" cy="686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866520" cy="25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63640" y="5805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oint UNECE-Eurostat Work session on Migration Statist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Geneva, 3-5 March  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549360"/>
            <a:ext cx="6840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USEHOLD SURVEYS: A COMPLEMENTARY SOURCE OF INFORMATION ON EMIGR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981000"/>
            <a:ext cx="676440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1125360"/>
            <a:ext cx="712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sehold survey with large  sampl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el or Pseudo-pa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about the permanence in the households of each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of the househ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gible survey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SILC (European Statistics on Income and Living Condi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our Force Surv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333360"/>
            <a:ext cx="6835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SILC: SAMPLING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5476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wo stage sampling desig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: primary sampling units are the municipalities; the secondary stage sampling units (SSU) are the households (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eople living in Institution are not included in the sampl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PSU are stratifi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ccording to their size in terms of number of residen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ification is carried out  inside each region (NUTS2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ur  municipalities are selected in each strata with probability proportional to their size in terms of resid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 selected municipalities, </a:t>
            </a:r>
            <a:r>
              <a:rPr b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households are selected from the municipality population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050920" y="4149720"/>
          <a:ext cx="5977080" cy="1974960"/>
        </p:xfrm>
        <a:graphic>
          <a:graphicData uri="http://schemas.openxmlformats.org/drawingml/2006/table">
            <a:tbl>
              <a:tblPr/>
              <a:tblGrid>
                <a:gridCol w="2160720"/>
                <a:gridCol w="1946160"/>
                <a:gridCol w="18702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cro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opulation (Househol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ample size (househol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83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26,3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97,4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Ita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2,006,9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5,5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33360"/>
            <a:ext cx="6835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SILC: ROTATION OF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1052640"/>
            <a:ext cx="6912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whole sample is composed of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4 different panel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each one in the survey for 4 waves (=4 year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ach year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1/4 of the sample is renew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replacing the group entered in the sample four years befo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ach group is associated to one of the municipalities of the str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92360" y="2997360"/>
          <a:ext cx="7127640" cy="2590560"/>
        </p:xfrm>
        <a:graphic>
          <a:graphicData uri="http://schemas.openxmlformats.org/drawingml/2006/table">
            <a:tbl>
              <a:tblPr/>
              <a:tblGrid>
                <a:gridCol w="718920"/>
                <a:gridCol w="706680"/>
                <a:gridCol w="714240"/>
                <a:gridCol w="709560"/>
                <a:gridCol w="716040"/>
                <a:gridCol w="712800"/>
                <a:gridCol w="711360"/>
                <a:gridCol w="712440"/>
                <a:gridCol w="712800"/>
                <a:gridCol w="7128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\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33360"/>
            <a:ext cx="6835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BOUR FORCE SURVEY: SAMPLING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1052640"/>
            <a:ext cx="6912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mpling scheme as described for EUSI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sampling stages: Municipalities as PSU and Households as secondary sampling units (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living in Institution are not included in the samp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atification of municipality (in each province - NUTS3) on demographic size; selection of one PSU in each stratum proportional to its demographic siz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SU are </a:t>
            </a:r>
            <a:r>
              <a:rPr b="1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selected from population municipality regi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out 1250 municipalities,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75.000 households each qua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33360"/>
            <a:ext cx="676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UR FORCE SURVEY: ROTATION OF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19280" y="1125360"/>
          <a:ext cx="7235640" cy="2519640"/>
        </p:xfrm>
        <a:graphic>
          <a:graphicData uri="http://schemas.openxmlformats.org/drawingml/2006/table">
            <a:tbl>
              <a:tblPr/>
              <a:tblGrid>
                <a:gridCol w="1711440"/>
                <a:gridCol w="500040"/>
                <a:gridCol w="523800"/>
                <a:gridCol w="527040"/>
                <a:gridCol w="523800"/>
                <a:gridCol w="527040"/>
                <a:gridCol w="523800"/>
                <a:gridCol w="525600"/>
                <a:gridCol w="525600"/>
                <a:gridCol w="449280"/>
                <a:gridCol w="448920"/>
                <a:gridCol w="449280"/>
              </a:tblGrid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 quarter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fa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fa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 quarter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23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23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 quarter 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23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23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 quarter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+1 quarter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fa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4fa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T+1 quarter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1619280" y="3860640"/>
            <a:ext cx="752472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verlap of the sample of year T and T+1 (same quarter): 50% of the sampl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year T quarter I and year T +1 quarter I: rotational groups E and F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verlap of the sample in two consecutive quarters: 50% of the samp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year T quarter II and III, rotational groups C and G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33360"/>
            <a:ext cx="676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1052640"/>
            <a:ext cx="720108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in EUSILC and Labour Force Surveys the households are contacted in subsequent occas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 to the information on migration available from the municipality registers (agreeing with the administrative data), some question are addressed to detect migration of households and individu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USILC, when a household is not found, the interviewer can specify the motivation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ved abro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 Moreover, if a member is not present in the household the same motivation can be gi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FS, when a member of the household is no longer present a question is asked about the reason (moved abroad being one of the items). Tracking is much less focused on, as it is essentially a cross-sectional surv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333360"/>
            <a:ext cx="676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RESULTS FROM EUSILC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1052640"/>
            <a:ext cx="734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92360" y="1197000"/>
          <a:ext cx="6994440" cy="4607640"/>
        </p:xfrm>
        <a:graphic>
          <a:graphicData uri="http://schemas.openxmlformats.org/drawingml/2006/table">
            <a:tbl>
              <a:tblPr/>
              <a:tblGrid>
                <a:gridCol w="1790640"/>
                <a:gridCol w="1856520"/>
                <a:gridCol w="1165680"/>
                <a:gridCol w="1114560"/>
                <a:gridCol w="1067040"/>
              </a:tblGrid>
              <a:tr h="768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im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error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dence Interval (α=0.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Lim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Li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h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8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hold members 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,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,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viduals 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,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(A+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,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,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8,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333360"/>
            <a:ext cx="676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RESULTS FROM EUSILC-2006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78200" y="6477120"/>
            <a:ext cx="47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Work session on migration statistics - Geneva, 3-5-marc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1052640"/>
            <a:ext cx="734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63640" y="1119240"/>
          <a:ext cx="6810480" cy="5168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119240"/>
                    <a:ext cx="68104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CONCLUSIONS</a:t>
            </a:r>
            <a:r>
              <a:rPr b="1" lang="it-IT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ment of statistics on emigration can result from a multi dimensional approa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onitor the changes in legislation and the actual  management of Population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ct cooperation with the Ministry of Internal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going contacts with municipalities and associations of public officers in charge of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to make the main actors aware of requirements and utility of statist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CONCLUSIONS</a:t>
            </a:r>
            <a:r>
              <a:rPr b="1" lang="it-IT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To ameliorate the production process of current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urac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Comple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Time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of 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iz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73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342900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fc23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rces for statistics on mi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ment of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emigration underestimated by current surveys?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usehold surveys: a complementary source of information on emigrati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conclusion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CONCLUSIONS</a:t>
            </a:r>
            <a:r>
              <a:rPr b="1" lang="it-IT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1052640"/>
            <a:ext cx="73436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use other sources to check/complement existing data (EUSILC and L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Consistency between results of current surveys and household surve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valuable clues on the size of “shadow emigr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rive more information on socio-economic status of e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RCES FOR STATISTICS ON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268280"/>
            <a:ext cx="714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nicipal Population regis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rations and cancellations from and for abroad may be assimilated to long-term migrati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ARY and INDIVIDUAL data on migratory flows are gathered through current surveys carried out by Ist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pulation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mple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RENT SURVEYS ON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43120" y="928800"/>
            <a:ext cx="678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ary data (demographic bal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and yearly collection of population flows (including immigrants and emigrants) for each municip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rations and cancellations in population registers for migrations between Italian municipalities and abroad, including characteristic of the migration and the 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count of the outward flows in the data collected with the survey on individual change of residence, compared to the survey on municipal demographic bal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333360"/>
            <a:ext cx="640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FFERENCE BETWEEN AGGREGATED AND INDIVIDU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43120" y="928800"/>
            <a:ext cx="678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63640" y="1176480"/>
          <a:ext cx="6912000" cy="494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176480"/>
                    <a:ext cx="69120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404640"/>
            <a:ext cx="6404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MENT OF THE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herence with statistic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tion to changes in administrative rules an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ck of detail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 monitoring of survey and actions on the municipalities (respo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ess of web data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centraliz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ay in the availability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ess of web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98100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33360"/>
            <a:ext cx="712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CREPANCIES IN POPULATION REGISTERS’ (AND  IN SURVEYS’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8100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1052640"/>
            <a:ext cx="74167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2520" indent="-14400"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sus defines the official amount of resident pop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 registers (Anagrafi) give the changes due to natural and migration dynamics therefore updating offici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ces between the registered population (Anagrafi) and the resident population (Census) are du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nsus undercoverag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ersons missed by the census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nsus overcoun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especially for foreigners who do not have requirements needed by the law to be 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agrafi undercover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especially for foreigners who do not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agrafi overcount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issed cancellations of those who leave the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4400"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8100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333360"/>
            <a:ext cx="712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EMIGRATION UNDERESTIMATED BY CURRENT SURVE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98100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vailable sources of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pulation census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Coverage survey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pulation registers (2001 stocks, 1991-2001 fl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98100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333360"/>
            <a:ext cx="712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STIMATE OF THE EMIGRATION UNDER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98100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78200" y="64771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Work session on migration statistics - Geneva, 3-5-march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052640"/>
            <a:ext cx="67640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∆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ister - C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under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nsus ove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adow emigr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grafi under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ximum Estimated SE rate: 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581360"/>
            <a:ext cx="107964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>
              <a:alpha val="92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8:16:41Z</dcterms:created>
  <dc:creator>marsili</dc:creator>
  <dc:description/>
  <dc:language>en-US</dc:language>
  <cp:lastModifiedBy>istat</cp:lastModifiedBy>
  <dcterms:modified xsi:type="dcterms:W3CDTF">2008-02-29T11:50:01Z</dcterms:modified>
  <cp:revision>418</cp:revision>
  <dc:subject/>
  <dc:title>Presentazione di PowerPoint</dc:title>
</cp:coreProperties>
</file>