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1AB4-F8F8-4392-A1A0-1A6D88EA9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C7E3-25D2-4357-9986-A64DD457C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556F-391F-44C1-9A8D-8D4B19419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939A-EF7E-4D9F-9DB9-915801E94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6EA0-817B-45F1-82EA-01E1BDF10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5461-B9F4-47F8-9DDA-BD31F4601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A867-6179-41D6-B83D-9A6039E23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9F0E-DBCA-4D5F-9345-B366C216A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9552-7CCF-4E48-BF19-78BD1CFDD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7B74-757F-4B12-B359-5A22CF26E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8D19-0B42-4FCE-AB2E-4F00C069E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818F-DC38-480D-B3B8-0575DB384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8DAF5-6D17-4F57-B585-930DD2038A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838080"/>
            <a:ext cx="80773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838080"/>
            <a:ext cx="1616040" cy="0"/>
          </a:xfrm>
          <a:prstGeom prst="line">
            <a:avLst/>
          </a:prstGeom>
          <a:ln w="9360">
            <a:solidFill>
              <a:srgbClr val="99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33360" y="419040"/>
            <a:ext cx="866880" cy="252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3640" y="3716280"/>
            <a:ext cx="6583320" cy="13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63640" y="2133720"/>
            <a:ext cx="6926400" cy="23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owards an improvement of current migration estimates for Ita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Domenico Gabrielli, Maria Pia Sorvil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Istat - It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rcRect l="32472" t="18527" r="0" b="6009"/>
          <a:stretch/>
        </p:blipFill>
        <p:spPr>
          <a:xfrm>
            <a:off x="-4680" y="0"/>
            <a:ext cx="1619280" cy="6865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324000" y="404640"/>
            <a:ext cx="866520" cy="2527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763640" y="580536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Joint UNECE-Eurostat Work session on Migration Statist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(Geneva, 3-5 March  200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066680" y="83808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35280" y="549360"/>
            <a:ext cx="6840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OUSEHOLD SURVEYS: A COMPLEMENTARY SOURCE OF INFORMATION ON EMIGRATION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32451" t="18532" r="0" b="6004"/>
          <a:stretch/>
        </p:blipFill>
        <p:spPr>
          <a:xfrm>
            <a:off x="0" y="0"/>
            <a:ext cx="1619280" cy="68659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0" y="838080"/>
            <a:ext cx="161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788040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978200" y="6477120"/>
            <a:ext cx="4755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5f5f5f"/>
                </a:solidFill>
                <a:latin typeface="Arial"/>
                <a:ea typeface="ＭＳ Ｐゴシック"/>
              </a:rPr>
              <a:t>Work session on migration statistics - Geneva, 3-5-march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763640" y="981000"/>
            <a:ext cx="6764400" cy="49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763640" y="1125360"/>
            <a:ext cx="71294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quirement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usehold survey with large  sample siz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nel or Pseudo-pan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estions about the permanence in the households of each memb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cking of the househol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igible survey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USILC (European Statistics on Income and Living Condition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bour Force Surve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066680" y="83808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63640" y="333360"/>
            <a:ext cx="68356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USILC: SAMPLING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32451" t="18532" r="0" b="6004"/>
          <a:stretch/>
        </p:blipFill>
        <p:spPr>
          <a:xfrm>
            <a:off x="0" y="0"/>
            <a:ext cx="154764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0" y="838080"/>
            <a:ext cx="161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788040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978200" y="6477120"/>
            <a:ext cx="4755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5f5f5f"/>
                </a:solidFill>
                <a:latin typeface="Arial"/>
              </a:rPr>
              <a:t>Work session on migration statistics - Geneva, 3-5-march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35280" y="1052640"/>
            <a:ext cx="6764040" cy="49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Two stage sampling design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: primary sampling units are the municipalities; the secondary stage sampling units (SSU) are the households (</a:t>
            </a:r>
            <a:r>
              <a:rPr b="1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people living in Institution are not included in the sample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PSU are stratified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according to their size in terms of number of resident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tratification is carried out  inside each region (NUTS2)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ur  municipalities are selected in each strata with probability proportional to their size in terms of residen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 selected municipalities, </a:t>
            </a:r>
            <a:r>
              <a:rPr b="1" lang="en-GB" sz="1400" spc="-1" strike="noStrike" u="sng">
                <a:solidFill>
                  <a:srgbClr val="333399"/>
                </a:solidFill>
                <a:uFillTx/>
                <a:latin typeface="Arial"/>
              </a:rPr>
              <a:t>households are selected from the municipality population regi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050920" y="4149720"/>
          <a:ext cx="5977080" cy="1974960"/>
        </p:xfrm>
        <a:graphic>
          <a:graphicData uri="http://schemas.openxmlformats.org/drawingml/2006/table">
            <a:tbl>
              <a:tblPr/>
              <a:tblGrid>
                <a:gridCol w="2160720"/>
                <a:gridCol w="1946160"/>
                <a:gridCol w="187020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Macro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Population (Household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Sample size (household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583,0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5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nt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226,3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3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u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197,4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6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Ital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22,006,9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25,50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83808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763640" y="333360"/>
            <a:ext cx="68356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USILC: ROTATION OF S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32451" t="18532" r="0" b="6004"/>
          <a:stretch/>
        </p:blipFill>
        <p:spPr>
          <a:xfrm>
            <a:off x="0" y="0"/>
            <a:ext cx="1619280" cy="68659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0" y="838080"/>
            <a:ext cx="161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88040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978200" y="6477120"/>
            <a:ext cx="4755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5f5f5f"/>
                </a:solidFill>
                <a:latin typeface="Arial"/>
              </a:rPr>
              <a:t>Work session on migration statistics - Geneva, 3-5-march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92360" y="1052640"/>
            <a:ext cx="69120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he whole sample is composed of </a:t>
            </a: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4 different panel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, each one in the survey for 4 waves (=4 years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ach year </a:t>
            </a: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1/4 of the sample is renewed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, replacing the group entered in the sample four years befor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ach group is associated to one of the municipalities of the strat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692360" y="2997360"/>
          <a:ext cx="7127640" cy="2590560"/>
        </p:xfrm>
        <a:graphic>
          <a:graphicData uri="http://schemas.openxmlformats.org/drawingml/2006/table">
            <a:tbl>
              <a:tblPr/>
              <a:tblGrid>
                <a:gridCol w="718920"/>
                <a:gridCol w="706680"/>
                <a:gridCol w="714240"/>
                <a:gridCol w="709560"/>
                <a:gridCol w="716040"/>
                <a:gridCol w="712800"/>
                <a:gridCol w="711360"/>
                <a:gridCol w="712440"/>
                <a:gridCol w="712800"/>
                <a:gridCol w="712800"/>
              </a:tblGrid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up \y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D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+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D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+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D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+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D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+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+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066680" y="83808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763640" y="333360"/>
            <a:ext cx="68356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BOUR FORCE SURVEY: SAMPLING DESIG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32451" t="18532" r="0" b="6004"/>
          <a:stretch/>
        </p:blipFill>
        <p:spPr>
          <a:xfrm>
            <a:off x="0" y="0"/>
            <a:ext cx="1619280" cy="68659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0" y="838080"/>
            <a:ext cx="161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788040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978200" y="6477120"/>
            <a:ext cx="4755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5f5f5f"/>
                </a:solidFill>
                <a:latin typeface="Arial"/>
              </a:rPr>
              <a:t>Work session on migration statistics - Geneva, 3-5-march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835280" y="1052640"/>
            <a:ext cx="69120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ampling scheme as described for EUSIL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2 sampling stages: Municipalities as PSU and Households as secondary sampling units (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people living in Institution are not included in the sampl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ratification of municipality (in each province - NUTS3) on demographic size; selection of one PSU in each stratum proportional to its demographic size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SU are </a:t>
            </a:r>
            <a:r>
              <a:rPr b="1" lang="en-GB" sz="2000" spc="-1" strike="noStrike" u="sng">
                <a:solidFill>
                  <a:srgbClr val="333399"/>
                </a:solidFill>
                <a:uFillTx/>
                <a:latin typeface="Arial"/>
              </a:rPr>
              <a:t>selected from population municipality registe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bout 1250 municipalities, 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75.000 households each quar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066680" y="83808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835280" y="333360"/>
            <a:ext cx="67640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BOUR FORCE SURVEY: ROTATION OF S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rcRect l="32451" t="18532" r="0" b="6004"/>
          <a:stretch/>
        </p:blipFill>
        <p:spPr>
          <a:xfrm>
            <a:off x="0" y="0"/>
            <a:ext cx="1619280" cy="68659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0" y="838080"/>
            <a:ext cx="161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788040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978200" y="6477120"/>
            <a:ext cx="4755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5f5f5f"/>
                </a:solidFill>
                <a:latin typeface="Arial"/>
              </a:rPr>
              <a:t>Work session on migration statistics - Geneva, 3-5-march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619280" y="1125360"/>
          <a:ext cx="7235640" cy="2519640"/>
        </p:xfrm>
        <a:graphic>
          <a:graphicData uri="http://schemas.openxmlformats.org/drawingml/2006/table">
            <a:tbl>
              <a:tblPr/>
              <a:tblGrid>
                <a:gridCol w="1711440"/>
                <a:gridCol w="500040"/>
                <a:gridCol w="523800"/>
                <a:gridCol w="527040"/>
                <a:gridCol w="523800"/>
                <a:gridCol w="527040"/>
                <a:gridCol w="523800"/>
                <a:gridCol w="525600"/>
                <a:gridCol w="525600"/>
                <a:gridCol w="449280"/>
                <a:gridCol w="448920"/>
                <a:gridCol w="449280"/>
              </a:tblGrid>
              <a:tr h="33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11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oup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ar T quarter 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4fa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4fa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ar T quarter 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c230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c230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ar T quarter I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c230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c230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ar T quarter I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ar T+1 quarter 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4fa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4fa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ar T+1 quarter 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"/>
          <p:cNvSpPr/>
          <p:nvPr/>
        </p:nvSpPr>
        <p:spPr>
          <a:xfrm>
            <a:off x="1619280" y="3860640"/>
            <a:ext cx="7524720" cy="26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verlap of the sample of year T and T+1 (same quarter): 50% of the sample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(year T quarter I and year T +1 quarter I: rotational groups E and F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verlap of the sample in two consecutive quarters: 50% of the sample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(year T quarter II and III, rotational groups C and G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066680" y="83808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835280" y="333360"/>
            <a:ext cx="67690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rcRect l="32451" t="18532" r="0" b="6004"/>
          <a:stretch/>
        </p:blipFill>
        <p:spPr>
          <a:xfrm>
            <a:off x="0" y="0"/>
            <a:ext cx="1619280" cy="68659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0" y="838080"/>
            <a:ext cx="161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788040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978200" y="6477120"/>
            <a:ext cx="4755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5f5f5f"/>
                </a:solidFill>
                <a:latin typeface="Arial"/>
              </a:rPr>
              <a:t>Work session on migration statistics - Geneva, 3-5-march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763640" y="1052640"/>
            <a:ext cx="7201080" cy="48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th in EUSILC and Labour Force Surveys the households are contacted in subsequent occasion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addition to the information on migration available from the municipality registers (agreeing with the administrative data), some question are addressed to detect migration of households and individua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EUSILC, when a household is not found, the interviewer can specify the motivation “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oved abroa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”. Moreover, if a member is not present in the household the same motivation can be giv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the LFS, when a member of the household is no longer present a question is asked about the reason (moved abroad being one of the items). Tracking is much less focused on, as it is essentially a cross-sectional surve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066680" y="83808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5280" y="333360"/>
            <a:ext cx="67690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ST RESULTS FROM EUSILC-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32451" t="18532" r="0" b="6004"/>
          <a:stretch/>
        </p:blipFill>
        <p:spPr>
          <a:xfrm>
            <a:off x="0" y="0"/>
            <a:ext cx="1619280" cy="68659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0" y="838080"/>
            <a:ext cx="161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788040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978200" y="6477120"/>
            <a:ext cx="4755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5f5f5f"/>
                </a:solidFill>
                <a:latin typeface="Arial"/>
              </a:rPr>
              <a:t>Work session on migration statistics - Geneva, 3-5-march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19280" y="1052640"/>
            <a:ext cx="7345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692360" y="1197000"/>
          <a:ext cx="6994440" cy="4607640"/>
        </p:xfrm>
        <a:graphic>
          <a:graphicData uri="http://schemas.openxmlformats.org/drawingml/2006/table">
            <a:tbl>
              <a:tblPr/>
              <a:tblGrid>
                <a:gridCol w="1790640"/>
                <a:gridCol w="1856520"/>
                <a:gridCol w="1165680"/>
                <a:gridCol w="1114560"/>
                <a:gridCol w="1067040"/>
              </a:tblGrid>
              <a:tr h="76824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tima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mpling error 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fidence Interval (α=0.0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er Limi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pper Lim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8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usehol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,8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.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,8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,8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68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usehold members (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,6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,6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,6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dividuals (B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,6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,0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,1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8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(A+B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1,2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,6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8,8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066680" y="83808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835280" y="333360"/>
            <a:ext cx="67690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ST RESULTS FROM EUSILC-2006 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32451" t="18532" r="0" b="6004"/>
          <a:stretch/>
        </p:blipFill>
        <p:spPr>
          <a:xfrm>
            <a:off x="0" y="0"/>
            <a:ext cx="1619280" cy="68659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0" y="838080"/>
            <a:ext cx="161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788040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978200" y="6477120"/>
            <a:ext cx="4755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5f5f5f"/>
                </a:solidFill>
                <a:latin typeface="Arial"/>
              </a:rPr>
              <a:t>Work session on migration statistics - Geneva, 3-5-march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619280" y="1052640"/>
            <a:ext cx="7345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763640" y="1119240"/>
          <a:ext cx="6810480" cy="5168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1119240"/>
                    <a:ext cx="6810480" cy="516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066680" y="83808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763640" y="333360"/>
            <a:ext cx="64040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OME CONCLUSIONS</a:t>
            </a:r>
            <a:r>
              <a:rPr b="1" lang="it-IT" sz="2000" spc="-1" strike="noStrike">
                <a:solidFill>
                  <a:srgbClr val="ddddd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rcRect l="32451" t="18532" r="0" b="6004"/>
          <a:stretch/>
        </p:blipFill>
        <p:spPr>
          <a:xfrm>
            <a:off x="0" y="0"/>
            <a:ext cx="1619280" cy="68659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0" y="838080"/>
            <a:ext cx="161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788040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978200" y="6477120"/>
            <a:ext cx="4755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5f5f5f"/>
                </a:solidFill>
                <a:latin typeface="Arial"/>
                <a:ea typeface="ＭＳ Ｐゴシック"/>
              </a:rPr>
              <a:t>Work session on migration statistics - Geneva, 3-5-march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835280" y="1052640"/>
            <a:ext cx="6764040" cy="49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rovement of statistics on emigration can result from a multi dimensional approach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indent="-26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indent="-26856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monitor the changes in legislation and the actual  management of Population regi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indent="-26856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indent="-268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ict cooperation with the Ministry of Internal Aff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indent="-268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going contacts with municipalities and associations of public officers in charge of Regi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indent="-268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tivities to make the main actors aware of requirements and utility of statistic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066680" y="83808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763640" y="333360"/>
            <a:ext cx="64040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OME CONCLUSIONS</a:t>
            </a:r>
            <a:r>
              <a:rPr b="1" lang="it-IT" sz="2000" spc="-1" strike="noStrike">
                <a:solidFill>
                  <a:srgbClr val="ddddd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32451" t="18532" r="0" b="6004"/>
          <a:stretch/>
        </p:blipFill>
        <p:spPr>
          <a:xfrm>
            <a:off x="0" y="0"/>
            <a:ext cx="1619280" cy="68659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0" y="838080"/>
            <a:ext cx="161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788040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978200" y="6477120"/>
            <a:ext cx="4755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5f5f5f"/>
                </a:solidFill>
                <a:latin typeface="Arial"/>
                <a:ea typeface="ＭＳ Ｐゴシック"/>
              </a:rPr>
              <a:t>Work session on migration statistics - Geneva, 3-5-march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835280" y="1052640"/>
            <a:ext cx="6764040" cy="49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. To ameliorate the production process of current surv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731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7318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Accuracy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7318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Complet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7318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Timel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7318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7318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7318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7318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nitoring of respond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7318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b data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7318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entralized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7318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tistical estim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7318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211640" y="3429000"/>
            <a:ext cx="720720" cy="863640"/>
          </a:xfrm>
          <a:prstGeom prst="downArrow">
            <a:avLst>
              <a:gd name="adj1" fmla="val 50000"/>
              <a:gd name="adj2" fmla="val 29958"/>
            </a:avLst>
          </a:prstGeom>
          <a:solidFill>
            <a:srgbClr val="fc23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066680" y="83808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763640" y="333360"/>
            <a:ext cx="64040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32451" t="18532" r="0" b="6004"/>
          <a:stretch/>
        </p:blipFill>
        <p:spPr>
          <a:xfrm>
            <a:off x="0" y="0"/>
            <a:ext cx="1619280" cy="6865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838080"/>
            <a:ext cx="161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88040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978200" y="6477120"/>
            <a:ext cx="4755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5f5f5f"/>
                </a:solidFill>
                <a:latin typeface="Arial"/>
                <a:ea typeface="ＭＳ Ｐゴシック"/>
              </a:rPr>
              <a:t>Work session on migration statistics - Geneva, 3-5-march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835280" y="1052640"/>
            <a:ext cx="6764040" cy="49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ources for statistics on migr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rovement of the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s emigration underestimated by current surveys?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usehold surveys: a complementary source of information on emigration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ome conclusion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066680" y="83808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763640" y="333360"/>
            <a:ext cx="64040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OME CONCLUSIONS</a:t>
            </a:r>
            <a:r>
              <a:rPr b="1" lang="it-IT" sz="2000" spc="-1" strike="noStrike">
                <a:solidFill>
                  <a:srgbClr val="ddddd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rcRect l="32451" t="18532" r="0" b="6004"/>
          <a:stretch/>
        </p:blipFill>
        <p:spPr>
          <a:xfrm>
            <a:off x="0" y="0"/>
            <a:ext cx="1619280" cy="68659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0" y="838080"/>
            <a:ext cx="161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788040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978200" y="6477120"/>
            <a:ext cx="4755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5f5f5f"/>
                </a:solidFill>
                <a:latin typeface="Arial"/>
                <a:ea typeface="ＭＳ Ｐゴシック"/>
              </a:rPr>
              <a:t>Work session on migration statistics - Geneva, 3-5-march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92360" y="1052640"/>
            <a:ext cx="7343640" cy="49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use other sources to check/complement existing data (EUSILC and LF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44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44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eck Consistency between results of current surveys and household survey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44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44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tain valuable clues on the size of “shadow emigratio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44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44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rive more information on socio-economic status of emigr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066680" y="83808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63640" y="333360"/>
            <a:ext cx="64040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OURCES FOR STATISTICS ON MI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32451" t="18532" r="0" b="6004"/>
          <a:stretch/>
        </p:blipFill>
        <p:spPr>
          <a:xfrm>
            <a:off x="0" y="0"/>
            <a:ext cx="1619280" cy="686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838080"/>
            <a:ext cx="161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88040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978200" y="6477120"/>
            <a:ext cx="4755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5f5f5f"/>
                </a:solidFill>
                <a:latin typeface="Arial"/>
                <a:ea typeface="ＭＳ Ｐゴシック"/>
              </a:rPr>
              <a:t>Work session on migration statistics - Geneva, 3-5-march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35280" y="1052640"/>
            <a:ext cx="6764040" cy="49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92360" y="1268280"/>
            <a:ext cx="7149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unicipal Population regist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gistrations and cancellations from and for abroad may be assimilated to long-term migration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MMARY and INDIVIDUAL data on migratory flows are gathered through current surveys carried out by Ista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opulation cens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ample surv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066680" y="83808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763640" y="333360"/>
            <a:ext cx="64040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URRENT SURVEYS ON MI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rcRect l="32451" t="18532" r="0" b="6004"/>
          <a:stretch/>
        </p:blipFill>
        <p:spPr>
          <a:xfrm>
            <a:off x="0" y="0"/>
            <a:ext cx="1619280" cy="68659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838080"/>
            <a:ext cx="161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788040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978200" y="6477120"/>
            <a:ext cx="4755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5f5f5f"/>
                </a:solidFill>
                <a:latin typeface="Arial"/>
                <a:ea typeface="ＭＳ Ｐゴシック"/>
              </a:rPr>
              <a:t>Work session on migration statistics - Geneva, 3-5-march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835280" y="1052640"/>
            <a:ext cx="6764040" cy="49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43120" y="928800"/>
            <a:ext cx="67896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mmary data (demographic balan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nthly and yearly collection of population flows (including immigrants and emigrants) for each municip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dividua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gistrations and cancellations in population registers for migrations between Italian municipalities and abroad, including characteristic of the migration and the migr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dercount of the outward flows in the data collected with the survey on individual change of residence, compared to the survey on municipal demographic balan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066680" y="83808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763640" y="333360"/>
            <a:ext cx="64040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IFFERENCE BETWEEN AGGREGATED AND INDIVIDUAL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rcRect l="32451" t="18532" r="0" b="6004"/>
          <a:stretch/>
        </p:blipFill>
        <p:spPr>
          <a:xfrm>
            <a:off x="0" y="0"/>
            <a:ext cx="1619280" cy="68659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0" y="838080"/>
            <a:ext cx="161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788040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978200" y="6477120"/>
            <a:ext cx="4755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5f5f5f"/>
                </a:solidFill>
                <a:latin typeface="Arial"/>
                <a:ea typeface="ＭＳ Ｐゴシック"/>
              </a:rPr>
              <a:t>Work session on migration statistics - Geneva, 3-5-march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835280" y="1052640"/>
            <a:ext cx="6764040" cy="49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743120" y="928800"/>
            <a:ext cx="678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763640" y="1176480"/>
          <a:ext cx="6912000" cy="4949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1176480"/>
                    <a:ext cx="6912000" cy="49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066680" y="83808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63640" y="404640"/>
            <a:ext cx="64040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ROVEMENT OF THE PROCES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rcRect l="32451" t="18532" r="0" b="6004"/>
          <a:stretch/>
        </p:blipFill>
        <p:spPr>
          <a:xfrm>
            <a:off x="0" y="0"/>
            <a:ext cx="1619280" cy="68659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838080"/>
            <a:ext cx="161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88040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978200" y="6477120"/>
            <a:ext cx="4755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5f5f5f"/>
                </a:solidFill>
                <a:latin typeface="Arial"/>
                <a:ea typeface="ＭＳ Ｐゴシック"/>
              </a:rPr>
              <a:t>Work session on migration statistics - Geneva, 3-5-march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835280" y="1052640"/>
            <a:ext cx="6764040" cy="49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herence with statistical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tention to changes in administrative rules an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ck of detailed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tter monitoring of survey and actions on the municipalities (responden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gress of web data coll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w centralized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lay in the availability of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gress of web data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tim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066680" y="98100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763640" y="333360"/>
            <a:ext cx="7129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DISCREPANCIES IN POPULATION REGISTERS’ (AND  IN SURVEYS’ DA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32451" t="18532" r="0" b="6004"/>
          <a:stretch/>
        </p:blipFill>
        <p:spPr>
          <a:xfrm>
            <a:off x="0" y="0"/>
            <a:ext cx="1619280" cy="68659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981000"/>
            <a:ext cx="161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788040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978200" y="6477120"/>
            <a:ext cx="4755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5f5f5f"/>
                </a:solidFill>
                <a:latin typeface="Arial"/>
                <a:ea typeface="ＭＳ Ｐゴシック"/>
              </a:rPr>
              <a:t>Work session on migration statistics - Geneva, 3-5-march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19280" y="1052640"/>
            <a:ext cx="7416720" cy="49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82520" indent="-14400">
              <a:lnSpc>
                <a:spcPct val="100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ckgroun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ensus defines the official amount of resident popul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pulation registers (Anagrafi) give the changes due to natural and migration dynamics therefore updating official pop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9640">
              <a:lnSpc>
                <a:spcPct val="100000"/>
              </a:lnSpc>
              <a:tabLst>
                <a:tab algn="l" pos="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4400">
              <a:lnSpc>
                <a:spcPct val="100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fferences between the registered population (Anagrafi) and the resident population (Census) are due 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9640">
              <a:lnSpc>
                <a:spcPct val="100000"/>
              </a:lnSpc>
              <a:tabLst>
                <a:tab algn="l" pos="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ensus undercoverag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persons missed by the census)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ensus overcount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especially for foreigners who do not have requirements needed by the law to be resi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nagrafi undercover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especially for foreigners who do not regist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nagrafi overcounting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missed cancellations of those who leave the countr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9640">
              <a:lnSpc>
                <a:spcPct val="100000"/>
              </a:lnSpc>
              <a:tabLst>
                <a:tab algn="l" pos="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4400"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066680" y="98100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763640" y="333360"/>
            <a:ext cx="7129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EMIGRATION UNDERESTIMATED BY CURRENT SURVEY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32451" t="18532" r="0" b="6004"/>
          <a:stretch/>
        </p:blipFill>
        <p:spPr>
          <a:xfrm>
            <a:off x="0" y="0"/>
            <a:ext cx="1619280" cy="68659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0" y="981000"/>
            <a:ext cx="161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788040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978200" y="6477120"/>
            <a:ext cx="4755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5f5f5f"/>
                </a:solidFill>
                <a:latin typeface="Arial"/>
                <a:ea typeface="ＭＳ Ｐゴシック"/>
              </a:rPr>
              <a:t>Work session on migration statistics - Geneva, 3-5-march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35280" y="1052640"/>
            <a:ext cx="6764040" cy="49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vailable sources of inform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opulation census (200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ensus Coverage survey (200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opulation registers (2001 stocks, 1991-2001 flow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066680" y="98100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63640" y="333360"/>
            <a:ext cx="7129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ESTIMATE OF THE EMIGRATION UNDER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32451" t="18532" r="0" b="6004"/>
          <a:stretch/>
        </p:blipFill>
        <p:spPr>
          <a:xfrm>
            <a:off x="0" y="0"/>
            <a:ext cx="1619280" cy="68659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0" y="981000"/>
            <a:ext cx="161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788040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978200" y="6477120"/>
            <a:ext cx="4755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5f5f5f"/>
                </a:solidFill>
                <a:latin typeface="Arial"/>
                <a:ea typeface="ＭＳ Ｐゴシック"/>
              </a:rPr>
              <a:t>Work session on migration statistics - Geneva, 3-5-march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835280" y="1052640"/>
            <a:ext cx="6764040" cy="49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∆ </a:t>
            </a:r>
            <a:r>
              <a:rPr b="1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gister - Cens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ensus undercove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ensus over 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hadow emigratio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agrafi undercove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ximum Estimated SE rate: 27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4581360"/>
            <a:ext cx="1079640" cy="863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0000">
              <a:alpha val="92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08:16:41Z</dcterms:created>
  <dc:creator>marsili</dc:creator>
  <dc:description/>
  <dc:language>en-US</dc:language>
  <cp:lastModifiedBy>istat</cp:lastModifiedBy>
  <dcterms:modified xsi:type="dcterms:W3CDTF">2008-02-29T11:50:01Z</dcterms:modified>
  <cp:revision>418</cp:revision>
  <dc:subject/>
  <dc:title>Presentazione di PowerPoint</dc:title>
</cp:coreProperties>
</file>