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23.wmf" ContentType="image/x-wmf"/>
  <Override PartName="/ppt/media/image6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1928-F7DD-4C1D-9329-7FBCFC203C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using a school logo, make sure that if you have a long page title, it does not encroach on the logo. Allow about 2cm around the logo. Run the page title onto two lines if necessa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60F-2BA4-4FA1-A1D5-D93F46CC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6F9-D9E9-4356-8FA8-63247719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3CD-1169-400F-9694-2CE49781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832-E42A-4528-A2D4-312FEDAC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288-FF2E-478A-AC31-722A8409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731-1B91-449E-AD39-AEA235BB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5EA-A24F-4306-B42C-BD8C2D93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6AD-C1BB-4B58-882D-0F0AE399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2CB2-F17A-410A-B51E-48FD22D6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FF2-B529-4B7A-A64B-3265FD5F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AB73-EBB0-4AB3-B6C9-6CB388A9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D51-FDD7-467C-8794-49EDB5BF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A18B-DF12-4954-B4E5-384CC83B91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wmf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1800" y="1752480"/>
            <a:ext cx="80200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0440" indent="-190440">
              <a:lnSpc>
                <a:spcPts val="2798"/>
              </a:lnSpc>
              <a:buClr>
                <a:srgbClr val="2d3f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0200" y="475920"/>
            <a:ext cx="8282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660033"/>
                </a:solidFill>
                <a:latin typeface="Georgia"/>
              </a:rPr>
              <a:t>The MIMOSA Model for Estimating International Migration in the European Un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2708280"/>
            <a:ext cx="475308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39"/>
                </a:solidFill>
                <a:latin typeface="Georgia"/>
                <a:ea typeface="ＭＳ Ｐゴシック"/>
              </a:rPr>
              <a:t>James Raymer and Guy 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39"/>
                </a:solidFill>
                <a:latin typeface="Georgia"/>
                <a:ea typeface="ＭＳ Ｐゴシック"/>
              </a:rPr>
              <a:t>February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3640" y="4365720"/>
            <a:ext cx="795672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I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gration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O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delling for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tatistical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naly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(Eurostat Project 2006/S 100-106607/EN, LOT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2308320" cy="1731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16360" y="5661000"/>
            <a:ext cx="1068120" cy="933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4356000" y="5734080"/>
            <a:ext cx="2449440" cy="814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7236000" y="5805360"/>
            <a:ext cx="1563480" cy="652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324000" y="5589720"/>
            <a:ext cx="230328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7280" y="1268280"/>
            <a:ext cx="8569440" cy="5132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39"/>
                </a:solidFill>
                <a:latin typeface="Georgia"/>
              </a:rPr>
              <a:t>Available data by receiving coun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497800" cy="508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39"/>
                </a:solidFill>
                <a:latin typeface="Georgia"/>
              </a:rPr>
              <a:t>Available data by sending coun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Step 1 of iterative adjustment procedure: Identify and adjust bas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21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12000" y="6089760"/>
            <a:ext cx="740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39"/>
                </a:solidFill>
                <a:latin typeface="Georgia"/>
              </a:rPr>
              <a:t>Note, procedure applied to 2002-2005 data pooled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Step 2 of iterative adjustment procedure: Calculate adjustment ra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067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2000" y="6089760"/>
            <a:ext cx="740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39"/>
                </a:solidFill>
                <a:latin typeface="Georgia"/>
              </a:rPr>
              <a:t>Note, procedure applied to 2002-2005 data pooled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Step 3 of iterative adjustment procedure: Add adjusted flows to bas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6360" y="1700280"/>
            <a:ext cx="7991280" cy="410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2000" y="6089760"/>
            <a:ext cx="740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39"/>
                </a:solidFill>
                <a:latin typeface="Georgia"/>
              </a:rPr>
              <a:t>Note, procedure applied to 2002-2005 data pooled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39"/>
                </a:solidFill>
                <a:latin typeface="Georgia"/>
              </a:rPr>
              <a:t>Adjustment factors for receiving country (I) and sending country (E) migration data, 2002-2005</a:t>
            </a:r>
            <a:r>
              <a:rPr b="0" lang="en-GB" sz="2800" spc="-1" strike="noStrike">
                <a:solidFill>
                  <a:srgbClr val="003a39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98560"/>
            <a:ext cx="82090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39"/>
                </a:solidFill>
                <a:latin typeface="Georgia"/>
              </a:rPr>
              <a:t>Final adjusted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0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39"/>
                </a:solidFill>
                <a:latin typeface="Georgia"/>
              </a:rPr>
              <a:t>Estimated coefficients for regressions on natural logarithms of available immigration and emigration flows from / to EU matrix and rest of world  (n = 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31200" y="3716280"/>
            <a:ext cx="405936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0205"/>
                </a:solidFill>
                <a:latin typeface="Georgia"/>
              </a:rPr>
              <a:t>Multiplicativ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0205"/>
                </a:solidFill>
                <a:latin typeface="Georgia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4130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0205"/>
                </a:solidFill>
                <a:latin typeface="Georgia"/>
              </a:rPr>
              <a:t>Origin by destination migration flow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0" y="1362240"/>
            <a:ext cx="4267080" cy="20667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3716280"/>
            <a:ext cx="4267080" cy="20671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503280" y="4046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a39"/>
                </a:solidFill>
                <a:latin typeface="Georgia"/>
              </a:rPr>
              <a:t>Multiplicative component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919080" y="4260960"/>
                <a:ext cx="25164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692360" y="4941720"/>
                <a:ext cx="259236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++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39"/>
                </a:solidFill>
                <a:latin typeface="Georgia"/>
              </a:rPr>
              <a:t>Estimating the </a:t>
            </a:r>
            <a:r>
              <a:rPr b="0" i="1" lang="en-GB" sz="4400" spc="-1" strike="noStrike">
                <a:solidFill>
                  <a:srgbClr val="003a39"/>
                </a:solidFill>
                <a:latin typeface="Georgia"/>
              </a:rPr>
              <a:t>OD</a:t>
            </a:r>
            <a:r>
              <a:rPr b="0" i="1" lang="en-GB" sz="4400" spc="-1" strike="noStrike" baseline="-25000">
                <a:solidFill>
                  <a:srgbClr val="003a39"/>
                </a:solidFill>
                <a:latin typeface="Georgia"/>
              </a:rPr>
              <a:t>ij</a:t>
            </a:r>
            <a:r>
              <a:rPr b="0" lang="en-GB" sz="4400" spc="-1" strike="noStrike">
                <a:solidFill>
                  <a:srgbClr val="003a39"/>
                </a:solidFill>
                <a:latin typeface="Georgia"/>
              </a:rPr>
              <a:t> asso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a39"/>
                </a:solidFill>
                <a:latin typeface="Georgia"/>
              </a:rPr>
              <a:t>OD</a:t>
            </a:r>
            <a:r>
              <a:rPr b="0" i="1" lang="en-GB" sz="3600" spc="-1" strike="noStrike" baseline="-25000">
                <a:solidFill>
                  <a:srgbClr val="003a39"/>
                </a:solidFill>
                <a:latin typeface="Georgia"/>
              </a:rPr>
              <a:t>ij</a:t>
            </a:r>
            <a:r>
              <a:rPr b="0" lang="en-GB" sz="3600" spc="-1" strike="noStrike">
                <a:solidFill>
                  <a:srgbClr val="003a39"/>
                </a:solidFill>
                <a:latin typeface="Georgia"/>
              </a:rPr>
              <a:t> = reported to expected fl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39"/>
                </a:solidFill>
                <a:latin typeface="Georgia"/>
              </a:rPr>
              <a:t>Expected flows obtained using iterative proportional fitting (IPF) and estimated margins from EU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39"/>
                </a:solidFill>
                <a:latin typeface="Georgia"/>
              </a:rPr>
              <a:t>Two sets of </a:t>
            </a:r>
            <a:r>
              <a:rPr b="0" i="1" lang="en-GB" sz="3600" spc="-1" strike="noStrike">
                <a:solidFill>
                  <a:srgbClr val="003a39"/>
                </a:solidFill>
                <a:latin typeface="Georgia"/>
              </a:rPr>
              <a:t>OD</a:t>
            </a:r>
            <a:r>
              <a:rPr b="0" i="1" lang="en-GB" sz="3600" spc="-1" strike="noStrike" baseline="-25000">
                <a:solidFill>
                  <a:srgbClr val="003a39"/>
                </a:solidFill>
                <a:latin typeface="Georgia"/>
              </a:rPr>
              <a:t>i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99"/>
              </a:spcBef>
              <a:buClr>
                <a:srgbClr val="003a3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a39"/>
                </a:solidFill>
                <a:latin typeface="Georgia"/>
              </a:rPr>
              <a:t>Availabl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99"/>
              </a:spcBef>
              <a:buClr>
                <a:srgbClr val="003a3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a39"/>
                </a:solidFill>
                <a:latin typeface="Georgia"/>
              </a:rPr>
              <a:t>Missing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51280" y="5734080"/>
                <a:ext cx="4537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a39"/>
                </a:solidFill>
                <a:latin typeface="Georgia"/>
              </a:rPr>
              <a:t>MIMOS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39"/>
                </a:solidFill>
                <a:latin typeface="Georgia"/>
              </a:rPr>
              <a:t>Aim of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5e5c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e5c"/>
                </a:solidFill>
                <a:latin typeface="Georgia"/>
              </a:rPr>
              <a:t>Development and application of statistical modelling techniques for the estimation of missing data on migration flows and foreign population st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Georgia"/>
              </a:rPr>
              <a:t>Work with National Statistical Agencies to improve thei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39"/>
                </a:solidFill>
                <a:latin typeface="Georgia"/>
              </a:rPr>
              <a:t>Funded by Eurostat, December 2006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5e5c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e5c"/>
                </a:solidFill>
                <a:latin typeface="Georgia"/>
              </a:rPr>
              <a:t>Netherlands Interdisciplinary Demographic Institute (Coordinat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5e5c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e5c"/>
                </a:solidFill>
                <a:latin typeface="Georgia"/>
              </a:rPr>
              <a:t>Central European Forum for Migration and Population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5e5c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e5c"/>
                </a:solidFill>
                <a:latin typeface="Georgia"/>
              </a:rPr>
              <a:t>Southampton Statistical Sciences Research Institu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5e5c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5e5c"/>
                </a:solidFill>
                <a:latin typeface="Georgia"/>
              </a:rPr>
              <a:t>GéDAP, Université Catholique de Louv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39"/>
                </a:solidFill>
                <a:latin typeface="Georgia"/>
              </a:rPr>
              <a:t>Focus of this presentation: Migration flow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4247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Estimated coefficients for regression on available origin-destination associations within the EU matrix (n=25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6560" y="2349360"/>
            <a:ext cx="82090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a39"/>
                </a:solidFill>
                <a:latin typeface="Georgia"/>
              </a:rPr>
              <a:t>Estimated migration totals, 2002-2005: within the EU matrix and from / to rest of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92280"/>
            <a:ext cx="807696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2803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39"/>
                </a:solidFill>
                <a:latin typeface="Georgia"/>
              </a:rPr>
              <a:t>Top 20 estimated immigration and emigration countries (in thousands), 2002-20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41360" y="2133720"/>
            <a:ext cx="8261280" cy="4392360"/>
            <a:chOff x="441360" y="2133720"/>
            <a:chExt cx="8261280" cy="439236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441360" y="2133720"/>
              <a:ext cx="4102200" cy="438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4543560" y="2133720"/>
              <a:ext cx="4159080" cy="43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226800" y="1628640"/>
            <a:ext cx="78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39"/>
                </a:solidFill>
                <a:latin typeface="Georgia"/>
              </a:rPr>
              <a:t>             </a:t>
            </a:r>
            <a:r>
              <a:rPr b="0" lang="en-US" sz="2400" spc="-1" strike="noStrike">
                <a:solidFill>
                  <a:srgbClr val="003a39"/>
                </a:solidFill>
                <a:latin typeface="Georgia"/>
              </a:rPr>
              <a:t>Immigration</a:t>
            </a:r>
            <a:r>
              <a:rPr b="0" lang="en-US" sz="2400" spc="-1" strike="noStrike">
                <a:solidFill>
                  <a:srgbClr val="003a39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3a39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3a39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3a39"/>
                </a:solidFill>
                <a:latin typeface="Georgia"/>
              </a:rPr>
              <a:t>       E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Estimated emigration flows from Poland, 2002-200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Estimated emigration flows from France, 2002-200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a39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1471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a39"/>
                </a:solidFill>
                <a:latin typeface="Georgia"/>
              </a:rPr>
              <a:t>To produce an overall picture of EU migration, one has to address issues concerning the </a:t>
            </a: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availability, quality and consistency of migratio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a3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39"/>
                </a:solidFill>
                <a:latin typeface="Georgia"/>
              </a:rPr>
              <a:t>Harmonisation and cleaning of report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a3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39"/>
                </a:solidFill>
                <a:latin typeface="Georgia"/>
              </a:rPr>
              <a:t>Estimation of missing data (marginal totals and origin-destination associations) based on patterns found in available data and covari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a39"/>
                </a:solidFill>
                <a:latin typeface="Georgia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1471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a39"/>
                </a:solidFill>
                <a:latin typeface="Georgia"/>
              </a:rPr>
              <a:t>Much research still nee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a3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a3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EM and Bayesia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a3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Standard errors of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a39"/>
                </a:solidFill>
                <a:latin typeface="Georgia"/>
              </a:rPr>
              <a:t>MIMOSA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a3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Flows by age, sex and citize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a3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Flows to be linked to population estimates an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a39"/>
                </a:solidFill>
                <a:latin typeface="Georgia"/>
              </a:rPr>
              <a:t>Signific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39"/>
                </a:solidFill>
                <a:latin typeface="Georgia"/>
              </a:rPr>
              <a:t>The study of international migration in the European Union is currently hindered by data availability, quality and 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39"/>
                </a:solidFill>
                <a:latin typeface="Georgia"/>
              </a:rPr>
              <a:t>Harmonization of data collection processes and the data they generate is not even close to being realized, therefore our understanding of population change and migration policy is therefore currently limi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39"/>
                </a:solidFill>
                <a:latin typeface="Georgia"/>
              </a:rPr>
              <a:t>To overcome these obstacles, we need models to </a:t>
            </a:r>
            <a:r>
              <a:rPr b="0" lang="en-US" sz="2800" spc="-1" strike="noStrike">
                <a:solidFill>
                  <a:srgbClr val="800000"/>
                </a:solidFill>
                <a:latin typeface="Georgia"/>
              </a:rPr>
              <a:t>(i)</a:t>
            </a:r>
            <a:r>
              <a:rPr b="0" lang="en-US" sz="2800" spc="-1" strike="noStrike">
                <a:solidFill>
                  <a:srgbClr val="003a39"/>
                </a:solidFill>
                <a:latin typeface="Georgia"/>
              </a:rPr>
              <a:t> harmonise and correct for inadequacies in the available data and </a:t>
            </a:r>
            <a:r>
              <a:rPr b="0" lang="en-US" sz="2800" spc="-1" strike="noStrike">
                <a:solidFill>
                  <a:srgbClr val="800000"/>
                </a:solidFill>
                <a:latin typeface="Georgia"/>
              </a:rPr>
              <a:t>(ii)</a:t>
            </a:r>
            <a:r>
              <a:rPr b="0" lang="en-US" sz="2800" spc="-1" strike="noStrike">
                <a:solidFill>
                  <a:srgbClr val="003a39"/>
                </a:solidFill>
                <a:latin typeface="Georgia"/>
              </a:rPr>
              <a:t> estimate the missing patter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a39"/>
                </a:solidFill>
                <a:latin typeface="Georgia"/>
              </a:rPr>
              <a:t>Data used in this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Provided by Eurostat (i.e., data comes from the Joint Questionnaire on International Mig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Immigration and emigration flows by previous / next country of residence (32 by 32 matri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5e5c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e5c"/>
                </a:solidFill>
                <a:latin typeface="Georgia"/>
              </a:rPr>
              <a:t>31 European countries: EU plus Iceland, Liechtenstein, Norway and Switz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5e5c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e5c"/>
                </a:solidFill>
                <a:latin typeface="Georgia"/>
              </a:rPr>
              <a:t>Rest of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Years: 2002, 2003, 2004 and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38480" y="5877000"/>
            <a:ext cx="82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a39"/>
                </a:solidFill>
                <a:latin typeface="Georgia"/>
              </a:rPr>
              <a:t>I = Receiving country’s reported flow; E = sending country’s reported flo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39"/>
                </a:solidFill>
                <a:latin typeface="Georgia"/>
              </a:rPr>
              <a:t>… </a:t>
            </a:r>
            <a:r>
              <a:rPr b="0" lang="en-US" sz="1800" spc="-1" strike="noStrike">
                <a:solidFill>
                  <a:srgbClr val="003a39"/>
                </a:solidFill>
                <a:latin typeface="Georgia"/>
              </a:rPr>
              <a:t>= no reported data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58920" y="1139760"/>
            <a:ext cx="8424720" cy="4576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39"/>
                </a:solidFill>
                <a:latin typeface="Georgia"/>
              </a:rPr>
              <a:t>Double-entry matrix for selected countries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39"/>
                </a:solidFill>
                <a:latin typeface="Georgia"/>
              </a:rPr>
              <a:t>Double-entry matrix for selected countries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58920" y="1139760"/>
            <a:ext cx="8424720" cy="4576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51280" y="4005360"/>
            <a:ext cx="72072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0360" y="2781360"/>
            <a:ext cx="72072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8480" y="5877000"/>
            <a:ext cx="82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a39"/>
                </a:solidFill>
                <a:latin typeface="Georgia"/>
              </a:rPr>
              <a:t>I = Receiving country’s reported flow; E = sending country’s reported flo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39"/>
                </a:solidFill>
                <a:latin typeface="Georgia"/>
              </a:rPr>
              <a:t>… </a:t>
            </a:r>
            <a:r>
              <a:rPr b="0" lang="en-US" sz="1800" spc="-1" strike="noStrike">
                <a:solidFill>
                  <a:srgbClr val="003a39"/>
                </a:solidFill>
                <a:latin typeface="Georgia"/>
              </a:rPr>
              <a:t>= no reported data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58920" y="1139760"/>
            <a:ext cx="8424720" cy="4576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51280" y="4005360"/>
            <a:ext cx="720720" cy="433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40360" y="2781360"/>
            <a:ext cx="720720" cy="433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84720" y="4365720"/>
            <a:ext cx="576360" cy="57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63640" y="4005360"/>
            <a:ext cx="576360" cy="57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39"/>
                </a:solidFill>
                <a:latin typeface="Georgia"/>
              </a:rPr>
              <a:t>Double-entry matrix for selected countries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8480" y="5877000"/>
            <a:ext cx="82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a39"/>
                </a:solidFill>
                <a:latin typeface="Georgia"/>
              </a:rPr>
              <a:t>I = Receiving country’s reported flow; E = sending country’s reported flo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39"/>
                </a:solidFill>
                <a:latin typeface="Georgia"/>
              </a:rPr>
              <a:t>… </a:t>
            </a:r>
            <a:r>
              <a:rPr b="0" lang="en-US" sz="1800" spc="-1" strike="noStrike">
                <a:solidFill>
                  <a:srgbClr val="003a39"/>
                </a:solidFill>
                <a:latin typeface="Georgia"/>
              </a:rPr>
              <a:t>= no reported data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a39"/>
                </a:solidFill>
                <a:latin typeface="Georgia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95280" y="1341360"/>
          <a:ext cx="8424720" cy="4529160"/>
        </p:xfrm>
        <a:graphic>
          <a:graphicData uri="http://schemas.openxmlformats.org/drawingml/2006/table">
            <a:tbl>
              <a:tblPr/>
              <a:tblGrid>
                <a:gridCol w="1327320"/>
                <a:gridCol w="1774800"/>
                <a:gridCol w="1774800"/>
                <a:gridCol w="1773000"/>
                <a:gridCol w="1774800"/>
              </a:tblGrid>
              <a:tr h="63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mmi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mi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im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ther E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tion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ther E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tion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Inst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DE, IE*, </a:t>
                      </a: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IT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LU*, 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B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E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Georgia"/>
                          <a:ea typeface="Times New Roman"/>
                        </a:rPr>
                        <a:t>F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IE*, </a:t>
                      </a: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IT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LV, LU*, 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E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DE, IE*, LU*, 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B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E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DE, IE*, LU*, 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AT*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B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E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H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AT*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H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AT*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B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H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AT*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H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6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DK, IS*, LT, NL,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DK, IS*, LT, NL,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DK, LV,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DK, LV, LT,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2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Y, CZ, </a:t>
                      </a: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Georgia"/>
                          <a:ea typeface="Times New Roman"/>
                        </a:rPr>
                        <a:t>F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LV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P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Georgia"/>
                          <a:ea typeface="Times New Roman"/>
                        </a:rPr>
                        <a:t>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Georgia"/>
                          <a:ea typeface="Times New Roman"/>
                        </a:rPr>
                        <a:t>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Y,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Georgia"/>
                          <a:ea typeface="Times New Roman"/>
                        </a:rPr>
                        <a:t>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Georgia"/>
                          <a:ea typeface="Times New Roman"/>
                        </a:rPr>
                        <a:t>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Y,</a:t>
                      </a: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 IT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Georgia"/>
                          <a:ea typeface="Times New Roman"/>
                        </a:rPr>
                        <a:t>F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LT, NL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P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Georgia"/>
                          <a:ea typeface="Times New Roman"/>
                        </a:rPr>
                        <a:t>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Georgia"/>
                          <a:ea typeface="Times New Roman"/>
                        </a:rPr>
                        <a:t>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Y, </a:t>
                      </a: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IT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Georgia"/>
                          <a:ea typeface="Times New Roman"/>
                        </a:rPr>
                        <a:t>F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NL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P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Georgia"/>
                          <a:ea typeface="Times New Roman"/>
                        </a:rPr>
                        <a:t>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Georgia"/>
                          <a:ea typeface="Times New Roman"/>
                        </a:rPr>
                        <a:t>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Perma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MT*, PL, RO*, 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Z, MT*, PL, RO*, 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Z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M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PL, RO, 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Z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M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PL, RO, 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BG, FR, GR, 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BG, FR, GR, LI,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BG, FR, GR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IS*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BG, FR, GR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IS*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395280" y="6021360"/>
            <a:ext cx="83520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Only partial data exists between 2001 and 2004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Italics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: No data exists between 2001 and 2004</a:t>
            </a:r>
            <a:r>
              <a:rPr b="0" lang="en-GB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a39"/>
                </a:solidFill>
                <a:latin typeface="Georgia"/>
              </a:rPr>
              <a:t>Method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39"/>
                </a:solidFill>
                <a:latin typeface="Georgia"/>
              </a:rPr>
              <a:t>Harmonise and clean availabl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Georgia"/>
              </a:rPr>
              <a:t>Identify base data (DK, FI, SE and 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Georgia"/>
              </a:rPr>
              <a:t>Calculate adjustment ratios and adjust reported data by using iterative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39"/>
                </a:solidFill>
                <a:latin typeface="Georgia"/>
              </a:rPr>
              <a:t>Estimate miss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Georgia"/>
              </a:rPr>
              <a:t>Immigration and emigration totals for Europea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Georgia"/>
              </a:rPr>
              <a:t>Associations between origins and dest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1:59:37Z</dcterms:created>
  <dc:creator>raymer</dc:creator>
  <dc:description/>
  <dc:language>en-US</dc:language>
  <cp:lastModifiedBy>Bisogno</cp:lastModifiedBy>
  <dcterms:modified xsi:type="dcterms:W3CDTF">2008-02-28T07:53:25Z</dcterms:modified>
  <cp:revision>17</cp:revision>
  <dc:subject/>
  <dc:title>The MIMOSA Model for Estimating International Migration in the European Union</dc:title>
</cp:coreProperties>
</file>