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D00-CA5F-4DA8-9529-7AD313E2B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sing a school logo, make sure that if you have a long page title, it does not encroach on the logo. Allow about 2cm around the logo. Run the page title onto two lines if nece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BEA-421B-40E2-A680-BA98722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8E3-CD35-4A61-95AA-E73FBC2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D73-9F15-40F4-9535-09B22BDC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2B1-216B-40DC-A12F-12C60E0E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8C1-1F3B-4ADD-8C1B-6B84041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E4F-6485-4EBA-9230-F1F74530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48A-7274-4EE3-A0E8-00F6274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220-3949-45A7-B04E-214A5CA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AC8-9D09-4321-8AFE-4E0C9C1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538-68C4-4CB1-A571-5BE32B6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C4F-4E58-4929-8261-A9723FC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B5B-1113-4060-9C93-D14AD6B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3B6-8FF8-4656-A31C-BFD51F2709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1800" y="1752480"/>
            <a:ext cx="8020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ts val="2798"/>
              </a:lnSpc>
              <a:buClr>
                <a:srgbClr val="2d3f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475920"/>
            <a:ext cx="828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660033"/>
                </a:solidFill>
                <a:latin typeface="Georgia"/>
              </a:rPr>
              <a:t>The MIMOSA Model for Estimating International Migration in the European Un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08280"/>
            <a:ext cx="47530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  <a:ea typeface="ＭＳ Ｐゴシック"/>
              </a:rPr>
              <a:t>James Raymer and Guy 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  <a:ea typeface="ＭＳ Ｐゴシック"/>
              </a:rPr>
              <a:t>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3640" y="4365720"/>
            <a:ext cx="7956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I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gra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elling for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atistical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(Eurostat Project 2006/S 100-106607/EN, LO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30832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6360" y="5661000"/>
            <a:ext cx="10681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356000" y="5734080"/>
            <a:ext cx="244944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7236000" y="5805360"/>
            <a:ext cx="1563480" cy="6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324000" y="5589720"/>
            <a:ext cx="230328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569440" cy="513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Available data by receiving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497800" cy="508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Available data by sending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1 of iterative adjustment procedure: Identify and adjust 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21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2 of iterative adjustment procedure: Calculate adjustment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0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ep 3 of iterative adjustment procedure: Add adjusted flows to 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6360" y="1700280"/>
            <a:ext cx="79912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2000" y="6089760"/>
            <a:ext cx="74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39"/>
                </a:solidFill>
                <a:latin typeface="Georgia"/>
              </a:rPr>
              <a:t>Note, procedure applied to 2002-2005 data pool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Adjustment factors for receiving country (I) and sending country (E) migration data, 2002-2005</a:t>
            </a: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98560"/>
            <a:ext cx="8209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Final adjusted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Estimated coefficients for regressions on natural logarithms of available immigration and emigration flows from / to EU matrix and rest of world  (n = 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1200" y="3716280"/>
            <a:ext cx="40593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Multiplicativ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41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0205"/>
                </a:solidFill>
                <a:latin typeface="Georgia"/>
              </a:rPr>
              <a:t>Origin by destination migration flow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362240"/>
            <a:ext cx="4267080" cy="2066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267080" cy="2067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03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ultiplicative componen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9080" y="4260960"/>
                <a:ext cx="2516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92360" y="4941720"/>
                <a:ext cx="25923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39"/>
                </a:solidFill>
                <a:latin typeface="Georgia"/>
              </a:rPr>
              <a:t>Estimating the </a:t>
            </a:r>
            <a:r>
              <a:rPr b="0" i="1" lang="en-GB" sz="44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44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r>
              <a:rPr b="0" lang="en-GB" sz="4400" spc="-1" strike="noStrike">
                <a:solidFill>
                  <a:srgbClr val="003a39"/>
                </a:solidFill>
                <a:latin typeface="Georgia"/>
              </a:rPr>
              <a:t> ass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36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 = reported to expected f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Expected flows obtained using iterative proportional fitting (IPF) and estimated margins from EU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Two sets of </a:t>
            </a:r>
            <a:r>
              <a:rPr b="0" i="1" lang="en-GB" sz="3600" spc="-1" strike="noStrike">
                <a:solidFill>
                  <a:srgbClr val="003a39"/>
                </a:solidFill>
                <a:latin typeface="Georgia"/>
              </a:rPr>
              <a:t>OD</a:t>
            </a:r>
            <a:r>
              <a:rPr b="0" i="1" lang="en-GB" sz="3600" spc="-1" strike="noStrike" baseline="-25000">
                <a:solidFill>
                  <a:srgbClr val="003a39"/>
                </a:solidFill>
                <a:latin typeface="Georgia"/>
              </a:rPr>
              <a:t>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Avail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Missing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1280" y="5734080"/>
                <a:ext cx="4537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MIMOS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Aim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Development and application of statistical modelling techniques for the estimation of missing data on migration flows and foreign population st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eorgia"/>
              </a:rPr>
              <a:t>Work with National Statistical Agencies to improve thei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Funded by Eurostat, December 2006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Netherlands Interdisciplinary Demographic Institute (Coordinat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Central European Forum for Migration and Populatio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Georgia"/>
              </a:rPr>
              <a:t>Southampton Statistical Sciences Research Institu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e5c"/>
                </a:solidFill>
                <a:latin typeface="Georgia"/>
              </a:rPr>
              <a:t>GéDAP, Université Catholique de Louv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Focus of this presentation: Migration flow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Estimated coefficients for regression on available origin-destination associations within the EU matrix (n=25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8209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Estimated migration totals, 2002-2005: within the EU matrix and from / to rest of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92280"/>
            <a:ext cx="807696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op 20 estimated immigration and emigration countries (in thousands), 2002-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1360" y="2133720"/>
            <a:ext cx="8261280" cy="4392360"/>
            <a:chOff x="441360" y="2133720"/>
            <a:chExt cx="8261280" cy="43923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441360" y="2133720"/>
              <a:ext cx="4102200" cy="43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43560" y="2133720"/>
              <a:ext cx="4159080" cy="43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226800" y="1628640"/>
            <a:ext cx="78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Immigration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3a39"/>
                </a:solidFill>
                <a:latin typeface="Georgia"/>
              </a:rPr>
              <a:t>      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stimated emigration flows from Poland, 2002-200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stimated emigration flows from France, 2002-200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39"/>
                </a:solidFill>
                <a:latin typeface="Georgia"/>
              </a:rPr>
              <a:t>To produce an overall picture of EU migration, one has to address issues concerning the </a:t>
            </a: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availability, quality and consistency of 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Harmonisation and cleaning of repor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39"/>
                </a:solidFill>
                <a:latin typeface="Georgia"/>
              </a:rPr>
              <a:t>Estimation of missing data (marginal totals and origin-destination associations) based on patterns found in available data and covar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uch research still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EM and Bayesia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Standard errors of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39"/>
                </a:solidFill>
                <a:latin typeface="Georgia"/>
              </a:rPr>
              <a:t>MIMOSA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Flows by age, sex and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Flows to be linked to population estimates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he study of international migration in the European Union is currently hindered by data availability, quality and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Harmonization of data collection processes and the data they generate is not even close to being realized, therefore our understanding of population change and migration policy is therefore currently lim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To overcome these obstacles, we need models to </a:t>
            </a:r>
            <a:r>
              <a:rPr b="0" lang="en-US" sz="2800" spc="-1" strike="noStrike">
                <a:solidFill>
                  <a:srgbClr val="800000"/>
                </a:solidFill>
                <a:latin typeface="Georgia"/>
              </a:rPr>
              <a:t>(i)</a:t>
            </a: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 harmonise and correct for inadequacies in the available data and </a:t>
            </a:r>
            <a:r>
              <a:rPr b="0" lang="en-US" sz="2800" spc="-1" strike="noStrike">
                <a:solidFill>
                  <a:srgbClr val="800000"/>
                </a:solidFill>
                <a:latin typeface="Georgia"/>
              </a:rPr>
              <a:t>(ii)</a:t>
            </a: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 estimate the miss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Data used in this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Provided by Eurostat (i.e., data comes from the Joint Questionnaire on International Mi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Immigration and emigration flows by previous / next country of residence (32 by 32 matr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e5c"/>
                </a:solidFill>
                <a:latin typeface="Georgia"/>
              </a:rPr>
              <a:t>31 European countries: EU plus Iceland, Liechtenstein, Norway and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5e5c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e5c"/>
                </a:solidFill>
                <a:latin typeface="Georgia"/>
              </a:rPr>
              <a:t>Rest of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39"/>
                </a:solidFill>
                <a:latin typeface="Georgia"/>
              </a:rPr>
              <a:t>Years: 2002, 2003, 2004 and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51280" y="4005360"/>
            <a:ext cx="72072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781360"/>
            <a:ext cx="72072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8920" y="1139760"/>
            <a:ext cx="8424720" cy="457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51280" y="4005360"/>
            <a:ext cx="72072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2781360"/>
            <a:ext cx="72072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4365720"/>
            <a:ext cx="57636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4005360"/>
            <a:ext cx="57636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39"/>
                </a:solidFill>
                <a:latin typeface="Georgia"/>
              </a:rPr>
              <a:t>Double-entry matrix for selected countries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8480" y="587700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I = Receiving country’s reported flow; E = sending country’s reported 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39"/>
                </a:solidFill>
                <a:latin typeface="Georgia"/>
              </a:rPr>
              <a:t>… </a:t>
            </a:r>
            <a:r>
              <a:rPr b="0" lang="en-US" sz="1800" spc="-1" strike="noStrike">
                <a:solidFill>
                  <a:srgbClr val="003a39"/>
                </a:solidFill>
                <a:latin typeface="Georgia"/>
              </a:rPr>
              <a:t>= no reported data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39"/>
                </a:solidFill>
                <a:latin typeface="Georgi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341360"/>
          <a:ext cx="8424720" cy="4529160"/>
        </p:xfrm>
        <a:graphic>
          <a:graphicData uri="http://schemas.openxmlformats.org/drawingml/2006/table">
            <a:tbl>
              <a:tblPr/>
              <a:tblGrid>
                <a:gridCol w="1327320"/>
                <a:gridCol w="1774800"/>
                <a:gridCol w="1774800"/>
                <a:gridCol w="1773000"/>
                <a:gridCol w="1774800"/>
              </a:tblGrid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i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ther E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t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ther E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t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ns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E, IE*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IE*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V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DE, IE*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DE, IE*, LU*, 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T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H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IS*, LT, NL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IS*, LT, NL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LV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K, LV, LT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2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CZ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V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 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LT, NL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Y,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IT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Georgia"/>
                          <a:ea typeface="Times New Roman"/>
                        </a:rPr>
                        <a:t>F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NL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Georgia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erma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*, PL, RO*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MT*, PL, RO*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PL, RO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Z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PL, RO, 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LI,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S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G, FR, GR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S*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95280" y="6021360"/>
            <a:ext cx="8352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Only partial data exists between 2001 and 200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Italic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: No data exists between 2001 and 2004</a:t>
            </a:r>
            <a:r>
              <a:rPr b="0" lang="en-GB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a39"/>
                </a:solidFill>
                <a:latin typeface="Georgia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Harmonise and clean availab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Georgia"/>
              </a:rPr>
              <a:t>Identify base data (DK, FI, SE and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Georgia"/>
              </a:rPr>
              <a:t>Calculate adjustment ratios and adjust reported data by using iterativ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a3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39"/>
                </a:solidFill>
                <a:latin typeface="Georgia"/>
              </a:rPr>
              <a:t>Estimate miss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Immigration and emigration totals for Europea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Georgia"/>
              </a:rPr>
              <a:t>Associations between origins and dest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1:59:37Z</dcterms:created>
  <dc:creator>raymer</dc:creator>
  <dc:description/>
  <dc:language>en-US</dc:language>
  <cp:lastModifiedBy>Bisogno</cp:lastModifiedBy>
  <dcterms:modified xsi:type="dcterms:W3CDTF">2008-02-28T07:53:25Z</dcterms:modified>
  <cp:revision>17</cp:revision>
  <dc:subject/>
  <dc:title>The MIMOSA Model for Estimating International Migration in the European Union</dc:title>
</cp:coreProperties>
</file>