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6FFE7A0-4885-4589-AB3D-A5E4D60EF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A8BC88C-3E97-4629-9925-21C37D61D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9CBDDE6-1E20-4B2C-BA7D-9016F31FD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ery time it is possible the same questions are asked to every grou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instance, we collect data on migratory experiences of the people born in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marital lif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they marry within the community ; with of course different possibilities to define what is a community. We will be able to observe if the spouse comes from the same country, where do the spouses’ parents come from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will also collect the same data for spouses who don’t live in the household whether they live in France or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6BCC9F0-55CF-4DBA-8E80-12B25B75E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ducation, the questionnaire stresses on the field of study followed by the interviewees. Are they different for immigrants’ descendants from those followed by the other persons born in France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using : we are paying special attention to the moves in F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immigrants from the first individual house to the curren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others : to the house at the age of 15 to the curren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42D096B-48BB-431F-B897-31B0E61BE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riminations kind of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ve you ever benne discriminat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d if the answer is yes, the following questions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s it on account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Origin or colour of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ndicap or a problem of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r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re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E9E3A0E-742F-46F8-AA97-93751AC65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CE2A68D-EBFF-445F-8A21-30356A92D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79EBF13-9E1E-4293-BFA1-1F9E2099E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the main purposes are to study integration and discrimination, French people born in overseas districts are included in the sample. From Caribbean origin, they could also be victims of discrimin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DB1D62E-3F50-41CB-AA10-47AF2372D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43C9-2413-40A0-AE40-AF92A25B2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2BAA-5447-4F65-BA7C-6A562AB6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AB2D-DCF7-4DBC-86C6-C82DCE27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8573-55C6-4F52-9B2B-415317E55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AC4B5-512B-48A2-933D-49352FC769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F4E58-9389-4C56-AA63-8861A977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DF601-28CA-4758-B715-57E9A630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5104D-D270-4788-ABE6-ED4C25C7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EB961-6FDA-4C90-8CEC-5FCF2A39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F2832-5D98-444C-A8D8-01C03D54A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1B15B-F538-4F44-82D0-4EDC3373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0866-FD31-466D-9681-E9C34A64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815FF-3C00-4F08-BF57-C7A7F1A0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1564E-0C7B-4D73-A87F-3222BF42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FE0FA-ED0B-4DF9-BDED-F90A06BC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5324A-1640-4B93-A93A-0822D70F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0C838-A7BF-4D46-80EB-474BC171CC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0944-61BF-4021-B4B7-2B5213C3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C4DC-74B9-4E13-9B30-01A71F55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BCAE-454E-45EA-A2ED-D6672626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98EB-84A0-4592-A6EA-7CC55567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1CB9-B44B-4BFB-8C26-DD9F277F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FD11-FB22-405C-B3D1-8CD26F3C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A923-F6FE-4B9C-A3F9-94B0824C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A6C5-DF3A-4087-A814-3C71B9DC98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228600" y="2889360"/>
            <a:ext cx="2870280" cy="201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3098880" y="2889360"/>
            <a:ext cx="2870280" cy="201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5969160" y="2889360"/>
            <a:ext cx="2869920" cy="2016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7CCE-2BB1-4BD8-9C29-CE0070C9C9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300" spc="-1" strike="noStrike">
                <a:solidFill>
                  <a:srgbClr val="666699"/>
                </a:solidFill>
                <a:latin typeface="Times New Roman"/>
              </a:rPr>
              <a:t>Survey on integration of migrants and their descendants</a:t>
            </a:r>
            <a:endParaRPr b="1" lang="en-US" sz="43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34221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« Life histories and family origins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666699"/>
                </a:solidFill>
                <a:latin typeface="Times New Roman"/>
              </a:rPr>
              <a:t>Questionnaire </a:t>
            </a:r>
            <a:br>
              <a:rPr sz="3400"/>
            </a:br>
            <a:r>
              <a:rPr b="1" lang="en-GB" sz="3400" spc="-1" strike="noStrike">
                <a:solidFill>
                  <a:srgbClr val="666699"/>
                </a:solidFill>
                <a:latin typeface="Times New Roman"/>
              </a:rPr>
              <a:t>Family and social background</a:t>
            </a:r>
            <a:endParaRPr b="1" lang="en-US" sz="3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1920" y="15998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racteristics of the member of ego’ househol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ing citizenship, place of birth, year of arrival, et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rents, children, sibling out of the house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rital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ailed characteristics of the actual spouse (and of the spouse’ parents) and of the first one if 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cial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family, friends, colleagues,neighbourhood, helps given or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666699"/>
                </a:solidFill>
                <a:latin typeface="Times New Roman"/>
              </a:rPr>
              <a:t>Questionnaire</a:t>
            </a:r>
            <a:endParaRPr b="1" lang="en-US" sz="3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1920" y="14475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Work lif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hort biograph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cess to an occup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Attitudes toward institu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olitical opinions 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itizenship,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oting, associ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Hous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666699"/>
                </a:solidFill>
                <a:latin typeface="Times New Roman"/>
              </a:rPr>
              <a:t>Questionnaire </a:t>
            </a:r>
            <a:br>
              <a:rPr sz="3400"/>
            </a:br>
            <a:r>
              <a:rPr b="1" lang="en-GB" sz="3400" spc="-1" strike="noStrike">
                <a:solidFill>
                  <a:srgbClr val="666699"/>
                </a:solidFill>
                <a:latin typeface="Times New Roman"/>
              </a:rPr>
              <a:t>Identity and links to the country of origin</a:t>
            </a:r>
            <a:endParaRPr b="1" lang="en-US" sz="3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1920" y="15998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Migration trajector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untries of previous residence, reasons for co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ransnational rel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6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Languages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(mother/father languages, used), level in Fren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Reli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Discriminations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(perceive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me present elsewhere in context (work, housing, education) , completed here in other situ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666699"/>
                </a:solidFill>
                <a:latin typeface="Times New Roman"/>
              </a:rPr>
              <a:t>« Sensitive » questions</a:t>
            </a:r>
            <a:endParaRPr b="1" lang="en-US" sz="3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51920" y="15998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Three fields are involved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Reli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Years in France before getting a first permit of stay (i.e. illegall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Identity, ethnic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6699"/>
                </a:solidFill>
                <a:latin typeface="Times New Roman"/>
              </a:rPr>
              <a:t>Schedule</a:t>
            </a:r>
            <a:br>
              <a:rPr sz="3200"/>
            </a:b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243792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 tests : January and December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eld : September to December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esults : autum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ning the measure of discrimination, the analysis will follow two approaches; first one is to evaluate discrimination according to the declaration of the respondents; the other one is to estimate the gap between the immigrants’ situation and the rest of the population controlling for other characteris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6699"/>
                </a:solidFill>
                <a:latin typeface="Times New Roman"/>
              </a:rPr>
              <a:t>Legal environment</a:t>
            </a: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istical council: judges the usefulness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el committee. Judges the statistical quality of the survey (including samp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ional Commission “Informatique” and Freedom: allows or not the survey or some questions regarding to the rights of the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, that was unexpected, the Constitutional Council. They ruled on the fact whether it right or not to ask questions on religion, origin and which 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66699"/>
                </a:solidFill>
                <a:latin typeface="Times New Roman"/>
              </a:rPr>
              <a:t>Aims</a:t>
            </a: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21333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up the effect of the origins on the life conditions and social trajectories controlling for other socio-demographic characteristic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issues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iscrimina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6699"/>
                </a:solidFill>
                <a:latin typeface="Times New Roman"/>
              </a:rPr>
              <a:t>Definition of an immigrant</a:t>
            </a:r>
            <a:r>
              <a:rPr b="1" lang="en-GB" sz="3200" spc="-1" strike="noStrike">
                <a:solidFill>
                  <a:srgbClr val="666699"/>
                </a:solidFill>
                <a:latin typeface="Times New Roman"/>
              </a:rPr>
              <a:t>	</a:t>
            </a:r>
            <a:br>
              <a:rPr sz="3200"/>
            </a:br>
            <a:r>
              <a:rPr b="1" lang="en-GB" sz="2800" spc="-1" strike="noStrike">
                <a:solidFill>
                  <a:srgbClr val="666699"/>
                </a:solidFill>
                <a:latin typeface="Times New Roman"/>
              </a:rPr>
              <a:t>(used in France)</a:t>
            </a:r>
            <a:endParaRPr b="1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rson who is born abroad and who was not French at birth. The latest point is important in France referring to the large number of migrants coming from former colon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6 million born abroad ; among them 5 millions are immigrants using the French 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6699"/>
                </a:solidFill>
                <a:latin typeface="Times New Roman"/>
              </a:rPr>
              <a:t>Other surveys</a:t>
            </a: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ditions of retiring for migrants aged between 50 and 70 (National retirement Fund, 20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 migrants i.e. having a first permit since 4 months 8Ministry of Social Affairs, 2007 and 20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666699"/>
                </a:solidFill>
                <a:latin typeface="Times New Roman"/>
              </a:rPr>
              <a:t>Immigration in France</a:t>
            </a: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04920" y="3276720"/>
          <a:ext cx="8229600" cy="2560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9-2004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hre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-Saharan Af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, Oce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6699"/>
                </a:solidFill>
                <a:latin typeface="Times New Roman"/>
              </a:rPr>
              <a:t>Descendants by country of origin</a:t>
            </a: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pic>
        <p:nvPicPr>
          <p:cNvPr id="106" name="Chart 1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86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6699"/>
                </a:solidFill>
                <a:latin typeface="Times New Roman"/>
              </a:rPr>
              <a:t>Descendants by age </a:t>
            </a:r>
            <a:br>
              <a:rPr sz="3200"/>
            </a:br>
            <a:r>
              <a:rPr b="1" lang="en-GB" sz="3200" spc="-1" strike="noStrike">
                <a:solidFill>
                  <a:srgbClr val="666699"/>
                </a:solidFill>
                <a:latin typeface="Times New Roman"/>
              </a:rPr>
              <a:t>(among the 0-65 years old)</a:t>
            </a: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43792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5% whose parents are from Spain or from Italy are between 40 and 6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1% coming from Maghreb are less than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0% whose parents were born in sub-Saharan Africa are less than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2000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66699"/>
                </a:solidFill>
                <a:latin typeface="Times New Roman"/>
              </a:rPr>
              <a:t>Target populations</a:t>
            </a: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mmig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mmigrants’ descend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s born in French overseas distri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descend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s – reference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228600" y="106668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04920" y="930240"/>
          <a:ext cx="7010280" cy="5875200"/>
        </p:xfrm>
        <a:graphic>
          <a:graphicData uri="http://schemas.openxmlformats.org/drawingml/2006/table">
            <a:tbl>
              <a:tblPr/>
              <a:tblGrid>
                <a:gridCol w="5709960"/>
                <a:gridCol w="1300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migra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spcBef>
                          <a:spcPts val="499"/>
                        </a:spcBef>
                        <a:buClr>
                          <a:srgbClr val="ff9900"/>
                        </a:buClr>
                        <a:buSzPct val="65000"/>
                        <a:buFont typeface="Wingdings" charset="2"/>
                        <a:buChar char="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ves of Turk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spcBef>
                          <a:spcPts val="499"/>
                        </a:spcBef>
                        <a:buClr>
                          <a:srgbClr val="ff9900"/>
                        </a:buClr>
                        <a:buSzPct val="65000"/>
                        <a:buFont typeface="Wingdings" charset="2"/>
                        <a:buChar char="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ves of South-East As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spcBef>
                          <a:spcPts val="499"/>
                        </a:spcBef>
                        <a:buClr>
                          <a:srgbClr val="ff9900"/>
                        </a:buClr>
                        <a:buSzPct val="65000"/>
                        <a:buFont typeface="Wingdings" charset="2"/>
                        <a:buChar char="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ves of sub-Saharan Af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600</a:t>
                      </a: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migrants’  descendan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spcBef>
                          <a:spcPts val="499"/>
                        </a:spcBef>
                        <a:buClr>
                          <a:srgbClr val="ff9900"/>
                        </a:buClr>
                        <a:buSzPct val="65000"/>
                        <a:buFont typeface="Wingdings" charset="2"/>
                        <a:buChar char="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ves of Turk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spcBef>
                          <a:spcPts val="499"/>
                        </a:spcBef>
                        <a:buClr>
                          <a:srgbClr val="ff9900"/>
                        </a:buClr>
                        <a:buSzPct val="65000"/>
                        <a:buFont typeface="Wingdings" charset="2"/>
                        <a:buChar char="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ves of South-East As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spcBef>
                          <a:spcPts val="499"/>
                        </a:spcBef>
                        <a:buClr>
                          <a:srgbClr val="ff9900"/>
                        </a:buClr>
                        <a:buSzPct val="65000"/>
                        <a:buFont typeface="Wingdings" charset="2"/>
                        <a:buChar char="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ves of sub-Saharan Af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s born in French overseas district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ir descenda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315200" y="914400"/>
          <a:ext cx="1600200" cy="5259240"/>
        </p:xfrm>
        <a:graphic>
          <a:graphicData uri="http://schemas.openxmlformats.org/drawingml/2006/table">
            <a:tbl>
              <a:tblPr/>
              <a:tblGrid>
                <a:gridCol w="1600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5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4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5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4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5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6699"/>
                </a:solidFill>
                <a:latin typeface="Times New Roman"/>
              </a:rPr>
              <a:t>Sample size</a:t>
            </a:r>
            <a:endParaRPr b="1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3:58:44Z</dcterms:created>
  <dc:creator>Elisabeth ALGAVA</dc:creator>
  <dc:description/>
  <dc:language>en-US</dc:language>
  <cp:lastModifiedBy>Oyunjargal</cp:lastModifiedBy>
  <dcterms:modified xsi:type="dcterms:W3CDTF">2008-03-04T13:31:03Z</dcterms:modified>
  <cp:revision>159</cp:revision>
  <dc:subject/>
  <dc:title>Les familles monoparenta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0874521033</vt:lpwstr>
  </property>
</Properties>
</file>