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F79D6A-3C0A-4B8C-85C9-C89AB2A7D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2260CF-729E-4386-A0EA-74CF0D2F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D0F71A-D75D-482E-A9DC-CA0EB44C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 time it is possible the same questions are asked to every gro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instance, we collect data on migratory experiences of the people born 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rital lif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they marry within the community ; with of course different possibilities to define what is a community. We will be able to observe if the spouse comes from the same country, where do the spouses’ parents come from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also collect the same data for spouses who don’t live in the household whether they live in France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A7E26A-B106-44C8-B8AC-CDB37A4B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ucation, the questionnaire stresses on the field of study followed by the interviewees. Are they different for immigrants’ descendants from those followed by the other persons born in Franc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using : we are paying special attention to the moves in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immigrants from the first individual house to the curren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others : to the house at the age of 15 to the curren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A734C7-30D6-4B9D-B82A-8EE5A6F30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s kind of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you ever benne discrimina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if the answer is yes, the following question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 it on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Origin or colour of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dicap or a problem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r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C41A43-415F-4B2B-9FF5-226B2FF46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240CB7-4541-40EC-90BE-136A7563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08CB5D-2422-4185-9C48-5A42AB80F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main purposes are to study integration and discrimination, French people born in overseas districts are included in the sample. From Caribbean origin, they could also be victims of discrimin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6B2569-7D72-4C46-9BA4-448B56C0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24D-3918-4A13-878B-29038854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28E-AD1E-4D65-8204-D3A20D6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3B1-C889-4A52-8319-A5279C73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295-6688-4E2A-A424-40B0251B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EF9ED-5E82-47A8-AC11-0B7F534B6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1D4AA-D78D-4682-BAB3-8F24645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19EA2-4399-4AB8-B637-B472C707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88D6A-BB2B-4BA9-B1A9-4FED8C1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36E45-08A6-4E99-BC2D-5358B13F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577B9-148F-40C7-A7F0-70F4F738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FBABF-A00A-48B0-AE54-14B221D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A23-F244-455C-A326-400935A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30CE9-50E5-418B-BF4D-8BD5E405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3A7A7-3338-43A8-89BB-7FD887C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AB20-B8FE-4001-A379-832411A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4C628-000C-4B05-B014-46AC5C1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5E30B-4832-4E1E-AB9C-448E48EB0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FCA-0514-4E14-B626-03611F9F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7D3-4027-4AF8-B307-BF9A94A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1D3-00D5-4FE5-BC55-524F2F6C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6BD-FF7B-4EC0-AD41-902A2C15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173-1EA5-4A84-8F44-ED4985F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816-93B0-4663-9155-AD7469AB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3CF-FD8C-47E6-B9BA-21FE95CC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728E-BF88-475A-BDC7-C0800843B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FB8A-EFC7-48C0-9A3D-B65AE718E6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666699"/>
                </a:solidFill>
                <a:latin typeface="Times New Roman"/>
              </a:rPr>
              <a:t>Survey on integration of migrants and their descendants</a:t>
            </a:r>
            <a:endParaRPr b="1" lang="en-US" sz="43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4221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« Life histories and family origin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Questionnaire </a:t>
            </a:r>
            <a:br>
              <a:rPr sz="3400"/>
            </a:b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Family and social background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 of the member of ego’ househol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citizenship, place of birth, year of arrival, et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ents, children, sibling out of the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it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characteristics of the actual spouse (and of the spouse’ parents) and of the first one if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ci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family, friends, colleagues,neighbourhood, helps given or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666699"/>
                </a:solidFill>
                <a:latin typeface="Times New Roman"/>
              </a:rPr>
              <a:t>Questionnaire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ork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ort biogra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ss to an occup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ttitudes toward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litical opinions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itizenship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oting, assoc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Questionnaire </a:t>
            </a:r>
            <a:br>
              <a:rPr sz="3400"/>
            </a:b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Identity and links to the country of origin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igration traject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untries of previous residence, reasons for co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ransnational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anguag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mother/father languages, used), level in Fre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iscrimination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(perceiv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me present elsewhere in context (work, housing, education) , completed here in other sit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6699"/>
                </a:solidFill>
                <a:latin typeface="Times New Roman"/>
              </a:rPr>
              <a:t>« Sensitive » questions</a:t>
            </a:r>
            <a:endParaRPr b="1" lang="en-US" sz="3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Three fields are involved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Years in France before getting a first permit of stay (i.e. illegal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dentity, ethn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Schedule</a:t>
            </a:r>
            <a:br>
              <a:rPr sz="3200"/>
            </a:b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tests : January and Dec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eld : September to Decemb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esults : autum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ing the measure of discrimination, the analysis will follow two approaches; first one is to evaluate discrimination according to the declaration of the respondents; the other one is to estimate the gap between the immigrants’ situation and the rest of the population controlling for other character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Legal environment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council: judges the usefulness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el committee. Judges the statistical quality of the survey (including sam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Commission “Informatique” and Freedom: allows or not the survey or some questions regarding to the rights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, that was unexpected, the Constitutional Council. They ruled on the fact whether it right or not to ask questions on religion, origin and which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6699"/>
                </a:solidFill>
                <a:latin typeface="Times New Roman"/>
              </a:rPr>
              <a:t>Aims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1333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up the effect of the origins on the life conditions and social trajectories controlling for other socio-demographic characteristi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issu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crimin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Definition of an immigrant</a:t>
            </a: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n-GB" sz="2800" spc="-1" strike="noStrike">
                <a:solidFill>
                  <a:srgbClr val="666699"/>
                </a:solidFill>
                <a:latin typeface="Times New Roman"/>
              </a:rPr>
              <a:t>(used in France)</a:t>
            </a:r>
            <a:endParaRPr b="1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who is born abroad and who was not French at birth. The latest point is important in France referring to the large number of migrants coming from former colon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6 million born abroad ; among them 5 millions are immigrants using the French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Other surveys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ditions of retiring for migrants aged between 50 and 70 (National retirement Fund,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migrants i.e. having a first permit since 4 months 8Ministry of Social Affairs, 2007 and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Immigration in France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3276720"/>
          <a:ext cx="8229600" cy="2560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-2004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hr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Saharan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, Oce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Descendants by country of origin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06" name="Chart 1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86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Descendants by age </a:t>
            </a:r>
            <a:br>
              <a:rPr sz="3200"/>
            </a:br>
            <a:r>
              <a:rPr b="1" lang="en-GB" sz="3200" spc="-1" strike="noStrike">
                <a:solidFill>
                  <a:srgbClr val="666699"/>
                </a:solidFill>
                <a:latin typeface="Times New Roman"/>
              </a:rPr>
              <a:t>(among the 0-65 years old)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5% whose parents are from Spain or from Italy are between 40 and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1% coming from Maghreb are less than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0% whose parents were born in sub-Saharan Africa are less than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2000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6699"/>
                </a:solidFill>
                <a:latin typeface="Times New Roman"/>
              </a:rPr>
              <a:t>Target populations</a:t>
            </a:r>
            <a:endParaRPr b="1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migrants’ descend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born in French overseas distri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descend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s – referenc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28600" y="10666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930240"/>
          <a:ext cx="7010280" cy="5875200"/>
        </p:xfrm>
        <a:graphic>
          <a:graphicData uri="http://schemas.openxmlformats.org/drawingml/2006/table">
            <a:tbl>
              <a:tblPr/>
              <a:tblGrid>
                <a:gridCol w="5709960"/>
                <a:gridCol w="1300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Tur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outh-East 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ub-Saharan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nts’  descenda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Tur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outh-East 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spcBef>
                          <a:spcPts val="499"/>
                        </a:spcBef>
                        <a:buClr>
                          <a:srgbClr val="ff9900"/>
                        </a:buClr>
                        <a:buSzPct val="65000"/>
                        <a:buFont typeface="Wingdings" charset="2"/>
                        <a:buChar char="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s of sub-Saharan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born in French overseas distric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 descend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315200" y="914400"/>
          <a:ext cx="1600200" cy="52592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5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4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5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4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5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Times New Roman"/>
              </a:rPr>
              <a:t>Sample size</a:t>
            </a:r>
            <a:endParaRPr b="1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58:44Z</dcterms:created>
  <dc:creator>Elisabeth ALGAVA</dc:creator>
  <dc:description/>
  <dc:language>en-US</dc:language>
  <cp:lastModifiedBy>Oyunjargal</cp:lastModifiedBy>
  <dcterms:modified xsi:type="dcterms:W3CDTF">2008-03-04T13:31:03Z</dcterms:modified>
  <cp:revision>159</cp:revision>
  <dc:subject/>
  <dc:title>Les familles monoparent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74521033</vt:lpwstr>
  </property>
</Properties>
</file>