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1081-5258-4477-B718-F96034F0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828-C9FD-4F1D-8285-0FDC5A4D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9B0A-F7EA-4254-909C-B1B6E986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FCB-8D97-4B8E-963F-1BCA327F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781B-5AD2-45DE-B044-4314FF3B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8F4E-00F8-4159-8742-6D5C94E2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DCCB-8362-4FD1-B164-B895D38C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967C-6745-4ED3-886B-BD33FC92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42EE-736F-40F2-8F60-24EC476C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56EB-B9E9-4C78-BE1E-5550E4BA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DBF5-2FF1-40C4-A7AE-6907EFA6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23FD-D303-4ADA-A05A-32A40605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338B-C7CB-43B2-9DCB-EF369E40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7598-B803-48FA-9550-6154DD4D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E636-C695-4789-8396-BAAE8F25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8F08-1128-42FC-8C5A-934E4EA2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1C19-8C1A-4FC8-A02C-0CC52515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57C-055B-4BEC-A1F9-352EF6B8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A62-2B1B-4614-9DD9-F3241BEF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52B-DE9D-4A48-A9A0-66482E59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157D-0912-4046-BD14-C55A68AC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AB77-8A3C-4B8B-8BD9-5D14B625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E7C-D2CF-4BB7-AF08-64C56E3A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81C-C6B7-4DF0-BEC1-A8D1EB31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1949-C798-48E8-A8F0-5BC9DCB3C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4DC8-39CF-4AB4-8488-5D9BD213C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 Black"/>
              </a:rPr>
              <a:t>Guidelines on the use and dissemination of data on international immigration to facilitate their use to improve emigration data of sending countries</a:t>
            </a:r>
            <a:endParaRPr b="0" i="1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76000" y="3500280"/>
            <a:ext cx="655164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ask Force on Measuring E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Joint UNECE/Eurostat Work Session on Migration Statistics, organised in collaboration with UNF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Geneva, Switzerland, March 3-5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Guidelines’ application</a:t>
            </a:r>
            <a:r>
              <a:rPr b="1" lang="en-US" sz="36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(the lessons learned so far - examples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ada and Australia, Italy, Poland, the UK, the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the country’s perspec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Expanded the coverage of data on flows from Canada to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Enabled to analyse a profile of Canadian emigrants vs. their dest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Guidelines-based best practices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countries seeking emigratio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itise information nee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ain destination countries, total emigration vs. specific groups’ emigratio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e data availability at dest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est customised data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Evaluate data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Develop data exchange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Guidelines-based best practices 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(continue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3818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countries producing immigratio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and details of published data to accommodate information needs of immigrants’ sending countri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mmigrants’ country of origin, country of previous residence, citizenship, characteris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e usefulness of other sources for inclusion in tabulation programmes (e.g. L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Improve access to metadata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Guidelines-based best practices 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(continue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tional organ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Disseminate data by country of immigration and country of e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Compile a “regional portrait” of emigrants (showing the region’s countries, and emigrants’ characteristic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Objectives of the Guidelin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ntent of the Guidelin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Guidelines’ appli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Guidelines-based best practis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Background</a:t>
            </a:r>
            <a:r>
              <a:rPr b="1" lang="en-US" sz="3600" spc="-1" strike="noStrike">
                <a:solidFill>
                  <a:srgbClr val="336666"/>
                </a:solidFill>
                <a:latin typeface="Arial Black"/>
              </a:rPr>
              <a:t> (</a:t>
            </a:r>
            <a:r>
              <a:rPr b="1" lang="en-US" sz="2800" spc="-1" strike="noStrike">
                <a:solidFill>
                  <a:srgbClr val="336666"/>
                </a:solidFill>
                <a:latin typeface="Arial Black"/>
              </a:rPr>
              <a:t>how it happened)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ask Force proposed by ECE-Eurostat Seminar on International Migration, March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proposal endorsed by the Bureau of CES, Octobe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Feasibility study (19 countries), November 2005-June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Four analytical reports and the first draft of the Guidelines, Novembe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Background</a:t>
            </a:r>
            <a:r>
              <a:rPr b="1" lang="en-US" sz="3600" spc="-1" strike="noStrike">
                <a:solidFill>
                  <a:srgbClr val="336666"/>
                </a:solidFill>
                <a:latin typeface="Arial Black"/>
              </a:rPr>
              <a:t> (</a:t>
            </a:r>
            <a:r>
              <a:rPr b="1" lang="en-US" sz="2800" spc="-1" strike="noStrike">
                <a:solidFill>
                  <a:srgbClr val="336666"/>
                </a:solidFill>
                <a:latin typeface="Arial Black"/>
              </a:rPr>
              <a:t>how it happened)</a:t>
            </a:r>
            <a:br>
              <a:rPr sz="2800"/>
            </a:br>
            <a:r>
              <a:rPr b="1" lang="en-US" sz="28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continue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ummary report on the data exchange exercise, March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vised version of the Guidelines, March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General objectives of the Guidelines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3096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rovide a “roadmap” to countries seeking improvement of their emigrati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advise countries producing data on their immigrants on the needs of immigrants’ send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suggest to international organisations to increase an emigration scope in data collection and dissemination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Content of the Guidelines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igratio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- Needs vs. typolog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- National statistical data sour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- Strengths and weaknesses of statistical source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Content of the Guidelines</a:t>
            </a:r>
            <a:br>
              <a:rPr sz="3600"/>
            </a:br>
            <a:r>
              <a:rPr b="1" lang="en-US" sz="3200" spc="-1" strike="noStrike">
                <a:solidFill>
                  <a:srgbClr val="336666"/>
                </a:solidFill>
                <a:latin typeface="Arial Black"/>
              </a:rPr>
              <a:t>(continue)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20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migration data as possible source on emi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Main sources, their characteristics and relevance for countries of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What to pay attention to when using destination countries’ data – “critical facto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Type of emigration data sought vs. suggested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Content of the Guidelines</a:t>
            </a:r>
            <a:br>
              <a:rPr sz="3600"/>
            </a:br>
            <a:r>
              <a:rPr b="1" lang="en-US" sz="3200" spc="-1" strike="noStrike">
                <a:solidFill>
                  <a:srgbClr val="336666"/>
                </a:solidFill>
                <a:latin typeface="Arial Black"/>
              </a:rPr>
              <a:t>(continue)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3096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How to meet, in the best way, sending countries’ data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etail of available immigration data in destinatio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- Access to the da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tandard tab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issemination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Guidelines’ application</a:t>
            </a:r>
            <a:r>
              <a:rPr b="1" lang="en-US" sz="36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(the lessons learned so far - examples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S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the regional perspec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Allowed for examination of regional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Facilitated a discussion on data collection method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4:58:45Z</dcterms:created>
  <dc:creator>SCSD BUSC</dc:creator>
  <dc:description/>
  <dc:language>en-US</dc:language>
  <cp:lastModifiedBy>SCSD BUSC</cp:lastModifiedBy>
  <dcterms:modified xsi:type="dcterms:W3CDTF">2008-02-29T18:32:17Z</dcterms:modified>
  <cp:revision>60</cp:revision>
  <dc:subject/>
  <dc:title>Guidelines on the use and dissemination of data on international immigration to facilitate their use to improve emigration data of sending countr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92352698</vt:r8>
  </property>
  <property fmtid="{D5CDD505-2E9C-101B-9397-08002B2CF9AE}" pid="3" name="_AuthorEmail">
    <vt:lpwstr>Margaret.Michalowski@a.statcan.ca</vt:lpwstr>
  </property>
  <property fmtid="{D5CDD505-2E9C-101B-9397-08002B2CF9AE}" pid="4" name="_AuthorEmailDisplayName">
    <vt:lpwstr>Michalowski, Margaret - CSMP/PDSR</vt:lpwstr>
  </property>
  <property fmtid="{D5CDD505-2E9C-101B-9397-08002B2CF9AE}" pid="5" name="_EmailSubject">
    <vt:lpwstr>emigration guidelines</vt:lpwstr>
  </property>
  <property fmtid="{D5CDD505-2E9C-101B-9397-08002B2CF9AE}" pid="6" name="_PreviousAdHocReviewCycleID">
    <vt:r8>-462585387</vt:r8>
  </property>
</Properties>
</file>