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856-AD19-4633-ABD9-501A0E3E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331-3F65-4651-802E-8B7E125A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C8C-0E1E-41A9-B73F-967338F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F69-FB23-4218-917E-091EEC9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0745-C733-4C51-8271-AAAD0370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C4A8-5EE4-4FDB-8755-3B71AA8A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DD47-B105-4581-A3FE-F3E171A1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DDFB-7824-4279-8F7B-0A4B163D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EBF-4D2B-41D4-B03A-3D080DD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7776-1EF0-42B1-85BB-73C263F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AD1-223D-4559-9CA7-7BA07494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AA8-98AE-4D44-9CFD-ABA9F04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B23-6DEC-4F89-B35F-7E8D1580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1598-265E-483A-AD9C-B530722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D9E-34C2-4599-83F7-CEF3728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C3B-6065-41F8-93FE-70EBF169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EC17-8C88-42B2-8457-DCB845E3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E23-C3F9-4138-BAE4-D144B14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7BB-2108-466D-A711-16C0362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D61-BB81-43C4-9BCD-4990AAD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A42-F6C1-4C28-B13A-C6457C1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49B-175F-46B1-AAA6-71E941D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153-AD7A-491A-A245-6D079FFF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CBD-44F6-4E5B-83AA-EE5CA2C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DD67-CF7D-4837-A3C7-A78A0B32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799-48B5-4A51-B5BD-14D0A20E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Guidelines on the use and dissemination of data on international immigration to facilitate their use to improve emigration data of sending countries</a:t>
            </a:r>
            <a:endParaRPr b="0" i="1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3500280"/>
            <a:ext cx="65516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sk Force on Measuring 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Joint UNECE/Eurostat Work Session on Migration Statistics, organised in collaboration with UNF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eneva, Switzerland, March 3-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’ application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the lessons learned so far - examples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 and Australia, Italy, Poland, the UK,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country’s persp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xpanded the coverage of data on flows from Canada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nabled to analyse a profile of Canadian emigrants vs. their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untries seeking e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itise information 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in destination countries, total emigration vs. specific groups’ emigratio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data availability at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customised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valuate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velop data exchang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untries producing im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 details of published data to accommodate information needs of immigrants’ sending countri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mmigrants’ country of origin, country of previous residence, citizenship,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usefulness of other sources for inclusion in tabulation programmes (e.g. 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mprove access to metadat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isseminate data by country of immigration and country of 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mpile a “regional portrait” of emigrants (showing the region’s countries, and emigrants’ characteristic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bjectives of the Guid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ntent of the Guid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Guidelines’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Guidelines-based best practi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Background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how it happened)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sk Force proposed by ECE-Eurostat Seminar on International Migration,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posal endorsed by the Bureau of CES, Octo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easibility study (19 countries), November 2005-Jun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our analytical reports and the first draft of the Guidelines, Nov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Background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how it happened)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mmary report on the data exchange exercise,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vised version of the Guidelines, Marc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eneral objectives of the Guidelin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a “roadmap” to countries seeking improvement of their emigr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dvise countries producing data on their immigrants on the needs of immigrants’ send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uggest to international organisations to increase an emigration scope in data collection and disseminatio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Needs vs. typolo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National statistical data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Strengths and weaknesses of statistical sourc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br>
              <a:rPr sz="36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20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 data as possible source on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ain sources, their characteristics and relevance for countries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hat to pay attention to when using destination countries’ data – “critical 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ype of emigration data sought vs. suggeste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br>
              <a:rPr sz="36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to meet, in the best way, sending countries’ data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tail of available immigration data in destinatio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- Access to the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ndard tab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’ application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the lessons learned so far - examples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S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regional persp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llowed for examination of region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Facilitated a discussion on data collection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4:58:45Z</dcterms:created>
  <dc:creator>SCSD BUSC</dc:creator>
  <dc:description/>
  <dc:language>en-US</dc:language>
  <cp:lastModifiedBy>SCSD BUSC</cp:lastModifiedBy>
  <dcterms:modified xsi:type="dcterms:W3CDTF">2008-02-29T18:32:17Z</dcterms:modified>
  <cp:revision>60</cp:revision>
  <dc:subject/>
  <dc:title>Guidelines on the use and dissemination of data on international immigration to facilitate their use to improve emigration data of sending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2352698</vt:r8>
  </property>
  <property fmtid="{D5CDD505-2E9C-101B-9397-08002B2CF9AE}" pid="3" name="_AuthorEmail">
    <vt:lpwstr>Margaret.Michalowski@a.statcan.ca</vt:lpwstr>
  </property>
  <property fmtid="{D5CDD505-2E9C-101B-9397-08002B2CF9AE}" pid="4" name="_AuthorEmailDisplayName">
    <vt:lpwstr>Michalowski, Margaret - CSMP/PDSR</vt:lpwstr>
  </property>
  <property fmtid="{D5CDD505-2E9C-101B-9397-08002B2CF9AE}" pid="5" name="_EmailSubject">
    <vt:lpwstr>emigration guidelines</vt:lpwstr>
  </property>
  <property fmtid="{D5CDD505-2E9C-101B-9397-08002B2CF9AE}" pid="6" name="_PreviousAdHocReviewCycleID">
    <vt:r8>-462585387</vt:r8>
  </property>
</Properties>
</file>