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720-0377-41E7-91B0-88B761A1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CA6-ED98-41EF-9378-45EB7432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1E8-6B4B-4820-BE3F-2FF5824E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E8C-B29F-45A8-8495-BD4AA318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ADDA-2DEA-4A53-9BD9-0CFEBD3F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B514-01F2-4B29-A059-1EC7C284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F6D5-3F6A-4321-BB60-37C76EE8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BF30-4AF5-4B6F-B938-D7391CB6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5492-2E41-425D-AD26-B9AA685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BC57-34E9-4856-9013-32DCA29F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E2DE-0C6D-4237-8AAC-17E0AD2B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702-9ED9-46F6-9625-816605A7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56B6-0707-4087-9464-B122E635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DEC7-C38F-4296-9504-9853225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CE25-3D51-4842-B5F4-F839E39A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15C5-4F08-4190-A865-03236248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7F4-A069-4DA8-A1CE-599FE20E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204-C0B0-4739-A787-C61B6C37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FE0-3AB9-4A12-881B-C020EF3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8B8-F0DE-4DD6-84D0-071AEE2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3BC-ADBA-4B5C-BE29-4652C4D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046-AA45-4777-949E-737E490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DEE-3A4D-41E1-BA41-D4EB3CF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FA5-2C25-441E-A3B6-03CF4D0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536-D475-4B50-9F26-408744476A91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2C7A-1A9A-4B26-B5E6-E95221A1FF2B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13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MPARABILITY AND EXCHANGE OF INTERNATIONAL MIGRATION STATISTICS   IN CIS COUNTRIES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9280" y="6426000"/>
            <a:ext cx="777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lga Chudinovskikh           Moscow State Lomonosov University</a:t>
            </a:r>
            <a:endParaRPr b="1" lang="en-US" sz="1600" spc="-1" strike="noStrike">
              <a:solidFill>
                <a:srgbClr val="1d433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nrico Bisogno UNECE</a:t>
            </a:r>
            <a:endParaRPr b="1" lang="en-US" sz="16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8088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oint UNECE/Eurostat Work Session on Migration Statistics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eneva 3-5 March 2008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A29D-2D55-438C-9F83-2C9F560B11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) Matrix “Emigrants” 2000-2006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413000"/>
          <a:ext cx="8731440" cy="5089320"/>
        </p:xfrm>
        <a:graphic>
          <a:graphicData uri="http://schemas.openxmlformats.org/drawingml/2006/table">
            <a:tbl>
              <a:tblPr/>
              <a:tblGrid>
                <a:gridCol w="1079640"/>
                <a:gridCol w="608040"/>
                <a:gridCol w="743040"/>
                <a:gridCol w="657000"/>
                <a:gridCol w="657360"/>
                <a:gridCol w="647640"/>
                <a:gridCol w="538200"/>
                <a:gridCol w="595440"/>
                <a:gridCol w="738000"/>
                <a:gridCol w="576360"/>
                <a:gridCol w="647640"/>
                <a:gridCol w="517680"/>
                <a:gridCol w="725400"/>
              </a:tblGrid>
              <a:tr h="107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DIRECTION OF EMIGRATIO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Moldova  CSB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Moldova PR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 COUNTRIES (Moldova- PR data)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 0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 1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1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 8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7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6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5 59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9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 5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17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7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8 31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793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5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3 8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9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3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6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4 76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7 94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26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69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29 05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59 44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9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6 96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 3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 97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 58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Moldov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2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 84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8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6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5 49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0 31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8 3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5 0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40 0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53 77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1 34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9 20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7 0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399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12 0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345 85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 30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30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 9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 1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6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6 58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 4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54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 8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 4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34 6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38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 16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8 05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6 15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 86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 5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 0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6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7 86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 COUNTRIE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5 4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1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3 3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69 74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6 2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5 3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9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1 4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2 6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68 6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8 3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080 79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5 4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1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3 3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69 74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6 2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5 3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9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1 4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2 6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68 6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8 3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A07-2BB6-491B-A671-EEC27D8B9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53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) Matrix “Net migration”  2000-2006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484280"/>
          <a:ext cx="8785440" cy="5165640"/>
        </p:xfrm>
        <a:graphic>
          <a:graphicData uri="http://schemas.openxmlformats.org/drawingml/2006/table">
            <a:tbl>
              <a:tblPr/>
              <a:tblGrid>
                <a:gridCol w="1160640"/>
                <a:gridCol w="601560"/>
                <a:gridCol w="712800"/>
                <a:gridCol w="662040"/>
                <a:gridCol w="627120"/>
                <a:gridCol w="625320"/>
                <a:gridCol w="608040"/>
                <a:gridCol w="606600"/>
                <a:gridCol w="590400"/>
                <a:gridCol w="655560"/>
                <a:gridCol w="569880"/>
                <a:gridCol w="739800"/>
                <a:gridCol w="625680"/>
              </a:tblGrid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COUNTRY  OF DATA  ORIGI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rtner” country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rmenia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zerbaij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Belarus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azakh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yrgyz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oldova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Moldova PR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ussia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Tajiki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kraine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zbeki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0COUNTRIES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of migration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exchange 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06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2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0 22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 89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8 21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5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0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2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0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3 68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 56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3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9 8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01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9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 42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07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9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9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1 30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 7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 28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4 34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0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4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 00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0 2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08 14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 0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 45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16 67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8 1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5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3 87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0 17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 62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2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4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1 18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oldova CSB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 07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 36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2 0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8 39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4 99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7 55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5 0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00 73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36 34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5 52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16 51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0 39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71 58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89 8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79 92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 57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 04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8 37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5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 72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9 9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 6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6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 50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 09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24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 16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9 68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18 01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25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6 45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7 6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4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 6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94 31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8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85 05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 7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 30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96 67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902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833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0 02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95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5657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41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2663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91 07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6361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 66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236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 1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0  COUNTRIES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8 92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8 33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7 95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9 62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56 56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4 1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26 63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46 71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63 59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7 36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23 5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 Cyr"/>
                        </a:rPr>
                        <a:t>-47 3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otal net migratio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V="1">
            <a:off x="3635280" y="3428640"/>
            <a:ext cx="4249800" cy="18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32360" y="4076280"/>
            <a:ext cx="1008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2B3-7C23-49AE-B909-4943321964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4"/>
                </a:solidFill>
                <a:latin typeface="Arial"/>
              </a:rPr>
              <a:t>Some more evidence from data comparison: “Coverage” of immigration and emigration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557360"/>
          <a:ext cx="8280360" cy="5208480"/>
        </p:xfrm>
        <a:graphic>
          <a:graphicData uri="http://schemas.openxmlformats.org/drawingml/2006/table">
            <a:tbl>
              <a:tblPr/>
              <a:tblGrid>
                <a:gridCol w="3641760"/>
                <a:gridCol w="2319480"/>
                <a:gridCol w="2319120"/>
              </a:tblGrid>
              <a:tr h="155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atio 1 -  immigrants 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eceiving country data) to emigrants (CIS  aggregated data on emigrants to this country)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atio 2 -  emigrants (sending country data)  to immigrants  (CIS aggregated data on immigrants from this country)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rmenia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8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8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5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1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0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0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CSB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0,7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0,4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7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1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2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3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9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6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3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E8F-4F98-4DA1-8721-39257C049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4"/>
                </a:solidFill>
                <a:latin typeface="Arial"/>
              </a:rPr>
              <a:t>Some evidence from data comparison:  net migration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981000"/>
          <a:ext cx="8280360" cy="5646960"/>
        </p:xfrm>
        <a:graphic>
          <a:graphicData uri="http://schemas.openxmlformats.org/drawingml/2006/table">
            <a:tbl>
              <a:tblPr/>
              <a:tblGrid>
                <a:gridCol w="3108240"/>
                <a:gridCol w="1757520"/>
                <a:gridCol w="1757160"/>
                <a:gridCol w="1657440"/>
              </a:tblGrid>
              <a:tr h="165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Data collected in the country (1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Data collected in the CIS states (2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atio 1/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rmenia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48929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823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8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833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011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795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3490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99626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783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56566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118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CSB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2410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834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4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4671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901928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9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6359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996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736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709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52354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9668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956720" y="4653000"/>
            <a:ext cx="936360" cy="50472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85080" y="5805360"/>
            <a:ext cx="936720" cy="5050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851-0758-4BE2-9700-A23EC9A33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4337"/>
                </a:solidFill>
                <a:latin typeface="Arial"/>
              </a:rPr>
              <a:t>Some more evidence from comparison of data on flows of immigrants and emigrants</a:t>
            </a: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 :</a:t>
            </a:r>
            <a:r>
              <a:rPr b="1" lang="en-US" sz="2800" spc="-1" strike="noStrike">
                <a:solidFill>
                  <a:srgbClr val="1d4337"/>
                </a:solidFill>
                <a:latin typeface="Arial"/>
              </a:rPr>
              <a:t> results to be discussed -case of Moldova and the RF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78544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3500280"/>
            <a:ext cx="2665440" cy="10810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014-0D46-4998-A0FD-85BCCC21AB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8036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4337"/>
                </a:solidFill>
                <a:latin typeface="Arial"/>
              </a:rPr>
              <a:t>Some more evidence from comparison of data on flows of immigrants and emigrants:  rather good results – case of  Kazakhstan and Uzbekistan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8964720" cy="317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D86-75C7-4BA0-A435-AC3B09197D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Some more evidence from comparison of data :  n</a:t>
            </a:r>
            <a:r>
              <a:rPr b="1" lang="en-US" sz="2400" spc="-1" strike="noStrike">
                <a:solidFill>
                  <a:srgbClr val="1d4944"/>
                </a:solidFill>
                <a:latin typeface="Arial"/>
              </a:rPr>
              <a:t>eed in annual data for comparison. Paradox of positive net migration both in Ukraine and the RF</a:t>
            </a:r>
            <a:r>
              <a:rPr b="1" lang="en-US" sz="28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525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244000" y="2852640"/>
            <a:ext cx="900000" cy="1224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51664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Ukraine- decrease of emigration, RF- increase of immigration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372-710C-4194-968E-3AFFB73B5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6920" y="188640"/>
            <a:ext cx="860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mpact of legislation and historical context on statistics of migration and naturalization is obvious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Legislation on data collection procedures (impact on definitions of a migrant)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Legislation on naturalization – simplified procedures for major part of migrant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tock of non-naturalized migrants  of the earlier years of arriva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73F-2A45-4F6C-86D3-3A893D32BC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064360" cy="4176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mpact of legislation on statistics:  foreigners are not included into statistics, or acquire citizenship soon after arrival (reason of low % of foreigners in case of the RF)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628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% of foreigners and nationals in flows of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immigration                 and                      emigration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516640"/>
            <a:ext cx="792360" cy="79200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D15-D342-437E-B4B7-159B0202DE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189000"/>
            <a:ext cx="8675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f the number of naturalized persons can exceed the number of migrants ?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3280" y="1628640"/>
          <a:ext cx="4500720" cy="439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628640"/>
                    <a:ext cx="4500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1628640"/>
          <a:ext cx="4641840" cy="4464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628640"/>
                    <a:ext cx="464184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195640" y="2924280"/>
            <a:ext cx="1944720" cy="93636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09300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 2007 in the RF 362 thousand  persons were naturalized,  only 157 persons- via an ordinary procedure , 255 thousand via a simplified way, 107 thousand – via the international agreements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4005360"/>
            <a:ext cx="574560" cy="5032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121-00BF-43D1-ADC5-1EB8935124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7a8e32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ollected data and actors involved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Main findings:  comparability, coverage, possibility of compilat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99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oncluding remarks  (thinking of future activities)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364-DD4C-4020-B0F0-66F13B57B9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mpact of historical context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igration – in 1990-ies, naturalization – in 2000-ies.Case of the  RF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383240" cy="475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42C-803C-4CD3-BC46-139EF7320D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8900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ctr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Lessons learnt (1)</a:t>
            </a:r>
            <a:endParaRPr b="0" lang="en-US" sz="3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6560" y="1701720"/>
            <a:ext cx="80010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t">
            <a:normAutofit/>
          </a:bodyPr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Data collection and exchange is possible and  very promising, should be done on a regular basis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Extreme richness of data on flows, scarcity of stock data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Interpretation of data is much more efficient  when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data from both countries are available,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more variables are used in analysis and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legislation  is taken into account.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6BB-0C15-4489-82C8-8A52AE9482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7720"/>
            <a:ext cx="82821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ctr">
            <a:noAutofit/>
          </a:bodyPr>
          <a:p>
            <a:pPr marL="36360" indent="0">
              <a:buNone/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Lessons learnt (2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01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t">
            <a:normAutofit fontScale="91000"/>
          </a:bodyPr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carcity of administrative (MOI) data (on stocks of foreigners, on residence permit issuance and holders),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Deficit of variables in administrative data -  stimulus to  search for other sources and ways to develop  data  by some important variables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Availability and exchange at a national level should be  developed as wel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000" spc="-1" strike="noStrike">
                <a:solidFill>
                  <a:srgbClr val="1d4337"/>
                </a:solidFill>
                <a:latin typeface="Arial"/>
              </a:rPr>
              <a:t>Need of data on short-term/labour/irregular migration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4499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000" spc="-1" strike="noStrike">
                <a:solidFill>
                  <a:srgbClr val="1d4337"/>
                </a:solidFill>
                <a:latin typeface="Arial"/>
              </a:rPr>
              <a:t>This experience shows that it’s necessary to pool together different capacities and institutional actors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4499"/>
              </a:lnSpc>
              <a:spcBef>
                <a:spcPts val="224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Involvement of national statistical offices is crucial- experience, traditions, official status</a:t>
            </a:r>
            <a:r>
              <a:rPr b="0" lang="en-US" sz="9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464-88B7-4B0C-9B28-7A528C6824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477720"/>
            <a:ext cx="82821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ctr">
            <a:noAutofit/>
          </a:bodyPr>
          <a:p>
            <a:pPr marL="36360" indent="0">
              <a:buNone/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Lessons learnt (3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6200" y="1701720"/>
            <a:ext cx="8001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t">
            <a:normAutofit/>
          </a:bodyPr>
          <a:p>
            <a:pPr lvl="1" marL="876240" indent="-380880">
              <a:lnSpc>
                <a:spcPts val="4499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800" spc="-1" strike="noStrike">
                <a:solidFill>
                  <a:srgbClr val="1d4337"/>
                </a:solidFill>
                <a:latin typeface="Arial"/>
              </a:rPr>
              <a:t>Further analysis of data is  needed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876240" indent="-380880">
              <a:lnSpc>
                <a:spcPts val="4499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800" spc="-1" strike="noStrike">
                <a:solidFill>
                  <a:srgbClr val="1d4337"/>
                </a:solidFill>
                <a:latin typeface="Arial"/>
              </a:rPr>
              <a:t>Importance to invest on Population Census 2010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87624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FBA-A99E-4215-B179-800216F7348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152-5505-4680-86FB-AF78AE8DE3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Why CIS:   high ratio of  intra-regional migration;  focus of  migration policies, need in correct population size estimates  etc.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844640"/>
          <a:ext cx="4356000" cy="454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35600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51320" y="1773360"/>
          <a:ext cx="460368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1320" y="1773360"/>
                    <a:ext cx="46036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908000" y="2133720"/>
            <a:ext cx="792360" cy="718920"/>
          </a:xfrm>
          <a:prstGeom prst="ellipse">
            <a:avLst/>
          </a:prstGeom>
          <a:noFill/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2133720"/>
            <a:ext cx="792360" cy="576000"/>
          </a:xfrm>
          <a:prstGeom prst="ellipse">
            <a:avLst/>
          </a:prstGeom>
          <a:noFill/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F35-D6FE-4428-9EF2-A90C9FED05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Actors involved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buClr>
                <a:srgbClr val="7a8e32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1d4337"/>
                </a:solidFill>
                <a:latin typeface="Arial"/>
              </a:rPr>
              <a:t>11 CIS countries 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and agreed to provide data for the  templates prepared by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UNECE Statistical Divis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National Statistical Offices and Migration authorities were  the data provider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( i.e. - the objective:  to compare data from different countries and different sources, international and national level)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89D-87F2-4DB8-9154-AF87093313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33360"/>
            <a:ext cx="849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ctr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a requested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years 2000-2006, 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males and females)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 and available</a:t>
            </a:r>
            <a:r>
              <a:rPr b="1" lang="en-US" sz="3200" spc="-1" strike="noStrike">
                <a:solidFill>
                  <a:srgbClr val="1d494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700280"/>
            <a:ext cx="8713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t">
            <a:normAutofit fontScale="92000"/>
          </a:bodyPr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Immigration and emigration flows by country of origin/destination                             11 and 10 countries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Immigration and emigration flows by citizenship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(no data on direction of migration)    6 and 4  countries  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Stocks of foreigners                        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Stocks of foreign-born                     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799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32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Citizenship acquisitions (no data on year of arrival and direction of migration)                    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opulation balance (births, deaths, immigrants, emigrants)                                           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   11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 all data were available by sex or  some years were missing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1916280"/>
            <a:ext cx="3240360" cy="50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2852640"/>
            <a:ext cx="2808360" cy="5050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350028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Times New Roman"/>
              </a:rPr>
              <a:t>Census based, except 2 countries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BFA-CC73-4DE2-B9D9-3EA570A4DA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ources and definitions (1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Stocks – Census round 2000  Population with usual residence foreign and foreign – born; 3 states used additional sources, </a:t>
            </a:r>
            <a:r>
              <a:rPr b="0" lang="en-US" sz="2400" spc="-1" strike="noStrike" u="sng">
                <a:solidFill>
                  <a:srgbClr val="1d4337"/>
                </a:solidFill>
                <a:uFillTx/>
                <a:latin typeface="Arial"/>
              </a:rPr>
              <a:t>only 1 used a household survey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lack of MOI data on foreign residents (RP  holders)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Citizenship acquisition – MOI data. As a rule, not available  even by sex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opulation balance: except Georgia all countries utilize data on migration flows. Georgia used border statistics for net migration estimation.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Need in improvement of data collection through the next census and  through regular systems as wel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838-7E9F-4CB1-BDDD-16166ED491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1628640"/>
            <a:ext cx="86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Flows – data are collected in authorized  agencies when a person is 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de-jure registered and de-registered in a </a:t>
            </a:r>
            <a:r>
              <a:rPr b="1" lang="en-US" sz="2400" spc="-1" strike="noStrike" u="sng">
                <a:solidFill>
                  <a:srgbClr val="1d4337"/>
                </a:solidFill>
                <a:uFillTx/>
                <a:latin typeface="Arial"/>
              </a:rPr>
              <a:t>place of residence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.  Primary forms are used in 9  countries, Moldova uses the Population register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A foreigner must have a residence permit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Time criterion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o define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lace of stay and place of residence is applied  in some countries only; may differ for foreigners and nationals. As a rule - 6 months, “1 year” criterion  is not applied. Belarus and Russia do not apply  (big underestimation of long-term migrants registered in a place of stay)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2007,  RF :  7,6 mln. foreigners  were registered in a place of stay and only 183 thousand – in a place of residence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ources and definitions (2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311-49D6-40D5-A240-CB9505433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Important limitations of an adequate comparison: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An expected  but underestimated problem: some countries registered persons, while the others – hundreds and thousand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Aggregated data mask important details by years and composition of flow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itizenship of migrants :  no data on direction of migrat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itizenship acquisition : no data on year  of arrival,  type and year of applicat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F66-EDE8-4C81-BE66-4C0C98BFD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ethod of comparison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) Matrix “Immigrants”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00-2006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1125360"/>
          <a:ext cx="8856720" cy="5170680"/>
        </p:xfrm>
        <a:graphic>
          <a:graphicData uri="http://schemas.openxmlformats.org/drawingml/2006/table">
            <a:tbl>
              <a:tblPr/>
              <a:tblGrid>
                <a:gridCol w="1089000"/>
                <a:gridCol w="614520"/>
                <a:gridCol w="752400"/>
                <a:gridCol w="587520"/>
                <a:gridCol w="701640"/>
                <a:gridCol w="601560"/>
                <a:gridCol w="600120"/>
                <a:gridCol w="601560"/>
                <a:gridCol w="747720"/>
                <a:gridCol w="600120"/>
                <a:gridCol w="628560"/>
                <a:gridCol w="601920"/>
                <a:gridCol w="730080"/>
              </a:tblGrid>
              <a:tr h="131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COUNTRY OF ORIGI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 CSB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PR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  COUNTRIES (Moldova- PR data)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6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5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6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7 27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44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8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6 3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5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65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0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7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6 48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2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3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5 6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1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7 0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 1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6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9 0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 96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 50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3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06 08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1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 1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 3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7 31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9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6 80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7 13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7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3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53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9 76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29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5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3 2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7 7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3 8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3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 84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70 1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9 3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7 43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8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69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6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68 3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2 2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2 9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3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9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 8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3 6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67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0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7 8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8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9 09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38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 6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7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2 65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71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83 6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7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8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00 47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 27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94 60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2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1 16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24 5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COUNTRIE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5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 76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1 2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70 1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 6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 2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29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88 1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 0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1 26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 8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030 86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5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 76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1 2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70 1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 6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 2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29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88 1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 0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1 26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 8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25C-B24B-4D17-8114-4253689B40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5:25:58Z</dcterms:created>
  <dc:creator>Olga</dc:creator>
  <dc:description/>
  <cp:keywords/>
  <dc:language>en-US</dc:language>
  <cp:lastModifiedBy>Olga</cp:lastModifiedBy>
  <dcterms:modified xsi:type="dcterms:W3CDTF">2008-03-07T13:00:32Z</dcterms:modified>
  <cp:revision>38</cp:revision>
  <dc:subject/>
  <dc:title>COMPARABILITY AND EXCHANGE OF INTERNATIONAL MIGRATION STATISTICS   IN CIS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