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5DB-1E61-4DD3-80D0-C7F81FC9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2BD-6F36-446C-B22A-54BD68E3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BEB-CA9B-4E61-B854-4E8980CA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CF3-5E3C-40BB-A52E-2D462399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50D-42F1-485A-80E3-E158C95D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7EE5-E5C8-455D-9A41-679D725B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9A16-E993-4828-97CE-7D8FAAC5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B720-554B-4D0E-82CC-D180861A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5F8E-FB7E-48D0-9605-10F431CC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DA1D-59F9-4FBA-A930-246C6AD2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9225-7451-4E3E-A06B-7F806A8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F0B-F6B9-451E-8D9E-7FC4DBC5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BB38-0D3A-440A-B295-6A32B62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8E27-2BE6-4FBC-B9E3-963544E1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5406-CAC9-421C-B447-DE3D8C75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3F29-CA83-4EF7-84EC-F7122674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3C92-E2DC-42D5-AC00-9494CA9B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B8A-87A8-483F-B9C2-825CBA34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33E-7689-4311-8BE8-54C6E8FB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480-5B48-4EE7-86AF-F842F5B0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20B-0DD0-480C-A353-9A7E294E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DC5-E8DD-41B4-8287-DF04900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06F-9F64-4902-BB46-25CF1A86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1B1-C9F0-49D7-9351-9FA9C4A1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08E-03F6-4AE4-A1C8-49986CAB15B9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ED3C-E133-48E7-BAA9-3E107962EA92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13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MPARABILITY AND EXCHANGE OF INTERNATIONAL MIGRATION STATISTICS   IN CIS COUNTRIES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9280" y="6426000"/>
            <a:ext cx="777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lga Chudinovskikh           Moscow State Lomonosov University</a:t>
            </a:r>
            <a:endParaRPr b="1" lang="en-US" sz="1600" spc="-1" strike="noStrike">
              <a:solidFill>
                <a:srgbClr val="1d433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nrico Bisogno UNECE</a:t>
            </a:r>
            <a:endParaRPr b="1" lang="en-US" sz="16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8088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oint UNECE/Eurostat Work Session on Migration Statistics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eneva 3-5 March 2008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0584-2A02-4F8E-A401-EE45525EEE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) Matrix “Emigrants” 2000-2006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413000"/>
          <a:ext cx="8731440" cy="5089320"/>
        </p:xfrm>
        <a:graphic>
          <a:graphicData uri="http://schemas.openxmlformats.org/drawingml/2006/table">
            <a:tbl>
              <a:tblPr/>
              <a:tblGrid>
                <a:gridCol w="1079640"/>
                <a:gridCol w="608040"/>
                <a:gridCol w="743040"/>
                <a:gridCol w="657000"/>
                <a:gridCol w="657360"/>
                <a:gridCol w="647640"/>
                <a:gridCol w="538200"/>
                <a:gridCol w="595440"/>
                <a:gridCol w="738000"/>
                <a:gridCol w="576360"/>
                <a:gridCol w="647640"/>
                <a:gridCol w="517680"/>
                <a:gridCol w="725400"/>
              </a:tblGrid>
              <a:tr h="107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DIRECTION OF EMIGRATIO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Moldova  CSB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Moldova PR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 COUNTRIES (Moldova- PR data)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 0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3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 1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3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3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1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 8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7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6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5 59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09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 54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17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07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0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8 31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793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 5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3 81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9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03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6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4 76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7 94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 26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69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29 05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59 44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 9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6 96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 37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7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 97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 58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Moldov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2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 84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68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6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5 49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0 31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8 3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5 0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40 0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53 77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1 34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9 20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7 0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399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12 0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345 85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4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 30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30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 94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 1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67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6 58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 47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54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 8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 43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34 63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 38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 16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8 05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6 15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 86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9 5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 02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86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7 86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0 COUNTRIE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5 4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2 1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3 3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69 74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6 2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5 3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2 9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41 4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2 6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68 6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68 37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 080 79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5 4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2 1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3 3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469 74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186 2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5 3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2 9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341 4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72 6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268 6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568 37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28A-4129-4D79-8618-288B2B4CF2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53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) Matrix “Net migration”  2000-2006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484280"/>
          <a:ext cx="8785440" cy="5165640"/>
        </p:xfrm>
        <a:graphic>
          <a:graphicData uri="http://schemas.openxmlformats.org/drawingml/2006/table">
            <a:tbl>
              <a:tblPr/>
              <a:tblGrid>
                <a:gridCol w="1160640"/>
                <a:gridCol w="601560"/>
                <a:gridCol w="712800"/>
                <a:gridCol w="662040"/>
                <a:gridCol w="627120"/>
                <a:gridCol w="625320"/>
                <a:gridCol w="608040"/>
                <a:gridCol w="606600"/>
                <a:gridCol w="590400"/>
                <a:gridCol w="655560"/>
                <a:gridCol w="569880"/>
                <a:gridCol w="739800"/>
                <a:gridCol w="625680"/>
              </a:tblGrid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COUNTRY  OF DATA  ORIGI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rtner” country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rmenia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zerbaij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Belarus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azakhst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yrgyzst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Moldova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Moldova PR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ussia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Tajikist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Ukraine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Uzbekistan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0COUNTRIES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of migration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exchange 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 06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2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0 22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 89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8 21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5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 0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92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0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3 68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 56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3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9 89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01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9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 42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07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9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90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1 30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 79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 28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4 34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0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4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 00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0 2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08 14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 04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 45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16 67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8 10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95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3 87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0 17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 62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 2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44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91 18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Moldova CSB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 07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 36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2 02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8 39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4 99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7 55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5 04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00 73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36 34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5 52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16 51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0 39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71 58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89 84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79 92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 57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 04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8 37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 5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 72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9 94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 6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6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 50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3 09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24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8 16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9 68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18 01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 25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6 45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97 66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4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 69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94 31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82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85 05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 74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0 30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396 67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902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833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0 02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951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5657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410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2663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91 07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6361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 66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23643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 194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0  COUNTRIES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48 929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8 33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7 95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99 62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56 566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24 101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4337"/>
                          </a:solidFill>
                          <a:latin typeface="Arial"/>
                          <a:ea typeface="Arial"/>
                        </a:rPr>
                        <a:t>-26 638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46 71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63 595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17 360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-523 547</a:t>
                      </a:r>
                      <a:endParaRPr b="0" lang="en-US" sz="9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Arial Cyr"/>
                        </a:rPr>
                        <a:t>-47 3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otal net migratio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flipV="1">
            <a:off x="3635280" y="3428640"/>
            <a:ext cx="4249800" cy="18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32360" y="4076280"/>
            <a:ext cx="1008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1C1-2C15-4CBE-8B1F-AEE36097DD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4"/>
                </a:solidFill>
                <a:latin typeface="Arial"/>
              </a:rPr>
              <a:t>Some more evidence from data comparison: “Coverage” of immigration and emigration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557360"/>
          <a:ext cx="8280360" cy="5208480"/>
        </p:xfrm>
        <a:graphic>
          <a:graphicData uri="http://schemas.openxmlformats.org/drawingml/2006/table">
            <a:tbl>
              <a:tblPr/>
              <a:tblGrid>
                <a:gridCol w="3641760"/>
                <a:gridCol w="2319480"/>
                <a:gridCol w="2319120"/>
              </a:tblGrid>
              <a:tr h="155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atio 1 -  immigrants </a:t>
                      </a: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eceiving country data) to emigrants (CIS  aggregated data on emigrants to this country)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atio 2 -  emigrants (sending country data)  to immigrants  (CIS aggregated data on immigrants from this country)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rmenia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8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zerbaij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8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5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Belarus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19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9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azakhst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0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0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yrgyzst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 CSB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0,7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0,4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ussia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9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7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Tajikist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1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2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kraine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3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,9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zbekistan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6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,3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7EC-B5E8-4D45-9DF7-8C7926431B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4"/>
                </a:solidFill>
                <a:latin typeface="Arial"/>
              </a:rPr>
              <a:t>Some evidence from data comparison:  net migration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981000"/>
          <a:ext cx="8280360" cy="5646960"/>
        </p:xfrm>
        <a:graphic>
          <a:graphicData uri="http://schemas.openxmlformats.org/drawingml/2006/table">
            <a:tbl>
              <a:tblPr/>
              <a:tblGrid>
                <a:gridCol w="3108240"/>
                <a:gridCol w="1757520"/>
                <a:gridCol w="1757160"/>
                <a:gridCol w="1657440"/>
              </a:tblGrid>
              <a:tr h="165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Data collected in the country (1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Data collected in the CIS states (2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atio 1/2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rmenia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48929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823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8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zerbaij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833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011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Belarus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795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3490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azakhst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99626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783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yrgyzst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56566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118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 CSB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2410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834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4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ussia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4671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901928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9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Tajikist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6359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996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kraine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736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709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0,2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zbekista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52354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96681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-1,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956720" y="4653000"/>
            <a:ext cx="936360" cy="50472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85080" y="5805360"/>
            <a:ext cx="936720" cy="5050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155-4433-40D1-A4FC-85B05E5179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4337"/>
                </a:solidFill>
                <a:latin typeface="Arial"/>
              </a:rPr>
              <a:t>Some more evidence from comparison of data on flows of immigrants and emigrants</a:t>
            </a: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 :</a:t>
            </a:r>
            <a:r>
              <a:rPr b="1" lang="en-US" sz="2800" spc="-1" strike="noStrike">
                <a:solidFill>
                  <a:srgbClr val="1d4337"/>
                </a:solidFill>
                <a:latin typeface="Arial"/>
              </a:rPr>
              <a:t> results to be discussed -case of Moldova and the RF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785440" cy="324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3500280"/>
            <a:ext cx="2665440" cy="10810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1A0-6B3B-4BE6-AAA7-396F9AA240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8036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4337"/>
                </a:solidFill>
                <a:latin typeface="Arial"/>
              </a:rPr>
              <a:t>Some more evidence from comparison of data on flows of immigrants and emigrants:  rather good results – case of  Kazakhstan and Uzbekistan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8964720" cy="317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542-D383-4A5E-A263-1288B8D845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Some more evidence from comparison of data :  n</a:t>
            </a:r>
            <a:r>
              <a:rPr b="1" lang="en-US" sz="2400" spc="-1" strike="noStrike">
                <a:solidFill>
                  <a:srgbClr val="1d4944"/>
                </a:solidFill>
                <a:latin typeface="Arial"/>
              </a:rPr>
              <a:t>eed in annual data for comparison. Paradox of positive net migration both in Ukraine and the RF</a:t>
            </a:r>
            <a:r>
              <a:rPr b="1" lang="en-US" sz="28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525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244000" y="2852640"/>
            <a:ext cx="900000" cy="1224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51664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Ukraine- decrease of emigration, RF- increase of immigration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E80-2BBB-499D-BC05-EC831AC40C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6920" y="188640"/>
            <a:ext cx="8605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mpact of legislation and historical context on statistics of migration and naturalization is obvious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Legislation on data collection procedures (impact on definitions of a migrant)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Legislation on naturalization – simplified procedures for major part of migrants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tock of non-naturalized migrants  of the earlier years of arriva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654-05B2-4E44-B2E4-D7E3B22BEA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8064360" cy="4176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mpact of legislation on statistics:  foreigners are not included into statistics, or acquire citizenship soon after arrival (reason of low % of foreigners in case of the RF)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628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% of foreigners and nationals in flows of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immigration                 and                      emigration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516640"/>
            <a:ext cx="792360" cy="79200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240-0C77-4A4D-8B7E-337A107D7A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189000"/>
            <a:ext cx="8675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f the number of naturalized persons can exceed the number of migrants ?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3280" y="1628640"/>
          <a:ext cx="4500720" cy="439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628640"/>
                    <a:ext cx="4500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0" y="1628640"/>
          <a:ext cx="4641840" cy="4464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628640"/>
                    <a:ext cx="464184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195640" y="2924280"/>
            <a:ext cx="1944720" cy="93636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09300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 2007 in the RF 362 thousand  persons were naturalized,  only 157 persons- via an ordinary procedure , 255 thousand via a simplified way, 107 thousand – via the international agreements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6000" y="4005360"/>
            <a:ext cx="574560" cy="5032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03B-700E-4275-8BA6-10E3EC343E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7a8e32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ollected data and actors involved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Main findings:  comparability, coverage, possibility of compilation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99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oncluding remarks  (thinking of future activities)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A1D-A7DF-4465-BAEB-B81160C1C0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mpact of historical context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igration – in 1990-ies, naturalization – in 2000-ies.Case of the  RF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383240" cy="475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01E-AC66-4952-90D9-F70F7CA80C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6305400"/>
            <a:ext cx="83818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380880"/>
            <a:ext cx="7391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8900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81360" tIns="50760" bIns="50760" anchor="ctr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Lessons learnt (1)</a:t>
            </a:r>
            <a:endParaRPr b="0" lang="en-US" sz="3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6560" y="1701720"/>
            <a:ext cx="80010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81360" tIns="50760" bIns="50760" anchor="t">
            <a:normAutofit/>
          </a:bodyPr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Data collection and exchange is possible and  very promising, should be done on a regular basis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Extreme richness of data on flows, scarcity of stock data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Interpretation of data is much more efficient  when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data from both countries are available,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more variables are used in analysis and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95360" indent="-459000">
              <a:lnSpc>
                <a:spcPts val="1998"/>
              </a:lnSpc>
              <a:buClr>
                <a:srgbClr val="000099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legislation  is taken into account.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E06-093D-467C-B456-1965144419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6305400"/>
            <a:ext cx="83818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80880"/>
            <a:ext cx="7391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7720"/>
            <a:ext cx="82821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ctr">
            <a:noAutofit/>
          </a:bodyPr>
          <a:p>
            <a:pPr marL="36360" indent="0">
              <a:buNone/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Lessons learnt (2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01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t">
            <a:normAutofit fontScale="91000"/>
          </a:bodyPr>
          <a:p>
            <a:pPr marL="450720" indent="-417600">
              <a:lnSpc>
                <a:spcPts val="1998"/>
              </a:lnSpc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carcity of administrative (MOI) data (on stocks of foreigners, on residence permit issuance and holders),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1998"/>
              </a:lnSpc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Deficit of variables in administrative data -  stimulus to  search for other sources and ways to develop  data  by some important variables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1998"/>
              </a:lnSpc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Availability and exchange at a national level should be  developed as wel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1998"/>
              </a:lnSpc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fr-CH" sz="2000" spc="-1" strike="noStrike">
                <a:solidFill>
                  <a:srgbClr val="1d4337"/>
                </a:solidFill>
                <a:latin typeface="Arial"/>
              </a:rPr>
              <a:t>Need of data on short-term/labour/irregular migration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4499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fr-CH" sz="2000" spc="-1" strike="noStrike">
                <a:solidFill>
                  <a:srgbClr val="1d4337"/>
                </a:solidFill>
                <a:latin typeface="Arial"/>
              </a:rPr>
              <a:t>This experience shows that it’s necessary to pool together different capacities and institutional actors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450720" indent="-417600">
              <a:lnSpc>
                <a:spcPts val="4499"/>
              </a:lnSpc>
              <a:spcBef>
                <a:spcPts val="224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Involvement of national statistical offices is crucial- experience, traditions, official status</a:t>
            </a:r>
            <a:r>
              <a:rPr b="0" lang="en-US" sz="9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D33-CA38-464A-8FD5-B98F726814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6305400"/>
            <a:ext cx="83818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380880"/>
            <a:ext cx="7391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477720"/>
            <a:ext cx="82821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ctr">
            <a:noAutofit/>
          </a:bodyPr>
          <a:p>
            <a:pPr marL="36360" indent="0">
              <a:buNone/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Lessons learnt (3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6200" y="1701720"/>
            <a:ext cx="8001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t">
            <a:normAutofit/>
          </a:bodyPr>
          <a:p>
            <a:pPr lvl="1" marL="876240" indent="-380880">
              <a:lnSpc>
                <a:spcPts val="4499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fr-CH" sz="2800" spc="-1" strike="noStrike">
                <a:solidFill>
                  <a:srgbClr val="1d4337"/>
                </a:solidFill>
                <a:latin typeface="Arial"/>
              </a:rPr>
              <a:t>Further analysis of data is  needed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876240" indent="-380880">
              <a:lnSpc>
                <a:spcPts val="4499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fr-CH" sz="2800" spc="-1" strike="noStrike">
                <a:solidFill>
                  <a:srgbClr val="1d4337"/>
                </a:solidFill>
                <a:latin typeface="Arial"/>
              </a:rPr>
              <a:t>Importance to invest on Population Census 2010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87624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38A-3C28-4F1E-97C4-A7B1B4F378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37B-E20B-4B65-BC71-B423FD57C9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Why CIS:   high ratio of  intra-regional migration;  focus of  migration policies, need in correct population size estimates  etc.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844640"/>
          <a:ext cx="4356000" cy="454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35600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351320" y="1773360"/>
          <a:ext cx="460368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1320" y="1773360"/>
                    <a:ext cx="46036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908000" y="2133720"/>
            <a:ext cx="792360" cy="718920"/>
          </a:xfrm>
          <a:prstGeom prst="ellipse">
            <a:avLst/>
          </a:prstGeom>
          <a:noFill/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2133720"/>
            <a:ext cx="792360" cy="576000"/>
          </a:xfrm>
          <a:prstGeom prst="ellipse">
            <a:avLst/>
          </a:prstGeom>
          <a:noFill/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974-6415-40F9-99A8-37B6AA508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Actors involved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buClr>
                <a:srgbClr val="7a8e32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1d4337"/>
                </a:solidFill>
                <a:latin typeface="Arial"/>
              </a:rPr>
              <a:t>11 CIS countries 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and agreed to provide data for the  templates prepared by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UNECE Statistical Division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National Statistical Offices and Migration authorities were  the data providers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( i.e. - the objective:  to compare data from different countries and different sources, international and national level)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86A-1E74-41FA-B8DB-1CD16E9834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6305400"/>
            <a:ext cx="83818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380880"/>
            <a:ext cx="7391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33360"/>
            <a:ext cx="849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81360" tIns="50760" bIns="50760" anchor="ctr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ata requested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years 2000-2006, 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males and females)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 and available</a:t>
            </a:r>
            <a:r>
              <a:rPr b="1" lang="en-US" sz="3200" spc="-1" strike="noStrike">
                <a:solidFill>
                  <a:srgbClr val="1d494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700280"/>
            <a:ext cx="8713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81360" tIns="50760" bIns="50760" anchor="t">
            <a:normAutofit fontScale="92000"/>
          </a:bodyPr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Immigration and emigration flows by country of origin/destination                             11 and 10 countries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Immigration and emigration flows by citizenship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(no data on direction of migration)    6 and 4  countries  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Stocks of foreigners                        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Stocks of foreign-born                     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799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32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Citizenship acquisitions (no data on year of arrival and direction of migration)                    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Population balance (births, deaths, immigrants, emigrants)                                           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    11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5400" indent="-420480">
              <a:lnSpc>
                <a:spcPts val="1998"/>
              </a:lnSpc>
              <a:spcBef>
                <a:spcPts val="601"/>
              </a:spcBef>
              <a:buClr>
                <a:srgbClr val="7a8e32"/>
              </a:buClr>
              <a:buSzPct val="9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77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 all data were available by sex or  some years were missing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1916280"/>
            <a:ext cx="3240360" cy="50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2852640"/>
            <a:ext cx="2808360" cy="5050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350028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Times New Roman"/>
              </a:rPr>
              <a:t>Census based, except 2 countries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735-8704-435C-A59B-50A42B6849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ources and definitions (1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Stocks – Census round 2000  Population with usual residence foreign and foreign – born; 3 states used additional sources, </a:t>
            </a:r>
            <a:r>
              <a:rPr b="0" lang="en-US" sz="2400" spc="-1" strike="noStrike" u="sng">
                <a:solidFill>
                  <a:srgbClr val="1d4337"/>
                </a:solidFill>
                <a:uFillTx/>
                <a:latin typeface="Arial"/>
              </a:rPr>
              <a:t>only 1 used a household survey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lack of MOI data on foreign residents (RP  holders)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Citizenship acquisition – MOI data. As a rule, not available  even by sex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Population balance: except Georgia all countries utilize data on migration flows. Georgia used border statistics for net migration estimation.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 Need in improvement of data collection through the next census and  through regular systems as wel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7C1-5501-40FB-B357-33C8782A9D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1628640"/>
            <a:ext cx="86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Flows – data are collected in authorized  agencies when a person is </a:t>
            </a: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de-jure registered and de-registered in a </a:t>
            </a:r>
            <a:r>
              <a:rPr b="1" lang="en-US" sz="2400" spc="-1" strike="noStrike" u="sng">
                <a:solidFill>
                  <a:srgbClr val="1d4337"/>
                </a:solidFill>
                <a:uFillTx/>
                <a:latin typeface="Arial"/>
              </a:rPr>
              <a:t>place of residence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.  Primary forms are used in 9  countries, Moldova uses the Population register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A foreigner must have a residence permit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Time criterion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o define</a:t>
            </a: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place of stay and place of residence is applied  in some countries only; may differ for foreigners and nationals. As a rule - 6 months, “1 year” criterion  is not applied. Belarus and Russia do not apply  (big underestimation of long-term migrants registered in a place of stay)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2007,  RF :  7,6 mln. foreigners  were registered in a place of stay and only 183 thousand – in a place of residence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ources and definitions (2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634-ACA0-41B0-B828-A2F667E066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Important limitations of an adequate comparison: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An expected  but underestimated problem: some countries registered persons, while the others – hundreds and thousands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Aggregated data mask important details by years and composition of flows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itizenship of migrants :  no data on direction of migration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itizenship acquisition : no data on year  of arrival,  type and year of application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BD8-1A55-4CCD-9CF1-16C44938D9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ethod of comparison: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) Matrix “Immigrants”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00-2006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9280" y="1125360"/>
          <a:ext cx="8856720" cy="5170680"/>
        </p:xfrm>
        <a:graphic>
          <a:graphicData uri="http://schemas.openxmlformats.org/drawingml/2006/table">
            <a:tbl>
              <a:tblPr/>
              <a:tblGrid>
                <a:gridCol w="1089000"/>
                <a:gridCol w="614520"/>
                <a:gridCol w="752400"/>
                <a:gridCol w="587520"/>
                <a:gridCol w="701640"/>
                <a:gridCol w="601560"/>
                <a:gridCol w="600120"/>
                <a:gridCol w="601560"/>
                <a:gridCol w="747720"/>
                <a:gridCol w="600120"/>
                <a:gridCol w="628560"/>
                <a:gridCol w="601920"/>
                <a:gridCol w="730080"/>
              </a:tblGrid>
              <a:tr h="131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COUNTRY OF ORIGI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  CSB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 PR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  COUNTRIES (Moldova- PR data)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6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5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6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4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7 27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44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8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6 3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5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65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0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7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6 48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2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3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5 6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7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1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7 0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 1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6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9 0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 96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 50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3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06 08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1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 15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 3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47 31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9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6 80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7 13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7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3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53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9 76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Moldov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29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5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3 2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7 70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83 83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3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0 84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70 13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39 3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7 43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81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69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6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68 3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2 2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42 94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3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9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 85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3 67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67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03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7 8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8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9 09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5 38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 6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74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2 65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71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83 63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7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81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00 47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 27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2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94 60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2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1 16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24 52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COUNTRIES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5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3 76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1 2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70 1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9 6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 2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29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88 14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 0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1 26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4 82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 030 86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5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3 76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1 2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370 11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9 6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1 22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6 29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1 188 14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9 05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251 26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44 82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089-D675-474E-A21D-B670B35A32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5:25:58Z</dcterms:created>
  <dc:creator>Olga</dc:creator>
  <dc:description/>
  <cp:keywords/>
  <dc:language>en-US</dc:language>
  <cp:lastModifiedBy>Olga</cp:lastModifiedBy>
  <dcterms:modified xsi:type="dcterms:W3CDTF">2008-03-07T13:00:32Z</dcterms:modified>
  <cp:revision>38</cp:revision>
  <dc:subject/>
  <dc:title>COMPARABILITY AND EXCHANGE OF INTERNATIONAL MIGRATION STATISTICS   IN CIS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