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EBA6395-AABB-4010-8E7A-EEAC40F5754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ecting information on emigration at the cens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239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lga Chudinovskikh (Lomonosov Uni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dolf Anich (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nrico Bisogno (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ldova (2004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esident registered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‘temporarily’ abroad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ardless of the duration and reason of abs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usehold members of the absen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ldov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questions in the census questionnaire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 asked in the individual questionn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2:00 a.m. of census day the person w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ily absent, and left on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locality of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oad (please indicate the country: ________________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 d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year (please indicate the year when left: _____________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362320"/>
            <a:ext cx="47242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and (2002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esident registered in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‘temporarily’ staying abroa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months (regardless of the period of st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Family members of the absen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rsons living with the absentee before his/her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eighb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and: questions in the census questionnaire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s asked in the individual questionnair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you live here permanently and were you present or absent on census reference day or do you stay here temporarily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absent stay in other place in Po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absent stay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y temporarily – arrived from other place in Po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y temporarily – arrived from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al duration of your absence or stay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2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ween 2 and 6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ween 6 and 12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months and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ason of your absence or stay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4114800" cy="30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wo main typologie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orgia and Tunisia: 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eparat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Moldova and Poland: </a:t>
            </a:r>
            <a:r>
              <a:rPr b="1" i="1" lang="fr-CH" sz="3200" spc="-1" strike="noStrike" u="sng">
                <a:solidFill>
                  <a:srgbClr val="000000"/>
                </a:solidFill>
                <a:uFillTx/>
                <a:latin typeface="Arial"/>
              </a:rPr>
              <a:t>questions in the main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fferent impact on population coun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orgia and Tunisia: emigrants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exclude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rom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Moldova and Poland: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migrants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include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in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curacy of emigration c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to assess if these modules were successful to count emigra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 obtained from the census compared with data collected in  receiving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in destination 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924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itizens of Poland living in other countries (2004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16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Poland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migrants by year of 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144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2400" y="1852560"/>
            <a:ext cx="7486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in questions on emigra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m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ionals/previous residents are living ab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 of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been emigrants absent from the country of orig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s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ving ab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-demograph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of the emigra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emigrants inten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turn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emigrants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conomic 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original househ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: age profile of emigr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76520" y="2133720"/>
          <a:ext cx="563868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638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: looking a bit deeper…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813040"/>
            <a:ext cx="3886200" cy="222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886200" cy="229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Lessons lear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 worked well for emigrant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left the country in the years just before the census (up to 5 y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ore likely to keep close ties with the country (Polish data were better for Italy and Germany than for emigrants in the US or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embers of the family nucleus that is left behind (e.g. Tunisian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till included in an administrative register (Po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o conclude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fundamental to keep separate the count of population from the count of emigrants (persons residing abroad for 1 year or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us cannot provide a good estimate of the total number of emigrants living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mportant to identify what group of emigrants we can reasonably count in a census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xample, those having left the country in the last  years and having close family 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o conclude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migration module can provide important information, not on the total count, but on other aspects (geographical distribution of emigrants, information on households left behind, reason of migration, socio-economic character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ccurate test of questions/module is necessary (use experience of other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hoice of respondents is fundamental (undercounting vs. overcou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data from receiving countries is a good source for total 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sing the census for estimating emigration: some countries tried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447920"/>
          <a:ext cx="7239240" cy="463860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eorgia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Tunisia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anama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al modu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household members who left the country during a period before the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Nepal 1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El Salvador 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uatemala 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Dominican Republic 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Venezuela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al modu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household members living abroad regardless of when they left the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3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Moldova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oland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Singapor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fic ques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census form, as any other household member (emigrants identified in data process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cus of this exercise: 4 countrie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752480"/>
          <a:ext cx="7924680" cy="4343400"/>
        </p:xfrm>
        <a:graphic>
          <a:graphicData uri="http://schemas.openxmlformats.org/drawingml/2006/table">
            <a:tbl>
              <a:tblPr/>
              <a:tblGrid>
                <a:gridCol w="2630520"/>
                <a:gridCol w="1352520"/>
                <a:gridCol w="1350720"/>
                <a:gridCol w="1239840"/>
                <a:gridCol w="1351080"/>
              </a:tblGrid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ni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ld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of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.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il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.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7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91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8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gr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emigrants/resid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743200" y="4495680"/>
            <a:ext cx="5791320" cy="609840"/>
          </a:xfrm>
          <a:prstGeom prst="ellipse">
            <a:avLst/>
          </a:prstGeom>
          <a:solidFill>
            <a:srgbClr val="ff0000">
              <a:alpha val="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utlin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of analysi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on of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 of emigrants vs.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 of emigr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eorgia (200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household members who left the country after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t from Georgia for 12 months or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adult member of th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s, neighbours, administrative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eorgi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census module for emigrant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as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-social characteristics: Relationship to reference person, sex, date of birth, place of birth, education, n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emigration and currently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of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suppor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grant and emigra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 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unisia (200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s who at the time of the cens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road for 6 months or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 of the family nucleus 5 years before the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mbers of the family nucleus (spouse and unmarried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unisi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census module for emigrant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estions ask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graphic-social characteristics: sex, date and country of birth, country of citize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 to reference 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 of e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son t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ountry of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Jessica Gardner</dc:creator>
  <dc:description/>
  <dc:language>en-US</dc:language>
  <cp:lastModifiedBy>Anich</cp:lastModifiedBy>
  <dcterms:modified xsi:type="dcterms:W3CDTF">2008-03-04T09:46:49Z</dcterms:modified>
  <cp:revision>288</cp:revision>
  <dc:subject/>
  <dc:title>PowerPoint Presentation</dc:title>
</cp:coreProperties>
</file>