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81A7-9268-4A21-AF97-E791A9A19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F6AC-1A12-497A-AE82-D1B005EB5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E18A-5A5B-4D5C-A686-499749549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FA83-CF4F-4431-9BD0-074286B6B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5C08-9CA8-4E89-88C2-9A3CEEAD85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FE1F-6EEA-4EAB-AEE2-7DD544F607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AD3F-E200-45C3-852E-97F78956C7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91F8-BD37-4698-B22D-61680ED803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5425-4878-4C19-B20A-1D368CA27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6C8F4-9B68-4599-B48B-4443B6D1A1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9B9A-3EB8-4112-9D70-25FCBAAE93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EC45-6EA2-4DF5-87A6-DAB659285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7BD2-3A59-4AEE-8266-75DF47EDE9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7089-8FF1-4BAF-9091-837FBFB7C3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B649-49FC-43FC-9CD5-56B02BCA68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63E6-DDC2-4C80-99F1-01A80B704E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6AFF-EB9F-49F8-B8A5-EC6FF6E0B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C151-134D-420D-BD56-36E412618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06C6-5056-42BE-9C12-8E9B55F2F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BF67-5318-4709-A860-AE3AD5A0C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C79B-4760-46E8-BAFD-857A4AC57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25D5-B485-4A51-AEC8-D95CE8021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FBEC-276F-4939-8A5E-C04C69967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601F-BB39-45D2-850C-C0A691E9A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A547-04EF-4BFA-9356-69B9651B4E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F18-D6BB-4F82-8353-B3A968CA6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nference of European Statisticians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ork Plan to Improve International Migration Statistic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Victoria A. Velkoff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257800"/>
            <a:ext cx="84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UNECE/Eurostat Work Session on Migration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March 3-5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utput 3 Status: Completed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omplished!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of the 4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s for exchange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s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s will be disseminated on the UNECE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26BD-7F88-45CE-95A8-265FD24401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4: Define Residency Rules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Residency rules for migrants (non-visitors) who are in a country less than 3 month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Residency rules for migrants who have been in a country more than 3 months and less than 12 months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efinition of temporary workers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/Financial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graphic frame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A210-0668-49D8-B08E-431F403052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4: Statu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After assessing this task it seems that it overlaps with output 1 and output 2 so it is likely to be merged into those output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F947-2E7A-4E80-9AEE-202B2C86330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5: Recommend the definition and classification of remittanc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efine and classify remittance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Issue paper on harmonization of concepts between BOP and survey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Expert Group Meeting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force on measuring migration and remittances in household surv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B8E1-8D56-4BCB-94A7-618020AA51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6: Recommendations for improving international migration statistic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flecting the findings from Outputs 1-5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teering Committee to propose recommendations to improve collection and use of international migration statistic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8CE3-0840-4117-9516-6F6C5C54ABB4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ES Work Plan is a cooperative effort of National Statistical Offices (NSOs) and International Organizations (IOs) to evaluate the consistency of international migration statistics and to propose  recommendations for improving international migration statistics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3 general problems recognized: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on em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plet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on undocumented 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nsistent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on temporary 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7E97-C01B-41B6-B98F-E0D279290F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Ultimate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Goal of CES Work Plan 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mprove the collection and use international migration statistic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FDA0-D22D-46E1-A6AF-62404A48F3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6 Outputs of Work Pla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Metadata inventory of definition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Pilot projects to assess duration threshold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Pilot projects to measure emigration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efine residency rules for temporary migrant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Harmonize concepts and definitions of remittances between BOP and survey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Propose recommendations to improve collection and use of international migration statistic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05AC-B5B7-4297-A6CF-76CC4712C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1: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e a metadata inventory, including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 crosswalk of various </a:t>
            </a:r>
            <a:r>
              <a:rPr b="0" i="1" lang="en-US" sz="3200" spc="-1" strike="noStrike">
                <a:solidFill>
                  <a:srgbClr val="99ccff"/>
                </a:solidFill>
                <a:latin typeface="Arial"/>
              </a:rPr>
              <a:t>(operational)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definitions for immigrant stocks and flow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efinitions of migrants whose were not included in the 1998</a:t>
            </a:r>
            <a:r>
              <a:rPr b="0" i="1" lang="en-US" sz="3200" spc="-1" strike="noStrike">
                <a:solidFill>
                  <a:srgbClr val="99ccff"/>
                </a:solidFill>
                <a:latin typeface="Arial"/>
              </a:rPr>
              <a:t> Recommendation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 compilation of current/emerging practices used in NSOs to measure temporary and illegal migrants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FED2-DB4A-45EC-9B6C-3D5D6162AD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utput 1 Status: In Progres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Heard about some of the work on measuring temporary and undocumented migration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UNECE will send a questionnaire out to member countries shortly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Compilation of definitions used by different countries and best practices to be disseminated  via UNECE websit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D89D-6151-406B-BF38-45AB8B2B9E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2: Design and administer pilot projects to assess implications of different duration thresholds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ssess the consequences of using different durations (3 months, 6 months, one year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mpact on flow estimates, composition, and net migra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se a small, but representative, group of countri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08F4-1AA6-4F3D-81ED-3D36A6E62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2 Status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Piloted completed by Australia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Next steps to expand to other countries and develop protocol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UK will take the lead on the next step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83EB-AA28-4035-8FFB-A7F1E789C1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Output 3: Design and administer pilot projects to measure emigration using data collected by the receiving country: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Arial"/>
              </a:rPr>
              <a:t>Deficiencies in measuring out migra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Arial"/>
              </a:rPr>
              <a:t>Key questio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host country adequately measure change in immigr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change consistent with other data sour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method of analysis portable for use by other countr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ECE Pilot Project on Estimating Emigration (findings reported Monday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A6E1-7E75-42A9-BF9E-26E78BD0CCC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20:07:01Z</dcterms:created>
  <dc:creator>ADNET</dc:creator>
  <dc:description/>
  <dc:language>en-US</dc:language>
  <cp:lastModifiedBy>Bureau Of The Census</cp:lastModifiedBy>
  <dcterms:modified xsi:type="dcterms:W3CDTF">2008-03-05T13:24:10Z</dcterms:modified>
  <cp:revision>164</cp:revision>
  <dc:subject/>
  <dc:title>LEHD Program Manager Position</dc:title>
</cp:coreProperties>
</file>