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A50CC-6DA2-4E25-9537-6FF441597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8BE9D-337A-44EE-9248-8299D4B1A5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51E75-2F2B-4F4D-A1E4-770DFA08A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560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3768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560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3768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CDDC9-5211-4489-8333-0B7FB9E453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8886C-54D1-4A42-92E2-A4C5AB82D0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9E652-8DFB-43FC-9FA1-02A79CB4F4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C4C6B-32A9-4B25-B180-4B34090E1B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DD3FC-A29E-4179-93BE-713AEFF3D6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E19C4-CE76-4AD2-ABAA-7E919FE680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FF13B-78A4-4F09-9A07-FFD972BDFE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76D95-C984-4A8E-8661-5F6E75A45A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3B82A-B570-4862-ACA9-1C302670E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B54BF-3891-417C-A79C-D90B3FF895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560AE-97C2-4B49-96F0-8BA89E377A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FE6A9-BCAC-4724-812A-A4EA504B53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C2522-910F-47C2-BF7C-6E762E6B72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560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3768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52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560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3768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55465-CF2F-4E29-8610-C76EEE0DE4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72629-4A10-42CB-8480-B4F743BD8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92241-E378-4DD6-B65B-71FE5907D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43F9D-6322-4226-949C-92F13AA3E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D8460-36C0-4209-9850-0312F21674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BEFF-FE23-45C9-88C3-FB1ADF48D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56697-3EF2-403A-8CC2-55653D3A7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1AD8-15E8-4C81-B248-BB20F476F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2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3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4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67F4-EE81-471E-82E4-A03F65743D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457200" y="6326280"/>
            <a:ext cx="3276720" cy="2268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809880" y="6402240"/>
            <a:ext cx="5334120" cy="74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5400000">
            <a:off x="5142960" y="3390840"/>
            <a:ext cx="685800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1DCC-6F19-496A-9440-902D0BFE0D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6326280"/>
            <a:ext cx="3276720" cy="226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9880" y="6402240"/>
            <a:ext cx="5334120" cy="74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5142960" y="3390840"/>
            <a:ext cx="685800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onference of European Statisticians: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ork Plan to Improve International Migration Statistic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Victoria A. Velkoff 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5257800"/>
            <a:ext cx="847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UNECE/Eurostat Work Session on Migration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March 3-5,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Output 3 Status: Completed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complished!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Output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of the 4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cols for exchange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idelines p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idelines will be disseminated on the UNECE web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FDE1-B8BF-4D24-82B1-D3041DEA8D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Output 4: Define Residency Rules: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Residency rules for migrants (non-visitors) who are in a country less than 3 month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Residency rules for migrants who have been in a country more than 3 months and less than 12 months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Definition of temporary workers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onomic/Financial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graphic framework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8A1F5-87FC-42B8-81C1-C735AA17BFB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Output 4: Statu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After assessing this task it seems that it overlaps with output 1 and output 2 so it is likely to be merged into those output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7712-A948-4EE8-A17E-FB8226989D9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Output 5: Recommend the definition and classification of remittance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Define and classify remittance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mplish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Issue paper on harmonization of concepts between BOP and survey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mpli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Expert Group Meeting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mpli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k force on measuring migration and remittances in household surve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3DAF5-614B-4777-94D2-3DD73B3556E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Output 6: Recommendations for improving international migration statistic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Reflecting the findings from Outputs 1-5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teering Committee to propose recommendations to improve collection and use of international migration statistics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A77A-2439-420C-981B-FA6426F28D43}" type="slidenum">
              <a:t>14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CES Work Plan is a cooperative effort of National Statistical Offices (NSOs) and International Organizations (IOs) to evaluate the consistency of international migration statistics and to propose  recommendations for improving international migration statistics.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3 general problems recognized: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sing da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on emi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mplete da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on undocumented migr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nsistent da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on temporary migr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40BA9-C76D-46BF-BC5E-19C27B8EBBE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Ultimate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 Goal of CES Work Plan 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Improve the collection and use international migration statistic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AB049-0E03-4BB2-B2B8-A7FB206FEE5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6 Outputs of Work Plan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Metadata inventory of definition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Pilot projects to assess duration threshold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Pilot projects to measure emigration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Define residency rules for temporary migrant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Harmonize concepts and definitions of remittances between BOP and survey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Propose recommendations to improve collection and use of international migration statistic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759E4-4CC4-4279-905B-7E94080D2F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Output 1: 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Produce a metadata inventory, including: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96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A crosswalk of various </a:t>
            </a:r>
            <a:r>
              <a:rPr b="0" i="1" lang="en-US" sz="3200" spc="-1" strike="noStrike">
                <a:solidFill>
                  <a:srgbClr val="99ccff"/>
                </a:solidFill>
                <a:latin typeface="Arial"/>
              </a:rPr>
              <a:t>(operational)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 definitions for immigrant stocks and flows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Definitions of migrants whose were not included in the 1998</a:t>
            </a:r>
            <a:r>
              <a:rPr b="0" i="1" lang="en-US" sz="3200" spc="-1" strike="noStrike">
                <a:solidFill>
                  <a:srgbClr val="99ccff"/>
                </a:solidFill>
                <a:latin typeface="Arial"/>
              </a:rPr>
              <a:t> Recommendations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A compilation of current/emerging practices used in NSOs to measure temporary and illegal migrants</a:t>
            </a: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AA8DC-1CAD-47CA-9D91-8557C4F0C64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Output 1 Status: In Progres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Heard about some of the work on measuring temporary and undocumented migration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UNECE will send a questionnaire out to member countries shortly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Compilation of definitions used by different countries and best practices to be disseminated  via UNECE website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9165B-0BB1-4758-ABA9-95890A7201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Output 2: Design and administer pilot projects to assess implications of different duration thresholds: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Assess the consequences of using different durations (3 months, 6 months, one year)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Impact on flow estimates, composition, and net migration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Use a small, but representative, group of countrie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F1F38-0DB9-433F-BB9B-68067003E0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Output 2 Status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Piloted completed by Australia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Next steps to expand to other countries and develop protocol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UK will take the lead on the next step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73FD2-0609-45E2-BE33-278EBC63C3F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Output 3: Design and administer pilot projects to measure emigration using data collected by the receiving country: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Arial"/>
              </a:rPr>
              <a:t>Deficiencies in measuring out migration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Arial"/>
              </a:rPr>
              <a:t>Key questions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n host country adequately measure change in immigr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change consistent with other data sourc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method of analysis portable for use by other countr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UNECE Pilot Project on Estimating Emigration (findings reported Monday)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CB99-4BEC-45B5-9CE2-3918C3FFE9D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20:07:01Z</dcterms:created>
  <dc:creator>ADNET</dc:creator>
  <dc:description/>
  <dc:language>en-US</dc:language>
  <cp:lastModifiedBy>Bureau Of The Census</cp:lastModifiedBy>
  <dcterms:modified xsi:type="dcterms:W3CDTF">2008-03-05T13:24:10Z</dcterms:modified>
  <cp:revision>164</cp:revision>
  <dc:subject/>
  <dc:title>LEHD Program Manager Position</dc:title>
</cp:coreProperties>
</file>