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8738-BA05-45A8-99F5-167FA7102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57F8-D34C-4788-A38E-ADC2F157D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A0BD-E251-49BA-B0F2-E070538AB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6D5C-CDC4-494D-AA7F-36D288CE7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4B62-8BFB-4524-859B-E6E036C1DF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B225-9A2E-4C2C-839D-E5C9BF2C8C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859F-B724-490B-A44F-3F47F81FF5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2C75-6EE1-41B0-9023-A134A801F2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9884E-EA2E-48B2-A2AB-2F0FE1F9E3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5138-A6AB-4352-B008-96A217A0F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E3A4-F6C3-4027-BD03-2206D6F079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E958-9977-4A2A-95FA-39635B64E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7012-4D64-4392-B530-7775D8B340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6A5E-4BE1-4C9A-9A42-E2F7F3BA5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DF74-7B6B-40BE-A5D7-5700F7849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C2DD-3628-47FA-A818-C0FA26DFD5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438E-A88E-4E45-9C62-33673C31D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FA8C-B89B-42B9-ABE3-A874502B2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1616-BE6F-4368-9A10-0F895B41D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3E10-1B56-4287-9100-9800FBC6C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1512-7BC3-486F-9C2C-60580B813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C369-67A1-4786-822C-D44086B86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0FE1-1849-44A3-8308-7563BB43D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AD75-0D54-492D-9AEB-C29D5C079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B21-854F-4616-B620-9B93D976C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6267600"/>
            <a:ext cx="3276720" cy="28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EB38-72AF-48E2-B4DC-ED5A3682B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129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Force on Measuring Migration and Remit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1916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ctoria A. Velk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.S. Census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257800"/>
            <a:ext cx="74120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CE Work Session on Migrati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3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 of Task Fo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 the methodological work on household surveys to measure migration and remit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international recommendations on how to best design and implement household surveys to measure migration and remit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survey module or modules on migration and remittances to be included, where relevant, in existing international and national survey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EBEA-D044-4B39-A8CA-3A74CC5D8D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ties of Task Fo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lidate existing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list of best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research agenda to address methodological issues where no clear guidance ex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survey module(s) on migration and remit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standards for data tabulation, publication, and disse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1C7B-1662-458F-8F20-6EC2342640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how we go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group meeting on measuring remittances and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task force under the CES work plan on improving international migrati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081F-E0E4-4093-96AF-EEAB548DA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plan under the Conference of European Statis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5: Harmonize concepts and definitions of remittances between balance of payments and househol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45DD-A128-404B-A7CC-F0C5B9B31F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xembourg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group to work on the definitions of remittances for balance of payments (BOP)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and standardiz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ublish the recommended definitions of remittances from a BOP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EF3C-53A2-4ECF-BD48-B974C26D26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inburgh, November 20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remittances at last work session in Edinbur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d there were several questions that needed clarification and increased coordination among NSOs and international organ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zerland agreed to prepare an issues paper to highlight these importan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C525-C5C7-4D2E-8760-4BEA00C1C0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rt Group Meeting on Measuring Remittances in Household Survey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in January 2008 in Suitland, MD (headquarters of U.S. Census Bure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d by UNECE, World Bank, and U.S. Census Bu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from NSOs, universities, 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FB54-E10C-4A9A-B4AD-175F113C5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remittance data are needed by users from both a social statistics point of view and balance of paymen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household surveys to measure remittances in sending countries (e.g., Switzerland, U.S.A.) and receiving countries (e.g., Ghana, Hon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ly coordinated efforts to measure remittances in household surveys (I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issues (e.g., sampling, questionnaire design, weighting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7E98-8500-4B5E-B080-1A7E92CCB2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endation for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issues related to the measurement of remittances in household surveys were identified during the expert group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task force focusing on measuring remittances and migration in househol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33F0-FE51-41B4-B0BF-D9BEDF268B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itland Task Force on Measuring Migration and Remit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operate under the umbrella of the CES Work Plan to Improve International Migrati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 has agreed to chair task force and host fir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E336-FDCB-42E0-B886-FB1E86127E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08:04Z</dcterms:created>
  <dc:creator>ADNET</dc:creator>
  <dc:description/>
  <dc:language>en-US</dc:language>
  <cp:lastModifiedBy>Bureau Of The Census</cp:lastModifiedBy>
  <dcterms:modified xsi:type="dcterms:W3CDTF">2008-03-05T06:51:55Z</dcterms:modified>
  <cp:revision>517</cp:revision>
  <dc:subject/>
  <dc:title>PowerPoint Presentation</dc:title>
</cp:coreProperties>
</file>