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CA59-0FF6-42AC-9061-A1FC51DD3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31EA-D9B2-462C-A6B3-EB65D6755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94C8-ED03-43DA-B632-7FF410F09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E84E-B252-41F8-8421-F97A1537A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78E9-392E-43E7-A441-49143F427D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ADE5-7764-46E0-AEFF-070EFE3791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B5AA-ED9B-4160-B6A5-4490772083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821D-566A-49B1-A694-348BC8D35C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5552-E3CD-4F07-8C9B-5D45807151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1F3A-8036-4D7B-B03C-576BED97A7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9A85-7DA3-4474-A68A-135B34EAC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4EB2-1055-4AE1-86F7-5EB3E6232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0BBB4-3FC1-4316-98BD-2422370E8D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E4FA-7FD6-432D-B466-B877C12737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11F2E-C020-4DFE-9078-A360AD8425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E452-8BB1-4C6D-88FB-0BBBC6F0EA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73F2-6763-47DC-835A-C878652955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5AA7-52F2-41D8-B118-E1610BDC5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2E04-CA10-4BA5-A930-4E313AA3D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A531-D306-4A11-A842-F66E84EC9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9ED0-9038-480A-9ADF-F3EC3A23D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F975-E1C6-4C57-A490-6E6D0D963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BDD8-9312-4418-8D0D-4C3F612A4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AA1A-405F-43FF-A12F-2BE67AA59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57200" y="6267600"/>
            <a:ext cx="3276720" cy="285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B720-3010-4A20-8861-670C8D8E2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6267600"/>
            <a:ext cx="3276720" cy="285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39FE-E8CD-4305-868A-E969353A9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1960" y="12949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sk Force on Measuring Migration and Remitt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1916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ctoria A. Velk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Census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257800"/>
            <a:ext cx="74120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CE Work Session on Migration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h 3-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s of Task For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 the methodological work on household surveys to measure migration and remit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international recommendations on how to best design and implement household surveys to measure migration and remit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survey module or modules on migration and remittances to be included, where relevant, in existing international and national survey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D1A8-88E7-4784-A9C2-795391841F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ties of Task For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lidate existing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list of best prac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research agenda to address methodological issues where no clear guidance ex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survey module(s) on migration and remit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standards for data tabulation, publication, and disse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89EF-6637-4F3D-80C9-564971DD2E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– how we go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group meeting on measuring remittances and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task force under the CES work plan on improving international migrati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5021-2FC1-4CC1-9B80-71CBB17F2A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plan under the Conference of European Statis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5: Harmonize concepts and definitions of remittances between balance of payments and househol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5476-540F-447B-B6D2-2D8593273F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xembourg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y group to work on the definitions of remittances for balance of payments (BOP)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and standardize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ublish the recommended definitions of remittances from a BOP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539E-BD1C-4F5C-8CDB-829E23BAEC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inburgh, November 200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7696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remittances at last work session in Edinbur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d there were several questions that needed clarification and increased coordination among NSOs and international organiz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zerland agreed to prepare an issues paper to highlight these importan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060E-BDFC-4777-B6C5-B4B9FDDFF8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ert Group Meeting on Measuring Remittances in Household Survey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 in January 2008 in Suitland, MD (headquarters of U.S. Census Burea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ed by UNECE, World Bank, and U.S. Census Bur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from NSOs, universities, inter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50C0-2596-463D-AFEB-976EEE317A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remittance data are needed by users from both a social statistics point of view and balance of paymen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household surveys to measure remittances in sending countries (e.g., Switzerland, U.S.A.) and receiving countries (e.g., Ghana, Hon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ly coordinated efforts to measure remittances in household surveys (I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issues (e.g., sampling, questionnaire design, weighting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3343-7C04-46A7-9FB7-0254D69C2F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mmendation for Futur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issues related to the measurement of remittances in household surveys were identified during the expert group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task force focusing on measuring remittances and migration in household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8D77-4291-4717-8270-70A96993A6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itland Task Force on Measuring Migration and Remitt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operate under the umbrella of the CES Work Plan to Improve International Migrati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 has agreed to chair task force and host firs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4E0E-38D0-4E99-9D0C-5CD0A541D4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08:04Z</dcterms:created>
  <dc:creator>ADNET</dc:creator>
  <dc:description/>
  <dc:language>en-US</dc:language>
  <cp:lastModifiedBy>Bureau Of The Census</cp:lastModifiedBy>
  <dcterms:modified xsi:type="dcterms:W3CDTF">2008-03-05T06:51:55Z</dcterms:modified>
  <cp:revision>517</cp:revision>
  <dc:subject/>
  <dc:title>PowerPoint Presentation</dc:title>
</cp:coreProperties>
</file>