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5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4.wmf" ContentType="image/x-wmf"/>
  <Override PartName="/ppt/media/image39.wmf" ContentType="image/x-wmf"/>
  <Override PartName="/ppt/media/image36.wmf" ContentType="image/x-wmf"/>
  <Override PartName="/ppt/media/image37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8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1.wmf" ContentType="image/x-wmf"/>
  <Override PartName="/ppt/media/image7.jpeg" ContentType="image/jpeg"/>
  <Override PartName="/ppt/media/image28.png" ContentType="image/pn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8720" cy="530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21960" y="758520"/>
            <a:ext cx="494820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morning to every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nks to UNECE and Eurostat for invite us to made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nks to Enrico for your interest in our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e brown colour shows municipalities over 15 per cent of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 the back country and rural areas are involved in the growth of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could see many changes in the importance of different countries of orig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 european countries like United Kingdom and German play an import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is changes are inside an fast growing flux of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Other register allows to observe a fast increase of new spanish nat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riage is clearly the engine of mixing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w rate of intra-group marriages is a clear sign of big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in could not host new five million people without a powerful so call “pull fa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abour Force Survey (an independent source of Population Regis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ain the trend of net increasing jobs among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1996 to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not the unique explanation, but probably the most importan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e foreigners are less of half increase of new jobs (mostly for wom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ing to a comparative from internationa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the classical SOPEMI last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t shows how the old emigration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came new immigration cou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have designed a classical four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ground and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of information available and the role played by the National Immigrants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 situation and expect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are the well known figures from Eurosta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erm of absolute figures or net migra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aring larg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panish figures are impressive from last seve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 comparing with the traditional immigration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ording the unique United Nations sources of flux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nclusion is clear: the needs and demands to Statistical Office are hug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remark: we think the key efforts of statistical office mus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oving the quality of Padron Population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administrative sources for adding aspects: Resident Permists, Social Security Register and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oving the use of detailed and udated migration statistics for increasing the quality of Population Estimates and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ond rema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vertheless we have think was tiem to extending our knowledge on immigrants beyon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have good sources for absolute figures and age-sex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We have less information about social, education and economic characteristics of 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this background the aim should be cl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ing a general landsc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kind of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ing value to our powerful demographic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overcame the “monoculture” of citizenship or country of birth as explanatory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ing social and econom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ing a biographic and longitudinal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nding the subject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individual to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person to networks: family, friends, rel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It’s also a collaborative projec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Ministry of Employment and an academic team of Madrid Univer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’s a long work, older than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two pilot test of 500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ar to finished next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definitions of remaining resident immigrants have pros and cons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ebates were lo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we adopt the foreign born as a key definition of target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think is a pertinent decision considering our historical process and the needs of ou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day all things are presented as never seen with superlative ad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try to begin with a comparaison of spanish international migration in a long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a century and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the SOPEMI dat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cademic reconstruction of spanish and america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could see the incredible present mouvement to Sp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a mayor change in demographic social point o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ording net migration r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not easy have a comparative perspective of international migration in any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international emigration is generaly underes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getting the american colonial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works from historians and SOP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could conduct the Survey due the updated quality of Padrón Population Regi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irst surprise we collected was we had not special probles accesing immigrants popul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No greater than the spanish born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e to the brother needs of information an incredible large questionnaires was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ne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faster to say the subjects not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usehold an demograph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story of mig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ditions at origin country, first arrival to Spain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’s clear the big problems were the data processing, editing and checks that long questionn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ust a glance about the number of variables involved in each file / per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y be four times more complex than the Labour Force Surv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ll known figures of migrants remaining stoch in Spain (from our population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dible and fast and increase of foreign and foreign born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less than one to near five mill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sons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nce 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ed Kingdom: near 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rmany over 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mania near 1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occo: near 1900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uador 1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ombia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gentina 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’s imposible explaining in detail the expecte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the needs of many users in different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ly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bout education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Country of couples and mixed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source: Padrón Population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tional inmigrants and emigrants recorded y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all countries foreigners are highly concent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ar the capital, Mediterranean coast and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in our case the statistical source allows us an following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offers to users and administration a clear movie of that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e of foreigners on resident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ACC3-B194-4651-813B-EFE91FC3E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A97A-3F0A-44C7-A727-C239D2833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93FA-B16D-4312-BEE1-93E08977D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575F-83C6-4895-AA05-266315AB7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CBDC-19DC-40EF-9C21-9DFDAEF63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18CE-A915-4633-9E26-3338DA5FF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01A5-5C5D-4821-A246-D898A7066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51EA-0E0D-43A6-A0CF-F40ECBE73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FF1A-30C8-454D-AF39-9BD847166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8260-B22A-4307-AB0D-83F117593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00BF-CE19-462E-9FB3-2EC323E78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3CF3-7E43-46A8-A361-2961E1684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CFA0-758C-4F08-9148-A3F57E78EB60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07000" y="0"/>
            <a:ext cx="3537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90240" cy="21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990720"/>
            <a:ext cx="7391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Arial"/>
              </a:rPr>
              <a:t>The 2007 National Immigrant Surve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(Spain): extending knowledge on immigrants beyond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National Statistical Institute (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D.G of Statistical Processes and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gnacio Duque / Orlando Mont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Joint UNECE/Eurostat Work Session on Migration Statistics, 3-5 March 2008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3B5A-58F4-4D59-8B10-06D7D0A26A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ño%2001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6A1E-1BEA-4B2A-B9F4-9BFA6E40E6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ño%200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4C22-0EF6-491B-BEA4-61D6BE9FA9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ño%200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2164-D225-48A6-9611-176C09F686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ño%200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8FE8-EFD8-4573-9398-7D8B47D88A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ño%2005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CDF0-7EE1-4CAA-9ABC-B047C8567C4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288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685800"/>
          <a:ext cx="9144000" cy="59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DCCB-C53C-44E5-BCAB-FB4FEF1ABD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1932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762120"/>
          <a:ext cx="7543800" cy="54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754380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A208-C16F-4D39-A81A-0449936522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7632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91440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E2ED-C0F5-4841-ABD7-3726D64B0E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7632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990720"/>
          <a:ext cx="8229600" cy="54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22960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DA02-3B21-4C2E-BB5F-5421EAABD6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457200"/>
          <a:ext cx="800100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00100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9F59-4060-4054-B762-60F2EC1958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219320"/>
            <a:ext cx="754380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ternational Migration in Spain in recent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formation on international migration and international migrants in the Spanish Statistics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he 2007 National Immigrant Survey: aims, strategy and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urrent work and expected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673C-7EEE-4880-B38E-774508F9CE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812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458640"/>
          <a:ext cx="8991720" cy="639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8640"/>
                    <a:ext cx="899172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8D15-81C9-4E12-8E6A-79753F6D1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838080"/>
          <a:ext cx="9144000" cy="529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EDB1-4E95-4DBE-9E9C-37C04C378E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4920" y="762120"/>
          <a:ext cx="850104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0104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D26A-928C-4D71-A58B-B575C0937E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47920" y="838080"/>
          <a:ext cx="640080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64008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2. International Migration an Spanish Statistical System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4BD9-07A8-44C8-AD34-E56448A860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14400" y="762120"/>
          <a:ext cx="7620120" cy="54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62012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621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2. International Migration an Spanish Statistical System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A0C3-E96F-4F43-9BF8-E84D17EBA0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1219320"/>
            <a:ext cx="73152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Outlining th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general landscap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of recent immigration in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Encompassing the entire national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Includ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all soci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dding relevant informati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to improve our effective system for registering immig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2815-8E93-462E-B3C1-ECB468D80E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371600"/>
            <a:ext cx="73152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trategy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om simple to complex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Beyond “monoculture of citizenship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as key variable of expla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Linking demographic, social and economic character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From current variables to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biographic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and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longitudinal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88ED-4743-4CB5-8166-BF7C22B8F0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066680"/>
            <a:ext cx="79246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trategy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om individual to gro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Basic information of household res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Couples, families and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om pers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o network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amily ties: brothers and sisters, parents, sons and daughters, husbands and w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iends and rel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8447-BB87-4980-9014-8195C7862A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219320"/>
            <a:ext cx="761976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Brief proj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reliminary ideas and first contacts (December 2003-July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orking group first steps and draft project (January-July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pilot test (October-December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econd pilot test (April-May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eldwork (October 2006-March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diting and consistency procedures (May 2007-February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ublishing final results: data, methodology, selected tables and basic report (April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5334120"/>
            <a:ext cx="7549560" cy="769680"/>
            <a:chOff x="762120" y="5334120"/>
            <a:chExt cx="7549560" cy="7696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62120" y="5429160"/>
              <a:ext cx="149508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3281400" y="5445000"/>
              <a:ext cx="141228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718240" y="5334120"/>
              <a:ext cx="739080" cy="76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7481880" y="5547960"/>
              <a:ext cx="8298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48AD-BA64-45F8-AC7A-A0A01662CC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990720"/>
            <a:ext cx="80010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arget population: </a:t>
            </a:r>
            <a:r>
              <a:rPr b="1" i="1" lang="en-GB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foreign born immigrants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Older than 1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Long term 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Usual resident in Spain during the previous year, or resident less than a year but with intention to stay a full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Resident in family dwelling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(not collective households or institu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Except foreign born people with spanish nationality from birth and moving to Spain before two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A84B-BF2F-4BED-81A9-AF2EAF61F4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762120"/>
          <a:ext cx="7924680" cy="55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92468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3808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6C74-70A5-42CD-823B-7FB818769E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523880"/>
            <a:ext cx="7315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amework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non collective dwellings from Population Register (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Padró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) with one or more foreign born resident (2.229.000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hree step selection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enumeration districts (1.770), dwellings an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Effective sample: 15.5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3455-3E32-42EA-A5F2-7111DC5787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371600"/>
            <a:ext cx="731520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Computer assisted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Tablet-PC with electronic questionnaire and contr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Additional paper questionnai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elp call centre in English, French and Arabi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ame problems or refused answers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s other INE demographic surv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64F3-E4AA-4698-8687-E5FEE1FEEC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990720"/>
            <a:ext cx="7924680" cy="46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Questionnaire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0) </a:t>
            </a: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ousehol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demographic and kinship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elected interviewed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ocial and demograph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tional migratory experience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since child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ditions at origin countr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pon departure for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ituation at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arrival to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Job and unemployment  histor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ousing conditions and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l migration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resent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inks to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inks to spanish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5204-6F2C-4807-86DF-51D53BEC20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99072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ERSON INTERVIE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asic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lace and date of birth, language ability,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arital status, live and dead offspring, sib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usband or wife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ge, place of birth, nationality, place of residence, date of 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ather and mother (if living)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sam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Offspring co-residing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ith person survey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ducation, current and completed studies,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Offspring and siblings NOT co-residing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ith person survey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ex, age, country of birth, place of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84680" y="5859360"/>
            <a:ext cx="310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143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DBBF-3221-4C28-945C-7974010EF0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990720"/>
            <a:ext cx="79246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TIONAL MIGRATORY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untries lived in since childhood (periods &gt; 3 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untry, duration, motives, accompani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Kin who are living abroa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Kinship,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DITIONS UPON DEPA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ousing, co-residents, family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conomic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RRIVAL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ans of 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tacts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st and financing of the t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257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9D66-4F3D-412A-8FA5-C995774025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822240"/>
            <a:ext cx="792504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ORKING EXPERIENCE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Job situation previous week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job, moonlighting, type of contract, hours, w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job in Spai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how is obtained? And similar questions to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Job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jobs since arrival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Unemployment experience: frequency and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RESIDENTIAL HISTORY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changes in residence since arrival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residence in Spain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unicipality and province, type, contract, cost, number of ro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co residents, time spent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-municipal mobilit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where lived at least one month: year and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53FF-B62C-442D-89F0-101FF08BDD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INKS WITH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ho influence you to come to Spain?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tacts with kin or friend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n country of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visits to country of origi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since arrival to Spain: year, month, duration, motives of the most re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Remittance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frequency, amount, means and recip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roperty owned in country of birth and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groups and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municip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lans for the next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5181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8A75-F54C-4245-B443-E1CD2B2A77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1447920"/>
            <a:ext cx="731520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Good information quality collected, but huge problems in applying INE standard methodology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DIA software based on Fellegui-Holt edit and i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Many implicit levels of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Incredibly long and complex questionn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ar larger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han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ny previous INE surv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4DFE-E5B5-44ED-AA3D-1AF3AB5C6E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14480" y="1828800"/>
          <a:ext cx="8915400" cy="43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828800"/>
                    <a:ext cx="8915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FC98-3325-42A0-A78A-41B3817784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37160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Data dissemination (April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Micro-data anonymou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elected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Methodology documents and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Basic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8ABC-F3D8-490B-A123-74D8EB6B33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3000" y="609480"/>
          <a:ext cx="89010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609480"/>
                    <a:ext cx="8901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942C-A2C6-4B94-B3CB-A43D874DF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8001000" cy="3803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219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Persons surveyed by 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E564-20C8-463D-9664-15E1DB3FA8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760320" y="1441440"/>
          <a:ext cx="4114800" cy="4782960"/>
        </p:xfrm>
        <a:graphic>
          <a:graphicData uri="http://schemas.openxmlformats.org/drawingml/2006/table">
            <a:tbl>
              <a:tblPr/>
              <a:tblGrid>
                <a:gridCol w="1552680"/>
                <a:gridCol w="671400"/>
                <a:gridCol w="959040"/>
                <a:gridCol w="931680"/>
              </a:tblGrid>
              <a:tr h="630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stern Europeans in the National Immigrant Survey of Spain [EN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ntry of bi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Western Europe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105520" y="1854360"/>
          <a:ext cx="3733200" cy="3976200"/>
        </p:xfrm>
        <a:graphic>
          <a:graphicData uri="http://schemas.openxmlformats.org/drawingml/2006/table">
            <a:tbl>
              <a:tblPr/>
              <a:tblGrid>
                <a:gridCol w="933480"/>
                <a:gridCol w="933480"/>
                <a:gridCol w="933120"/>
                <a:gridCol w="933120"/>
              </a:tblGrid>
              <a:tr h="725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astern Europeans in the National Immigrant Survey of Spain [EN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ntry of bi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Eastern Europe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79480" y="771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European born surveyed by 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7DD2-75CC-468B-9AC0-61ADEA2316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79560"/>
            <a:ext cx="4953240" cy="43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5181480" y="2921040"/>
          <a:ext cx="3810240" cy="2133720"/>
        </p:xfrm>
        <a:graphic>
          <a:graphicData uri="http://schemas.openxmlformats.org/drawingml/2006/table">
            <a:tbl>
              <a:tblPr/>
              <a:tblGrid>
                <a:gridCol w="1333800"/>
                <a:gridCol w="826920"/>
                <a:gridCol w="825480"/>
                <a:gridCol w="824040"/>
              </a:tblGrid>
              <a:tr h="527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fricans in the National Immigrant Survey of Spain [ENI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ntry of bi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Afric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roc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 of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7621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merican and African born surveyed by 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A3D3-D3CE-42D2-AE0B-8FFC213020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242120" cy="6040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900000">
            <a:off x="-990360" y="3580200"/>
            <a:ext cx="76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Immigrants by educational level and country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A61F-2711-463E-A28B-5FE2B25818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3" descr=""/>
          <p:cNvPicPr/>
          <p:nvPr/>
        </p:nvPicPr>
        <p:blipFill>
          <a:blip r:embed="rId1"/>
          <a:stretch/>
        </p:blipFill>
        <p:spPr>
          <a:xfrm>
            <a:off x="1066680" y="773280"/>
            <a:ext cx="7294680" cy="6084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untry of origin of immigrant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58A7-E706-4B4E-BEA0-72A2219C2D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8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497720" cy="5532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ousehold nationality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7957-9B89-4C55-AA1E-236C432DF64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9" descr=""/>
          <p:cNvPicPr/>
          <p:nvPr/>
        </p:nvPicPr>
        <p:blipFill>
          <a:blip r:embed="rId1"/>
          <a:stretch/>
        </p:blipFill>
        <p:spPr>
          <a:xfrm>
            <a:off x="692280" y="1371600"/>
            <a:ext cx="8451720" cy="494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289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ousehold size by educ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DFB6-9577-49A2-B7E4-FC32EC4D40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8" descr=""/>
          <p:cNvPicPr/>
          <p:nvPr/>
        </p:nvPicPr>
        <p:blipFill>
          <a:blip r:embed="rId1"/>
          <a:stretch/>
        </p:blipFill>
        <p:spPr>
          <a:xfrm>
            <a:off x="649440" y="1282680"/>
            <a:ext cx="8494560" cy="5575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ousehold kinship relations by age of intervi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2B80-35E2-41B9-BE0F-364F9EBACE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8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5240" cy="5889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Labour situation at country of origin depa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BAE8-661C-4742-98B3-61575A0D959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97600" cy="5079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Transport mean by date of ar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9D6D-05AE-4C5F-AA75-A76AD4F7EF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838080"/>
          <a:ext cx="89917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9917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8667-D9D6-444B-BABB-2E5B5F47437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960480" y="1284120"/>
          <a:ext cx="7643880" cy="48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284120"/>
                    <a:ext cx="7643880" cy="48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untry of birth and departure by group of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79A7-A25E-45D6-9A16-6B913B1563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1020600" y="1257480"/>
          <a:ext cx="770436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257480"/>
                    <a:ext cx="77043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62120" y="762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ntacts in Spain at arrival by country of birth and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B0DA-6710-42A2-B5C8-C666D03A5D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48680" cy="5338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Number of countries of residence before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1DFD-6FC7-4E1D-9B70-278876A29BD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5800" y="1447920"/>
          <a:ext cx="7908840" cy="51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90884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Owned or rented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9B10-3505-4E19-8FD0-75EC2017237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6265800" cy="5867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77120" y="6858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Decision to come to Spain influenced by someone who had already been in Spain, by age, year of arrival and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F275-3A37-42E4-BAD1-9DBF48A9AA7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490680"/>
            <a:ext cx="6759720" cy="6367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705720" y="6858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Migrant remittances to country of birth by year of arrival, sex and country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7C3B-1C1F-4EE0-88D3-67CB1C89F1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92840" cy="5367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Time until find first job by year of ar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5C3A-A2FF-406D-9BFE-9391EF3E1E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43680" cy="6205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05720" y="6858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Mean number of visits to country of birth by year of arrival, age and country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536F-1787-484D-AB43-67A0A42FEC0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7213680" cy="6016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705720" y="6858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organizations not specific to immigrants by sex and year of ar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A2C1-2C85-4ED1-B339-49DE8B5913C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1371600"/>
            <a:ext cx="7848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uture surveys on immig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he discussion is open, conside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Users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Gaps on immigrants information in Statistical system in coming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Other statistical products: improved registers, Census 2011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INE-Spain is interested in any European comparative project on that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2F42-B0A1-426F-BA30-9448AFE8071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62120" y="1143000"/>
            <a:ext cx="8001000" cy="5173560"/>
            <a:chOff x="762120" y="1143000"/>
            <a:chExt cx="8001000" cy="5173560"/>
          </a:xfrm>
        </p:grpSpPr>
        <p:pic>
          <p:nvPicPr>
            <p:cNvPr id="59" name="propor98" descr=""/>
            <p:cNvPicPr/>
            <p:nvPr/>
          </p:nvPicPr>
          <p:blipFill>
            <a:blip r:embed="rId1"/>
            <a:stretch/>
          </p:blipFill>
          <p:spPr>
            <a:xfrm>
              <a:off x="762120" y="1143000"/>
              <a:ext cx="8001000" cy="51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366960" y="1534680"/>
              <a:ext cx="1692360" cy="3384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1 enero 1998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28954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rnational immigrants are highly concen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56C3-04D6-47B5-8CAB-0ED1854107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ño%2098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4375-3FFB-4B9C-BDC2-859BD3D0F2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ño%2099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98A3-59B8-4CED-B769-89F1D46205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ño%2000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E776-C6B7-4697-ACE5-C4DE026C85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07:16:03Z</dcterms:created>
  <dc:creator>PSU</dc:creator>
  <dc:description/>
  <dc:language>en-US</dc:language>
  <cp:lastModifiedBy>Usuario</cp:lastModifiedBy>
  <cp:lastPrinted>2005-06-14T06:52:43Z</cp:lastPrinted>
  <dcterms:modified xsi:type="dcterms:W3CDTF">2008-03-05T07:56:43Z</dcterms:modified>
  <cp:revision>411</cp:revision>
  <dc:subject/>
  <dc:title>Sin título de diapositiva</dc:title>
</cp:coreProperties>
</file>