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5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4.wmf" ContentType="image/x-wmf"/>
  <Override PartName="/ppt/media/image39.wmf" ContentType="image/x-wmf"/>
  <Override PartName="/ppt/media/image36.wmf" ContentType="image/x-wmf"/>
  <Override PartName="/ppt/media/image37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8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1.wmf" ContentType="image/x-wmf"/>
  <Override PartName="/ppt/media/image7.jpeg" ContentType="image/jpeg"/>
  <Override PartName="/ppt/media/image28.png" ContentType="image/pn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8720" cy="530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21960" y="758520"/>
            <a:ext cx="494820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morning to every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nks to UNECE and Eurostat for invite us to made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nks to Enrico for your interest in our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e brown colour shows municipalities over 15 per cent of fore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n the back country and rural areas are involved in the growth of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could see many changes in the importance of different countries of orig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n european countries like United Kingdom and German play an import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this changes are inside an fast growing flux of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Other register allows to observe a fast increase of new spanish nat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riage is clearly the engine of mixing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w rate of intra-group marriages is a clear sign of big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in could not host new five million people without a powerful so call “pull fa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abour Force Survey (an independent source of Population Regis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ain the trend of net increasing jobs among fore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1996 to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not the unique explanation, but probably the most importan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the foreigners are less of half increase of new jobs (mostly for wome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ving to a comparative from internationa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 the classical SOPEMI last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t shows how the old emigration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came new immigration cou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have designed a classical four pa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ground and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of information available and the role played by the National Immigrants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ject situation and expect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are the well known figures from Eurosta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erm of absolute figures or net migra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aring larg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panish figures are impressive from last seve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n comparing with the traditional immigration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ording the unique United Nations sources of flux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onclusion is clear: the needs and demands to Statistical Office are hug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 remark: we think the key efforts of statistical office mus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oving the quality of Padron Population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administrative sources for adding aspects: Resident Permists, Social Security Register and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oving the use of detailed and udated migration statistics for increasing the quality of Population Estimates and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ond rema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vertheless we have think was tiem to extending our knowledge on immigrants beyon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have good sources for absolute figures and age-sex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We have less information about social, education and economic characteristics of 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this background the aim should be cl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ing a general landsc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ll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ll kind of immi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ing value to our powerful demographic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overcame the “monoculture” of citizenship or country of birth as explanatory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king social and econom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ing a biographic and longitudinal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nding the subject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individual to th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person to networks: family, friends, rel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It’s also a collaborative projec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Ministry of Employment and an academic team of Madrid Univer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’s a long work, older than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two pilot test of 500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ar to finished next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definitions of remaining resident immigrants have pros and cons r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ebates were lo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we adopt the foreign born as a key definition of target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think is a pertinent decision considering our historical process and the needs of ou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day all things are presented as never seen with superlative ad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try to begin with a comparaison of spanish international migration in a long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a century and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the SOPEMI dat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cademic reconstruction of spanish and american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could see the incredible present mouvement to Sp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a mayor change in demographic social point o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ording net migration r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not easy have a comparative perspective of international migration in any 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international emigration is generaly underes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getting the american colonial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works from historians and SOP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could conduct the Survey due the updated quality of Padrón Population Regi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irst surprise we collected was we had not special probles accesing immigrants popul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No greater than the spanish born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e to the brother needs of information an incredible large questionnaires was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ine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faster to say the subjects not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usehold an demograph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story of mig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ditions at origin country, first arrival to Spain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’s clear the big problems were the data processing, editing and checks that long questionn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ust a glance about the number of variables involved in each file / per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y be four times more complex than the Labour Force Surv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ll known figures of migrants remaining stoch in Spain (from our population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dible and fast and increase of foreign and foreign born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less than one to near five mill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sons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nce 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ed Kingdom: near 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rmany over 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mania near 1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occo: near 1900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uador 1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ombia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gentina 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t’s imposible explaining in detail the expecte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 the needs of many users in different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nly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bout education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Country of couples and mixed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source: Padrón Population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ational inmigrants and emigrants recorded y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all countries foreigners are highly concent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ar the capital, Mediterranean coast and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in our case the statistical source allows us an following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offers to users and administration a clear movie of that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48200" cy="3709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5840" y="4694040"/>
            <a:ext cx="4956480" cy="4468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e of foreigners on resident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AE04-CD0D-4889-955A-B08C5798E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3B37-5E26-4E6C-AD19-F624FE84F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57BD-245D-4309-82E5-29CF3BA57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9CBC-67C3-4C34-83E4-241DED4FFE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A6A6-DEB9-4062-82A5-E1FDBA1CB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8C22-E001-416C-8F7E-16F09C3F2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D0E1-717C-4357-9A4C-6C9DFCAA3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52D7-281F-415C-87D2-F39EAE0D7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73F0-0C54-4CED-B674-191E1FA14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16CC-B61A-4933-AB7B-2FD194592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6A66-9C69-4C1E-BF05-7897F1735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A898-42AD-4ADC-A7E0-B3DFA2F2B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B2BC-BD65-4B5F-BE0E-202BF4A1D541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07000" y="0"/>
            <a:ext cx="3537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90240" cy="21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990720"/>
            <a:ext cx="73911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Arial"/>
              </a:rPr>
              <a:t>The 2007 National Immigrant Surve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(Spain): extending knowledge on immigrants beyond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National Statistical Institute (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D.G of Statistical Processes and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gnacio Duque / Orlando Mont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Joint UNECE/Eurostat Work Session on Migration Statistics, 3-5 March 2008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FE7C-852A-4BD7-A23A-ACBC97A827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ño%2001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4563-1BA0-4917-82DA-52070962FB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ño%200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D8BF-5AE6-491C-9475-AE779AD6F7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ño%2003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3647-379A-4A1F-9513-B7574B4460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ño%200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3AB1-8558-4954-9C1F-20F399ED6B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ño%2005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EA2D-4B8D-4E2C-AAA4-B919626B7E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288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685800"/>
          <a:ext cx="9144000" cy="596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7C07-528F-45CA-A8D1-739C859B3C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1932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762120"/>
          <a:ext cx="7543800" cy="54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754380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5E4D-D20A-42C4-A5E3-E76E3F52D5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7632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91440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F277-4AF9-4DA1-A8F1-4E806CB0E6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7632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990720"/>
          <a:ext cx="8229600" cy="54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22960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C51E-3A96-4323-A01C-D69E9059D5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457200"/>
          <a:ext cx="800100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00100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017D-AFDE-48FB-BAD5-BF4A39A9F8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1219320"/>
            <a:ext cx="754380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ternational Migration in Spain in recent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formation on international migration and international migrants in the Spanish Statistics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he 2007 National Immigrant Survey: aims, strategy and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urrent work and expected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8BA7-2DFA-4633-9D40-535F32C5ED8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812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458640"/>
          <a:ext cx="8991720" cy="639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8640"/>
                    <a:ext cx="8991720" cy="63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C698-1C57-4E62-B46A-6D45EEFF06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838080"/>
          <a:ext cx="9144000" cy="529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04A9-F797-4C5E-83C1-4EF98AC1B9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04920" y="762120"/>
          <a:ext cx="8501040" cy="54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0104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X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8063-D2A0-45E7-9588-4705320F56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47920" y="838080"/>
          <a:ext cx="640080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64008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2120" y="228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2. International Migration an Spanish Statistical System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20FF-BF0D-4811-8EA3-79A5E647E9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914400" y="762120"/>
          <a:ext cx="7620120" cy="54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62012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62120" y="228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2. International Migration an Spanish Statistical System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CFA4-AA18-4863-BB8F-F26C96A222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1219320"/>
            <a:ext cx="73152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Outlining th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general landscap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of recent immigration in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Encompassing the entire national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Includ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all soci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dding relevant informati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to improve our effective system for registering immig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91DC-F554-482F-9E5B-2699558568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1371600"/>
            <a:ext cx="73152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trategy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om simple to complex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Beyond “monoculture of citizenship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as key variable of expla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Linking demographic, social and economic character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From current variables to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biographic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and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longitudinal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8928-EFD7-4258-B423-0E9DAD5496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066680"/>
            <a:ext cx="79246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trategy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om individual to gro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Basic information of household res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- Couples, families and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om pers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o network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amily ties: brothers and sisters, parents, sons and daughters, husbands and w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iends and rel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CF54-7ADB-4C07-9C36-A92B6EF458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219320"/>
            <a:ext cx="761976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Brief proj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reliminary ideas and first contacts (December 2003-July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orking group first steps and draft project (January-July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pilot test (October-December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econd pilot test (April-May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eldwork (October 2006-March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diting and consistency procedures (May 2007-February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ublishing final results: data, methodology, selected tables and basic report (April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5334120"/>
            <a:ext cx="7549560" cy="769680"/>
            <a:chOff x="762120" y="5334120"/>
            <a:chExt cx="7549560" cy="7696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62120" y="5429160"/>
              <a:ext cx="149508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3281400" y="5445000"/>
              <a:ext cx="141228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718240" y="5334120"/>
              <a:ext cx="739080" cy="76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7481880" y="5547960"/>
              <a:ext cx="82980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C18C-CD27-4270-A316-B5FEF38B29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990720"/>
            <a:ext cx="80010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arget population: </a:t>
            </a:r>
            <a:r>
              <a:rPr b="1" i="1" lang="en-GB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foreign born immigrants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Older than 1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Long term 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Usual resident in Spain during the previous year, or resident less than a year but with intention to stay a full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Resident in family dwelling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(not collective households or institu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Except foreign born people with spanish nationality from birth and moving to Spain before two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C4D6-8E2D-437C-8389-C9966A428F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762120"/>
          <a:ext cx="7924680" cy="55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92468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3808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821E-288A-4308-A4DE-B6847C8E56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1523880"/>
            <a:ext cx="7315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ramework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non collective dwellings from Population Register (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Padró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) with one or more foreign born resident (2.229.000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hree step selection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enumeration districts (1.770), dwellings an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Effective sample: 15.5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F58C-7A52-4327-B0AC-E48CA1448A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1371600"/>
            <a:ext cx="731520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Computer assisted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Tablet-PC with electronic questionnaire and contr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Additional paper questionnai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elp call centre in English, French and Arabi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ame problems or refused answers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s other INE demographic surv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6C7F-CEDA-4690-BA78-AB49AF2718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990720"/>
            <a:ext cx="7924680" cy="46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Questionnaire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0) </a:t>
            </a: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ousehol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demographic and kinship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elected interviewed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ocial and demograph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national migratory experience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since child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ditions at origin countr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pon departure for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ituation at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arrival to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Job and unemployment  histor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ousing conditions and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nal migration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resent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inks to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inks to spanish civi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8659-4B8C-4CC0-B01B-14639FBD2B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99072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ERSON INTERVIE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asic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lace and date of birth, language ability,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arital status, live and dead offspring, sib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usband or wife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ge, place of birth, nationality, place of residence, date of 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ather and mother (if living)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sam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Offspring co-residing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ith person survey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ducation, current and completed studies,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Offspring and siblings NOT co-residing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ith person survey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ex, age, country of birth, place of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84680" y="5859360"/>
            <a:ext cx="310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143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6618-E177-4F9E-85C5-82EC66DB15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990720"/>
            <a:ext cx="79246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NATIONAL MIGRATORY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untries lived in since childhood (periods &gt; 3 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untry, duration, motives, accompani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Kin who are living abroa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Kinship,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DITIONS UPON DEPA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ousing, co-residents, family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conomic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RRIVAL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ans of 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tacts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st and financing of the t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257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8CF6-CFE7-4237-B22C-39C88CDB07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822240"/>
            <a:ext cx="792504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ORKING EXPERIENCE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Job situation previous week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job, moonlighting, type of contract, hours, w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job in Spai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how is obtained? And similar questions to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Job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jobs since arrival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Unemployment experience: frequency and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RESIDENTIAL HISTORY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changes in residence since arrival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First residence in Spain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unicipality and province, type, contract, cost, number of ro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co residents, time spent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-municipal mobilit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where lived at least one month: year and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3A69-D281-4FAA-9703-C850740FEB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304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INKS WITH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Who influence you to come to Spain?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ntacts with kin or friend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n country of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visits to country of origi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since arrival to Spain: year, month, duration, motives of the most re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Remittance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: frequency, amount, means and recip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roperty owned in country of birth and in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CIVI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groups and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municip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Plans for the next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5181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exhaus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A90B-ECE5-45A4-971E-A36422FF0D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1447920"/>
            <a:ext cx="731520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E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Good information quality collected, but huge problems in applying INE standard methodology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DIA software based on Fellegui-Holt edit and i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Many implicit levels of in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Incredibly long and complex questionn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ar larger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han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ny previous INE surv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1E8F-5B5A-4B5D-8055-9A254653F4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14480" y="1828800"/>
          <a:ext cx="8915400" cy="43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828800"/>
                    <a:ext cx="8915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National Immigrant Survey: aims and characteristics (X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8061-207B-4E0A-95CE-7EEEA0200D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37160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Data dissemination (April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Micro-data anonymous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Selected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Methodology documents and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Basic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87E3-D102-4F6A-B63B-1C5417E1EC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3000" y="609480"/>
          <a:ext cx="89010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609480"/>
                    <a:ext cx="8901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0780-8473-4F28-9A70-C8E1CA5348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8001000" cy="3803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219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Persons surveyed by 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B4AF-6B6B-44FE-87F5-7825FA2641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760320" y="1441440"/>
          <a:ext cx="4114800" cy="4782960"/>
        </p:xfrm>
        <a:graphic>
          <a:graphicData uri="http://schemas.openxmlformats.org/drawingml/2006/table">
            <a:tbl>
              <a:tblPr/>
              <a:tblGrid>
                <a:gridCol w="1552680"/>
                <a:gridCol w="671400"/>
                <a:gridCol w="959040"/>
                <a:gridCol w="931680"/>
              </a:tblGrid>
              <a:tr h="630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stern Europeans in the National Immigrant Survey of Spain [EN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ntry of bi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Western Europe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lg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105520" y="1854360"/>
          <a:ext cx="3733200" cy="3976200"/>
        </p:xfrm>
        <a:graphic>
          <a:graphicData uri="http://schemas.openxmlformats.org/drawingml/2006/table">
            <a:tbl>
              <a:tblPr/>
              <a:tblGrid>
                <a:gridCol w="933480"/>
                <a:gridCol w="933480"/>
                <a:gridCol w="933120"/>
                <a:gridCol w="933120"/>
              </a:tblGrid>
              <a:tr h="725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astern Europeans in the National Immigrant Survey of Spain [EN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ntry of bi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Eastern Europe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79480" y="771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European born surveyed by 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8FDA-F2C7-40BB-B6F4-63F5ECD0EF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79560"/>
            <a:ext cx="4953240" cy="43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5181480" y="2921040"/>
          <a:ext cx="3810240" cy="2133720"/>
        </p:xfrm>
        <a:graphic>
          <a:graphicData uri="http://schemas.openxmlformats.org/drawingml/2006/table">
            <a:tbl>
              <a:tblPr/>
              <a:tblGrid>
                <a:gridCol w="1333800"/>
                <a:gridCol w="826920"/>
                <a:gridCol w="825480"/>
                <a:gridCol w="824040"/>
              </a:tblGrid>
              <a:tr h="527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fricans in the National Immigrant Survey of Spain [ENI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ntry of bi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Afric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cent 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roc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 of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7621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American and African born surveyed by 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CB72-3C2A-41FD-BCDD-136F08E79F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242120" cy="6040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900000">
            <a:off x="-990360" y="3580200"/>
            <a:ext cx="76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Immigrants by educational level and country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FBF4-F71C-47EA-8EAB-6BE50BF95B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3" descr=""/>
          <p:cNvPicPr/>
          <p:nvPr/>
        </p:nvPicPr>
        <p:blipFill>
          <a:blip r:embed="rId1"/>
          <a:stretch/>
        </p:blipFill>
        <p:spPr>
          <a:xfrm>
            <a:off x="1066680" y="773280"/>
            <a:ext cx="7294680" cy="6084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untry of origin of immigrant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A8DA-40AA-4465-B4F3-9490A0CDEC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8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497720" cy="5532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ousehold nationality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1052-987D-45C7-AD08-E8ACB38E28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9" descr=""/>
          <p:cNvPicPr/>
          <p:nvPr/>
        </p:nvPicPr>
        <p:blipFill>
          <a:blip r:embed="rId1"/>
          <a:stretch/>
        </p:blipFill>
        <p:spPr>
          <a:xfrm>
            <a:off x="692280" y="1371600"/>
            <a:ext cx="8451720" cy="4943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289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ousehold size by educ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DED1-6C34-4907-8B66-74080BFD08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8" descr=""/>
          <p:cNvPicPr/>
          <p:nvPr/>
        </p:nvPicPr>
        <p:blipFill>
          <a:blip r:embed="rId1"/>
          <a:stretch/>
        </p:blipFill>
        <p:spPr>
          <a:xfrm>
            <a:off x="649440" y="1282680"/>
            <a:ext cx="8494560" cy="5575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Household kinship relations by age of intervi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F4C6-E972-4E48-802A-35D8E49525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8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5240" cy="5889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Labour situation at country of origin depa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A39A-42C4-4D38-A986-29457CB7517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797600" cy="5079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Transport mean by date of ar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24AC-F4CB-4AFA-8137-5AC7F33C23A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838080"/>
          <a:ext cx="89917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9917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CAFB-E010-4D56-8745-A92D461A358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960480" y="1284120"/>
          <a:ext cx="7643880" cy="48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284120"/>
                    <a:ext cx="7643880" cy="48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6212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untry of birth and departure by group of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21B1-DA15-4459-9055-5A67D9D0FAB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1020600" y="1257480"/>
          <a:ext cx="770436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257480"/>
                    <a:ext cx="77043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62120" y="762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ntacts in Spain at arrival by country of birth and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998A-72E1-424D-93EA-C7AA91209F6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48680" cy="5338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Number of countries of residence before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A6A2-BD1B-4E64-A553-C6FF1FA5609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5800" y="1447920"/>
          <a:ext cx="7908840" cy="51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90884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7621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Owned or rented dwe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74B8-75C0-4259-A195-A4F5C5C1024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6265800" cy="5867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77120" y="6858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Decision to come to Spain influenced by someone who had already been in Spain, by age, year of arrival and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1866-B4A5-4251-9D88-FB026C09B84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490680"/>
            <a:ext cx="6759720" cy="6367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705720" y="6858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Migrant remittances to country of birth by year of arrival, sex and country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2CB0-28B4-4766-8E4C-902865BDCE0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V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92840" cy="5367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621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Time until find first job by year of ar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FF08-91C4-45DB-8583-8441F17B6EE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43680" cy="6205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05720" y="6858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Mean number of visits to country of birth by year of arrival, age and country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CF05-FC2D-4ADC-B431-B74AA2DAC6E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7213680" cy="6016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705720" y="6858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Participation in organizations not specific to immigrants by sex and year of ar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900000">
            <a:off x="360" y="358056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Arial"/>
                <a:ea typeface="Arial"/>
              </a:rPr>
              <a:t>Only examples</a:t>
            </a:r>
            <a:r>
              <a:rPr b="1" i="1" lang="en-GB" sz="3200" spc="-1" strike="noStrike">
                <a:solidFill>
                  <a:srgbClr val="00ff00"/>
                </a:solidFill>
                <a:latin typeface="Arial"/>
                <a:ea typeface="Arial"/>
              </a:rPr>
              <a:t>.Not re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BD11-B4E2-4EF5-84C3-2ABBE0D857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1371600"/>
            <a:ext cx="78487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Future surveys on immig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The discussion is open, conside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Users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Gaps on immigrants information in Statistical system in coming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Other statistical products: improved registers, Census 2011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° INE-Spain is interested in any European comparative project on that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Current work and expected results (X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6A2D-6461-4331-AAF9-1211F81E1E9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62120" y="1143000"/>
            <a:ext cx="8001000" cy="5173560"/>
            <a:chOff x="762120" y="1143000"/>
            <a:chExt cx="8001000" cy="5173560"/>
          </a:xfrm>
        </p:grpSpPr>
        <p:pic>
          <p:nvPicPr>
            <p:cNvPr id="59" name="propor98" descr=""/>
            <p:cNvPicPr/>
            <p:nvPr/>
          </p:nvPicPr>
          <p:blipFill>
            <a:blip r:embed="rId1"/>
            <a:stretch/>
          </p:blipFill>
          <p:spPr>
            <a:xfrm>
              <a:off x="762120" y="1143000"/>
              <a:ext cx="8001000" cy="51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366960" y="1534680"/>
              <a:ext cx="1692360" cy="3384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1 enero 1998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28954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rnational immigrants are highly concen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DBE1-F204-4A0C-B69E-3D9A6AA452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ño%2098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347E-4C37-44CD-AB37-CCBA2FFAFA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ño%2099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8C36-1F97-4C03-9AE0-9D0ED5C774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e but irregular distribution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ño%2000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66000" cy="4929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International Migration in Spain in recent years (V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tional Inmigrants Survey Spain 2007 Eurostat-UNECE Geneva 200803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7BD7-DE92-46BE-9F4B-AF831849C5F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07:16:03Z</dcterms:created>
  <dc:creator>PSU</dc:creator>
  <dc:description/>
  <dc:language>en-US</dc:language>
  <cp:lastModifiedBy>Usuario</cp:lastModifiedBy>
  <cp:lastPrinted>2005-06-14T06:52:43Z</cp:lastPrinted>
  <dcterms:modified xsi:type="dcterms:W3CDTF">2008-03-05T07:56:43Z</dcterms:modified>
  <cp:revision>411</cp:revision>
  <dc:subject/>
  <dc:title>Sin título de diapositiva</dc:title>
</cp:coreProperties>
</file>