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634-57F9-4723-BC4D-D273135CF5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mited comparability because large part of applications for asylum are filed from abro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y asylum seekers do not actually reside in Aus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n the other hand, Asylum seekers were not included in migration statistics prior to 2004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e still not fully covered due to violations of their mandatory registration by house-kee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idence visa (before 2006: seasonal work permits) allow to work in Austria for up to six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rgely issued to EU citizens from countries with restrictions on the free movement of workers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Permit statistics include this single group of EU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asonal migration is very important for Austria due to its relevance for touri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arability of permit statistics and the registration register is quite lim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me improvements possible once further administrative registers become operational in the near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the foreigners’ inform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migration to Austria 2003-200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 still registered in Austria after one year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-term 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% de-registered within three months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mporary st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% short-term migrants, de-registered after 3-12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igration: lower share of long-term migrants 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ust only half of all deregistered persons stayed for more than one year in Aus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temporary stayers was at 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23% could be considered as short-term migr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f migration: &gt; 90% of the migration balance is made up of long-term 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 are short-term migr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- and out-flows of temporary stayers largely cancel each other out, so that their migration balance is neglig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using the 90 days threshold national migration statistics cover about 80% of all registrations and 75% of all de-reg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on persons staying less than 90days is not fully comprehensive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nknown amount of persons not registering, e.g. visa stayers, touris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B015-AC03-4024-8D7B-1EDED6F65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43E9-FE32-467C-A69C-79BB151C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1EE1-8AD9-4167-BB5A-262F1F5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9235-F484-4E19-8B9B-96AED494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F52D-72FA-42CB-98F5-CC724B2D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E781-2941-4037-B775-41621868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27A9-89D7-4863-9AC3-5ED88D5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4706-41A1-4C7F-8DE5-FB05F89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5A79-8D19-4A2A-A792-B9DBD43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197E-EC99-4E93-BF4F-349437CC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538E-80E0-4DC9-9575-62C6EB6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CE9F-5AC7-46B3-8597-B274A9658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6667-DC68-4F61-BF2A-B293AFFE4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BBB6-6524-4F04-9F4C-E81E5D4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4C45-C1F1-4823-BAB5-77A9F7A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67C3D-FE99-44E2-B99B-8E42408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22F7E-FE13-4B3D-ABB1-5BE2C403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F24E-62AA-4C1C-A6CE-7EAB9FA7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A03A9-E04D-4EB9-8C7B-D2C67888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395F5-9298-48FF-9E34-40AC0681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3F74-C56C-490C-86F6-969DE39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F54C3-009E-4421-BA58-19C2503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7DD0-1CA0-45A9-BF34-5356B4E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62F69-ABC9-4034-8FF1-09510FAFC9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2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8600" y="26028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SED Montréal, 6-8 De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85920" y="18900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How should we count? </a:t>
            </a:r>
            <a:br>
              <a:rPr sz="1400"/>
            </a:b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Methodological debates - Session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me Stamps For Measuring Short-term Migrant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6440" y="260280"/>
            <a:ext cx="342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ECE/Eurostat WG Migratio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Genéve 3-5 March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87720" y="189000"/>
            <a:ext cx="31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Challenges in defining and 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difficult-to-count migrants – 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759720" y="6408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14C-9AFE-4B72-A4E0-667AED4BC1D6}" type="slidenum">
              <a:rPr b="0" lang="de-AT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3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2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600" y="26028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SED Montréal, 6-8 De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5920" y="18900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How should we count? </a:t>
            </a:r>
            <a:br>
              <a:rPr sz="1400"/>
            </a:b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Methodological debates - Session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me Stamps For Measuring Short-term Migrant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6440" y="260280"/>
            <a:ext cx="342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ECE/Eurostat WG Migratio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Genéve 3-5 March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87720" y="189000"/>
            <a:ext cx="31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Challenges in defining and 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difficult-to-count migrants – 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4"/>
          </p:nvPr>
        </p:nvSpPr>
        <p:spPr>
          <a:xfrm>
            <a:off x="6759720" y="6408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A20-DFC9-4BF4-8C19-F3B7B026E1DF}" type="slidenum">
              <a:rPr b="0" lang="de-AT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ephan.marik-lebeck@statistik.gv.a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812960"/>
            <a:ext cx="82090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Joint UNECE/Eurostat Work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on Migr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organised in collaboration with UNF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eneva, Switzerland, 3-5 March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The use of time stamps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for measuring short-term migrants in Austrian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Stephan Marik-Leb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6381720"/>
            <a:ext cx="165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93760" y="1666800"/>
          <a:ext cx="8599320" cy="4557960"/>
        </p:xfrm>
        <a:graphic>
          <a:graphicData uri="http://schemas.openxmlformats.org/drawingml/2006/table">
            <a:tbl>
              <a:tblPr/>
              <a:tblGrid>
                <a:gridCol w="269640"/>
                <a:gridCol w="919440"/>
                <a:gridCol w="3274920"/>
                <a:gridCol w="826920"/>
                <a:gridCol w="827280"/>
                <a:gridCol w="826920"/>
                <a:gridCol w="827280"/>
                <a:gridCol w="826920"/>
              </a:tblGrid>
              <a:tr h="337320">
                <a:tc gridSpan="8">
                  <a:txBody>
                    <a:bodyPr lIns="36000" rIns="36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orded residence permits and asylum applications in 2002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residence per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-time settlement allowances (unlim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ject to a quota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side the quota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5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s of Austr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e permits (lim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-time permits (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s in temporary employment / seasonal wor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e visa D+C (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s for asylum (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6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3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3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m of a-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.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76480">
                <a:tc gridSpan="8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Austrian Ministry of Interior, Statistics on Asylum and Foreig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F902-9A32-4F35-92C8-7EF7590D447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1797120"/>
          <a:ext cx="8308800" cy="3792600"/>
        </p:xfrm>
        <a:graphic>
          <a:graphicData uri="http://schemas.openxmlformats.org/drawingml/2006/table">
            <a:tbl>
              <a:tblPr/>
              <a:tblGrid>
                <a:gridCol w="260280"/>
                <a:gridCol w="889200"/>
                <a:gridCol w="2738160"/>
                <a:gridCol w="884160"/>
                <a:gridCol w="884520"/>
                <a:gridCol w="884160"/>
                <a:gridCol w="884160"/>
                <a:gridCol w="884160"/>
              </a:tblGrid>
              <a:tr h="337320">
                <a:tc gridSpan="8">
                  <a:txBody>
                    <a:bodyPr lIns="36000" rIns="36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ison of permit and migration statistics in Austria 2002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d Residence permits and asylum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.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gration according to Migration Stat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.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.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.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.4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0 (Accession 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-Country-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.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.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: Austrian Ministry of Interior, Statistics on Foreigners and Asy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EB98-7E9F-4A6C-8AE5-BF4DBA10360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4360" y="220500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easibility of time-limits has to be seen in view of distinct legal frameworks for recording migration i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lusion of short-term migrants in migration statistics requires adaptations also in definitions of the population st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common statistical criteria for migration flows and population st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ure consistency of migration statistics with other demographic data, esp. on reg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monisation with definitions in cens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92E8-505B-44DB-9BC9-A6915FA4C9D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2133720"/>
            <a:ext cx="755964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ration of different data sources for migration statistics is hindered by different statistical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ase knowledge of data producers of rationale behind administrative procedures preceding the preparation of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al proceeding of short-term migrants should also take into account the legal framework for the sojourns of 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adjustments of administrative procedures for statistical purpose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 on short-term migration should be provided under harmonised criteria on a Europea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0B75-8BB7-4E0E-AAA4-20CF0A9606C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4360" y="2583000"/>
            <a:ext cx="755964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main question guiding the process of harmonisation and improving migration statistics should b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kind of “migration reality” are we going to produce in the futu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9EA4-99F4-4FE4-8FB0-96C7236B535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7440" y="6381720"/>
            <a:ext cx="165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133720"/>
            <a:ext cx="82087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The use of time stamps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for measuring short-term migrants in Austrian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Stephan Marik-Leb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phan.marik-lebeck@statistik.gv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8FA3-CB9D-44C6-B914-3068012AFA2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2720" y="20239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708280"/>
            <a:ext cx="784836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 of other sources to measure short-term migration in Austria 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1053-7CEE-4729-AFA9-EC1DCB859C8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28200" y="15573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119320"/>
            <a:ext cx="79214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gration statistics reflect national administrative systems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onsistency between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ulation and migration statistics refer to residential population ("permanent residents")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roblems for adequate recording of people not registered for the complete referenc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ification of migration through permit expiry or intended length of stay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t necessarily reflecting the actual length of 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icting at least an “administrative reality” by using registrations of permanent resid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78D2-4A9E-44A4-9A74-F8CF5411C5C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2060640"/>
            <a:ext cx="792144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2002: register of residences in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tock and migration flows derived under identical criteria from registrations and de-registrations of main resid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from register on the residence duration used to classify population stocks (“Permanent Residents”) and migration f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based on the “1998 UN Recommendations on Statistics of International Migration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stayers: 0 to 90 day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term migration: 91 to 365 day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term migration: 366 days and lo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960" y="1557360"/>
            <a:ext cx="79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9E07-3D2A-4213-B067-30F1CF308A0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2349360"/>
            <a:ext cx="7921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of 90 days of continuous registration in Austria for inclusion in population and migr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 would allow any tim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ia can thus fulfill requirements of EU regulation on migration statistic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tinguish long-term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schedule for delivery of data makes estimation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istency with na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960" y="1557360"/>
            <a:ext cx="79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AD62-2465-4B67-A84A-6E1E2A3155B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9520" y="1557360"/>
            <a:ext cx="84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2133720"/>
          <a:ext cx="8488440" cy="401940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885600"/>
                <a:gridCol w="1130400"/>
                <a:gridCol w="835200"/>
                <a:gridCol w="982440"/>
                <a:gridCol w="98280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 2003/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-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ed Mig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.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orary Stayers (≤9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-Term Migration (91-365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-Term Migration (&gt;365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.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Migration statistics (STM + L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.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EFDE-BD0A-4B35-B4CB-0B295F296DD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9520" y="1557360"/>
            <a:ext cx="84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05000"/>
            <a:ext cx="7921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impact of short-term migrations not 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 significant migr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on of temporary stayers reduces size of migr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t only partial coverage i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on of short-term migrants offers insight in circular migra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s seasonal workers in tourism and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ignificant augmentation of migratio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quicker publica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2214-F1F3-4C89-B1D2-66C73BB9211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25680" y="15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THER SOURCES TO MEASURE SHORT-TERM MIGRATION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349360"/>
            <a:ext cx="79214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short-term migrants through number of permits with limited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ry of Interior publishes monthly and annual permi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ggregated by first-time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lon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of purpose (in most cases equal to prolong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validity of permits gives no information on actual length of stay in Austria, nor about the place of 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6B36-2E06-4B33-91D6-4496946B889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5680" y="15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THER SOURCES TO MEASURE SHORT-TERM MIGRATION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2349360"/>
            <a:ext cx="7921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on for length of stay is maximum validity of permits for different purposes as defined by natio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s do not include a PIN to link them with the registration regist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 automatic de-registration once permit has exp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formation on permits for EU-/EWR- and Swiss 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 statistics only comparable for third-country nat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EAA0-299D-4982-9793-280B9000DF5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06:29Z</dcterms:created>
  <dc:creator>LEBHART</dc:creator>
  <dc:description/>
  <dc:language>en-US</dc:language>
  <cp:lastModifiedBy>marik$</cp:lastModifiedBy>
  <dcterms:modified xsi:type="dcterms:W3CDTF">2008-02-27T11:32:01Z</dcterms:modified>
  <cp:revision>74</cp:revision>
  <dc:subject/>
  <dc:title>Folie 1</dc:title>
</cp:coreProperties>
</file>