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3FC6-1786-40E4-A46E-9713AA1F3D1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mited comparability because large part of applications for asylum are filed from abro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ny asylum seekers do not actually reside in Aust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n the other hand, Asylum seekers were not included in migration statistics prior to 2004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e still not fully covered due to violations of their mandatory registration by house-kee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idence visa (before 2006: seasonal work permits) allow to work in Austria for up to six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rgely issued to EU citizens from countries with restrictions on the free movement of workers </a:t>
            </a:r>
            <a:r>
              <a:rPr b="1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Permit statistics include this single group of EU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asonal migration is very important for Austria due to its relevance for touris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arability of permit statistics and the registration register is quite lim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me improvements possible once further administrative registers become operational in the near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.g. the foreigners’ informatio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migration to Austria 2003-200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% still registered in Austria after one year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-term mig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% de-registered within three months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emporary st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% short-term migrants, de-registered after 3-12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igration: lower share of long-term migrants 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just only half of all deregistered persons stayed for more than one year in Aust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re of temporary stayers was at 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le 23% could be considered as short-term migr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act of migration: &gt; 90% of the migration balance is made up of long-term mig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t are short-term migr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- and out-flows of temporary stayers largely cancel each other out, so that their migration balance is neglig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using the 90 days threshold national migration statistics cover about 80% of all registrations and 75% of all de-regi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on persons staying less than 90days is not fully comprehensive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unknown amount of persons not registering, e.g. visa stayers, touris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8F15-59A3-4927-8D24-8F5912ED4D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79CA7-F656-4F2E-8DC5-1F88C396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0021B-A45F-426C-A86F-43F7EBBD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7C282-B925-4C08-B048-1BEABE75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6DCC7-4F1F-48BA-842D-0E06D47A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BD18-92B6-4EAA-BA30-78802C3E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947E1-76D4-436B-8646-8EA79E5C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5033B-55D3-4949-8A57-17DB4B63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699D4-26DF-40CA-B0DB-AD61A49C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D734A-40C7-479A-90E1-EEB0B41F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72CEB-A819-4EE6-95DC-D7347BB7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CA734-08D8-40A4-9EC6-069CD198E6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CB518-265C-424A-B19D-5C633FF1EC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95AFB-7A77-4861-AC6B-12B604D0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73177-9144-42C4-9F40-907BE8E4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37F36-C005-4F23-BF11-A69664E8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C70F3-90FB-4AE6-87B6-F8B7D9EB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214B3-6BB4-4F44-A5AC-992F2536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CD77F-A62A-4DD3-B9D3-5A558AF5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018ED-AB15-4910-98D4-C4CF272C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1A315-F2CD-4C4C-BC22-4294AF93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AA202-7810-4551-997D-8B581BC6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BCD92-F389-4E87-9991-AA4565D7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8F579-B885-44C0-9DE8-AFF7DA0628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ae002c"/>
                </a:solidFill>
                <a:latin typeface="Futura Condensed"/>
              </a:rPr>
              <a:t>S  T  A  T  I  S  T  I  C S     A  U  S  T  R  I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352680" y="6329520"/>
            <a:ext cx="198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657600" y="76320"/>
            <a:ext cx="1828800" cy="7603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219320" y="990720"/>
            <a:ext cx="6629400" cy="39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ae002c"/>
                </a:solidFill>
                <a:latin typeface="Futura Condensed"/>
              </a:rPr>
              <a:t>S  T  A  T  I  S  T  I  C S     A  U  S  T  R  I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ae002c"/>
                </a:solidFill>
                <a:latin typeface="Futura Condensed"/>
              </a:rPr>
              <a:t>S  T  A  T  I  S  T  I  C  S     A  U  S  T  R  I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685440" y="6400440"/>
            <a:ext cx="1981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e002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2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6329520"/>
            <a:ext cx="198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657600" y="76320"/>
            <a:ext cx="1828800" cy="760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9320" y="990720"/>
            <a:ext cx="6629400" cy="39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125360"/>
            <a:ext cx="8137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8600" y="260280"/>
            <a:ext cx="25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SSED Montréal, 6-8 Dec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85920" y="189000"/>
            <a:ext cx="316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Arial"/>
              </a:rPr>
              <a:t>How should we count? </a:t>
            </a:r>
            <a:br>
              <a:rPr sz="1400"/>
            </a:br>
            <a:r>
              <a:rPr b="0" lang="en-GB" sz="1400" spc="-1" strike="noStrike">
                <a:solidFill>
                  <a:srgbClr val="006600"/>
                </a:solidFill>
                <a:latin typeface="Arial"/>
              </a:rPr>
              <a:t>Methodological debates - Session 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6329520"/>
            <a:ext cx="198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657600" y="76320"/>
            <a:ext cx="1828800" cy="760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19320" y="990720"/>
            <a:ext cx="6629400" cy="39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125360"/>
            <a:ext cx="8137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ime Stamps For Measuring Short-term Migrants in 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6440" y="260280"/>
            <a:ext cx="342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UNECE/Eurostat WG Migration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Genéve 3-5 March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87720" y="189000"/>
            <a:ext cx="316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Arial"/>
              </a:rPr>
              <a:t>Challenges in defining and measu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Arial"/>
              </a:rPr>
              <a:t>difficult-to-count migrants – Item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6759720" y="6408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ae002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F61A-7200-4FCF-AE3D-ABFABFC88B54}" type="slidenum">
              <a:rPr b="0" lang="de-AT" sz="1200" spc="-1" strike="noStrike">
                <a:solidFill>
                  <a:srgbClr val="ae002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ae002c"/>
                </a:solidFill>
                <a:latin typeface="Futura Condensed"/>
              </a:rPr>
              <a:t>S  T  A  T  I  S  T  I  C S     A  U  S  T  R  I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ae002c"/>
                </a:solidFill>
                <a:latin typeface="Futura Condensed"/>
              </a:rPr>
              <a:t>S  T  A  T  I  S  T  I  C  S     A  U  S  T  R  I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dt" idx="3"/>
          </p:nvPr>
        </p:nvSpPr>
        <p:spPr>
          <a:xfrm>
            <a:off x="685440" y="6400440"/>
            <a:ext cx="1981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e002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2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6329520"/>
            <a:ext cx="198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657600" y="76320"/>
            <a:ext cx="1828800" cy="760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19320" y="990720"/>
            <a:ext cx="6629400" cy="39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125360"/>
            <a:ext cx="8137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8600" y="260280"/>
            <a:ext cx="25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SSED Montréal, 6-8 Dec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85920" y="189000"/>
            <a:ext cx="316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Arial"/>
              </a:rPr>
              <a:t>How should we count? </a:t>
            </a:r>
            <a:br>
              <a:rPr sz="1400"/>
            </a:br>
            <a:r>
              <a:rPr b="0" lang="en-GB" sz="1400" spc="-1" strike="noStrike">
                <a:solidFill>
                  <a:srgbClr val="006600"/>
                </a:solidFill>
                <a:latin typeface="Arial"/>
              </a:rPr>
              <a:t>Methodological debates - Session 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6329520"/>
            <a:ext cx="198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657600" y="76320"/>
            <a:ext cx="1828800" cy="760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19320" y="990720"/>
            <a:ext cx="6629400" cy="39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125360"/>
            <a:ext cx="8137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ime Stamps For Measuring Short-term Migrants in 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6440" y="260280"/>
            <a:ext cx="342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UNECE/Eurostat WG Migration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Genéve 3-5 March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87720" y="189000"/>
            <a:ext cx="316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Arial"/>
              </a:rPr>
              <a:t>Challenges in defining and measu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Arial"/>
              </a:rPr>
              <a:t>difficult-to-count migrants – Item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Num" idx="4"/>
          </p:nvPr>
        </p:nvSpPr>
        <p:spPr>
          <a:xfrm>
            <a:off x="6759720" y="6408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ae002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D319-D8C0-4394-9A77-B477D24227DD}" type="slidenum">
              <a:rPr b="0" lang="de-AT" sz="1200" spc="-1" strike="noStrike">
                <a:solidFill>
                  <a:srgbClr val="ae002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stephan.marik-lebeck@statistik.gv.at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9640" y="1812960"/>
            <a:ext cx="82090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Joint UNECE/Eurostat Work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on Migratio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organised in collaboration with UNF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Geneva, Switzerland, 3-5 March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The use of time stamps </a:t>
            </a:r>
            <a:br>
              <a:rPr sz="3200"/>
            </a:b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for measuring short-term migrants in Austrian Migratio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mitt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STICS 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Stephan Marik-Leb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4360" y="6381720"/>
            <a:ext cx="1655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www.statistik.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293760" y="1666800"/>
          <a:ext cx="8599320" cy="4557960"/>
        </p:xfrm>
        <a:graphic>
          <a:graphicData uri="http://schemas.openxmlformats.org/drawingml/2006/table">
            <a:tbl>
              <a:tblPr/>
              <a:tblGrid>
                <a:gridCol w="269640"/>
                <a:gridCol w="919440"/>
                <a:gridCol w="3274920"/>
                <a:gridCol w="826920"/>
                <a:gridCol w="827280"/>
                <a:gridCol w="826920"/>
                <a:gridCol w="827280"/>
                <a:gridCol w="826920"/>
              </a:tblGrid>
              <a:tr h="337320">
                <a:tc gridSpan="8">
                  <a:txBody>
                    <a:bodyPr lIns="36000" rIns="36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orded residence permits and asylum applications in 2002-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3"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of residence per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-time settlement allowances (unlimi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ject to a quota 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2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5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side the quota 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9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.6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.5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5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 which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ives of Austria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5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7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0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ce permits (limi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-time permits (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6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.2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.4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8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 which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ons in temporary employment / seasonal work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9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7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3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ce visa D+C (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7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cations for asylum (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3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4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6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.3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3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m of a-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.8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.6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.3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.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276480">
                <a:tc gridSpan="8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: Austrian Ministry of Interior, Statistics on Asylum and Foreig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3CE2-3539-4D2B-98E5-F22724F5883E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468360" y="1797120"/>
          <a:ext cx="8308800" cy="3792600"/>
        </p:xfrm>
        <a:graphic>
          <a:graphicData uri="http://schemas.openxmlformats.org/drawingml/2006/table">
            <a:tbl>
              <a:tblPr/>
              <a:tblGrid>
                <a:gridCol w="260280"/>
                <a:gridCol w="889200"/>
                <a:gridCol w="2738160"/>
                <a:gridCol w="884160"/>
                <a:gridCol w="884520"/>
                <a:gridCol w="884160"/>
                <a:gridCol w="884160"/>
                <a:gridCol w="884160"/>
              </a:tblGrid>
              <a:tr h="337320">
                <a:tc gridSpan="8">
                  <a:txBody>
                    <a:bodyPr lIns="36000" rIns="36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arison of permit and migration statistics in Austria 2002-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3"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d Residence permits and asylum appl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.8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.6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.3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.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migration according to Migration Stati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9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7.8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.3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.5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.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stria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4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5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eig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.3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.4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.9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5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 which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3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2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-10 (Accession 200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7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6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ird-Country-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.2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.5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.7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.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.3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8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rce: Austrian Ministry of Interior, Statistics on Foreigners and Asyl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01DA2-26F0-425B-9514-7AF436C267D8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4360" y="2205000"/>
            <a:ext cx="755964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feasibility of time-limits has to be seen in view of distinct legal frameworks for recording migration in different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lusion of short-term migrants in migration statistics requires adaptations also in definitions of the population st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 of common statistical criteria for migration flows and population st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sure consistency of migration statistics with other demographic data, esp. on reg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rmonisation with definitions in cens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8560" y="1557360"/>
            <a:ext cx="199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2F5B-E47D-418B-A6C8-CE6F7AA2D889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4360" y="2133720"/>
            <a:ext cx="755964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gration of different data sources for migration statistics is hindered by different statistical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rease knowledge of data producers of rationale behind administrative procedures preceding the preparation of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al proceeding of short-term migrants should also take into account the legal framework for the sojourns of fore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adjustments of administrative procedures for statistical purposes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 on short-term migration should be provided under harmonised criteria on a Europea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8560" y="1557360"/>
            <a:ext cx="199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9716D-8984-488C-92AD-3E6BB0488767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4360" y="2583000"/>
            <a:ext cx="7559640" cy="28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main question guiding the process of harmonisation and improving migration statistics should b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kind of “migration reality” are we going to produce in the futur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8560" y="1557360"/>
            <a:ext cx="199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8F9BF-EE8D-47E2-85D7-392C120287BF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237440" y="6381720"/>
            <a:ext cx="1655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www.statistik.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2133720"/>
            <a:ext cx="820872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The use of time stamps </a:t>
            </a:r>
            <a:br>
              <a:rPr sz="3200"/>
            </a:b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for measuring short-term migrants in Austrian Migratio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mitt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STICS 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Stephan Marik-Leb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ephan.marik-lebeck@statistik.gv.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DF62-87DC-4612-B96E-1024A8D7D71F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2720" y="202392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2708280"/>
            <a:ext cx="784836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finitions of Duration for Residents an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impact of short- and long-term migration in A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se of other sources to measure short-term migration in Austria – possibilities and lim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1B94-9136-4870-98F0-935632EBA64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28200" y="155736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2119320"/>
            <a:ext cx="792144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gration statistics reflect national administrative systems </a:t>
            </a: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consistency between most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pulation and migration statistics refer to residential population ("permanent residents") </a:t>
            </a: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problems for adequate recording of people not registered for the complete referenc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assification of migration through permit expiry or intended length of stay </a:t>
            </a: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ot necessarily reflecting the actual length of st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picting at least an “administrative reality” by using registrations of permanent reside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094B-0E29-480C-87C5-4D8E91F6FE53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2060640"/>
            <a:ext cx="7921440" cy="42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2002: register of residences in Aust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 stock and migration flows derived under identical criteria from registrations and de-registrations of main resid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from register on the residence duration used to classify population stocks (“Permanent Residents”) and migration flo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ification based on the “1998 UN Recommendations on Statistics of International Migration”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37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ry stayers: 0 to 90 day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37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 term migration: 91 to 365 day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37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term migration: 366 days and lon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4960" y="1557360"/>
            <a:ext cx="79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DEFINITIONS OF DURATION FOR RESIDENTS AN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0498-F564-4AAD-8AA5-20F2965E7158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1280" y="2349360"/>
            <a:ext cx="79214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 of 90 days of continuous registration in Austria for inclusion in population and migration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 would allow any time 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tria can thus fulfill requirements of EU regulation on migration statistics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tinguish long-term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schedule for delivery of data makes estimation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sistency with natio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4960" y="1557360"/>
            <a:ext cx="79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DEFINITIONS OF DURATION FOR RESIDENTS AN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3D872-B09C-4E25-95AC-D3B46FFBB5B7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9520" y="1557360"/>
            <a:ext cx="84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IMPACT OF SHORT- AND LONG-TERM MIGRATION IN A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5280" y="2133720"/>
          <a:ext cx="8488440" cy="4019400"/>
        </p:xfrm>
        <a:graphic>
          <a:graphicData uri="http://schemas.openxmlformats.org/drawingml/2006/table">
            <a:tbl>
              <a:tblPr/>
              <a:tblGrid>
                <a:gridCol w="2592360"/>
                <a:gridCol w="1079640"/>
                <a:gridCol w="885600"/>
                <a:gridCol w="1130400"/>
                <a:gridCol w="835200"/>
                <a:gridCol w="982440"/>
                <a:gridCol w="98280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stria 2003/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mi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i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-mi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ered Mig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6.4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.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.6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 whic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orary Stayers (≤90 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.8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.6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rt-Term Migration (91-365 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.7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8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-Term Migration (&gt;365 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.8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.3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 Migration statistics (STM + LT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9.5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.2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.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A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6CD3A-71FF-457C-9CE7-41362AC954D0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9520" y="1557360"/>
            <a:ext cx="84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IMPACT OF SHORT- AND LONG-TERM MIGRATION IN A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2205000"/>
            <a:ext cx="79214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on impact of short-term migrations not very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 significant migration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lusion of temporary stayers reduces size of migration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t only partial coverage in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sion of short-term migrants offers insight in circular migration patter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s seasonal workers in tourism and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ignificant augmentation of migration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quicker publication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1A325-C3C8-4AF2-B5C7-1BB1CE8EB4A2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25680" y="1557360"/>
            <a:ext cx="753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OTHER SOURCES TO MEASURE SHORT-TERM MIGRATION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– POSSIBILITIES AND LIM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2349360"/>
            <a:ext cx="792144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short-term migrants through number of permits with limited val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stry of Interior publishes monthly and annual permit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aggregated by first-time per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lon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s of purpose (in most cases equal to prolong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validity of permits gives no information on actual length of stay in Austria, nor about the place of res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D1AA6-8D5B-4C8E-81C3-4113BEE80AF2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25680" y="1557360"/>
            <a:ext cx="753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OTHER SOURCES TO MEASURE SHORT-TERM MIGRATION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– POSSIBILITIES AND LIM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2349360"/>
            <a:ext cx="79214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ion for length of stay is maximum validity of permits for different purposes as defined by national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mits do not include a PIN to link them with the registration regist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 automatic de-registration once permit has exp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information on permits for EU-/EWR- and Swiss citiz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mit statistics only comparable for third-country natio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5C83-B9AC-4504-9E01-52C7B0D6DF14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03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8:06:29Z</dcterms:created>
  <dc:creator>LEBHART</dc:creator>
  <dc:description/>
  <dc:language>en-US</dc:language>
  <cp:lastModifiedBy>marik$</cp:lastModifiedBy>
  <dcterms:modified xsi:type="dcterms:W3CDTF">2008-02-27T11:32:01Z</dcterms:modified>
  <cp:revision>74</cp:revision>
  <dc:subject/>
  <dc:title>Folie 1</dc:title>
</cp:coreProperties>
</file>