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797-A88D-4C38-8832-BCE430AF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B810-3456-4FFD-A54B-37B0C34F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C86B-1AF7-433E-B694-1700CEFA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E74-0427-4F14-AABA-4FDCFA98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119-8773-4996-8612-39B2603D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16C-57B4-4A82-96A1-AC7F10E7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26F-BAC3-45A8-8960-2930E3F9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3741-7223-4E15-9F82-9F64FD56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6729-1CDB-407D-BBF7-1194A120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AB0-9273-43AD-8DDA-7CB70D16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9AD-B4E2-48F1-B1E6-5BC173D4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363C-3130-4E3C-8AF0-2789CDCA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6BB3-B3B7-47AB-A8C8-E08525FF7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stimating the Unauthorized Immigrant Population in the United Sta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8954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Review of the “Residual Method” Used b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epartment of Homeland Secur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fice of Immigration Stat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181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4259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Presentation for the joint UNECE/Eurostat Work Session on Migration Statistic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Geneva, 3-5 March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ing the Unauthorized Immigra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tion in the United Sta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nual estimates produced by the Office of Immigration Statistics (OIS), part of the Department of Homeland Security (DH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S uses a “residual method” and American Community Survey (ACS) and DHS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1.6 million unauthorized immigrants, with 6.6 million from Mexico, as of January 1, 200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“Residual Method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rive the unauthorized immigrant population, OIS estimates two popul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foreign-born popul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 of January 1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gally resident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 of January 1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authorized immigrant population is assumed to be the difference (i.e., residual) of the tw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ta Sourc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Community Survey (A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nual nationwide household survey conducted by the U.S. Census Burea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derived by OIS from the 2005 Public Use Micro-Data Sample Files (PUMS Fi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S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al administrative records includ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 permanent residents (LP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ug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l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ing the Foreign-Born Popul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eign-born population that entered between 1980 and 200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ACS data)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i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eign-born population born in Cuba that entered betwe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980 and 2005 (ACS data)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of the increase in the foreign-born population from July 1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05 to January 1, 2006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of the foreign born living in group quarter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of the undercount of nonimmigrants in the ACS (1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cent)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of the undercount of LPRs, refugees, and asylees 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CS (2.5 percent)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of the undercount of unauthorized immigrants i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S (10 percent)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q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tal foreign-born popu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s of January 1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54864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6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ing the Legally Resid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PRs who entered between 1980 and 2005 (administrative data)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of refugees/asylees who entered between 1980 and 2005 and had not adjusted to LPR status as of January 1, 2006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i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of mortality of LPRs, refugees, and asylee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i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of emigration of LPRs, refugees, and asyle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of nonimmigrant population as of January 1, 2006 (administrative data)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q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gally resident popu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s of January 1, 20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0292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455760"/>
            <a:ext cx="815328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ing the Unauthorized Immigra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s of January 1, 20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86396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eign-born popul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9,1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86396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gally resident popul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n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7,62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86396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86396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authorized immigrant popul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1,5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86396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86396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rgest countries of bir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86396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xico (6.6 million), El Salvador (0.5 million), Guatemala (0.4 mill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86396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rgest st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86396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ifornia (2.8 million), Texas (1.6 million), Florida (1.0 mill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8195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 More Inform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chael Hoe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ffice of Immigration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mail: Michael.Hoefer@d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hone: 202-786-9871 or 202-786-9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ebsite: www.dhs.gov/immigration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3:22:40Z</dcterms:created>
  <dc:creator>griec001</dc:creator>
  <dc:description/>
  <dc:language>en-US</dc:language>
  <cp:lastModifiedBy>Bureau Of The Census</cp:lastModifiedBy>
  <dcterms:modified xsi:type="dcterms:W3CDTF">2008-03-02T15:19:32Z</dcterms:modified>
  <cp:revision>18</cp:revision>
  <dc:subject/>
  <dc:title>Estimating the Unauthorized Immigrant Population in the United States</dc:title>
</cp:coreProperties>
</file>