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C2CCA2E-8FA4-4A26-BF90-47997416C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opulation must remain closed and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re are no linking errors (correctly identified repeated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probability of capture must remain constant over period for each indiv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t can differ between individuals (adjusted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 precondition are detailed data on subgroups of m(i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model can not be wrong as such, but the calculations demand detailed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deviations (heterogeneity within populations) determine how well model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 fitted and the standard error/range of estimate (can be too large to be meaningfu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re are several theoretical/statistical extensions of the model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ore details in article in Studi Emigrazion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ow can this help if no regulariz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stion of EU-Enlargement... E.g. Registered Poles before and after 2004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stimated 150,000 of 300,000 new registrations in U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is is only a single-stage snowball sampling, where the first respondent only has to prov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criptions that identify whether the nominee is within s or is not.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s been used to estimate the number of cocaine users in Rotterdam (n= 34,  m=311 of which r=15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 that N(est) =68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ne problem is the undercount in the CENS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o illegal migrants give evidence (?)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new methods testing this by „3card method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ond problem is the second source of REGIST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oes it overcount, when migrants leave and do not de-regis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UK: no register at all, method estimates stock through flow figures (minus deaths and emig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SIDUAL method is simple comparison of registers, not calculations through linking register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f simple comparison of two registers is used (Spain), thre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12 – persons with permit and NOT Mun.Pop.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22 – persons in neither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3 – persons in one of the registers not here any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rgues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EU-25 there are 5.6m immigrants from MENA countries registered bu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ulates 8.2 million are registered (difference = 2.6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ynovska 2004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ound 2m Ukrainians abroad of which 1 m in Russia and 950,000 in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 methods for stocks and 3 for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ethods are possible only at certain moments (census, regularizations) and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C1CC-505F-40C7-8D36-190A8DFE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4CAB-A38C-4B73-933C-75EB8B84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3C9-8B8A-468A-B365-7AFAC582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952-B2D0-4BB1-A92A-C627A801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6C71-97F9-4AA0-8F9E-8255681F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39F7-BDE4-4D02-981A-484CC1C2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2C4C-0265-4D7C-99D7-E327314C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A0E5-95F8-4CE9-9FE6-ADAF6787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692D-BF5F-455A-B132-C9B8A65D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3765-E77E-49FD-B5D1-25E49B2B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B202-50C6-4C89-804E-DA0B981A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946F-C87E-41E8-8F2D-A6100D99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9C5E-B3CA-4FFD-8530-E79501A7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70DF-78D3-4C00-8673-3A09916C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3312-4321-439B-B8E1-46BF8323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07FD-F2A9-4C7F-B03C-6543CA71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6742-B321-47F6-8E59-985CE5C7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35A9-6427-4F33-88AB-AA4FA79B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259A-BE08-4306-B683-07F70A5E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8A1-34E1-47E9-B27B-BAE9F3CB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F838-94C4-4592-8E87-92249263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51C-6111-4854-A88D-32B39713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65A-C74A-4404-A28D-5171C299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336-FDCF-495F-8CE1-AFAB3945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D3BD-CB93-4217-8B8A-8E81ACD0DA94}" type="slidenum">
              <a:rPr b="0" lang="en-GB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7686-1C11-47FE-8D8C-D9C9B1E4BC35}" type="slidenum">
              <a:rPr b="0" lang="en-GB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33720" y="472428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ation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oint UNECE/Eurostat/UNFPA/MEDSTAT 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rk Session on Migration Statistic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va, 3-5 March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6200640"/>
            <a:ext cx="172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ichael Jan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8440" y="21333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hodologies for the estim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stocks of irregular migrants"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Repeated Capture method in the N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000000"/>
                </a:solidFill>
                <a:latin typeface="Arial Narrow"/>
              </a:rPr>
              <a:t>Van der Leun et al. (1998), Engbersen et al. (2002), 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an der Heijden (2006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alysis of data from police enforcement records 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from 25 police district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stablishing who has been caught 1, 2, 3, … tim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itting the data to a Poisson distribution and calculate N (y=0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576440" y="3657600"/>
          <a:ext cx="5586480" cy="259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3657600"/>
                    <a:ext cx="558648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Methods for estimating </a:t>
            </a:r>
            <a:br>
              <a:rPr sz="3500"/>
            </a:b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irregular migrant stocks II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5DA5-733D-4B08-8FA0-141ED8A8F1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47920" y="447480"/>
            <a:ext cx="7454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Methods for estimating </a:t>
            </a:r>
            <a:br>
              <a:rPr sz="3500"/>
            </a:b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irregular migrant stocks III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A random effect mixed modelling approach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This is currently tested for Norway (UDI project, </a:t>
            </a:r>
            <a:r>
              <a:rPr b="0" i="1" lang="de-DE" sz="2200" spc="-1" strike="noStrike">
                <a:solidFill>
                  <a:srgbClr val="000000"/>
                </a:solidFill>
                <a:latin typeface="Arial Narrow"/>
              </a:rPr>
              <a:t>Li-Chun Zhang (2007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N= known/registered populatio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n= apprehended by the police but among 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M= unknown/unregistered population to be estimate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m= those apprehended among M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N(i), n(i), M(i), m(i) are subgroups by age, citizenship,..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1) M(i)/N(i) is a random deviation from a global proportionality coefficient: log(Mi/Ni) = </a:t>
            </a:r>
            <a:r>
              <a:rPr b="0" lang="de-DE" sz="2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 + vi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2) (mi)/M(i) is a function of n(i)/N(i):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log(mi/Mi) = </a:t>
            </a:r>
            <a:r>
              <a:rPr b="0" lang="de-DE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log(ni/Ni) + ei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Mi can be estimated by OLS and M= </a:t>
            </a:r>
            <a:r>
              <a:rPr b="0" lang="de-DE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Mi for all i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52FF-FBA5-4738-8FEC-E46257512A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Evidence from regularizations (examples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Italy’s 2002/2003 regularization</a:t>
            </a:r>
            <a:r>
              <a:rPr b="0" i="1" lang="de-DE" sz="2200" spc="-1" strike="noStrike" u="sng">
                <a:solidFill>
                  <a:srgbClr val="000000"/>
                </a:solidFill>
                <a:uFillTx/>
                <a:latin typeface="Arial Narrow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700,000 applications - 640,000 regularization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Top 3 countries were: Romania, Ukraine, Albani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Spain’s 2005 regularization</a:t>
            </a:r>
            <a:r>
              <a:rPr b="0" i="1" lang="de-DE" sz="2200" spc="-1" strike="noStrike" u="sng">
                <a:solidFill>
                  <a:srgbClr val="000000"/>
                </a:solidFill>
                <a:uFillTx/>
                <a:latin typeface="Arial Narrow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690,000 applications – 573,000 positive (end 05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Top 3 countries were: Ecuador, Romania, Morocco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2004/2007 EU enlargement = regularization?</a:t>
            </a:r>
            <a:r>
              <a:rPr b="0" i="1" lang="de-DE" sz="2200" spc="-1" strike="noStrike" u="sng">
                <a:solidFill>
                  <a:srgbClr val="000000"/>
                </a:solidFill>
                <a:uFillTx/>
                <a:latin typeface="Arial Narrow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Problems: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Number of applications is not the same as number of pers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Wide differences in implementation (Italy – easier; Greece – difficult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Not all illegal residents apply; additional non-residents appl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Persons regularized can fall back into irregular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Methods for estimating </a:t>
            </a:r>
            <a:br>
              <a:rPr sz="3500"/>
            </a:b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irregular migrant stocks IV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CF1-2F4C-46FA-A7EB-B9CBEDB982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47920" y="447480"/>
            <a:ext cx="7454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Methods for estimating </a:t>
            </a:r>
            <a:br>
              <a:rPr sz="3500"/>
            </a:b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irregular migrant stocks V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Single-stage link-tracing sampl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000000"/>
                </a:solidFill>
                <a:latin typeface="Arial Narrow"/>
              </a:rPr>
              <a:t>Frank and Snijders (1994), Li-Chun Zhang (2007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A specific form of snowball sampling,.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Taking a random sample s (1,...,i,...n) of persons in a target population U (1,...N) and letting each person (i) nominate m(i) other persons among U, then r(i) denotes the number of persons referring back to sample s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Based on this, under certain assumptions an estimator can be obtained, so that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N (est)= n + (n-1)x(m-r)/r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(that is the higher the number of persons already nominated by i, the smaller the total population N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BCE-959B-49AD-B0A6-9A3504843C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6960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 Narrow"/>
              </a:rPr>
              <a:t>„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 Narrow"/>
              </a:rPr>
              <a:t>Residual methods“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Based on the differences between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Census results (total population adjusted for undercounting) </a:t>
            </a: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Immigration data, aliens registers, residence permit registers, etc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Example USA: 2005 estimate: 10.3 m (Passel 2005), Jan 2006 estimate: 11.6m (Hoefer et al); UK: 2001 estimate: 310k-430k-570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4548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Methods for estimating </a:t>
            </a:r>
            <a:br>
              <a:rPr sz="3500"/>
            </a:b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irregular migrant stocks VI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FD62-2957-4554-A542-1FDECB75DD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6960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 Narrow"/>
              </a:rPr>
              <a:t>„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 Narrow"/>
              </a:rPr>
              <a:t>Simple Comparison of Registers“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direct estimation based on a comparison of two or more registers with data on the same target population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 (where irregular migrants may at least partially be included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 Narrow"/>
              </a:rPr>
              <a:t>Example Spain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Legal residents should be registered in database on residents permits while illegal residents have incentives to register in the municipal regis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4548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Methods for estimating </a:t>
            </a:r>
            <a:br>
              <a:rPr sz="3500"/>
            </a:b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irregular migrant stocks VII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76320" y="4419720"/>
            <a:ext cx="8991000" cy="1752480"/>
            <a:chOff x="76320" y="4419720"/>
            <a:chExt cx="8991000" cy="1752480"/>
          </a:xfrm>
        </p:grpSpPr>
        <p:grpSp>
          <p:nvGrpSpPr>
            <p:cNvPr id="397" name=""/>
            <p:cNvGrpSpPr/>
            <p:nvPr/>
          </p:nvGrpSpPr>
          <p:grpSpPr>
            <a:xfrm>
              <a:off x="81720" y="4421520"/>
              <a:ext cx="8979120" cy="1748520"/>
              <a:chOff x="81720" y="4421520"/>
              <a:chExt cx="8979120" cy="174852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81720" y="4421520"/>
                <a:ext cx="1683720" cy="288720"/>
                <a:chOff x="81720" y="4421520"/>
                <a:chExt cx="1683720" cy="28872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157680" y="4421520"/>
                  <a:ext cx="153072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Regist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1720" y="4421520"/>
                  <a:ext cx="1683720" cy="28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765800" y="4421520"/>
                <a:ext cx="897480" cy="288720"/>
                <a:chOff x="1765800" y="4421520"/>
                <a:chExt cx="897480" cy="28872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1841760" y="4421520"/>
                  <a:ext cx="74448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99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765800" y="4421520"/>
                  <a:ext cx="897480" cy="28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2663640" y="4421520"/>
                <a:ext cx="1025640" cy="288720"/>
                <a:chOff x="2663640" y="4421520"/>
                <a:chExt cx="1025640" cy="28872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2739600" y="4421520"/>
                  <a:ext cx="87264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99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63640" y="4421520"/>
                  <a:ext cx="1025640" cy="28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3690000" y="4421520"/>
                <a:ext cx="894600" cy="288720"/>
                <a:chOff x="3690000" y="4421520"/>
                <a:chExt cx="894600" cy="28872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3765960" y="4421520"/>
                  <a:ext cx="74232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3690000" y="4421520"/>
                  <a:ext cx="894600" cy="28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4584960" y="4421520"/>
                <a:ext cx="894600" cy="288720"/>
                <a:chOff x="4584960" y="4421520"/>
                <a:chExt cx="894600" cy="28872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4661640" y="4421520"/>
                  <a:ext cx="74160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0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584960" y="4421520"/>
                  <a:ext cx="894600" cy="28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5479920" y="4421520"/>
                <a:ext cx="894960" cy="288720"/>
                <a:chOff x="5479920" y="4421520"/>
                <a:chExt cx="894960" cy="28872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5556600" y="4421520"/>
                  <a:ext cx="74160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0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479920" y="4421520"/>
                  <a:ext cx="894960" cy="28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6375600" y="4421520"/>
                <a:ext cx="894600" cy="288720"/>
                <a:chOff x="6375600" y="4421520"/>
                <a:chExt cx="894600" cy="2887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6451560" y="4421520"/>
                  <a:ext cx="74232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0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375600" y="4421520"/>
                  <a:ext cx="894600" cy="28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7270560" y="4421520"/>
                <a:ext cx="894960" cy="288720"/>
                <a:chOff x="7270560" y="4421520"/>
                <a:chExt cx="894960" cy="28872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7347240" y="4421520"/>
                  <a:ext cx="74160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0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270560" y="4421520"/>
                  <a:ext cx="894960" cy="28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8166240" y="4421520"/>
                <a:ext cx="894600" cy="288720"/>
                <a:chOff x="8166240" y="4421520"/>
                <a:chExt cx="894600" cy="28872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8242200" y="4421520"/>
                  <a:ext cx="74232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0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8166240" y="4421520"/>
                  <a:ext cx="894600" cy="28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81720" y="4710240"/>
                <a:ext cx="1683720" cy="373320"/>
                <a:chOff x="81720" y="4710240"/>
                <a:chExt cx="1683720" cy="37332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57680" y="4710240"/>
                  <a:ext cx="1530720" cy="37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unicipal Regist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81720" y="4710240"/>
                  <a:ext cx="1683720" cy="37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1765800" y="4710240"/>
                <a:ext cx="897480" cy="373320"/>
                <a:chOff x="1765800" y="4710240"/>
                <a:chExt cx="897480" cy="3733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1841760" y="4710240"/>
                  <a:ext cx="744480" cy="37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37.08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1765800" y="4710240"/>
                  <a:ext cx="897480" cy="37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2663640" y="4710240"/>
                <a:ext cx="1025640" cy="373320"/>
                <a:chOff x="2663640" y="4710240"/>
                <a:chExt cx="1025640" cy="37332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2739600" y="4710240"/>
                  <a:ext cx="872640" cy="37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48.95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663640" y="4710240"/>
                  <a:ext cx="1025640" cy="37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3690000" y="4710240"/>
                <a:ext cx="894600" cy="373320"/>
                <a:chOff x="3690000" y="4710240"/>
                <a:chExt cx="894600" cy="37332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3765960" y="4710240"/>
                  <a:ext cx="742320" cy="37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923.87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690000" y="4710240"/>
                  <a:ext cx="894600" cy="37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4584960" y="4710240"/>
                <a:ext cx="894600" cy="373320"/>
                <a:chOff x="4584960" y="4710240"/>
                <a:chExt cx="894600" cy="3733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4661640" y="4710240"/>
                  <a:ext cx="741600" cy="37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370.65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584960" y="4710240"/>
                  <a:ext cx="894600" cy="37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5479920" y="4710240"/>
                <a:ext cx="894960" cy="373320"/>
                <a:chOff x="5479920" y="4710240"/>
                <a:chExt cx="894960" cy="37332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5556600" y="4710240"/>
                  <a:ext cx="741600" cy="37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977.94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479920" y="4710240"/>
                  <a:ext cx="894960" cy="37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6375600" y="4710240"/>
                <a:ext cx="894600" cy="373320"/>
                <a:chOff x="6375600" y="4710240"/>
                <a:chExt cx="894600" cy="37332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6451560" y="4710240"/>
                  <a:ext cx="742320" cy="37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664.16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375600" y="4710240"/>
                  <a:ext cx="894600" cy="37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7270560" y="4710240"/>
                <a:ext cx="894960" cy="373320"/>
                <a:chOff x="7270560" y="4710240"/>
                <a:chExt cx="894960" cy="3733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7347240" y="4710240"/>
                  <a:ext cx="741600" cy="37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.034.32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270560" y="4710240"/>
                  <a:ext cx="894960" cy="37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8166240" y="4710240"/>
                <a:ext cx="894600" cy="373320"/>
                <a:chOff x="8166240" y="4710240"/>
                <a:chExt cx="894600" cy="3733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8242200" y="4710240"/>
                  <a:ext cx="742320" cy="37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.730.6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8166240" y="4710240"/>
                  <a:ext cx="894600" cy="37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81720" y="5083920"/>
                <a:ext cx="1683720" cy="458280"/>
                <a:chOff x="81720" y="5083920"/>
                <a:chExt cx="1683720" cy="4582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157680" y="5083920"/>
                  <a:ext cx="15307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Foreigners with Resident Permi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81720" y="5083920"/>
                  <a:ext cx="1683720" cy="45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1765800" y="5083920"/>
                <a:ext cx="897480" cy="458280"/>
                <a:chOff x="1765800" y="5083920"/>
                <a:chExt cx="897480" cy="45828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1841760" y="5083920"/>
                  <a:ext cx="7444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19.64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765800" y="5083920"/>
                  <a:ext cx="897480" cy="45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2663640" y="5083920"/>
                <a:ext cx="1025640" cy="458280"/>
                <a:chOff x="2663640" y="5083920"/>
                <a:chExt cx="1025640" cy="4582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2739600" y="5083920"/>
                  <a:ext cx="8726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801.33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663640" y="5083920"/>
                  <a:ext cx="1025640" cy="45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3690000" y="5083920"/>
                <a:ext cx="894600" cy="458280"/>
                <a:chOff x="3690000" y="5083920"/>
                <a:chExt cx="894600" cy="45828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765960" y="5083920"/>
                  <a:ext cx="7423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895.72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690000" y="5083920"/>
                  <a:ext cx="894600" cy="45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4584960" y="5083920"/>
                <a:ext cx="894600" cy="458280"/>
                <a:chOff x="4584960" y="5083920"/>
                <a:chExt cx="894600" cy="45828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4661640" y="5083920"/>
                  <a:ext cx="74160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109.06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584960" y="5083920"/>
                  <a:ext cx="894600" cy="45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479920" y="5083920"/>
                <a:ext cx="894960" cy="458280"/>
                <a:chOff x="5479920" y="5083920"/>
                <a:chExt cx="894960" cy="45828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556600" y="5083920"/>
                  <a:ext cx="74160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324.00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479920" y="5083920"/>
                  <a:ext cx="894960" cy="45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6375600" y="5083920"/>
                <a:ext cx="894600" cy="458280"/>
                <a:chOff x="6375600" y="5083920"/>
                <a:chExt cx="894600" cy="45828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6451560" y="5083920"/>
                  <a:ext cx="7423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647.01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375600" y="5083920"/>
                  <a:ext cx="894600" cy="45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7270560" y="5083920"/>
                <a:ext cx="894960" cy="458280"/>
                <a:chOff x="7270560" y="5083920"/>
                <a:chExt cx="894960" cy="45828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7347240" y="5083920"/>
                  <a:ext cx="74160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977.29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270560" y="5083920"/>
                  <a:ext cx="894960" cy="45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8166240" y="5083920"/>
                <a:ext cx="894600" cy="458280"/>
                <a:chOff x="8166240" y="5083920"/>
                <a:chExt cx="894600" cy="4582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242200" y="5083920"/>
                  <a:ext cx="7423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738.93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8166240" y="5083920"/>
                  <a:ext cx="894600" cy="45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1720" y="5542200"/>
                <a:ext cx="1683720" cy="627840"/>
                <a:chOff x="81720" y="5542200"/>
                <a:chExt cx="1683720" cy="6278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157680" y="5542200"/>
                  <a:ext cx="153072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fference (MR – Foreigners with Resident Permi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1720" y="5542200"/>
                  <a:ext cx="16837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1765800" y="5542200"/>
                <a:ext cx="897480" cy="627840"/>
                <a:chOff x="1765800" y="5542200"/>
                <a:chExt cx="897480" cy="62784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1841760" y="5542200"/>
                  <a:ext cx="74448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 82.56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765800" y="5542200"/>
                  <a:ext cx="89748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2663640" y="5542200"/>
                <a:ext cx="1025640" cy="627840"/>
                <a:chOff x="2663640" y="5542200"/>
                <a:chExt cx="1025640" cy="6278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2739600" y="5542200"/>
                  <a:ext cx="872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52.37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663640" y="5542200"/>
                  <a:ext cx="102564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3690000" y="5542200"/>
                <a:ext cx="894600" cy="627840"/>
                <a:chOff x="3690000" y="5542200"/>
                <a:chExt cx="894600" cy="6278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3765960" y="5542200"/>
                  <a:ext cx="74232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8.15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690000" y="5542200"/>
                  <a:ext cx="89460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4584960" y="5542200"/>
                <a:ext cx="894600" cy="627840"/>
                <a:chOff x="4584960" y="5542200"/>
                <a:chExt cx="894600" cy="6278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4661640" y="5542200"/>
                  <a:ext cx="7416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61.59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584960" y="5542200"/>
                  <a:ext cx="89460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5479920" y="5542200"/>
                <a:ext cx="894960" cy="627840"/>
                <a:chOff x="5479920" y="5542200"/>
                <a:chExt cx="894960" cy="62784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5556600" y="5542200"/>
                  <a:ext cx="7416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53.94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479920" y="5542200"/>
                  <a:ext cx="89496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6375600" y="5542200"/>
                <a:ext cx="894600" cy="627840"/>
                <a:chOff x="6375600" y="5542200"/>
                <a:chExt cx="894600" cy="62784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6451560" y="5542200"/>
                  <a:ext cx="74232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017.15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375600" y="5542200"/>
                  <a:ext cx="89460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7270560" y="5542200"/>
                <a:ext cx="894960" cy="627840"/>
                <a:chOff x="7270560" y="5542200"/>
                <a:chExt cx="894960" cy="62784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7347240" y="5542200"/>
                  <a:ext cx="7416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057.03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270560" y="5542200"/>
                  <a:ext cx="89496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8166240" y="5542200"/>
                <a:ext cx="894600" cy="627840"/>
                <a:chOff x="8166240" y="5542200"/>
                <a:chExt cx="894600" cy="62784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8242200" y="5542200"/>
                  <a:ext cx="74232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991.67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166240" y="5542200"/>
                  <a:ext cx="89460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6" name=""/>
            <p:cNvSpPr/>
            <p:nvPr/>
          </p:nvSpPr>
          <p:spPr>
            <a:xfrm>
              <a:off x="76320" y="4419720"/>
              <a:ext cx="8991000" cy="17524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485-D66A-4366-B425-23E11CBF5A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 Narrow"/>
              </a:rPr>
              <a:t>„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 Narrow"/>
              </a:rPr>
              <a:t>Comparison of Immigration and Emigration Statistics“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Based on the differences between (estimated) emigration and (recorded) immigration data, the number of migrants without legal resident status is estima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Examples: Mexico-US migration (in: Lederer 1994); Delaunay and Tapinos (1998a): Morocco – Europe (not Tunisia), Fargues (2007): estimates of MENA emigration; Malynovska 2004: estimates on Ukrainians abroa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Problems: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Migrants may disperse over a large number of countries not just to one reg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Both emigration estimates and immigration data are prone to large margins of erro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However, data from countries of origin/consulates could be more exploi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4548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Methods for estimating </a:t>
            </a:r>
            <a:br>
              <a:rPr sz="3500"/>
            </a:b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irregular migrant stocks VIII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2076-59E8-4D2B-AFCD-2CC1C9FFD9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 Narrow"/>
              </a:rPr>
              <a:t>Conclusions I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07560" y="2127240"/>
            <a:ext cx="7548840" cy="38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ere are a number of feasible estimation methods availabl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 lot can be learned from existing examples in migration research and from the study of other hidden population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Not all methods are suitable and applicable in all circumstances and at all tim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Some methods need the production of new data, some can use existing data (if available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In addition to data and methods, a good knowledge of irregular migration processes is necessary (</a:t>
            </a:r>
            <a:r>
              <a:rPr b="0" lang="de-AT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 also qualitiative research!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A solid estimate usually needs substantial time and resources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32E-8A59-4CC0-9F32-04B965B6B0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 Narrow"/>
              </a:rPr>
              <a:t>Conclusions II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No one estimate can be perfect, each method has its strengths and weakness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An external validation of the accuracy of results is difficul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A triangulation of several independent estimates can improve confidence in the outcom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The use of multiple, complementary methods is recommendabl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New methods and data sources can and should be develope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Technological and administrative innovations can give rise to new methods (e.g. Biometric visa and travel documents for entry-exit method or electronic databases with fingerprints for repeated capture method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D78-2FB4-4525-ADE2-A471E95C75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 Narrow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30520" y="2195640"/>
            <a:ext cx="6727680" cy="35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Research and data problem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A classification of methods for estimating irregular migrant stocks and flow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Selected methods for estimating irregular migrant stock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F4ED-055A-4B71-A9CC-6EBA23B06E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 Narrow"/>
              </a:rPr>
              <a:t>Research and data problem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Illegal (unauthorized/undocumented) Migration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is deliberately hidden from view (sanctioned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is statistically not </a:t>
            </a:r>
            <a:r>
              <a:rPr b="0" lang="de-DE" sz="2200" spc="-1" strike="noStrike" u="sng">
                <a:solidFill>
                  <a:srgbClr val="000000"/>
                </a:solidFill>
                <a:uFillTx/>
                <a:latin typeface="Arial Narrow"/>
              </a:rPr>
              <a:t>directly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 quantifyable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can be researched with qualitative social science methods, data trend analysis and quantitative estimation method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Data and methods should be subject to close scrutin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Minimum condition: indications on </a:t>
            </a:r>
            <a:r>
              <a:rPr b="0" lang="de-DE" sz="2200" spc="-1" strike="noStrike" u="sng">
                <a:solidFill>
                  <a:srgbClr val="000000"/>
                </a:solidFill>
                <a:uFillTx/>
                <a:latin typeface="Arial Narrow"/>
              </a:rPr>
              <a:t>methods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de-DE" sz="2200" spc="-1" strike="noStrike" u="sng">
                <a:solidFill>
                  <a:srgbClr val="000000"/>
                </a:solidFill>
                <a:uFillTx/>
                <a:latin typeface="Arial Narrow"/>
              </a:rPr>
              <a:t>assumptions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de-DE" sz="2200" spc="-1" strike="noStrike" u="sng">
                <a:solidFill>
                  <a:srgbClr val="000000"/>
                </a:solidFill>
                <a:uFillTx/>
                <a:latin typeface="Arial Narrow"/>
              </a:rPr>
              <a:t>data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2200" spc="-1" strike="noStrike" u="sng">
                <a:solidFill>
                  <a:srgbClr val="000000"/>
                </a:solidFill>
                <a:uFillTx/>
                <a:latin typeface="Arial Narrow"/>
              </a:rPr>
              <a:t>sources</a:t>
            </a: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 of quantitative estimates should be give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Otherwise we should not speak of an „estimate“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6DC-E954-4C39-9293-7841DCAC8C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 Narrow"/>
              </a:rPr>
              <a:t>A new classification schem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Differentiation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Stock data (illegal residence, </a:t>
            </a:r>
            <a:r>
              <a:rPr b="0" lang="de-AT" sz="2200" spc="-1" strike="noStrike">
                <a:solidFill>
                  <a:srgbClr val="b2b2b2"/>
                </a:solidFill>
                <a:latin typeface="Arial Narrow"/>
              </a:rPr>
              <a:t>illegal work</a:t>
            </a: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Flow data (illegal entry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Subdivisions into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-571680">
              <a:spcBef>
                <a:spcPts val="55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 Narrow"/>
              </a:rPr>
              <a:t>Direct</a:t>
            </a: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 approaches vs. </a:t>
            </a:r>
            <a:r>
              <a:rPr b="1" lang="de-AT" sz="2200" spc="-1" strike="noStrike">
                <a:solidFill>
                  <a:srgbClr val="000000"/>
                </a:solidFill>
                <a:latin typeface="Arial Narrow"/>
              </a:rPr>
              <a:t>indirect</a:t>
            </a: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 approaches (+ </a:t>
            </a:r>
            <a:r>
              <a:rPr b="1" lang="de-AT" sz="2200" spc="-1" strike="noStrike">
                <a:solidFill>
                  <a:srgbClr val="000000"/>
                </a:solidFill>
                <a:latin typeface="Arial Narrow"/>
              </a:rPr>
              <a:t>combined</a:t>
            </a: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 approaches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 Narro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 Narrow"/>
              </a:rPr>
              <a:t>Data sources (already existing, specifically generated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 Narro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 Narrow"/>
              </a:rPr>
              <a:t>Methodic group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752480" indent="-380880">
              <a:spcBef>
                <a:spcPts val="451"/>
              </a:spcBef>
              <a:buClr>
                <a:srgbClr val="000000"/>
              </a:buClr>
              <a:buFont typeface="Arial Narro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 Narrow"/>
              </a:rPr>
              <a:t>Estimation techniqu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0AB-97E5-479A-94BD-1A9DCAC9BC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4548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A classification of methods for estimating </a:t>
            </a:r>
            <a:br>
              <a:rPr sz="3500"/>
            </a:b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irregular migrant stocks I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33520" y="1820880"/>
            <a:ext cx="7924320" cy="4199040"/>
            <a:chOff x="533520" y="1820880"/>
            <a:chExt cx="7924320" cy="4199040"/>
          </a:xfrm>
        </p:grpSpPr>
        <p:grpSp>
          <p:nvGrpSpPr>
            <p:cNvPr id="135" name=""/>
            <p:cNvGrpSpPr/>
            <p:nvPr/>
          </p:nvGrpSpPr>
          <p:grpSpPr>
            <a:xfrm>
              <a:off x="537840" y="1823040"/>
              <a:ext cx="7914240" cy="4194000"/>
              <a:chOff x="537840" y="1823040"/>
              <a:chExt cx="7914240" cy="419400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537840" y="1823040"/>
                <a:ext cx="1380600" cy="375120"/>
                <a:chOff x="537840" y="1823040"/>
                <a:chExt cx="1380600" cy="375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31800" y="1823040"/>
                  <a:ext cx="1193040" cy="37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pproac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37840" y="1823040"/>
                  <a:ext cx="1380600" cy="37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1918800" y="1823040"/>
                <a:ext cx="1758600" cy="375120"/>
                <a:chOff x="1918800" y="1823040"/>
                <a:chExt cx="1758600" cy="3751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012760" y="1823040"/>
                  <a:ext cx="1570680" cy="37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ata sourc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918800" y="1823040"/>
                  <a:ext cx="1758600" cy="37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3678120" y="1823040"/>
                <a:ext cx="2068200" cy="375120"/>
                <a:chOff x="3678120" y="1823040"/>
                <a:chExt cx="2068200" cy="3751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3771360" y="1823040"/>
                  <a:ext cx="1880640" cy="37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etho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678120" y="1823040"/>
                  <a:ext cx="2068200" cy="37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5746680" y="1823040"/>
                <a:ext cx="2705400" cy="375120"/>
                <a:chOff x="5746680" y="1823040"/>
                <a:chExt cx="2705400" cy="375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5840640" y="1823040"/>
                  <a:ext cx="2517480" cy="37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stimation techniqu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746680" y="1823040"/>
                  <a:ext cx="2705400" cy="37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37840" y="2198160"/>
                <a:ext cx="1380600" cy="3818880"/>
                <a:chOff x="537840" y="2198160"/>
                <a:chExt cx="1380600" cy="3818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31800" y="2198160"/>
                  <a:ext cx="1193040" cy="381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rect approach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37840" y="2198160"/>
                  <a:ext cx="1380600" cy="381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918800" y="2198160"/>
                <a:ext cx="1758600" cy="1986840"/>
                <a:chOff x="1918800" y="2198160"/>
                <a:chExt cx="1758600" cy="19868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012760" y="2198160"/>
                  <a:ext cx="1570680" cy="198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immigration enforcement 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918800" y="2198160"/>
                  <a:ext cx="1758600" cy="198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678120" y="2198160"/>
                <a:ext cx="2068200" cy="1501200"/>
                <a:chOff x="3678120" y="2198160"/>
                <a:chExt cx="2068200" cy="15012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771360" y="2198160"/>
                  <a:ext cx="1880640" cy="15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ultiplier metho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678120" y="2198160"/>
                  <a:ext cx="2068200" cy="15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746680" y="2198160"/>
                <a:ext cx="2705400" cy="375120"/>
                <a:chOff x="5746680" y="2198160"/>
                <a:chExt cx="2705400" cy="3751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840640" y="2198160"/>
                  <a:ext cx="2517480" cy="37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imple Multipli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746680" y="2198160"/>
                  <a:ext cx="2705400" cy="37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5746680" y="2573640"/>
                <a:ext cx="2705400" cy="375120"/>
                <a:chOff x="5746680" y="2573640"/>
                <a:chExt cx="2705400" cy="3751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840640" y="2573640"/>
                  <a:ext cx="2517480" cy="37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apture-recaptu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746680" y="2573640"/>
                  <a:ext cx="2705400" cy="37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5746680" y="2949120"/>
                <a:ext cx="2705400" cy="375120"/>
                <a:chOff x="5746680" y="2949120"/>
                <a:chExt cx="2705400" cy="375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840640" y="2949120"/>
                  <a:ext cx="2517480" cy="37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peated captu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746680" y="2949120"/>
                  <a:ext cx="2705400" cy="37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5746680" y="3324240"/>
                <a:ext cx="2705400" cy="375120"/>
                <a:chOff x="5746680" y="3324240"/>
                <a:chExt cx="2705400" cy="375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840640" y="3324240"/>
                  <a:ext cx="2517480" cy="37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atching of registe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746680" y="3324240"/>
                  <a:ext cx="2705400" cy="37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678120" y="3699720"/>
                <a:ext cx="2068200" cy="485280"/>
                <a:chOff x="3678120" y="3699720"/>
                <a:chExt cx="2068200" cy="4852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771360" y="3699720"/>
                  <a:ext cx="1880640" cy="48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tatistical metho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678120" y="3699720"/>
                  <a:ext cx="2068200" cy="48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5746680" y="3699720"/>
                <a:ext cx="2705400" cy="485280"/>
                <a:chOff x="5746680" y="3699720"/>
                <a:chExt cx="2705400" cy="4852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840640" y="3699720"/>
                  <a:ext cx="2517480" cy="48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andom effect mixed modelling approac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746680" y="3699720"/>
                  <a:ext cx="2705400" cy="48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1918800" y="4185360"/>
                <a:ext cx="1758600" cy="970920"/>
                <a:chOff x="1918800" y="4185360"/>
                <a:chExt cx="1758600" cy="9709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2012760" y="4185360"/>
                  <a:ext cx="157068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administrative statistic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918800" y="4185360"/>
                  <a:ext cx="1758600" cy="97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3678120" y="4185360"/>
                <a:ext cx="2068200" cy="970920"/>
                <a:chOff x="3678120" y="4185360"/>
                <a:chExt cx="2068200" cy="9709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71360" y="4185360"/>
                  <a:ext cx="18806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ethods of self-identif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678120" y="4185360"/>
                  <a:ext cx="2068200" cy="97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746680" y="4185360"/>
                <a:ext cx="2705400" cy="485640"/>
                <a:chOff x="5746680" y="4185360"/>
                <a:chExt cx="2705400" cy="4856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5840640" y="4185360"/>
                  <a:ext cx="25174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vidence based on regularisation 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746680" y="4185360"/>
                  <a:ext cx="270540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746680" y="4671000"/>
                <a:ext cx="2705400" cy="485280"/>
                <a:chOff x="5746680" y="4671000"/>
                <a:chExt cx="2705400" cy="4852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5840640" y="4671000"/>
                  <a:ext cx="2517480" cy="48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Using data on status adjustments over tim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746680" y="4671000"/>
                  <a:ext cx="2705400" cy="48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918800" y="5156280"/>
                <a:ext cx="1758600" cy="860760"/>
                <a:chOff x="1918800" y="5156280"/>
                <a:chExt cx="1758600" cy="8607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012760" y="5156280"/>
                  <a:ext cx="1570680" cy="86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survey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918800" y="5156280"/>
                  <a:ext cx="1758600" cy="86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3678120" y="5156280"/>
                <a:ext cx="2068200" cy="860760"/>
                <a:chOff x="3678120" y="5156280"/>
                <a:chExt cx="2068200" cy="8607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3771360" y="5156280"/>
                  <a:ext cx="1880640" cy="86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nowball sampl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678120" y="5156280"/>
                  <a:ext cx="2068200" cy="86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746680" y="5156280"/>
                <a:ext cx="2705400" cy="375120"/>
                <a:chOff x="5746680" y="5156280"/>
                <a:chExt cx="2705400" cy="3751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840640" y="5156280"/>
                  <a:ext cx="2517480" cy="37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rect survey metho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746680" y="5156280"/>
                  <a:ext cx="2705400" cy="37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746680" y="5531760"/>
                <a:ext cx="2705400" cy="485280"/>
                <a:chOff x="5746680" y="5531760"/>
                <a:chExt cx="2705400" cy="4852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5840640" y="5531760"/>
                  <a:ext cx="2517480" cy="48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ingle stage link-trace sampl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746680" y="5531760"/>
                  <a:ext cx="2705400" cy="48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9" name=""/>
            <p:cNvSpPr/>
            <p:nvPr/>
          </p:nvSpPr>
          <p:spPr>
            <a:xfrm>
              <a:off x="533520" y="1820880"/>
              <a:ext cx="7924320" cy="419904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99D-9066-438C-80C4-B1BD9D899E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4548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A classification of methods for estimating </a:t>
            </a:r>
            <a:br>
              <a:rPr sz="3500"/>
            </a:b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irregular migrant stocks II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28600" y="1676520"/>
            <a:ext cx="8534160" cy="4495680"/>
            <a:chOff x="228600" y="1676520"/>
            <a:chExt cx="8534160" cy="4495680"/>
          </a:xfrm>
        </p:grpSpPr>
        <p:grpSp>
          <p:nvGrpSpPr>
            <p:cNvPr id="202" name=""/>
            <p:cNvGrpSpPr/>
            <p:nvPr/>
          </p:nvGrpSpPr>
          <p:grpSpPr>
            <a:xfrm>
              <a:off x="233280" y="1678320"/>
              <a:ext cx="8523720" cy="4491000"/>
              <a:chOff x="233280" y="1678320"/>
              <a:chExt cx="8523720" cy="449100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233280" y="1678320"/>
                <a:ext cx="1486800" cy="331920"/>
                <a:chOff x="233280" y="1678320"/>
                <a:chExt cx="1486800" cy="33192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334440" y="1678320"/>
                  <a:ext cx="12848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pproac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33280" y="1678320"/>
                  <a:ext cx="148680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1720440" y="1678320"/>
                <a:ext cx="1894320" cy="331920"/>
                <a:chOff x="1720440" y="1678320"/>
                <a:chExt cx="1894320" cy="3319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821600" y="1678320"/>
                  <a:ext cx="169200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ata sourc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720440" y="1678320"/>
                  <a:ext cx="189432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3615480" y="1678320"/>
                <a:ext cx="2227320" cy="331920"/>
                <a:chOff x="3615480" y="1678320"/>
                <a:chExt cx="2227320" cy="33192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3715920" y="1678320"/>
                  <a:ext cx="202536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etho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615480" y="1678320"/>
                  <a:ext cx="222732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843160" y="1678320"/>
                <a:ext cx="2913840" cy="331920"/>
                <a:chOff x="5843160" y="1678320"/>
                <a:chExt cx="2913840" cy="33192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944320" y="1678320"/>
                  <a:ext cx="271116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stimation techniqu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843160" y="1678320"/>
                  <a:ext cx="291384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233280" y="2010240"/>
                <a:ext cx="1486800" cy="4159080"/>
                <a:chOff x="233280" y="2010240"/>
                <a:chExt cx="1486800" cy="4159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34440" y="2010240"/>
                  <a:ext cx="1284840" cy="415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irect approach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3280" y="2010240"/>
                  <a:ext cx="1486800" cy="415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1720440" y="2010240"/>
                <a:ext cx="1894320" cy="1288800"/>
                <a:chOff x="1720440" y="2010240"/>
                <a:chExt cx="1894320" cy="12888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1821600" y="2010240"/>
                  <a:ext cx="16920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census/registe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720440" y="2010240"/>
                  <a:ext cx="1894320" cy="128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3615480" y="2010240"/>
                <a:ext cx="2227320" cy="859320"/>
                <a:chOff x="3615480" y="2010240"/>
                <a:chExt cx="2227320" cy="8593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715920" y="2010240"/>
                  <a:ext cx="2025360" cy="85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sidual metho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615480" y="2010240"/>
                  <a:ext cx="2227320" cy="85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843160" y="2010240"/>
                <a:ext cx="2913840" cy="429480"/>
                <a:chOff x="5843160" y="2010240"/>
                <a:chExt cx="2913840" cy="4294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944320" y="2010240"/>
                  <a:ext cx="2711160" cy="42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fferences census results – legal immigration 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843160" y="2010240"/>
                  <a:ext cx="2913840" cy="42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843160" y="2439720"/>
                <a:ext cx="2913840" cy="429480"/>
                <a:chOff x="5843160" y="2439720"/>
                <a:chExt cx="2913840" cy="4294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944320" y="2439720"/>
                  <a:ext cx="2711160" cy="42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imple comparison of various registe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843160" y="2439720"/>
                  <a:ext cx="2913840" cy="42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3615480" y="2869560"/>
                <a:ext cx="2227320" cy="429480"/>
                <a:chOff x="3615480" y="2869560"/>
                <a:chExt cx="2227320" cy="42948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3715920" y="2869560"/>
                  <a:ext cx="2025360" cy="42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emographic metho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615480" y="2869560"/>
                  <a:ext cx="2227320" cy="42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5843160" y="2869560"/>
                <a:ext cx="2913840" cy="429480"/>
                <a:chOff x="5843160" y="2869560"/>
                <a:chExt cx="2913840" cy="4294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5944320" y="2869560"/>
                  <a:ext cx="2711160" cy="42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Use of birth/death r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843160" y="2869560"/>
                  <a:ext cx="2913840" cy="42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720440" y="3299400"/>
                <a:ext cx="1894320" cy="664200"/>
                <a:chOff x="1720440" y="3299400"/>
                <a:chExt cx="1894320" cy="6642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821600" y="3299400"/>
                  <a:ext cx="1692000" cy="66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surveys of “key informants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720440" y="3299400"/>
                  <a:ext cx="1894320" cy="66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3615480" y="3299400"/>
                <a:ext cx="2227320" cy="664200"/>
                <a:chOff x="3615480" y="3299400"/>
                <a:chExt cx="2227320" cy="6642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3715920" y="3299400"/>
                  <a:ext cx="2025360" cy="66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ubjective Estimations/ Indicators Metho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615480" y="3299400"/>
                  <a:ext cx="2227320" cy="66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5843160" y="3299400"/>
                <a:ext cx="2913840" cy="331920"/>
                <a:chOff x="5843160" y="3299400"/>
                <a:chExt cx="2913840" cy="3319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944320" y="3299400"/>
                  <a:ext cx="271116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xpert survey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843160" y="3299400"/>
                  <a:ext cx="291384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843160" y="3631320"/>
                <a:ext cx="2913840" cy="331920"/>
                <a:chOff x="5843160" y="3631320"/>
                <a:chExt cx="2913840" cy="3319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944320" y="3631320"/>
                  <a:ext cx="271116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elphi survey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843160" y="3631320"/>
                  <a:ext cx="291384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720440" y="3963600"/>
                <a:ext cx="1894320" cy="527040"/>
                <a:chOff x="1720440" y="3963600"/>
                <a:chExt cx="1894320" cy="5270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821600" y="3963600"/>
                  <a:ext cx="1692000" cy="52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non-demographic 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720440" y="3963600"/>
                  <a:ext cx="1894320" cy="52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3615480" y="3963600"/>
                <a:ext cx="2227320" cy="527040"/>
                <a:chOff x="3615480" y="3963600"/>
                <a:chExt cx="2227320" cy="5270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715920" y="3963600"/>
                  <a:ext cx="2025360" cy="52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conometric methods on shadow econom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615480" y="3963600"/>
                  <a:ext cx="2227320" cy="52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5843160" y="3963600"/>
                <a:ext cx="2913840" cy="527040"/>
                <a:chOff x="5843160" y="3963600"/>
                <a:chExt cx="2913840" cy="5270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5944320" y="3963600"/>
                  <a:ext cx="2711160" cy="52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ference from estimates on illegal wor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843160" y="3963600"/>
                  <a:ext cx="2913840" cy="52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720440" y="4490640"/>
                <a:ext cx="1894320" cy="624600"/>
                <a:chOff x="1720440" y="4490640"/>
                <a:chExt cx="1894320" cy="6246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821600" y="4490640"/>
                  <a:ext cx="169200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census/registers/ demographic 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720440" y="4490640"/>
                  <a:ext cx="1894320" cy="62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3615480" y="4490640"/>
                <a:ext cx="2227320" cy="624600"/>
                <a:chOff x="3615480" y="4490640"/>
                <a:chExt cx="2227320" cy="6246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3715920" y="4490640"/>
                  <a:ext cx="202536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xpected population metho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615480" y="4490640"/>
                  <a:ext cx="2227320" cy="62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843160" y="4490640"/>
                <a:ext cx="2913840" cy="624600"/>
                <a:chOff x="5843160" y="4490640"/>
                <a:chExt cx="2913840" cy="6246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944320" y="4490640"/>
                  <a:ext cx="271116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omparison of census/emigration data and immigration statistic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843160" y="4490640"/>
                  <a:ext cx="2913840" cy="62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720440" y="5115240"/>
                <a:ext cx="1894320" cy="526680"/>
                <a:chOff x="1720440" y="5115240"/>
                <a:chExt cx="1894320" cy="5266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821600" y="5115240"/>
                  <a:ext cx="169200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admin. statistic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720440" y="5115240"/>
                  <a:ext cx="18943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3615480" y="5115240"/>
                <a:ext cx="2227320" cy="526680"/>
                <a:chOff x="3615480" y="5115240"/>
                <a:chExt cx="2227320" cy="5266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3715920" y="5115240"/>
                  <a:ext cx="20253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Flow-stock metho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615480" y="5115240"/>
                  <a:ext cx="22273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843160" y="5115240"/>
                <a:ext cx="2913840" cy="526680"/>
                <a:chOff x="5843160" y="5115240"/>
                <a:chExt cx="2913840" cy="5266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944320" y="5115240"/>
                  <a:ext cx="2711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alculating the stock through flow figu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843160" y="5115240"/>
                  <a:ext cx="291384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720440" y="5642280"/>
                <a:ext cx="1894320" cy="527040"/>
                <a:chOff x="1720440" y="5642280"/>
                <a:chExt cx="1894320" cy="52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821600" y="5642280"/>
                  <a:ext cx="1692000" cy="52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complem. data sourc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720440" y="5642280"/>
                  <a:ext cx="1894320" cy="52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3615480" y="5642280"/>
                <a:ext cx="2227320" cy="527040"/>
                <a:chOff x="3615480" y="5642280"/>
                <a:chExt cx="2227320" cy="5270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3715920" y="5642280"/>
                  <a:ext cx="2025360" cy="52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irect inferenc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615480" y="5642280"/>
                  <a:ext cx="2227320" cy="52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5843160" y="5642280"/>
                <a:ext cx="2913840" cy="527040"/>
                <a:chOff x="5843160" y="5642280"/>
                <a:chExt cx="2913840" cy="5270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5944320" y="5642280"/>
                  <a:ext cx="2711160" cy="52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gistered school children, household surveys, etc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843160" y="5642280"/>
                  <a:ext cx="2913840" cy="52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4" name=""/>
            <p:cNvSpPr/>
            <p:nvPr/>
          </p:nvSpPr>
          <p:spPr>
            <a:xfrm>
              <a:off x="228600" y="1676520"/>
              <a:ext cx="8534160" cy="44956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74B8-FCD2-4C90-A7FA-C060964E1C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4548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A classification of methods for estimating </a:t>
            </a:r>
            <a:br>
              <a:rPr sz="3500"/>
            </a:b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irregular migrant stocks III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80880" y="2082960"/>
            <a:ext cx="7848360" cy="2692080"/>
            <a:chOff x="380880" y="2082960"/>
            <a:chExt cx="7848360" cy="2692080"/>
          </a:xfrm>
        </p:grpSpPr>
        <p:grpSp>
          <p:nvGrpSpPr>
            <p:cNvPr id="287" name=""/>
            <p:cNvGrpSpPr/>
            <p:nvPr/>
          </p:nvGrpSpPr>
          <p:grpSpPr>
            <a:xfrm>
              <a:off x="385200" y="2085840"/>
              <a:ext cx="7838640" cy="2685240"/>
              <a:chOff x="385200" y="2085840"/>
              <a:chExt cx="7838640" cy="268524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385200" y="2085840"/>
                <a:ext cx="1367640" cy="518760"/>
                <a:chOff x="385200" y="2085840"/>
                <a:chExt cx="1367640" cy="5187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78080" y="2085840"/>
                  <a:ext cx="11818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pproac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85200" y="2085840"/>
                  <a:ext cx="136764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1753200" y="2085840"/>
                <a:ext cx="1742040" cy="518760"/>
                <a:chOff x="1753200" y="2085840"/>
                <a:chExt cx="1742040" cy="5187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846080" y="2085840"/>
                  <a:ext cx="155592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ata sourc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753200" y="2085840"/>
                  <a:ext cx="174204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3495600" y="2085840"/>
                <a:ext cx="2048400" cy="518760"/>
                <a:chOff x="3495600" y="2085840"/>
                <a:chExt cx="2048400" cy="5187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3588120" y="2085840"/>
                  <a:ext cx="18626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etho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495600" y="2085840"/>
                  <a:ext cx="204840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544360" y="2085840"/>
                <a:ext cx="2679480" cy="518760"/>
                <a:chOff x="5544360" y="2085840"/>
                <a:chExt cx="2679480" cy="5187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637240" y="2085840"/>
                  <a:ext cx="249336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stimation techniqu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544360" y="2085840"/>
                  <a:ext cx="267948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385200" y="2604600"/>
                <a:ext cx="1367640" cy="2166480"/>
                <a:chOff x="385200" y="2604600"/>
                <a:chExt cx="1367640" cy="21664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478080" y="2604600"/>
                  <a:ext cx="1181880" cy="21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ombined approach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85200" y="2604600"/>
                  <a:ext cx="1367640" cy="21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1753200" y="2604600"/>
                <a:ext cx="1742040" cy="671040"/>
                <a:chOff x="1753200" y="2604600"/>
                <a:chExt cx="1742040" cy="6710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846080" y="2604600"/>
                  <a:ext cx="155592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small scale survey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753200" y="2604600"/>
                  <a:ext cx="174204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3495600" y="2604600"/>
                <a:ext cx="2048400" cy="671040"/>
                <a:chOff x="3495600" y="2604600"/>
                <a:chExt cx="2048400" cy="6710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3588120" y="2604600"/>
                  <a:ext cx="186264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indow/Postal code metho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495600" y="2604600"/>
                  <a:ext cx="204840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5544360" y="2604600"/>
                <a:ext cx="2679480" cy="671040"/>
                <a:chOff x="5544360" y="2604600"/>
                <a:chExt cx="2679480" cy="6710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637240" y="2604600"/>
                  <a:ext cx="24933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mall scale study / use of regression analysi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544360" y="2604600"/>
                  <a:ext cx="267948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1753200" y="3276000"/>
                <a:ext cx="1742040" cy="671400"/>
                <a:chOff x="1753200" y="3276000"/>
                <a:chExt cx="1742040" cy="6714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846080" y="3276000"/>
                  <a:ext cx="1555920" cy="67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expert opinion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753200" y="3276000"/>
                  <a:ext cx="1742040" cy="67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3495600" y="3276000"/>
                <a:ext cx="2048400" cy="671400"/>
                <a:chOff x="3495600" y="3276000"/>
                <a:chExt cx="2048400" cy="6714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3588120" y="3276000"/>
                  <a:ext cx="1862640" cy="67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ocalized Delph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495600" y="3276000"/>
                  <a:ext cx="2048400" cy="67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544360" y="3276000"/>
                <a:ext cx="2679480" cy="671400"/>
                <a:chOff x="5544360" y="3276000"/>
                <a:chExt cx="2679480" cy="6714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5637240" y="3276000"/>
                  <a:ext cx="2493360" cy="67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elphi method / use of regression analysi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544360" y="3276000"/>
                  <a:ext cx="2679480" cy="67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1753200" y="3947760"/>
                <a:ext cx="1742040" cy="823320"/>
                <a:chOff x="1753200" y="3947760"/>
                <a:chExt cx="1742040" cy="823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1846080" y="3947760"/>
                  <a:ext cx="155592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djustment to surveys/ census 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753200" y="3947760"/>
                  <a:ext cx="1742040" cy="82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3495600" y="3947760"/>
                <a:ext cx="2048400" cy="823320"/>
                <a:chOff x="3495600" y="3947760"/>
                <a:chExt cx="2048400" cy="8233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588120" y="3947760"/>
                  <a:ext cx="186264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on-threatening survey desig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495600" y="3947760"/>
                  <a:ext cx="2048400" cy="82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544360" y="3947760"/>
                <a:ext cx="2679480" cy="823320"/>
                <a:chOff x="5544360" y="3947760"/>
                <a:chExt cx="2679480" cy="8233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637240" y="3947760"/>
                  <a:ext cx="249336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andomized response (3 cards method) / residual metho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544360" y="3947760"/>
                  <a:ext cx="2679480" cy="82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0" name=""/>
            <p:cNvSpPr/>
            <p:nvPr/>
          </p:nvSpPr>
          <p:spPr>
            <a:xfrm>
              <a:off x="380880" y="2082960"/>
              <a:ext cx="7848360" cy="26920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6FF-7093-4134-AA81-688F5C52B2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4548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A classification of methods for estimating </a:t>
            </a:r>
            <a:br>
              <a:rPr sz="3500"/>
            </a:b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irregular migrant flows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380880" y="2082960"/>
            <a:ext cx="8229240" cy="2692080"/>
            <a:chOff x="380880" y="2082960"/>
            <a:chExt cx="8229240" cy="2692080"/>
          </a:xfrm>
        </p:grpSpPr>
        <p:grpSp>
          <p:nvGrpSpPr>
            <p:cNvPr id="333" name=""/>
            <p:cNvGrpSpPr/>
            <p:nvPr/>
          </p:nvGrpSpPr>
          <p:grpSpPr>
            <a:xfrm>
              <a:off x="385200" y="2085840"/>
              <a:ext cx="8218800" cy="2685240"/>
              <a:chOff x="385200" y="2085840"/>
              <a:chExt cx="8218800" cy="268524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385200" y="2085840"/>
                <a:ext cx="1433880" cy="518760"/>
                <a:chOff x="385200" y="2085840"/>
                <a:chExt cx="1433880" cy="5187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82760" y="2085840"/>
                  <a:ext cx="123912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pproac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85200" y="2085840"/>
                  <a:ext cx="143388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1819440" y="2085840"/>
                <a:ext cx="1826640" cy="518760"/>
                <a:chOff x="1819440" y="2085840"/>
                <a:chExt cx="1826640" cy="5187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1917000" y="2085840"/>
                  <a:ext cx="163152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ata sourc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819440" y="2085840"/>
                  <a:ext cx="182664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3646440" y="2085840"/>
                <a:ext cx="2147760" cy="518760"/>
                <a:chOff x="3646440" y="2085840"/>
                <a:chExt cx="2147760" cy="51876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3743280" y="2085840"/>
                  <a:ext cx="195300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etho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646440" y="2085840"/>
                  <a:ext cx="214776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794560" y="2085840"/>
                <a:ext cx="2809440" cy="518760"/>
                <a:chOff x="5794560" y="2085840"/>
                <a:chExt cx="2809440" cy="5187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892120" y="2085840"/>
                  <a:ext cx="261432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ode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794560" y="2085840"/>
                  <a:ext cx="280944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385200" y="2604600"/>
                <a:ext cx="1433880" cy="823680"/>
                <a:chOff x="385200" y="2604600"/>
                <a:chExt cx="1433880" cy="8236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82760" y="2604600"/>
                  <a:ext cx="1239120" cy="82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rect approach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85200" y="2604600"/>
                  <a:ext cx="1433880" cy="82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1819440" y="2604600"/>
                <a:ext cx="1826640" cy="823680"/>
                <a:chOff x="1819440" y="2604600"/>
                <a:chExt cx="1826640" cy="82368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1917000" y="2604600"/>
                  <a:ext cx="1631520" cy="82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border apprehension 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819440" y="2604600"/>
                  <a:ext cx="1826640" cy="82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3646440" y="2604600"/>
                <a:ext cx="2147760" cy="823680"/>
                <a:chOff x="3646440" y="2604600"/>
                <a:chExt cx="2147760" cy="8236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3743280" y="2604600"/>
                  <a:ext cx="1953000" cy="82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ultiplier metho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646440" y="2604600"/>
                  <a:ext cx="2147760" cy="82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5794560" y="2604600"/>
                <a:ext cx="2809440" cy="823680"/>
                <a:chOff x="5794560" y="2604600"/>
                <a:chExt cx="2809440" cy="8236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5892120" y="2604600"/>
                  <a:ext cx="2614320" cy="82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imple multipli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794560" y="2604600"/>
                  <a:ext cx="2809440" cy="82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385200" y="3428640"/>
                <a:ext cx="1433880" cy="1342440"/>
                <a:chOff x="385200" y="3428640"/>
                <a:chExt cx="1433880" cy="134244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482760" y="3428640"/>
                  <a:ext cx="1239120" cy="13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irect approach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85200" y="3428640"/>
                  <a:ext cx="1433880" cy="134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1819440" y="3428640"/>
                <a:ext cx="1826640" cy="671040"/>
                <a:chOff x="1819440" y="3428640"/>
                <a:chExt cx="1826640" cy="67104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1917000" y="3428640"/>
                  <a:ext cx="163152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stock estim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819440" y="3428640"/>
                  <a:ext cx="182664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646440" y="3428640"/>
                <a:ext cx="2147760" cy="671040"/>
                <a:chOff x="3646440" y="3428640"/>
                <a:chExt cx="2147760" cy="67104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743280" y="3428640"/>
                  <a:ext cx="195300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fferential metho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646440" y="3428640"/>
                  <a:ext cx="214776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5794560" y="3428640"/>
                <a:ext cx="2809440" cy="671040"/>
                <a:chOff x="5794560" y="3428640"/>
                <a:chExt cx="2809440" cy="67104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5892120" y="3428640"/>
                  <a:ext cx="261432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et differences in stock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794560" y="3428640"/>
                  <a:ext cx="280944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1819440" y="4100040"/>
                <a:ext cx="1826640" cy="671040"/>
                <a:chOff x="1819440" y="4100040"/>
                <a:chExt cx="1826640" cy="67104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917000" y="4100040"/>
                  <a:ext cx="163152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ased on entry-exit statistic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819440" y="4100040"/>
                  <a:ext cx="182664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3646440" y="4100040"/>
                <a:ext cx="2147760" cy="671040"/>
                <a:chOff x="3646440" y="4100040"/>
                <a:chExt cx="2147760" cy="67104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3743280" y="4100040"/>
                  <a:ext cx="195300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sidual metho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646440" y="4100040"/>
                  <a:ext cx="214776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5794560" y="4100040"/>
                <a:ext cx="2809440" cy="671040"/>
                <a:chOff x="5794560" y="4100040"/>
                <a:chExt cx="2809440" cy="6710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892120" y="4100040"/>
                  <a:ext cx="261432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ouble entry card syste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794560" y="4100040"/>
                  <a:ext cx="280944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9" name=""/>
            <p:cNvSpPr/>
            <p:nvPr/>
          </p:nvSpPr>
          <p:spPr>
            <a:xfrm>
              <a:off x="380880" y="2082960"/>
              <a:ext cx="8229240" cy="26920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2664-CE55-4EB5-B627-F37C8DAED6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Multiplier Metho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Based on the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 Narrow"/>
              </a:rPr>
              <a:t>projection</a:t>
            </a: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 of available indicators, using an appropriately defined/derived multipli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.. on stocks/flow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Flow data (illegal entries): e.g. On apprehension data of illegal migrants at the bord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Stock data (illegal residence, illegal work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 Narrow"/>
              </a:rPr>
              <a:t>Example: Burgers 1995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Based on the number of apprehended criminal foreign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In-depth interviews with a sample of illegal migrants in Rotterdam to determine share of illegal migrants involved in criminal activities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 multiplier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 estimate of tota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Methods for estimating </a:t>
            </a:r>
            <a:br>
              <a:rPr sz="3500"/>
            </a:br>
            <a:r>
              <a:rPr b="0" lang="de-AT" sz="3500" spc="-1" strike="noStrike">
                <a:solidFill>
                  <a:srgbClr val="000000"/>
                </a:solidFill>
                <a:latin typeface="Arial Narrow"/>
              </a:rPr>
              <a:t>irregular migrant stocks I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Jandl, Geneva, 4.3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A14-78C7-4A70-954B-C8B9DCBFDB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1:10:08Z</dcterms:created>
  <dc:creator>jandlm</dc:creator>
  <dc:description/>
  <dc:language>en-US</dc:language>
  <cp:lastModifiedBy>jandl</cp:lastModifiedBy>
  <dcterms:modified xsi:type="dcterms:W3CDTF">2008-02-27T15:29:51Z</dcterms:modified>
  <cp:revision>39</cp:revision>
  <dc:subject/>
  <dc:title>"Irregular Migration and Human Smuggling  in Central and Eastern Europe"</dc:title>
</cp:coreProperties>
</file>