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D6DC315-707E-4201-8C07-AE2FAB568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pulation must remain closed and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re are no linking errors (correctly identified repeated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probability of capture must remain constant over period for each 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t can differ between individuals (adjusted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 precondition are detailed data on subgroups of m(i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model can not be wrong as such, but the calculations demand detailed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deviations (heterogeneity within populations) determine how well model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 fitted and the standard error/range of estimate (can be too large to be meaningfu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re are several theoretical/statistical extensions of the model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ore details in article in Studi Emigrazion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w can this help if no regulariz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stion of EU-Enlargement... E.g. Registered Poles before and after 2004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stimated 150,000 of 300,000 new registrations in U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is only a single-stage snowball sampling, where the first respondent only has to prov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criptions that identify whether the nominee is within s or is not.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been used to estimate the number of cocaine users in Rotterdam (n= 34,  m=311 of which r=15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 that N(est) =68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ne problem is the undercount in the CENS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 illegal migrants give evidence (?)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new methods testing this by „3card metho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problem is the second source of REGIST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es it overcount, when migrants leave and do not de-regis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UK: no register at all, method estimates stock through flow figures (minus deaths and emig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IDUAL method is simple comparison of registers, not calculations through linking register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simple comparison of two registers is used (Spain), thre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12 – persons with permit and NOT Mun.Pop.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22 – persons in neither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3 – persons in one of the registers not here any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gues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EU-25 there are 5.6m immigrants from MENA countries registered bu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ates 8.2 million are registered (difference = 2.6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ynovska 2004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ound 2m Ukrainians abroad of which 1 m in Russia and 950,000 in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 methods for stocks and 3 fo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ethods are possible only at certain moments (census, regularizations) and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531-469B-47E6-98A8-23BB86A7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E8E-A44C-4B0D-A6BF-524A6690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495-BE6A-4A96-8F92-441E2F48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C5E-7458-4E2B-8E05-A6DB437F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969F-7643-4407-A3E3-0B2107A2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8142-9451-40A7-8A5D-909230BE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A3E6-D701-4D3E-888F-065CB1E9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BE35-6CA9-4188-9443-07C8ED04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251C-1F90-4CC0-B926-BEC9D0A3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D62F-E48C-4DB4-BA5D-20A44166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7D0A-1A64-412C-9B58-6829D72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D4A-8ADB-48FA-9F9D-9C7FA6CA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E9BB-D6DD-4FB5-AA1D-8FE1FA62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8774-AC2A-45FF-BEB7-7C8411E3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F7A7-883A-4625-91EF-77749772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84E2-C291-4981-A9BB-BDF7DE7E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98B7-46E6-457A-8AD2-7FDD930B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364-5A91-4096-85C6-BEF5D87A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CD6-A798-43F5-9CD7-8373AC29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181-32C0-4DC3-920D-C873955D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4885-60CB-4140-990D-F0CA9577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4B5-1509-4197-8EAA-4F341F3B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BD1-784A-4B61-BDBC-F3972172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DFC-9799-4795-9145-03E52983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F75E-C241-4EEA-9BD6-502F9F350BB9}" type="slidenum"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724B-6D17-4BEE-991C-8021D062722F}" type="slidenum"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33720" y="472428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tion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int UNECE/Eurostat/UNFPA/MEDSTAT 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k Session on Migration Statistic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va, 3-5 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6200640"/>
            <a:ext cx="172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chael Jan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440" y="21333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ologies for the estim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stocks of irregular migrants"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Repeated Capture method in the N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 Narrow"/>
              </a:rPr>
              <a:t>Van der Leun et al. (1998), Engbersen et al. (2002), 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an der Heijden (2006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alysis of data from police enforcement records 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from 25 police distric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stablishing who has been caught 1, 2, 3, … tim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itting the data to a Poisson distribution and calculate N (y=0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576440" y="3657600"/>
          <a:ext cx="5586480" cy="259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3657600"/>
                    <a:ext cx="558648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3EC-0480-4F5D-A426-95B76889CB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47920" y="44748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I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A random effect mixed modelling approac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This is currently tested for Norway (UDI project, </a:t>
            </a:r>
            <a:r>
              <a:rPr b="0" i="1" lang="de-DE" sz="2200" spc="-1" strike="noStrike">
                <a:solidFill>
                  <a:srgbClr val="000000"/>
                </a:solidFill>
                <a:latin typeface="Arial Narrow"/>
              </a:rPr>
              <a:t>Li-Chun Zhang (2007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N= known/registered popula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n= apprehended by the police but among 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M= unknown/unregistered population to be estimat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m= those apprehended among 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N(i), n(i), M(i), m(i) are subgroups by age, citizenship,..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1) M(i)/N(i) is a random deviation from a global proportionality coefficient: log(Mi/Ni) =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+ vi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2) (mi)/M(i) is a function of n(i)/N(i):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log(mi/Mi) =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log(ni/Ni) + ei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Mi can be estimated by OLS and M=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Mi for all i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920-3083-4EFB-8E0D-6B4506A438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Evidence from regularizations (example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Italy’s 2002/2003 regularization</a:t>
            </a:r>
            <a:r>
              <a:rPr b="0" i="1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700,000 applications - 640,000 regularization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Top 3 countries were: Romania, Ukraine, Alban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Spain’s 2005 regularization</a:t>
            </a:r>
            <a:r>
              <a:rPr b="0" i="1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690,000 applications – 573,000 positive (end 05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Top 3 countries were: Ecuador, Romania, Morocc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2004/2007 EU enlargement = regularization?</a:t>
            </a:r>
            <a:r>
              <a:rPr b="0" i="1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Problems: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Number of applications is not the same as number of pers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Wide differences in implementation (Italy – easier; Greece – difficult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Not all illegal residents apply; additional non-residents app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Persons regularized can fall back into irregula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V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186-35D5-4906-BA17-42A95310C2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47920" y="44748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V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Single-stage link-tracing sampl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 Narrow"/>
              </a:rPr>
              <a:t>Frank and Snijders (1994), Li-Chun Zhang (2007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A specific form of snowball sampling,.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Taking a random sample s (1,...,i,...n) of persons in a target population U (1,...N) and letting each person (i) nominate m(i) other persons among U, then r(i) denotes the number of persons referring back to sample s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Based on this, under certain assumptions an estimator can be obtained, so that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N (est)= n + (n-1)x(m-r)/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(that is the higher the number of persons already nominated by i, the smaller the total population N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05C-1A8F-4A6E-8762-DC83E2FAE1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„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Residual methods“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Based on the differences between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Census results (total population adjusted for undercounting) 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Immigration data, aliens registers, residence permit registers, etc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Example USA: 2005 estimate: 10.3 m (Passel 2005), Jan 2006 estimate: 11.6m (Hoefer et al); UK: 2001 estimate: 310k-430k-570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V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E1E-428A-4695-99A2-E4DD73DC29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„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Simple Comparison of Registers“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direct estimation based on a comparison of two or more registers with data on the same target population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(where irregular migrants may at least partially be included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 Narrow"/>
              </a:rPr>
              <a:t>Example Spain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Legal residents should be registered in database on residents permits while illegal residents have incentives to register in the municipal regis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VI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76320" y="4419720"/>
            <a:ext cx="8991000" cy="1752480"/>
            <a:chOff x="76320" y="4419720"/>
            <a:chExt cx="8991000" cy="1752480"/>
          </a:xfrm>
        </p:grpSpPr>
        <p:grpSp>
          <p:nvGrpSpPr>
            <p:cNvPr id="397" name=""/>
            <p:cNvGrpSpPr/>
            <p:nvPr/>
          </p:nvGrpSpPr>
          <p:grpSpPr>
            <a:xfrm>
              <a:off x="81720" y="4421520"/>
              <a:ext cx="8979120" cy="1748520"/>
              <a:chOff x="81720" y="4421520"/>
              <a:chExt cx="8979120" cy="174852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81720" y="4421520"/>
                <a:ext cx="1683720" cy="288720"/>
                <a:chOff x="81720" y="4421520"/>
                <a:chExt cx="1683720" cy="28872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57680" y="4421520"/>
                  <a:ext cx="153072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Regist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1720" y="4421520"/>
                  <a:ext cx="168372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765800" y="4421520"/>
                <a:ext cx="897480" cy="288720"/>
                <a:chOff x="1765800" y="4421520"/>
                <a:chExt cx="897480" cy="2887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841760" y="4421520"/>
                  <a:ext cx="74448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9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765800" y="4421520"/>
                  <a:ext cx="89748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663640" y="4421520"/>
                <a:ext cx="1025640" cy="288720"/>
                <a:chOff x="2663640" y="4421520"/>
                <a:chExt cx="1025640" cy="28872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739600" y="4421520"/>
                  <a:ext cx="87264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9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63640" y="4421520"/>
                  <a:ext cx="102564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3690000" y="4421520"/>
                <a:ext cx="894600" cy="288720"/>
                <a:chOff x="3690000" y="4421520"/>
                <a:chExt cx="894600" cy="28872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3765960" y="4421520"/>
                  <a:ext cx="74232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690000" y="4421520"/>
                  <a:ext cx="89460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4584960" y="4421520"/>
                <a:ext cx="894600" cy="288720"/>
                <a:chOff x="4584960" y="4421520"/>
                <a:chExt cx="894600" cy="28872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4661640" y="4421520"/>
                  <a:ext cx="74160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584960" y="4421520"/>
                  <a:ext cx="89460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5479920" y="4421520"/>
                <a:ext cx="894960" cy="288720"/>
                <a:chOff x="5479920" y="4421520"/>
                <a:chExt cx="894960" cy="28872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5556600" y="4421520"/>
                  <a:ext cx="74160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479920" y="4421520"/>
                  <a:ext cx="89496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6375600" y="4421520"/>
                <a:ext cx="894600" cy="288720"/>
                <a:chOff x="6375600" y="4421520"/>
                <a:chExt cx="894600" cy="2887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451560" y="4421520"/>
                  <a:ext cx="74232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375600" y="4421520"/>
                  <a:ext cx="89460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7270560" y="4421520"/>
                <a:ext cx="894960" cy="288720"/>
                <a:chOff x="7270560" y="4421520"/>
                <a:chExt cx="894960" cy="2887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7347240" y="4421520"/>
                  <a:ext cx="74160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270560" y="4421520"/>
                  <a:ext cx="89496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8166240" y="4421520"/>
                <a:ext cx="894600" cy="288720"/>
                <a:chOff x="8166240" y="4421520"/>
                <a:chExt cx="894600" cy="28872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8242200" y="4421520"/>
                  <a:ext cx="74232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166240" y="4421520"/>
                  <a:ext cx="89460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81720" y="4710240"/>
                <a:ext cx="1683720" cy="373320"/>
                <a:chOff x="81720" y="4710240"/>
                <a:chExt cx="1683720" cy="3733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57680" y="4710240"/>
                  <a:ext cx="153072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nicipal Regist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1720" y="4710240"/>
                  <a:ext cx="168372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1765800" y="4710240"/>
                <a:ext cx="897480" cy="373320"/>
                <a:chOff x="1765800" y="4710240"/>
                <a:chExt cx="897480" cy="3733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841760" y="4710240"/>
                  <a:ext cx="74448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37.08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765800" y="4710240"/>
                  <a:ext cx="89748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2663640" y="4710240"/>
                <a:ext cx="1025640" cy="373320"/>
                <a:chOff x="2663640" y="4710240"/>
                <a:chExt cx="1025640" cy="3733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739600" y="4710240"/>
                  <a:ext cx="87264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48.95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663640" y="4710240"/>
                  <a:ext cx="102564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3690000" y="4710240"/>
                <a:ext cx="894600" cy="373320"/>
                <a:chOff x="3690000" y="4710240"/>
                <a:chExt cx="894600" cy="3733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3765960" y="4710240"/>
                  <a:ext cx="74232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23.87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690000" y="4710240"/>
                  <a:ext cx="89460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4584960" y="4710240"/>
                <a:ext cx="894600" cy="373320"/>
                <a:chOff x="4584960" y="4710240"/>
                <a:chExt cx="894600" cy="3733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661640" y="4710240"/>
                  <a:ext cx="74160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370.65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584960" y="4710240"/>
                  <a:ext cx="89460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479920" y="4710240"/>
                <a:ext cx="894960" cy="373320"/>
                <a:chOff x="5479920" y="4710240"/>
                <a:chExt cx="894960" cy="3733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556600" y="4710240"/>
                  <a:ext cx="74160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977.94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479920" y="4710240"/>
                  <a:ext cx="89496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375600" y="4710240"/>
                <a:ext cx="894600" cy="373320"/>
                <a:chOff x="6375600" y="4710240"/>
                <a:chExt cx="894600" cy="3733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451560" y="4710240"/>
                  <a:ext cx="74232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664.16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375600" y="4710240"/>
                  <a:ext cx="89460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7270560" y="4710240"/>
                <a:ext cx="894960" cy="373320"/>
                <a:chOff x="7270560" y="4710240"/>
                <a:chExt cx="894960" cy="3733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7347240" y="4710240"/>
                  <a:ext cx="74160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.034.32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270560" y="4710240"/>
                  <a:ext cx="89496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8166240" y="4710240"/>
                <a:ext cx="894600" cy="373320"/>
                <a:chOff x="8166240" y="4710240"/>
                <a:chExt cx="894600" cy="3733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8242200" y="4710240"/>
                  <a:ext cx="74232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.730.6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166240" y="4710240"/>
                  <a:ext cx="89460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81720" y="5083920"/>
                <a:ext cx="1683720" cy="458280"/>
                <a:chOff x="81720" y="5083920"/>
                <a:chExt cx="1683720" cy="4582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157680" y="5083920"/>
                  <a:ext cx="15307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oreigners with Resident Permi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1720" y="5083920"/>
                  <a:ext cx="168372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1765800" y="5083920"/>
                <a:ext cx="897480" cy="458280"/>
                <a:chOff x="1765800" y="5083920"/>
                <a:chExt cx="897480" cy="45828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1841760" y="5083920"/>
                  <a:ext cx="7444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19.64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765800" y="5083920"/>
                  <a:ext cx="89748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663640" y="5083920"/>
                <a:ext cx="1025640" cy="458280"/>
                <a:chOff x="2663640" y="5083920"/>
                <a:chExt cx="1025640" cy="4582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2739600" y="5083920"/>
                  <a:ext cx="8726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01.33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663640" y="5083920"/>
                  <a:ext cx="102564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3690000" y="5083920"/>
                <a:ext cx="894600" cy="458280"/>
                <a:chOff x="3690000" y="5083920"/>
                <a:chExt cx="894600" cy="45828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765960" y="5083920"/>
                  <a:ext cx="7423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95.72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690000" y="5083920"/>
                  <a:ext cx="89460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4584960" y="5083920"/>
                <a:ext cx="894600" cy="458280"/>
                <a:chOff x="4584960" y="5083920"/>
                <a:chExt cx="894600" cy="4582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661640" y="5083920"/>
                  <a:ext cx="74160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109.06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584960" y="5083920"/>
                  <a:ext cx="89460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479920" y="5083920"/>
                <a:ext cx="894960" cy="458280"/>
                <a:chOff x="5479920" y="5083920"/>
                <a:chExt cx="894960" cy="4582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556600" y="5083920"/>
                  <a:ext cx="74160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324.00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479920" y="5083920"/>
                  <a:ext cx="89496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6375600" y="5083920"/>
                <a:ext cx="894600" cy="458280"/>
                <a:chOff x="6375600" y="5083920"/>
                <a:chExt cx="894600" cy="4582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451560" y="5083920"/>
                  <a:ext cx="7423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647.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375600" y="5083920"/>
                  <a:ext cx="89460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7270560" y="5083920"/>
                <a:ext cx="894960" cy="458280"/>
                <a:chOff x="7270560" y="5083920"/>
                <a:chExt cx="894960" cy="4582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7347240" y="5083920"/>
                  <a:ext cx="74160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977.29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270560" y="5083920"/>
                  <a:ext cx="89496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8166240" y="5083920"/>
                <a:ext cx="894600" cy="458280"/>
                <a:chOff x="8166240" y="5083920"/>
                <a:chExt cx="894600" cy="45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242200" y="5083920"/>
                  <a:ext cx="7423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738.93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66240" y="5083920"/>
                  <a:ext cx="89460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1720" y="5542200"/>
                <a:ext cx="1683720" cy="627840"/>
                <a:chOff x="81720" y="5542200"/>
                <a:chExt cx="1683720" cy="6278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57680" y="5542200"/>
                  <a:ext cx="153072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fference (MR – Foreigners with Resident Permi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1720" y="5542200"/>
                  <a:ext cx="16837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1765800" y="5542200"/>
                <a:ext cx="897480" cy="627840"/>
                <a:chOff x="1765800" y="5542200"/>
                <a:chExt cx="897480" cy="62784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841760" y="5542200"/>
                  <a:ext cx="74448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 82.56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765800" y="5542200"/>
                  <a:ext cx="89748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2663640" y="5542200"/>
                <a:ext cx="1025640" cy="627840"/>
                <a:chOff x="2663640" y="5542200"/>
                <a:chExt cx="1025640" cy="6278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2739600" y="5542200"/>
                  <a:ext cx="872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52.37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663640" y="5542200"/>
                  <a:ext cx="102564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690000" y="5542200"/>
                <a:ext cx="894600" cy="627840"/>
                <a:chOff x="3690000" y="5542200"/>
                <a:chExt cx="894600" cy="6278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3765960" y="5542200"/>
                  <a:ext cx="74232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8.15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690000" y="5542200"/>
                  <a:ext cx="89460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584960" y="5542200"/>
                <a:ext cx="894600" cy="627840"/>
                <a:chOff x="4584960" y="5542200"/>
                <a:chExt cx="894600" cy="6278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661640" y="5542200"/>
                  <a:ext cx="7416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1.59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84960" y="5542200"/>
                  <a:ext cx="89460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5479920" y="5542200"/>
                <a:ext cx="894960" cy="627840"/>
                <a:chOff x="5479920" y="5542200"/>
                <a:chExt cx="894960" cy="62784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5556600" y="5542200"/>
                  <a:ext cx="7416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53.94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479920" y="5542200"/>
                  <a:ext cx="89496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375600" y="5542200"/>
                <a:ext cx="894600" cy="627840"/>
                <a:chOff x="6375600" y="5542200"/>
                <a:chExt cx="894600" cy="6278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451560" y="5542200"/>
                  <a:ext cx="74232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017.15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375600" y="5542200"/>
                  <a:ext cx="89460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270560" y="5542200"/>
                <a:ext cx="894960" cy="627840"/>
                <a:chOff x="7270560" y="5542200"/>
                <a:chExt cx="894960" cy="6278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7347240" y="5542200"/>
                  <a:ext cx="7416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057.03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270560" y="5542200"/>
                  <a:ext cx="89496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8166240" y="5542200"/>
                <a:ext cx="894600" cy="627840"/>
                <a:chOff x="8166240" y="5542200"/>
                <a:chExt cx="894600" cy="6278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8242200" y="5542200"/>
                  <a:ext cx="74232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91.67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166240" y="5542200"/>
                  <a:ext cx="89460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76320" y="4419720"/>
              <a:ext cx="8991000" cy="17524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C90-3A50-4207-913E-CB725F8494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„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Comparison of Immigration and Emigration Statistics“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Based on the differences between (estimated) emigration and (recorded) immigration data, the number of migrants without legal resident status is estima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Examples: Mexico-US migration (in: Lederer 1994); Delaunay and Tapinos (1998a): Morocco – Europe (not Tunisia), Fargues (2007): estimates of MENA emigration; Malynovska 2004: estimates on Ukrainians abroa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Problems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Migrants may disperse over a large number of countries not just to one reg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Both emigration estimates and immigration data are prone to large margins of err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However, data from countries of origin/consulates could be more exploi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VII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A0A-807D-47B6-859F-C4E7638006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 Narrow"/>
              </a:rPr>
              <a:t>Conclusions I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07560" y="2127240"/>
            <a:ext cx="754884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re are a number of feasible estimation methods availab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 lot can be learned from existing examples in migration research and from the study of other hidden population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ot all methods are suitable and applicable in all circumstances and at all tim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Some methods need the production of new data, some can use existing data (if available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In addition to data and methods, a good knowledge of irregular migration processes is necessary (</a:t>
            </a:r>
            <a:r>
              <a:rPr b="0" lang="de-A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 also qualitiative research!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A solid estimate usually needs substantial time and resources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BE9-59E0-42A2-9606-AB7AACB246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 Narrow"/>
              </a:rPr>
              <a:t>Conclusions II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o one estimate can be perfect, each method has its strengths and weakness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An external validation of the accuracy of results is difficul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A triangulation of several independent estimates can improve confidence in the outcom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The use of multiple, complementary methods is recommendab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New methods and data sources can and should be develop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Technological and administrative innovations can give rise to new methods (e.g. Biometric visa and travel documents for entry-exit method or electronic databases with fingerprints for repeated capture method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69F-0D68-4C17-AF7D-234D719912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 Narrow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30520" y="2195640"/>
            <a:ext cx="6727680" cy="35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Research and data proble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A classification of methods for estimating irregular migrant stocks and flow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Selected methods for estimating irregular migrant stock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4C3-92B7-4048-8EFB-920FF4FD19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 Narrow"/>
              </a:rPr>
              <a:t>Research and data proble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Illegal (unauthorized/undocumented) Migration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is deliberately hidden from view (sanctioned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is statistically not 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directly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quantifyable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can be researched with qualitative social science methods, data trend analysis and quantitative estimation method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Data and methods should be subject to close scrutin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Minimum condition: indications on 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methods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assumptions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data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sources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of quantitative estimates should be give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Otherwise we should not speak of an „estimate“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CD7-3646-466F-AFA1-B9C271C1AE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 Narrow"/>
              </a:rPr>
              <a:t>A new classification schem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Differentiation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Stock data (illegal residence, </a:t>
            </a:r>
            <a:r>
              <a:rPr b="0" lang="de-AT" sz="2200" spc="-1" strike="noStrike">
                <a:solidFill>
                  <a:srgbClr val="b2b2b2"/>
                </a:solidFill>
                <a:latin typeface="Arial Narrow"/>
              </a:rPr>
              <a:t>illegal work</a:t>
            </a: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Flow data (illegal entry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Subdivisions into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 Narrow"/>
              </a:rPr>
              <a:t>Direct</a:t>
            </a: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 approaches vs. </a:t>
            </a:r>
            <a:r>
              <a:rPr b="1" lang="de-AT" sz="2200" spc="-1" strike="noStrike">
                <a:solidFill>
                  <a:srgbClr val="000000"/>
                </a:solidFill>
                <a:latin typeface="Arial Narrow"/>
              </a:rPr>
              <a:t>indirect</a:t>
            </a: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 approaches (+ </a:t>
            </a:r>
            <a:r>
              <a:rPr b="1" lang="de-AT" sz="2200" spc="-1" strike="noStrike">
                <a:solidFill>
                  <a:srgbClr val="000000"/>
                </a:solidFill>
                <a:latin typeface="Arial Narrow"/>
              </a:rPr>
              <a:t>combined</a:t>
            </a: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 approache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 Narro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Data sources (already existing, specifically generated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 Narro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 Narrow"/>
              </a:rPr>
              <a:t>Methodic grou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Arial Narro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 Narrow"/>
              </a:rPr>
              <a:t>Estimation techniqu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6C3-FA2C-424A-89AA-04E4827EAF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A classification of 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520" y="1820880"/>
            <a:ext cx="7924320" cy="4199040"/>
            <a:chOff x="533520" y="1820880"/>
            <a:chExt cx="7924320" cy="4199040"/>
          </a:xfrm>
        </p:grpSpPr>
        <p:grpSp>
          <p:nvGrpSpPr>
            <p:cNvPr id="135" name=""/>
            <p:cNvGrpSpPr/>
            <p:nvPr/>
          </p:nvGrpSpPr>
          <p:grpSpPr>
            <a:xfrm>
              <a:off x="537840" y="1823040"/>
              <a:ext cx="7914240" cy="4194000"/>
              <a:chOff x="537840" y="1823040"/>
              <a:chExt cx="7914240" cy="41940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537840" y="1823040"/>
                <a:ext cx="1380600" cy="375120"/>
                <a:chOff x="537840" y="1823040"/>
                <a:chExt cx="1380600" cy="375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31800" y="1823040"/>
                  <a:ext cx="119304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pproac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37840" y="1823040"/>
                  <a:ext cx="13806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918800" y="1823040"/>
                <a:ext cx="1758600" cy="375120"/>
                <a:chOff x="1918800" y="1823040"/>
                <a:chExt cx="1758600" cy="375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012760" y="1823040"/>
                  <a:ext cx="15706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ata sour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18800" y="1823040"/>
                  <a:ext cx="17586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3678120" y="1823040"/>
                <a:ext cx="2068200" cy="375120"/>
                <a:chOff x="3678120" y="1823040"/>
                <a:chExt cx="2068200" cy="375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771360" y="1823040"/>
                  <a:ext cx="188064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678120" y="1823040"/>
                  <a:ext cx="20682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5746680" y="1823040"/>
                <a:ext cx="2705400" cy="375120"/>
                <a:chOff x="5746680" y="1823040"/>
                <a:chExt cx="2705400" cy="375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5840640" y="1823040"/>
                  <a:ext cx="25174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stimation techniqu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46680" y="1823040"/>
                  <a:ext cx="27054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37840" y="2198160"/>
                <a:ext cx="1380600" cy="3818880"/>
                <a:chOff x="537840" y="2198160"/>
                <a:chExt cx="1380600" cy="3818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31800" y="2198160"/>
                  <a:ext cx="1193040" cy="38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rect approach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37840" y="2198160"/>
                  <a:ext cx="1380600" cy="381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918800" y="2198160"/>
                <a:ext cx="1758600" cy="1986840"/>
                <a:chOff x="1918800" y="2198160"/>
                <a:chExt cx="1758600" cy="19868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012760" y="2198160"/>
                  <a:ext cx="1570680" cy="19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immigration enforcement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918800" y="2198160"/>
                  <a:ext cx="1758600" cy="198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678120" y="2198160"/>
                <a:ext cx="2068200" cy="1501200"/>
                <a:chOff x="3678120" y="2198160"/>
                <a:chExt cx="2068200" cy="15012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771360" y="2198160"/>
                  <a:ext cx="1880640" cy="15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ltiplier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678120" y="2198160"/>
                  <a:ext cx="2068200" cy="15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746680" y="2198160"/>
                <a:ext cx="2705400" cy="375120"/>
                <a:chOff x="5746680" y="2198160"/>
                <a:chExt cx="2705400" cy="375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840640" y="2198160"/>
                  <a:ext cx="25174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ple Multipl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46680" y="2198160"/>
                  <a:ext cx="27054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746680" y="2573640"/>
                <a:ext cx="2705400" cy="375120"/>
                <a:chOff x="5746680" y="2573640"/>
                <a:chExt cx="2705400" cy="375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840640" y="2573640"/>
                  <a:ext cx="25174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ture-recap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746680" y="2573640"/>
                  <a:ext cx="27054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746680" y="2949120"/>
                <a:ext cx="2705400" cy="375120"/>
                <a:chOff x="5746680" y="2949120"/>
                <a:chExt cx="2705400" cy="375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840640" y="2949120"/>
                  <a:ext cx="25174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peated cap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746680" y="2949120"/>
                  <a:ext cx="27054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5746680" y="3324240"/>
                <a:ext cx="2705400" cy="375120"/>
                <a:chOff x="5746680" y="3324240"/>
                <a:chExt cx="2705400" cy="375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840640" y="3324240"/>
                  <a:ext cx="25174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atching of regist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746680" y="3324240"/>
                  <a:ext cx="27054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678120" y="3699720"/>
                <a:ext cx="2068200" cy="485280"/>
                <a:chOff x="3678120" y="3699720"/>
                <a:chExt cx="2068200" cy="485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771360" y="3699720"/>
                  <a:ext cx="188064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tatistical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678120" y="3699720"/>
                  <a:ext cx="206820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746680" y="3699720"/>
                <a:ext cx="2705400" cy="485280"/>
                <a:chOff x="5746680" y="3699720"/>
                <a:chExt cx="2705400" cy="485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840640" y="3699720"/>
                  <a:ext cx="251748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andom effect mixed modelling approac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746680" y="3699720"/>
                  <a:ext cx="270540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918800" y="4185360"/>
                <a:ext cx="1758600" cy="970920"/>
                <a:chOff x="1918800" y="4185360"/>
                <a:chExt cx="1758600" cy="9709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012760" y="4185360"/>
                  <a:ext cx="157068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administrative statistic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918800" y="4185360"/>
                  <a:ext cx="1758600" cy="97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678120" y="4185360"/>
                <a:ext cx="2068200" cy="970920"/>
                <a:chOff x="3678120" y="4185360"/>
                <a:chExt cx="2068200" cy="9709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71360" y="4185360"/>
                  <a:ext cx="18806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thods of self-identif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78120" y="4185360"/>
                  <a:ext cx="2068200" cy="97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746680" y="4185360"/>
                <a:ext cx="2705400" cy="485640"/>
                <a:chOff x="5746680" y="4185360"/>
                <a:chExt cx="2705400" cy="4856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840640" y="4185360"/>
                  <a:ext cx="25174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vidence based on regularisation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746680" y="4185360"/>
                  <a:ext cx="270540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746680" y="4671000"/>
                <a:ext cx="2705400" cy="485280"/>
                <a:chOff x="5746680" y="4671000"/>
                <a:chExt cx="2705400" cy="485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840640" y="4671000"/>
                  <a:ext cx="251748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Using data on status adjustments over tim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746680" y="4671000"/>
                  <a:ext cx="270540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918800" y="5156280"/>
                <a:ext cx="1758600" cy="860760"/>
                <a:chOff x="1918800" y="5156280"/>
                <a:chExt cx="1758600" cy="8607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12760" y="5156280"/>
                  <a:ext cx="1570680" cy="86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survey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918800" y="5156280"/>
                  <a:ext cx="1758600" cy="86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678120" y="5156280"/>
                <a:ext cx="2068200" cy="860760"/>
                <a:chOff x="3678120" y="5156280"/>
                <a:chExt cx="2068200" cy="8607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771360" y="5156280"/>
                  <a:ext cx="1880640" cy="86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nowball samp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678120" y="5156280"/>
                  <a:ext cx="2068200" cy="86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746680" y="5156280"/>
                <a:ext cx="2705400" cy="375120"/>
                <a:chOff x="5746680" y="5156280"/>
                <a:chExt cx="2705400" cy="375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840640" y="5156280"/>
                  <a:ext cx="25174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rect survey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46680" y="5156280"/>
                  <a:ext cx="27054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746680" y="5531760"/>
                <a:ext cx="2705400" cy="485280"/>
                <a:chOff x="5746680" y="5531760"/>
                <a:chExt cx="2705400" cy="4852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840640" y="5531760"/>
                  <a:ext cx="251748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ngle stage link-trace samp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746680" y="5531760"/>
                  <a:ext cx="270540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533520" y="1820880"/>
              <a:ext cx="7924320" cy="41990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B4E-4A61-4901-B8E6-8B27A8839D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A classification of 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8600" y="1676520"/>
            <a:ext cx="8534160" cy="4495680"/>
            <a:chOff x="228600" y="1676520"/>
            <a:chExt cx="8534160" cy="4495680"/>
          </a:xfrm>
        </p:grpSpPr>
        <p:grpSp>
          <p:nvGrpSpPr>
            <p:cNvPr id="202" name=""/>
            <p:cNvGrpSpPr/>
            <p:nvPr/>
          </p:nvGrpSpPr>
          <p:grpSpPr>
            <a:xfrm>
              <a:off x="233280" y="1678320"/>
              <a:ext cx="8523720" cy="4491000"/>
              <a:chOff x="233280" y="1678320"/>
              <a:chExt cx="8523720" cy="44910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233280" y="1678320"/>
                <a:ext cx="1486800" cy="331920"/>
                <a:chOff x="233280" y="1678320"/>
                <a:chExt cx="1486800" cy="3319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34440" y="1678320"/>
                  <a:ext cx="12848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pproac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33280" y="1678320"/>
                  <a:ext cx="148680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720440" y="1678320"/>
                <a:ext cx="1894320" cy="331920"/>
                <a:chOff x="1720440" y="1678320"/>
                <a:chExt cx="1894320" cy="3319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821600" y="1678320"/>
                  <a:ext cx="169200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ata sour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720440" y="1678320"/>
                  <a:ext cx="189432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615480" y="1678320"/>
                <a:ext cx="2227320" cy="331920"/>
                <a:chOff x="3615480" y="1678320"/>
                <a:chExt cx="2227320" cy="33192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715920" y="1678320"/>
                  <a:ext cx="20253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615480" y="1678320"/>
                  <a:ext cx="222732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843160" y="1678320"/>
                <a:ext cx="2913840" cy="331920"/>
                <a:chOff x="5843160" y="1678320"/>
                <a:chExt cx="2913840" cy="3319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944320" y="1678320"/>
                  <a:ext cx="27111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stimation techniqu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843160" y="1678320"/>
                  <a:ext cx="291384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233280" y="2010240"/>
                <a:ext cx="1486800" cy="4159080"/>
                <a:chOff x="233280" y="2010240"/>
                <a:chExt cx="1486800" cy="4159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34440" y="2010240"/>
                  <a:ext cx="1284840" cy="415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irect approach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3280" y="2010240"/>
                  <a:ext cx="1486800" cy="415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720440" y="2010240"/>
                <a:ext cx="1894320" cy="1288800"/>
                <a:chOff x="1720440" y="2010240"/>
                <a:chExt cx="1894320" cy="12888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821600" y="2010240"/>
                  <a:ext cx="16920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census/regist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720440" y="2010240"/>
                  <a:ext cx="1894320" cy="12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615480" y="2010240"/>
                <a:ext cx="2227320" cy="859320"/>
                <a:chOff x="3615480" y="2010240"/>
                <a:chExt cx="2227320" cy="8593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715920" y="2010240"/>
                  <a:ext cx="202536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dual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615480" y="2010240"/>
                  <a:ext cx="222732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843160" y="2010240"/>
                <a:ext cx="2913840" cy="429480"/>
                <a:chOff x="5843160" y="2010240"/>
                <a:chExt cx="2913840" cy="4294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944320" y="2010240"/>
                  <a:ext cx="2711160" cy="42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fferences census results – legal immigration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843160" y="2010240"/>
                  <a:ext cx="2913840" cy="42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843160" y="2439720"/>
                <a:ext cx="2913840" cy="429480"/>
                <a:chOff x="5843160" y="2439720"/>
                <a:chExt cx="2913840" cy="4294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944320" y="2439720"/>
                  <a:ext cx="2711160" cy="42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ple comparison of various regist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843160" y="2439720"/>
                  <a:ext cx="2913840" cy="42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615480" y="2869560"/>
                <a:ext cx="2227320" cy="429480"/>
                <a:chOff x="3615480" y="2869560"/>
                <a:chExt cx="2227320" cy="4294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3715920" y="2869560"/>
                  <a:ext cx="2025360" cy="42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emographic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615480" y="2869560"/>
                  <a:ext cx="2227320" cy="42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5843160" y="2869560"/>
                <a:ext cx="2913840" cy="429480"/>
                <a:chOff x="5843160" y="2869560"/>
                <a:chExt cx="2913840" cy="4294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944320" y="2869560"/>
                  <a:ext cx="2711160" cy="42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Use of birth/death r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843160" y="2869560"/>
                  <a:ext cx="2913840" cy="42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720440" y="3299400"/>
                <a:ext cx="1894320" cy="664200"/>
                <a:chOff x="1720440" y="3299400"/>
                <a:chExt cx="1894320" cy="6642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821600" y="3299400"/>
                  <a:ext cx="1692000" cy="66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surveys of “key informants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20440" y="3299400"/>
                  <a:ext cx="1894320" cy="6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615480" y="3299400"/>
                <a:ext cx="2227320" cy="664200"/>
                <a:chOff x="3615480" y="3299400"/>
                <a:chExt cx="2227320" cy="6642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715920" y="3299400"/>
                  <a:ext cx="2025360" cy="66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jective Estimations/ Indicators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615480" y="3299400"/>
                  <a:ext cx="2227320" cy="6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843160" y="3299400"/>
                <a:ext cx="2913840" cy="331920"/>
                <a:chOff x="5843160" y="3299400"/>
                <a:chExt cx="2913840" cy="331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944320" y="3299400"/>
                  <a:ext cx="27111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xpert survey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43160" y="3299400"/>
                  <a:ext cx="291384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843160" y="3631320"/>
                <a:ext cx="2913840" cy="331920"/>
                <a:chOff x="5843160" y="3631320"/>
                <a:chExt cx="2913840" cy="3319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944320" y="3631320"/>
                  <a:ext cx="27111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elphi survey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843160" y="3631320"/>
                  <a:ext cx="291384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720440" y="3963600"/>
                <a:ext cx="1894320" cy="527040"/>
                <a:chOff x="1720440" y="3963600"/>
                <a:chExt cx="1894320" cy="5270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821600" y="3963600"/>
                  <a:ext cx="1692000" cy="52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non-demographic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20440" y="3963600"/>
                  <a:ext cx="1894320" cy="52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3615480" y="3963600"/>
                <a:ext cx="2227320" cy="527040"/>
                <a:chOff x="3615480" y="3963600"/>
                <a:chExt cx="2227320" cy="5270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715920" y="3963600"/>
                  <a:ext cx="2025360" cy="52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conometric methods on shadow econom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615480" y="3963600"/>
                  <a:ext cx="2227320" cy="52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843160" y="3963600"/>
                <a:ext cx="2913840" cy="527040"/>
                <a:chOff x="5843160" y="3963600"/>
                <a:chExt cx="2913840" cy="5270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944320" y="3963600"/>
                  <a:ext cx="2711160" cy="52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ference from estimates on illegal w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843160" y="3963600"/>
                  <a:ext cx="2913840" cy="52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720440" y="4490640"/>
                <a:ext cx="1894320" cy="624600"/>
                <a:chOff x="1720440" y="4490640"/>
                <a:chExt cx="1894320" cy="6246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21600" y="4490640"/>
                  <a:ext cx="169200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census/registers/ demographic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720440" y="4490640"/>
                  <a:ext cx="189432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615480" y="4490640"/>
                <a:ext cx="2227320" cy="624600"/>
                <a:chOff x="3615480" y="4490640"/>
                <a:chExt cx="2227320" cy="6246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715920" y="4490640"/>
                  <a:ext cx="202536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xpected population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615480" y="4490640"/>
                  <a:ext cx="222732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43160" y="4490640"/>
                <a:ext cx="2913840" cy="624600"/>
                <a:chOff x="5843160" y="4490640"/>
                <a:chExt cx="2913840" cy="6246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944320" y="4490640"/>
                  <a:ext cx="271116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omparison of census/emigration data and immigration statistic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843160" y="4490640"/>
                  <a:ext cx="291384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720440" y="5115240"/>
                <a:ext cx="1894320" cy="526680"/>
                <a:chOff x="1720440" y="5115240"/>
                <a:chExt cx="1894320" cy="5266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821600" y="5115240"/>
                  <a:ext cx="169200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admin. statistic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720440" y="5115240"/>
                  <a:ext cx="18943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3615480" y="5115240"/>
                <a:ext cx="2227320" cy="526680"/>
                <a:chOff x="3615480" y="5115240"/>
                <a:chExt cx="2227320" cy="5266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3715920" y="5115240"/>
                  <a:ext cx="20253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low-stock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615480" y="5115240"/>
                  <a:ext cx="22273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843160" y="5115240"/>
                <a:ext cx="2913840" cy="526680"/>
                <a:chOff x="5843160" y="5115240"/>
                <a:chExt cx="2913840" cy="5266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944320" y="5115240"/>
                  <a:ext cx="2711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lculating the stock through flow figu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843160" y="5115240"/>
                  <a:ext cx="291384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720440" y="5642280"/>
                <a:ext cx="1894320" cy="527040"/>
                <a:chOff x="1720440" y="5642280"/>
                <a:chExt cx="1894320" cy="52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821600" y="5642280"/>
                  <a:ext cx="1692000" cy="52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complem. data sour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720440" y="5642280"/>
                  <a:ext cx="1894320" cy="52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615480" y="5642280"/>
                <a:ext cx="2227320" cy="527040"/>
                <a:chOff x="3615480" y="5642280"/>
                <a:chExt cx="2227320" cy="5270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715920" y="5642280"/>
                  <a:ext cx="2025360" cy="52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irect inferen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615480" y="5642280"/>
                  <a:ext cx="2227320" cy="52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5843160" y="5642280"/>
                <a:ext cx="2913840" cy="527040"/>
                <a:chOff x="5843160" y="5642280"/>
                <a:chExt cx="2913840" cy="5270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5944320" y="5642280"/>
                  <a:ext cx="2711160" cy="52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gistered school children, household surveys, etc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843160" y="5642280"/>
                  <a:ext cx="2913840" cy="52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4" name=""/>
            <p:cNvSpPr/>
            <p:nvPr/>
          </p:nvSpPr>
          <p:spPr>
            <a:xfrm>
              <a:off x="228600" y="1676520"/>
              <a:ext cx="8534160" cy="44956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17D-700C-474F-A790-ED6F811B91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A classification of 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I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80880" y="2082960"/>
            <a:ext cx="7848360" cy="2692080"/>
            <a:chOff x="380880" y="2082960"/>
            <a:chExt cx="7848360" cy="2692080"/>
          </a:xfrm>
        </p:grpSpPr>
        <p:grpSp>
          <p:nvGrpSpPr>
            <p:cNvPr id="287" name=""/>
            <p:cNvGrpSpPr/>
            <p:nvPr/>
          </p:nvGrpSpPr>
          <p:grpSpPr>
            <a:xfrm>
              <a:off x="385200" y="2085840"/>
              <a:ext cx="7838640" cy="2685240"/>
              <a:chOff x="385200" y="2085840"/>
              <a:chExt cx="7838640" cy="268524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385200" y="2085840"/>
                <a:ext cx="1367640" cy="518760"/>
                <a:chOff x="385200" y="2085840"/>
                <a:chExt cx="1367640" cy="5187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78080" y="2085840"/>
                  <a:ext cx="11818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pproac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85200" y="2085840"/>
                  <a:ext cx="13676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753200" y="2085840"/>
                <a:ext cx="1742040" cy="518760"/>
                <a:chOff x="1753200" y="2085840"/>
                <a:chExt cx="1742040" cy="5187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846080" y="2085840"/>
                  <a:ext cx="15559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ata sour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753200" y="2085840"/>
                  <a:ext cx="17420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3495600" y="2085840"/>
                <a:ext cx="2048400" cy="518760"/>
                <a:chOff x="3495600" y="2085840"/>
                <a:chExt cx="2048400" cy="5187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588120" y="2085840"/>
                  <a:ext cx="18626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495600" y="2085840"/>
                  <a:ext cx="204840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544360" y="2085840"/>
                <a:ext cx="2679480" cy="518760"/>
                <a:chOff x="5544360" y="2085840"/>
                <a:chExt cx="2679480" cy="5187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637240" y="2085840"/>
                  <a:ext cx="249336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stimation techniqu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544360" y="2085840"/>
                  <a:ext cx="26794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85200" y="2604600"/>
                <a:ext cx="1367640" cy="2166480"/>
                <a:chOff x="385200" y="2604600"/>
                <a:chExt cx="1367640" cy="21664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78080" y="2604600"/>
                  <a:ext cx="1181880" cy="21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ombined approach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85200" y="2604600"/>
                  <a:ext cx="1367640" cy="21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1753200" y="2604600"/>
                <a:ext cx="1742040" cy="671040"/>
                <a:chOff x="1753200" y="2604600"/>
                <a:chExt cx="1742040" cy="6710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846080" y="2604600"/>
                  <a:ext cx="155592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small scale survey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753200" y="2604600"/>
                  <a:ext cx="174204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495600" y="2604600"/>
                <a:ext cx="2048400" cy="671040"/>
                <a:chOff x="3495600" y="2604600"/>
                <a:chExt cx="2048400" cy="6710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588120" y="2604600"/>
                  <a:ext cx="186264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indow/Postal code 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495600" y="2604600"/>
                  <a:ext cx="204840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544360" y="2604600"/>
                <a:ext cx="2679480" cy="671040"/>
                <a:chOff x="5544360" y="2604600"/>
                <a:chExt cx="2679480" cy="6710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637240" y="2604600"/>
                  <a:ext cx="24933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mall scale study / use of regression analy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544360" y="2604600"/>
                  <a:ext cx="267948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1753200" y="3276000"/>
                <a:ext cx="1742040" cy="671400"/>
                <a:chOff x="1753200" y="3276000"/>
                <a:chExt cx="1742040" cy="671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846080" y="3276000"/>
                  <a:ext cx="1555920" cy="6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expert opin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753200" y="3276000"/>
                  <a:ext cx="1742040" cy="67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495600" y="3276000"/>
                <a:ext cx="2048400" cy="671400"/>
                <a:chOff x="3495600" y="3276000"/>
                <a:chExt cx="2048400" cy="6714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588120" y="3276000"/>
                  <a:ext cx="1862640" cy="6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calized Delph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495600" y="3276000"/>
                  <a:ext cx="2048400" cy="67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544360" y="3276000"/>
                <a:ext cx="2679480" cy="671400"/>
                <a:chOff x="5544360" y="3276000"/>
                <a:chExt cx="2679480" cy="6714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637240" y="3276000"/>
                  <a:ext cx="2493360" cy="6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elphi method / use of regression analy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544360" y="3276000"/>
                  <a:ext cx="2679480" cy="67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1753200" y="3947760"/>
                <a:ext cx="1742040" cy="823320"/>
                <a:chOff x="1753200" y="3947760"/>
                <a:chExt cx="1742040" cy="823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846080" y="3947760"/>
                  <a:ext cx="155592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djustment to surveys/ census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753200" y="3947760"/>
                  <a:ext cx="1742040" cy="82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495600" y="3947760"/>
                <a:ext cx="2048400" cy="823320"/>
                <a:chOff x="3495600" y="3947760"/>
                <a:chExt cx="2048400" cy="8233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588120" y="3947760"/>
                  <a:ext cx="186264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on-threatening survey desig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495600" y="3947760"/>
                  <a:ext cx="2048400" cy="82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544360" y="3947760"/>
                <a:ext cx="2679480" cy="823320"/>
                <a:chOff x="5544360" y="3947760"/>
                <a:chExt cx="2679480" cy="8233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637240" y="3947760"/>
                  <a:ext cx="249336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andomized response (3 cards method) / residual 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544360" y="3947760"/>
                  <a:ext cx="2679480" cy="82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0" name=""/>
            <p:cNvSpPr/>
            <p:nvPr/>
          </p:nvSpPr>
          <p:spPr>
            <a:xfrm>
              <a:off x="380880" y="2082960"/>
              <a:ext cx="7848360" cy="26920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71A-302F-4B58-8831-EF02D50078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A classification of 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flows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80880" y="2082960"/>
            <a:ext cx="8229240" cy="2692080"/>
            <a:chOff x="380880" y="2082960"/>
            <a:chExt cx="8229240" cy="2692080"/>
          </a:xfrm>
        </p:grpSpPr>
        <p:grpSp>
          <p:nvGrpSpPr>
            <p:cNvPr id="333" name=""/>
            <p:cNvGrpSpPr/>
            <p:nvPr/>
          </p:nvGrpSpPr>
          <p:grpSpPr>
            <a:xfrm>
              <a:off x="385200" y="2085840"/>
              <a:ext cx="8218800" cy="2685240"/>
              <a:chOff x="385200" y="2085840"/>
              <a:chExt cx="8218800" cy="268524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385200" y="2085840"/>
                <a:ext cx="1433880" cy="518760"/>
                <a:chOff x="385200" y="2085840"/>
                <a:chExt cx="1433880" cy="5187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82760" y="2085840"/>
                  <a:ext cx="12391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pproac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85200" y="2085840"/>
                  <a:ext cx="14338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819440" y="2085840"/>
                <a:ext cx="1826640" cy="518760"/>
                <a:chOff x="1819440" y="2085840"/>
                <a:chExt cx="1826640" cy="5187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917000" y="2085840"/>
                  <a:ext cx="16315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ata sour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819440" y="2085840"/>
                  <a:ext cx="18266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3646440" y="2085840"/>
                <a:ext cx="2147760" cy="518760"/>
                <a:chOff x="3646440" y="2085840"/>
                <a:chExt cx="2147760" cy="5187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743280" y="2085840"/>
                  <a:ext cx="19530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646440" y="2085840"/>
                  <a:ext cx="2147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794560" y="2085840"/>
                <a:ext cx="2809440" cy="518760"/>
                <a:chOff x="5794560" y="2085840"/>
                <a:chExt cx="2809440" cy="5187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892120" y="2085840"/>
                  <a:ext cx="26143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de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794560" y="2085840"/>
                  <a:ext cx="28094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385200" y="2604600"/>
                <a:ext cx="1433880" cy="823680"/>
                <a:chOff x="385200" y="2604600"/>
                <a:chExt cx="1433880" cy="8236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82760" y="2604600"/>
                  <a:ext cx="123912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rect approach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85200" y="2604600"/>
                  <a:ext cx="1433880" cy="82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1819440" y="2604600"/>
                <a:ext cx="1826640" cy="823680"/>
                <a:chOff x="1819440" y="2604600"/>
                <a:chExt cx="1826640" cy="8236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1917000" y="2604600"/>
                  <a:ext cx="163152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border apprehension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819440" y="2604600"/>
                  <a:ext cx="1826640" cy="82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3646440" y="2604600"/>
                <a:ext cx="2147760" cy="823680"/>
                <a:chOff x="3646440" y="2604600"/>
                <a:chExt cx="2147760" cy="8236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743280" y="2604600"/>
                  <a:ext cx="195300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ltiplier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646440" y="2604600"/>
                  <a:ext cx="2147760" cy="82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794560" y="2604600"/>
                <a:ext cx="2809440" cy="823680"/>
                <a:chOff x="5794560" y="2604600"/>
                <a:chExt cx="2809440" cy="8236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892120" y="2604600"/>
                  <a:ext cx="261432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ple multipl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794560" y="2604600"/>
                  <a:ext cx="2809440" cy="82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385200" y="3428640"/>
                <a:ext cx="1433880" cy="1342440"/>
                <a:chOff x="385200" y="3428640"/>
                <a:chExt cx="1433880" cy="134244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82760" y="3428640"/>
                  <a:ext cx="1239120" cy="13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irect approach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85200" y="3428640"/>
                  <a:ext cx="1433880" cy="13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1819440" y="3428640"/>
                <a:ext cx="1826640" cy="671040"/>
                <a:chOff x="1819440" y="3428640"/>
                <a:chExt cx="1826640" cy="6710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917000" y="3428640"/>
                  <a:ext cx="163152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stock estim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19440" y="3428640"/>
                  <a:ext cx="182664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646440" y="3428640"/>
                <a:ext cx="2147760" cy="671040"/>
                <a:chOff x="3646440" y="3428640"/>
                <a:chExt cx="2147760" cy="6710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743280" y="3428640"/>
                  <a:ext cx="195300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fferential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46440" y="3428640"/>
                  <a:ext cx="214776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5794560" y="3428640"/>
                <a:ext cx="2809440" cy="671040"/>
                <a:chOff x="5794560" y="3428640"/>
                <a:chExt cx="2809440" cy="6710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892120" y="3428640"/>
                  <a:ext cx="261432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et differences in stock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794560" y="3428640"/>
                  <a:ext cx="280944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819440" y="4100040"/>
                <a:ext cx="1826640" cy="671040"/>
                <a:chOff x="1819440" y="4100040"/>
                <a:chExt cx="1826640" cy="67104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917000" y="4100040"/>
                  <a:ext cx="163152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entry-exit statistic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19440" y="4100040"/>
                  <a:ext cx="182664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646440" y="4100040"/>
                <a:ext cx="2147760" cy="671040"/>
                <a:chOff x="3646440" y="4100040"/>
                <a:chExt cx="2147760" cy="6710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743280" y="4100040"/>
                  <a:ext cx="195300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dual 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646440" y="4100040"/>
                  <a:ext cx="214776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794560" y="4100040"/>
                <a:ext cx="2809440" cy="671040"/>
                <a:chOff x="5794560" y="4100040"/>
                <a:chExt cx="2809440" cy="6710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892120" y="4100040"/>
                  <a:ext cx="261432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ouble entry card syste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794560" y="4100040"/>
                  <a:ext cx="280944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9" name=""/>
            <p:cNvSpPr/>
            <p:nvPr/>
          </p:nvSpPr>
          <p:spPr>
            <a:xfrm>
              <a:off x="380880" y="2082960"/>
              <a:ext cx="8229240" cy="26920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07B-33E8-4F5E-B164-606C22138C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Multiplier Metho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Based on the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projection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 of available indicators, using an appropriately defined/derived multipl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. on stocks/fl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Flow data (illegal entries): e.g. On apprehension data of illegal migrants at the bor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Stock data (illegal residence, illegal work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 Narrow"/>
              </a:rPr>
              <a:t>Example: Burgers 1995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Based on the number of apprehended criminal foreign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In-depth interviews with a sample of illegal migrants in Rotterdam to determine share of illegal migrants involved in criminal activities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 multiplier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 estimate of tota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9ED-998B-4F3F-9682-C7C9969026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1:10:08Z</dcterms:created>
  <dc:creator>jandlm</dc:creator>
  <dc:description/>
  <dc:language>en-US</dc:language>
  <cp:lastModifiedBy>jandl</cp:lastModifiedBy>
  <dcterms:modified xsi:type="dcterms:W3CDTF">2008-02-27T15:29:51Z</dcterms:modified>
  <cp:revision>39</cp:revision>
  <dc:subject/>
  <dc:title>"Irregular Migration and Human Smuggling  in Central and Eastern Europe"</dc:title>
</cp:coreProperties>
</file>