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39B4-FB7E-4539-8EB5-FCF791FC5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4C89-3E2F-4D84-88AC-DFD055162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81AC-E206-495A-B10E-8F5D8E4FD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1D55-D58A-4EF3-85AE-D9B352B4C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DE4B-2652-436D-979A-B41A6F31DB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E4054-E516-42B1-A539-9456C5EB5D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E031E-9210-4278-941E-D92E8A3C3A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77DC9-E60C-4C4A-92AD-7831E8C389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14A71-C9FF-4B50-8BB8-F55B89A943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C3AED-C940-4A02-83B5-915BB2B7E3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D73DA-F3C3-4C5A-8ED5-67C0B61CDC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76CF-7774-4A4A-A539-9678DF7FF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35D5A-AF90-4C7F-AEDA-EA1F7040FD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4CC5C-E460-4D7F-8076-8025CD922C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50AB4-1F17-439B-98CA-0AB7690B7C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C52B5-BFC8-4DE4-8BD1-FC9AC41B57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D924E-6D59-44EC-A958-A3CD2A030D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6A003-175A-43C4-84F4-82F47183A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CFDD-5888-4A78-AB9E-FD637BFDD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2088-01D4-4032-8103-8AF3A026B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B35C-CDF3-49A2-BFA4-55F7ADCA4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B681-1503-45E6-9BE8-A8DFA9860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1284-6DF0-4AE8-A198-2A13848CD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9890-39F2-4CAC-B6A5-A47F600C4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57200" y="6267600"/>
            <a:ext cx="3276720" cy="285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BF2B-FFD4-44F5-961F-13ECCC637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6267600"/>
            <a:ext cx="3276720" cy="285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A762-9110-42CD-AF0B-06E02A685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1960" y="12949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Times New Roman"/>
              </a:rPr>
              <a:t>Estimating Net International Migration for the United St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1916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izabeth M. Grie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migration Statistics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.S. Census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5486400"/>
            <a:ext cx="74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Unicode MS"/>
              </a:rPr>
              <a:t>Presentation for the joint UNECE/Eurostat Work Session on Migration Statistic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Unicode MS"/>
              </a:rPr>
              <a:t>Geneva, 3-5 March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Method (proposed for v.2008)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idence One Year Ago (ROY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55320" y="4267080"/>
            <a:ext cx="3352680" cy="966600"/>
            <a:chOff x="355320" y="4267080"/>
            <a:chExt cx="3352680" cy="966600"/>
          </a:xfrm>
        </p:grpSpPr>
        <p:sp>
          <p:nvSpPr>
            <p:cNvPr id="133" name=""/>
            <p:cNvSpPr/>
            <p:nvPr/>
          </p:nvSpPr>
          <p:spPr>
            <a:xfrm rot="5400000">
              <a:off x="1879200" y="2742840"/>
              <a:ext cx="304920" cy="3352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6120" y="4591080"/>
              <a:ext cx="297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 Foreign Bor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g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362320" y="5257800"/>
            <a:ext cx="13716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ourc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tes applied to ACS FB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5257800"/>
            <a:ext cx="13716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ourc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62920" y="5257800"/>
            <a:ext cx="13716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ourc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our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52578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ourc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1601640"/>
            <a:ext cx="1371600" cy="195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: Imm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ration from Puerto Rico to the U.S. (50 states and D.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2040" y="1677960"/>
            <a:ext cx="3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1601640"/>
            <a:ext cx="1295280" cy="98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: Imm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ve im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95960" y="15256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601640"/>
            <a:ext cx="1600200" cy="2560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B: Immig</a:t>
            </a:r>
            <a:br>
              <a:rPr sz="1800"/>
            </a:br>
            <a:br>
              <a:rPr sz="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dence One Year Ago Was Abroa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ign born, who were “abroad” one year 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47840" y="1601640"/>
            <a:ext cx="1422360" cy="26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B: Em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gr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the foreign-born population during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43280" y="15238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87920" y="1600200"/>
            <a:ext cx="1295640" cy="195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: Em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ration from the U.S. (50 states and D.C.) to Puerto R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5257800"/>
            <a:ext cx="13716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ourc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962160" y="4267080"/>
            <a:ext cx="2971800" cy="966600"/>
            <a:chOff x="3962160" y="4267080"/>
            <a:chExt cx="2971800" cy="966600"/>
          </a:xfrm>
        </p:grpSpPr>
        <p:sp>
          <p:nvSpPr>
            <p:cNvPr id="149" name=""/>
            <p:cNvSpPr/>
            <p:nvPr/>
          </p:nvSpPr>
          <p:spPr>
            <a:xfrm rot="5400000">
              <a:off x="5295600" y="2933280"/>
              <a:ext cx="304920" cy="29718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52960" y="4591080"/>
              <a:ext cx="263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 Puerto Rico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g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162920" y="2743200"/>
            <a:ext cx="1295280" cy="98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: Em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ve e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19051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8195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010280" y="4267080"/>
            <a:ext cx="1447920" cy="966600"/>
            <a:chOff x="7010280" y="4267080"/>
            <a:chExt cx="1447920" cy="966600"/>
          </a:xfrm>
        </p:grpSpPr>
        <p:sp>
          <p:nvSpPr>
            <p:cNvPr id="155" name=""/>
            <p:cNvSpPr/>
            <p:nvPr/>
          </p:nvSpPr>
          <p:spPr>
            <a:xfrm rot="5400000">
              <a:off x="7581600" y="3695400"/>
              <a:ext cx="304920" cy="14479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02080" y="4591080"/>
              <a:ext cx="12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 Native Mig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BAD5-2949-4511-8278-BB04C9CF01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YA: Foreign-Born Immigr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on ACS: Where did this person live one year a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nts: Foreign-born who were abroad (outside the U.S. and U.S. outlying areas) one year ago, plus an adjustment for zero-year-old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s range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32,000 to 1,431,000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numbers are ro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71B7-C2EE-42E7-A406-AF2B6676EC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YA: Foreign-Born Emigr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ual method used to generate rates by period of entry (more than/less than 1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applied to eligible population (eligible to emigr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le population: Foreign-born who were in the U.S. one year ago (A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s range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1,000 to 232,000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numbers are ro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9E97-98F4-4897-97B1-17B45E89E2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YA: Puerto Rico Immigr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on ACS: Where did this person live one year a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nts (moved from P.R. to U.S.)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in ACS who reported a residence one year ago of Puerto Rico, plus an adjustment for zero-year-old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s range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7,000 to 63,000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numbers are roun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6096-4CC8-4B58-8E73-4AA8807E67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YA: Puerto Rico Emigr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on Puerto Rico Community Survey (PRCS): Where did this person live one year a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igrants (moved from U.S. to P.R.)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in PRCS who reported a residence one year ago of the U.S., plus an adjustment for zero-year-old emi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s range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,000 to 35,000*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numbers are roun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47FA-3865-4B79-96B7-412D267586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YA: Native Immig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on ACS: Where did this person live one year a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nts: Natives who were abroad (outside the U.S. and U.S. outlying areas) one year ago, plus an adjustment for zero-year-old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s range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9,000 to 470,000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numbers are roun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9162B-E532-49F4-B7D5-2090AA4E7D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YA: Native Emig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doing research to update the estimate of this subcomponent for our 2008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4471-14F3-4159-A582-8C107216DC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emigration for 2000 to 2005 and 2000 to 2006 by period of entry grou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a “residual”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nnual emigration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annual emigration of the foreign b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the U.S. Census Bureau Estimate Foreign-Born Emigra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EC78-8AFB-485B-BDCA-B37F657744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esidual Method of Estimating Emigration: 2000 - 200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-Born Emigration 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2000-2005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B Pop 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Census 200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Deaths 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2000-2005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FB Pop 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ACS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3124080"/>
          <a:ext cx="8047080" cy="24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124080"/>
                    <a:ext cx="8047080" cy="24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52280" y="5562720"/>
            <a:ext cx="82296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ote: Both  Census 2000 and ACS 2005 data are restricted to the foreign-born population whose year of entry was 1999 or earli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68E4-26E2-4061-89C5-CDB19576B9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esidual Method of Estimating Emigration: 2000 - 200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-Born Emigration 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2000-2006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B Pop 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Census 200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Deaths 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2000-2006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FB Pop 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ACS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8600" y="3124080"/>
          <a:ext cx="7964640" cy="242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124080"/>
                    <a:ext cx="79646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52280" y="5562720"/>
            <a:ext cx="82296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ote: Both  Census 2000 and ACS 2006 data are restricted to the foreign-born population whose year of entry was 1999 or earli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B94C-3586-4A0F-96C7-C6F3278857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es the Census Bureau estimate  net international migr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es the Census Bureau use the American Community Survey (ACS) to estimate net international migr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es the Census Bureau estimate the emigration of the foreign bor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the results of the vintage 2007 net international migration estimat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9838-7686-4DFA-AFD6-9E8A4F6DB4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nnual Emigration Rates</a:t>
            </a:r>
            <a:br>
              <a:rPr sz="36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numbers in thousand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3475080"/>
          <a:ext cx="7467480" cy="223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475080"/>
                    <a:ext cx="746748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137520" y="5780160"/>
            <a:ext cx="785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ote: Above rates are based on un-rounded numbers and expressed as perc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28600" y="1055520"/>
          <a:ext cx="7467480" cy="2251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055520"/>
                    <a:ext cx="7467480" cy="22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52F9-CF97-4214-9648-0D3DEEB983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al Annual Emigration Ra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the period-of-entry specific emigration rates for the 2000-2005 and 2000-2006 time peri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Rates (percent per year)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of entry more than 10 years ago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of entry within the last 10 year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DE48-6A11-4319-8067-A13A84B2C9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Annual Emigration of the Foreign Born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period-of-entry specific rates to each year of ACS, 2000 to 2005, to estimate annual foreign-born emig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 in universe: foreign-born population whose residence one year ago was in the United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9F7B-7014-417F-A48C-DE8367D07A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nnual Foreign-Born Emigratio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000-2005</a:t>
            </a:r>
            <a:br>
              <a:rPr sz="36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numbers in thousand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04920" y="2000160"/>
          <a:ext cx="8001000" cy="36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00160"/>
                    <a:ext cx="800100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C87B-AC19-48F4-890D-83A4B00C82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ructing Final Vintage 2007 NIM Estima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6960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ansition from old to new method by phasing in the new metho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verage v.2006 SYC-based estimates and v.2007 ROYA-based estimates (by subcomponent) to create final v.2007 NIM estima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3520" y="4757760"/>
          <a:ext cx="7772400" cy="1490400"/>
        </p:xfrm>
        <a:graphic>
          <a:graphicData uri="http://schemas.openxmlformats.org/drawingml/2006/table">
            <a:tbl>
              <a:tblPr/>
              <a:tblGrid>
                <a:gridCol w="243828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2006 SYC N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2007 ROYA N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457200" y="445284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thousand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6E30-FDB3-4A15-9448-1F82F2904E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YA- and SYC-based NIM Estimates, 2001-2008 Peri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63680" y="1814400"/>
          <a:ext cx="791352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14400"/>
                    <a:ext cx="791352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555480" y="21337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thousand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2190-C1E8-4572-BDA2-F70545DA6E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YA- and SYC-based NIM Estimates, 2001-2008 Peri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63680" y="1636560"/>
          <a:ext cx="7913520" cy="49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36560"/>
                    <a:ext cx="791352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555480" y="21337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thousand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50E3-3614-463D-BDBF-08FE10AE1D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For More Inform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Elizabeth M. Griec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Chief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Immigration Statistics Staf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Email: Elizabeth.M.Grieco@census.gov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: 301-763-527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Website: www.census.gov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78E5-02B4-4E91-A603-309B751E3A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pulation Estima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.S. Census Bureau produces annual estimates of the population and demographic components of change (births, deaths, and mig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mponent of the population estimate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 international migration (NIM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fined as the net movement across U.S.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tates and the District of Colu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is presentation NI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es not incl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national movement of U.S. military personn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3A33-E3BD-4337-9F45-8CD7346BCF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-Components of the Net International Migration Estim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ill discu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foreign-born migration between the United States and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movement between the United States and Puerto 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movement of natives between the United States and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-level estimate, distribu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count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tailed character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, sex, race, and Hispanic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BFCF1-312B-4ED0-B9A8-A543029DFD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the American Community Survey (ACS) to Estimate N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nationwide surv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M estimates, and estimates research, use seven years of ACS data, 2000-2006 (household population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implementation: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size (in thousand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4192560"/>
          <a:ext cx="7772400" cy="1446120"/>
        </p:xfrm>
        <a:graphic>
          <a:graphicData uri="http://schemas.openxmlformats.org/drawingml/2006/table">
            <a:tbl>
              <a:tblPr/>
              <a:tblGrid>
                <a:gridCol w="243828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S data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addresses sel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inter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50975-5BF6-471B-A67D-5B5F4E3091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S Questio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tizensh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912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784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76520"/>
            <a:ext cx="77724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person a CITIZEN of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State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U.S. citizen by natu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not a citizen of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352680" y="4572000"/>
            <a:ext cx="4692600" cy="1398600"/>
            <a:chOff x="3352680" y="4572000"/>
            <a:chExt cx="4692600" cy="13986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571640" y="4572000"/>
              <a:ext cx="347364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943080" y="49532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52680" y="5527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oreign bo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52720" y="4832640"/>
              <a:ext cx="152280" cy="660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6920 h 660240"/>
                <a:gd name="textAreaBottom" fmla="*/ 643320 h 66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06720" y="5556240"/>
              <a:ext cx="101520" cy="355680"/>
            </a:xfrm>
            <a:custGeom>
              <a:avLst/>
              <a:gdLst>
                <a:gd name="textAreaLeft" fmla="*/ 64800 w 101520"/>
                <a:gd name="textAreaRight" fmla="*/ 101880 w 101520"/>
                <a:gd name="textAreaTop" fmla="*/ 9000 h 355680"/>
                <a:gd name="textAreaBottom" fmla="*/ 346680 h 3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B78F-93A9-4274-A2DF-F47EA43E02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S Questio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idence One Year Ag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912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4784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24440" y="1523880"/>
            <a:ext cx="3500280" cy="4781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1676520"/>
            <a:ext cx="39625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this person live in this house or apartment 1 year ag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outside the United States – Print name of foreign country, or Puerto Rico, Guam, etc.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3D772-02C4-465C-87B5-8F2F8C50D4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ld Method (used 2002-2006)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gle Year Change (SYC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2120" y="1523880"/>
            <a:ext cx="6654240" cy="2723400"/>
            <a:chOff x="762120" y="1523880"/>
            <a:chExt cx="6654240" cy="2723400"/>
          </a:xfrm>
        </p:grpSpPr>
        <p:sp>
          <p:nvSpPr>
            <p:cNvPr id="114" name=""/>
            <p:cNvSpPr/>
            <p:nvPr/>
          </p:nvSpPr>
          <p:spPr>
            <a:xfrm>
              <a:off x="4457520" y="1600200"/>
              <a:ext cx="1523520" cy="171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: NetMi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 migration between the U.S. (50 states and D.C.) and Puerto 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1600200"/>
              <a:ext cx="1599840" cy="264708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B: NetMi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ngle Year Ch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nge in FB population during interv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SYC =           FB in ACS t2 – FB in ACS t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92080" y="1600200"/>
              <a:ext cx="1422000" cy="146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B: Dea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aths to FB population during inter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49360" y="167616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4440" y="1676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73720" y="1600200"/>
              <a:ext cx="1142640" cy="98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: Emi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ive emig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56200" y="1523880"/>
              <a:ext cx="30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23600" y="4343400"/>
            <a:ext cx="3352680" cy="966600"/>
            <a:chOff x="723600" y="4343400"/>
            <a:chExt cx="3352680" cy="966600"/>
          </a:xfrm>
        </p:grpSpPr>
        <p:sp>
          <p:nvSpPr>
            <p:cNvPr id="122" name=""/>
            <p:cNvSpPr/>
            <p:nvPr/>
          </p:nvSpPr>
          <p:spPr>
            <a:xfrm rot="5400000">
              <a:off x="2247480" y="2819160"/>
              <a:ext cx="304920" cy="3352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14400" y="4667400"/>
              <a:ext cx="297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 Foreign Bor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gration (NF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838080" y="5257800"/>
            <a:ext cx="6858000" cy="1270800"/>
            <a:chOff x="838080" y="5257800"/>
            <a:chExt cx="6858000" cy="1270800"/>
          </a:xfrm>
        </p:grpSpPr>
        <p:sp>
          <p:nvSpPr>
            <p:cNvPr id="125" name=""/>
            <p:cNvSpPr/>
            <p:nvPr/>
          </p:nvSpPr>
          <p:spPr>
            <a:xfrm>
              <a:off x="2742840" y="5257800"/>
              <a:ext cx="1371600" cy="12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sourc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CHS life tables, ACS popu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080" y="5257800"/>
              <a:ext cx="13716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sourc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5257800"/>
              <a:ext cx="137160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sourc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PE rese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5680" y="5257800"/>
              <a:ext cx="137160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sourc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PE rese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82ACA-5090-4741-AF16-D4E113881C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s with NFB Estimates Based on Single Year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tandard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o changes in survey population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reweighting of ACS data required to provide consistent series of NFB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is a net, and must be distributed as 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parate estimates of ins/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FE88-75F1-4F81-9D87-A36632DD47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6:08:04Z</dcterms:created>
  <dc:creator>ADNET</dc:creator>
  <dc:description/>
  <dc:language>en-US</dc:language>
  <cp:lastModifiedBy>Bureau Of The Census</cp:lastModifiedBy>
  <dcterms:modified xsi:type="dcterms:W3CDTF">2008-03-02T15:24:57Z</dcterms:modified>
  <cp:revision>479</cp:revision>
  <dc:subject/>
  <dc:title>PowerPoint Presentation</dc:title>
</cp:coreProperties>
</file>