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5D2E-3755-485C-AD95-9A867DC47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69B7-D378-41C2-B5A0-77EFB148F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2511-52D6-46E5-966A-23029FC36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2F6D-2DCC-46B9-AE0F-23688ECF6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40B89-04D5-484C-8E57-2D68E4ACB3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07AB2-927B-4A10-9F25-DB60B32712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4201A-5505-4EC5-9332-FA4A414989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15ED-A9A8-4700-9112-7956B053F2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5C8BD-2EF0-400F-913A-74A0AF787A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E4863-D8D5-4844-A6BE-7E01858FDD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D972C-E12B-411C-92E0-6114CBB126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EFAD-8074-4395-B1C9-97B958C51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561AB-D08D-4374-8A72-B85321C20D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D6665-915E-4EDB-BC9F-E55DA2D13E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F7AC7-422C-4946-B170-F355419541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53279-0B62-45AB-B330-794D5BC2E9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2218-ED1E-4B5F-8676-F5CDFE1809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D5C7-ECB2-42F7-BAC8-1E5405B79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64D4-F7FE-4CA9-962E-E11EED979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1A46-5FF4-42D2-BC91-CB166AD04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6DBE2-3FB7-4FDD-9326-9AEAED3C6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BBB6-E418-4D41-B42C-BB2077FE9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A28A-AB8B-4E52-AD34-CAF46ACF0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D526-FD4D-4273-83D1-84E276490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57200" y="6267600"/>
            <a:ext cx="3276720" cy="285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C7BC-2634-4739-B945-B3EF3A866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6267600"/>
            <a:ext cx="3276720" cy="285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DFAF-EA22-4624-AB1C-A91FA307C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1960" y="12949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Times New Roman"/>
              </a:rPr>
              <a:t>Estimating Net International Migration for the United St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1916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izabeth M. Grie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migration Statistics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.S. Census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5486400"/>
            <a:ext cx="74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Unicode MS"/>
              </a:rPr>
              <a:t>Presentation for the joint UNECE/Eurostat Work Session on Migration Statistic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Unicode MS"/>
              </a:rPr>
              <a:t>Geneva, 3-5 March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Method (proposed for v.2008)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idence One Year Ago (ROY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55320" y="4267080"/>
            <a:ext cx="3352680" cy="966600"/>
            <a:chOff x="355320" y="4267080"/>
            <a:chExt cx="3352680" cy="966600"/>
          </a:xfrm>
        </p:grpSpPr>
        <p:sp>
          <p:nvSpPr>
            <p:cNvPr id="133" name=""/>
            <p:cNvSpPr/>
            <p:nvPr/>
          </p:nvSpPr>
          <p:spPr>
            <a:xfrm rot="5400000">
              <a:off x="1879200" y="2742840"/>
              <a:ext cx="304920" cy="3352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6120" y="4591080"/>
              <a:ext cx="297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 Foreign Bor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g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362320" y="5257800"/>
            <a:ext cx="13716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ourc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tes applied to ACS FB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5257800"/>
            <a:ext cx="1371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ourc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62920" y="5257800"/>
            <a:ext cx="13716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ourc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our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52578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ourc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1601640"/>
            <a:ext cx="1371600" cy="195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: Imm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ration from Puerto Rico to the U.S. (50 states and D.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2040" y="1677960"/>
            <a:ext cx="3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1601640"/>
            <a:ext cx="1295280" cy="98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: Imm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ve im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95960" y="15256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601640"/>
            <a:ext cx="1600200" cy="2560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B: Immig</a:t>
            </a:r>
            <a:br>
              <a:rPr sz="1800"/>
            </a:br>
            <a:br>
              <a:rPr sz="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dence One Year Ago Was Abroa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ign born, who were “abroad” one year 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47840" y="1601640"/>
            <a:ext cx="1422360" cy="26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B: Em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gr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the foreign-born population during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43280" y="15238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87920" y="1600200"/>
            <a:ext cx="1295640" cy="195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: Em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ration from the U.S. (50 states and D.C.) to Puerto R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5257800"/>
            <a:ext cx="1371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ourc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962160" y="4267080"/>
            <a:ext cx="2971800" cy="966600"/>
            <a:chOff x="3962160" y="4267080"/>
            <a:chExt cx="2971800" cy="966600"/>
          </a:xfrm>
        </p:grpSpPr>
        <p:sp>
          <p:nvSpPr>
            <p:cNvPr id="149" name=""/>
            <p:cNvSpPr/>
            <p:nvPr/>
          </p:nvSpPr>
          <p:spPr>
            <a:xfrm rot="5400000">
              <a:off x="5295600" y="2933280"/>
              <a:ext cx="304920" cy="29718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52960" y="4591080"/>
              <a:ext cx="263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 Puerto Rico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g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162920" y="2743200"/>
            <a:ext cx="1295280" cy="98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: Em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ve e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19051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8195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010280" y="4267080"/>
            <a:ext cx="1447920" cy="966600"/>
            <a:chOff x="7010280" y="4267080"/>
            <a:chExt cx="1447920" cy="966600"/>
          </a:xfrm>
        </p:grpSpPr>
        <p:sp>
          <p:nvSpPr>
            <p:cNvPr id="155" name=""/>
            <p:cNvSpPr/>
            <p:nvPr/>
          </p:nvSpPr>
          <p:spPr>
            <a:xfrm rot="5400000">
              <a:off x="7581600" y="3695400"/>
              <a:ext cx="304920" cy="14479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02080" y="4591080"/>
              <a:ext cx="12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 Native Mig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12CD-B814-45CE-96CB-EB46317355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YA: Foreign-Born Immigr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on ACS: Where did this person live one year a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nts: Foreign-born who were abroad (outside the U.S. and U.S. outlying areas) one year ago, plus an adjustment for zero-year-old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s range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32,000 to 1,431,000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numbers are ro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2770-3F9F-473A-8468-5E95EC24B9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YA: Foreign-Born Emigr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ual method used to generate rates by period of entry (more than/less than 1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applied to eligible population (eligible to emigr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le population: Foreign-born who were in the U.S. one year ago (A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s range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1,000 to 232,000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numbers are ro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E170-9AD6-4D09-8018-E294795671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YA: Puerto Rico Immigr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on ACS: Where did this person live one year a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nts (moved from P.R. to U.S.)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in ACS who reported a residence one year ago of Puerto Rico, plus an adjustment for zero-year-old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s range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7,000 to 63,000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numbers are roun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B787-DC1B-4C3F-9137-77C54CA9F0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YA: Puerto Rico Emigr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on Puerto Rico Community Survey (PRCS): Where did this person live one year a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igrants (moved from U.S. to P.R.)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in PRCS who reported a residence one year ago of the U.S., plus an adjustment for zero-year-old e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s range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,000 to 35,000*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numbers are roun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3C55-F975-4625-83CA-D6747B00C4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YA: Native Immig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on ACS: Where did this person live one year a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nts: Natives who were abroad (outside the U.S. and U.S. outlying areas) one year ago, plus an adjustment for zero-year-old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s range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9,000 to 470,000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numbers are roun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A097-FF6E-44CE-8CDA-60F3705121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YA: Native Emig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doing research to update the estimate of this subcomponent for our 2008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6A56-CF60-445E-834B-57C630E810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emigration for 2000 to 2005 and 2000 to 2006 by period of entry grou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a “residual”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nnual emigration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annual emigration of the foreign b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the U.S. Census Bureau Estimate Foreign-Born Emigra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DDF6-4179-4149-8265-BA46217A28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esidual Method of Estimating Emigration: 2000 - 200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-Born Emigration 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2000-2005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B Pop 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Census 200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Deaths 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2000-2005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FB Pop 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ACS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3124080"/>
          <a:ext cx="8047080" cy="24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124080"/>
                    <a:ext cx="804708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52280" y="5562720"/>
            <a:ext cx="82296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ote: Both  Census 2000 and ACS 2005 data are restricted to the foreign-born population whose year of entry was 1999 or earli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B994-9AD2-4D4E-839E-53B69A6D00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esidual Method of Estimating Emigration: 2000 - 200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-Born Emigration 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2000-2006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B Pop 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Census 200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Deaths 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2000-2006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FB Pop 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ACS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8600" y="3124080"/>
          <a:ext cx="7964640" cy="242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124080"/>
                    <a:ext cx="79646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52280" y="5562720"/>
            <a:ext cx="82296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ote: Both  Census 2000 and ACS 2006 data are restricted to the foreign-born population whose year of entry was 1999 or earli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4C24-A9DA-42A9-A92D-22E714E792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es the Census Bureau estimate  net international migr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es the Census Bureau use the American Community Survey (ACS) to estimate net international migr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es the Census Bureau estimate the emigration of the foreign bo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the results of the vintage 2007 net international migration estimat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BCDF-6705-4C01-96D1-20D9CD4B8A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nnual Emigration Rates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numbers in thousand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3475080"/>
          <a:ext cx="7467480" cy="223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475080"/>
                    <a:ext cx="746748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137520" y="5780160"/>
            <a:ext cx="785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ote: Above rates are based on un-rounded numbers and expressed as perc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28600" y="1055520"/>
          <a:ext cx="7467480" cy="2251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055520"/>
                    <a:ext cx="7467480" cy="22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7DE6-D7D0-48ED-B471-C900B9BD00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al Annual Emigration R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the period-of-entry specific emigration rates for the 2000-2005 and 2000-2006 time peri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Rates (percent per year)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of entry more than 10 years ago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of entry within the last 10 year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7CFD-C905-4B85-820F-37296F98F5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Annual Emigration of the Foreign Born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period-of-entry specific rates to each year of ACS, 2000 to 2005, to estimate annual foreign-born emig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 in universe: foreign-born population whose residence one year ago was in the United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D945-6851-4F3C-8E82-65D97ABD32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nnual Foreign-Born Emigratio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000-2005</a:t>
            </a:r>
            <a:br>
              <a:rPr sz="36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numbers in thousand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04920" y="2000160"/>
          <a:ext cx="8001000" cy="36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00160"/>
                    <a:ext cx="800100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0785-FF99-4B1E-936B-316CA7BA01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ucting Final Vintage 2007 NIM Estim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6960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ansition from old to new method by phasing in the new metho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verage v.2006 SYC-based estimates and v.2007 ROYA-based estimates (by subcomponent) to create final v.2007 NIM estim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3520" y="4757760"/>
          <a:ext cx="7772400" cy="1490400"/>
        </p:xfrm>
        <a:graphic>
          <a:graphicData uri="http://schemas.openxmlformats.org/drawingml/2006/table">
            <a:tbl>
              <a:tblPr/>
              <a:tblGrid>
                <a:gridCol w="243828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2006 SYC N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2007 ROYA N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457200" y="445284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439C-3A57-4E89-B1C6-E35056664B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YA- and SYC-based NIM Estimates, 2001-2008 Peri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63680" y="1814400"/>
          <a:ext cx="791352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14400"/>
                    <a:ext cx="791352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555480" y="21337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3B20-B8DF-4E12-9760-868DEAF4D8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YA- and SYC-based NIM Estimates, 2001-2008 Peri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63680" y="1636560"/>
          <a:ext cx="7913520" cy="49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36560"/>
                    <a:ext cx="791352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555480" y="21337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0D12-DD73-46A8-84DD-1206B05B25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or More Inform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Elizabeth M. Griec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Chief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Immigration Statistics Staf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Email: Elizabeth.M.Grieco@census.gov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: 301-763-527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Website: www.census.gov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F5F7-CA6B-4433-AD23-70918102E0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pulation Estim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.S. Census Bureau produces annual estimates of the population and demographic components of change (births, deaths, and mig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mponent of the population estimate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 international migration (NIM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fined as the net movement across U.S.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tates and the District of Colu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is presentation NI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es not incl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national movement of U.S. military personn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8A7D9-B51D-482C-82B4-F26B35D03F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-Components of the Net International Migration Estim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ll discu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foreign-born migration between the United States and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movement between the United States and Puerto 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movement of natives between the United States and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-level estimate, distribu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count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tailed character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, sex, race, and Hispanic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D828-DB86-461A-BAA8-D90D44ABA7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the American Community Survey (ACS) to Estimate N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nationwide surv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M estimates, and estimates research, use seven years of ACS data, 2000-2006 (household population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implementation: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size (in thousand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4192560"/>
          <a:ext cx="7772400" cy="1446120"/>
        </p:xfrm>
        <a:graphic>
          <a:graphicData uri="http://schemas.openxmlformats.org/drawingml/2006/table">
            <a:tbl>
              <a:tblPr/>
              <a:tblGrid>
                <a:gridCol w="243828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S data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addresses sel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inter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BD06-1297-49CB-BB05-FD7757CA65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S Questio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tizensh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912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784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76520"/>
            <a:ext cx="77724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person a CITIZEN of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State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U.S. citizen by natu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not a citizen of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352680" y="4572000"/>
            <a:ext cx="4692600" cy="1398600"/>
            <a:chOff x="3352680" y="4572000"/>
            <a:chExt cx="4692600" cy="13986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571640" y="4572000"/>
              <a:ext cx="347364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943080" y="49532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52680" y="5527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oreign bo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52720" y="4832640"/>
              <a:ext cx="152280" cy="660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6920 h 660240"/>
                <a:gd name="textAreaBottom" fmla="*/ 643320 h 66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06720" y="5556240"/>
              <a:ext cx="101520" cy="355680"/>
            </a:xfrm>
            <a:custGeom>
              <a:avLst/>
              <a:gdLst>
                <a:gd name="textAreaLeft" fmla="*/ 64800 w 101520"/>
                <a:gd name="textAreaRight" fmla="*/ 101880 w 101520"/>
                <a:gd name="textAreaTop" fmla="*/ 9000 h 355680"/>
                <a:gd name="textAreaBottom" fmla="*/ 346680 h 3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0C02-A562-45A8-AE41-46C972AA62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S Questio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idence One Year Ag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912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4784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24440" y="1523880"/>
            <a:ext cx="3500280" cy="4781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1676520"/>
            <a:ext cx="39625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is person live in this house or apartment 1 year ag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outside the United States – Print name of foreign country, or Puerto Rico, Guam, etc.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65FE-AD0F-4B81-B2D6-42BA19AFED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ld Method (used 2002-2006)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gle Year Change (SYC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2120" y="1523880"/>
            <a:ext cx="6654240" cy="2723400"/>
            <a:chOff x="762120" y="1523880"/>
            <a:chExt cx="6654240" cy="2723400"/>
          </a:xfrm>
        </p:grpSpPr>
        <p:sp>
          <p:nvSpPr>
            <p:cNvPr id="114" name=""/>
            <p:cNvSpPr/>
            <p:nvPr/>
          </p:nvSpPr>
          <p:spPr>
            <a:xfrm>
              <a:off x="4457520" y="1600200"/>
              <a:ext cx="1523520" cy="171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: NetMi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 migration between the U.S. (50 states and D.C.) and Puerto 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1600200"/>
              <a:ext cx="1599840" cy="264708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B: NetMi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ngle Year Ch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nge in FB population during interv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SYC =           FB in ACS t2 – FB in ACS t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92080" y="1600200"/>
              <a:ext cx="1422000" cy="146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B: Dea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aths to FB population during inter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49360" y="167616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4440" y="1676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73720" y="1600200"/>
              <a:ext cx="1142640" cy="98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: Emi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ive emig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56200" y="1523880"/>
              <a:ext cx="30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23600" y="4343400"/>
            <a:ext cx="3352680" cy="966600"/>
            <a:chOff x="723600" y="4343400"/>
            <a:chExt cx="3352680" cy="966600"/>
          </a:xfrm>
        </p:grpSpPr>
        <p:sp>
          <p:nvSpPr>
            <p:cNvPr id="122" name=""/>
            <p:cNvSpPr/>
            <p:nvPr/>
          </p:nvSpPr>
          <p:spPr>
            <a:xfrm rot="5400000">
              <a:off x="2247480" y="2819160"/>
              <a:ext cx="304920" cy="3352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14400" y="4667400"/>
              <a:ext cx="297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 Foreign Bor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gration (NF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38080" y="5257800"/>
            <a:ext cx="6858000" cy="1270800"/>
            <a:chOff x="838080" y="5257800"/>
            <a:chExt cx="6858000" cy="1270800"/>
          </a:xfrm>
        </p:grpSpPr>
        <p:sp>
          <p:nvSpPr>
            <p:cNvPr id="125" name=""/>
            <p:cNvSpPr/>
            <p:nvPr/>
          </p:nvSpPr>
          <p:spPr>
            <a:xfrm>
              <a:off x="2742840" y="5257800"/>
              <a:ext cx="1371600" cy="12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sourc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CHS life tables, ACS popu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080" y="5257800"/>
              <a:ext cx="13716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sourc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5257800"/>
              <a:ext cx="137160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sourc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PE rese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5680" y="5257800"/>
              <a:ext cx="137160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sourc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PE rese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8274-F210-4382-BB1E-34ECEFE6F5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s with NFB Estimates Based on Single Year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tandard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o changes in survey population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reweighting of ACS data required to provide consistent series of NFB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is a net, and must be distributed a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parate estimates of ins/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56C7-6AEB-45F5-801E-5DA8F0E7DE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6:08:04Z</dcterms:created>
  <dc:creator>ADNET</dc:creator>
  <dc:description/>
  <dc:language>en-US</dc:language>
  <cp:lastModifiedBy>Bureau Of The Census</cp:lastModifiedBy>
  <dcterms:modified xsi:type="dcterms:W3CDTF">2008-03-02T15:24:57Z</dcterms:modified>
  <cp:revision>479</cp:revision>
  <dc:subject/>
  <dc:title>PowerPoint Presentation</dc:title>
</cp:coreProperties>
</file>