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619-F5C0-4172-B6FE-3E193FD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30-1904-4B09-BED9-A39A8F9D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57B-4B27-46B5-9533-76C267B1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400-37F0-4B34-BF2D-2A4400B9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B5E-EC6F-47EB-B409-081BFDA3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501-B919-4854-951D-FCF84AA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FE8A-C064-475C-9131-C6E4D6E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A56-59DE-4F1C-B0FB-6B461C4B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4B95-4AC3-42AC-AC0B-827814D9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8CB3-EFE8-4434-91FB-42FEB201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0F48-BA68-4F65-91A5-DF445AC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F05-1565-4BD2-BA83-2C63F371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88C0-0CC4-4135-AF34-61AA507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23DA-9C4B-4621-BD49-4598A45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738-C589-498F-9762-90BEA341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F12-7E30-476A-875A-96F03664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BF78-81A2-476F-A88E-3E98C990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C11-A05F-4D35-8075-07B2B86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C93-4DB5-408B-B324-90E02921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7C2-D185-45CB-9A75-B1E32E8F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835-2AE3-41DF-9977-118CEE1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64E-BD17-466A-A563-CBCEC85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C4E-43A4-405B-A6A0-5E0B719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949-CCC9-465F-9C7B-7F25201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3968-7A5E-46C7-823E-CA58844D4A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2E24-8D5F-4C9B-9863-41F3C0CB5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татистические методы учета международной миграции в Таджикистане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й комитет статистики Республики Таджики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2000 года ведется статистическое наблюд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 гражданами, выезжающими на работу за пределы 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чет № 1-т (миграция) «Отчет о численности и составе граждан Таджикистана, выезжающих на работу за границ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че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остранной рабочей си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ходящейся в Таджикистане утверждены формы отч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т (миграция) «Отчет о численности и составе  иностранной рабочей сил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т (миграция) «Отчет предприятий, организаций, учреждений о численности и составе иностранной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ота по иммиграции и привлечению иностранной рабочей силы в Республику Таджикистан на каждый календарный год устанавливается Президентом Республики Таджикис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более углубления изучения трудовой миграции используются данные проводимых выборочных обследований уровня жизни населения и рабочей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этой целью в анкеты включаются специальные вопросы и мод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РС-2004 год а включены вопросы по трудовой и маятниковой миграции, сроки выезда и страна и другие (пол, возраст, образование, семейное полож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ерепись насе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оведении переписи населения в Республике Таджикистан в 2000 году кроме постоянно проживающего населения, подлежали опросу и лица, временно находящиеся на территории республики. В вопросник были включены вопросы о гражданстве, иностранных гражданах, беженцах временно находящихся на территории Республики Таджикистан и год, с которого они проживали на территории Таджикист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грационные карточ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1 января 2004 года введе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грационная карто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14400" y="1600200"/>
          <a:ext cx="7689960" cy="4600440"/>
        </p:xfrm>
        <a:graphic>
          <a:graphicData uri="http://schemas.openxmlformats.org/drawingml/2006/table">
            <a:tbl>
              <a:tblPr/>
              <a:tblGrid>
                <a:gridCol w="1800360"/>
                <a:gridCol w="1390680"/>
                <a:gridCol w="1676160"/>
                <a:gridCol w="728640"/>
                <a:gridCol w="819360"/>
                <a:gridCol w="12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е гражд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вшие иностранц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е гражд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вшие иностранц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зитные пассажир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ы (включая челночный бизнес), частные визи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00200"/>
          <a:ext cx="8112240" cy="4597560"/>
        </p:xfrm>
        <a:graphic>
          <a:graphicData uri="http://schemas.openxmlformats.org/drawingml/2006/table">
            <a:tbl>
              <a:tblPr/>
              <a:tblGrid>
                <a:gridCol w="2282760"/>
                <a:gridCol w="1028880"/>
                <a:gridCol w="1039680"/>
                <a:gridCol w="1104840"/>
                <a:gridCol w="1038240"/>
                <a:gridCol w="16178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поезд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живание (воссоединение с семьей, возвращение на историческую родин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8264520" cy="4530600"/>
        </p:xfrm>
        <a:graphic>
          <a:graphicData uri="http://schemas.openxmlformats.org/drawingml/2006/table">
            <a:tbl>
              <a:tblPr/>
              <a:tblGrid>
                <a:gridCol w="2217600"/>
                <a:gridCol w="1246320"/>
                <a:gridCol w="1039680"/>
                <a:gridCol w="1105200"/>
                <a:gridCol w="1038240"/>
                <a:gridCol w="16174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мигранты, зарегистрированные в службе занят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мигранты без необходимых для выезда документов (обследование)/ОРС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С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грацион.карт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72040" cy="4530240"/>
        </p:xfrm>
        <a:graphic>
          <a:graphicData uri="http://schemas.openxmlformats.org/drawingml/2006/table">
            <a:tbl>
              <a:tblPr/>
              <a:tblGrid>
                <a:gridCol w="2282760"/>
                <a:gridCol w="871920"/>
                <a:gridCol w="1038960"/>
                <a:gridCol w="922320"/>
                <a:gridCol w="1038600"/>
                <a:gridCol w="16174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енцы уже имеющ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т стат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конодатель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еспублики Таджикистан «О миграции» (11.12.1999.года №882), где даны и понятия миграции, иммиграции, эмиграции. Субъектами миграции являются лица, переселяющиеся на законных основаниях на постоянное жительство сроком свыше шести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еспублики Таджикистан «О беженцах» (10.05.2002.года №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рганы, занимающиеся вопросами мигра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спублике Таджикистан вопросами миграции занимаются следующие ведо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грационная служба Министерства внутренних д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ое агентство по социальной защите, занятости населения и миграции Министерства труда и социальной защиты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й комитет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грационная служба МВ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спортный стол – ведет регистрацию по талонам прибытия и выбытия внутренних и внешних мигрантов выезжающих (приезжающих) на постоянное место жительства. Талоны для дальнейшей обработки представляются в органы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ИР – разрешение на постоянное проживание иностранным гражданам и лицам без гражд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етоды статистического наблюд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кущий уч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ледования, опросы, сопоставления данных из разных ис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ые переписей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грацион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ведения о безвозвратной внешней миграции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бираются на основе разработки талонов статистического учета прибытия (или выбытия) населения. Получают сведения по территориальному и ряду социально-демографических признаков (пол, возраст, национальность, уровень образования, страна прибытия/выбытия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ческая отчетнос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 беженцах и вынужденных переселенца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едена с 1993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 (беженцы) «Отчет о беженцах» («Отчет о вынужденных переселенцах») – месячный отч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 (беженцы) «Отчет о социально-демографическом составе беженцев» («Отчет о социально-демографическом составе вынужденных переселенцев») – квартальный от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дется учет экологической миграции добровольной внутренней миграции (переселение) по следующим форм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№4 – Добровольная внутренняя миграция (переселение) (полугодов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№ 5 _ Экологическая миграция (полугодов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2000 года ведется статистический учет по показателя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ждународного туризма и деловых международных поез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инт. (доходы и расходы) «Доходы (поступления валюты) от иностранных граждан и расходы, связанные с выездом граждан за границ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49:50Z</dcterms:created>
  <dc:creator>JP Homa</dc:creator>
  <dc:description/>
  <dc:language>en-US</dc:language>
  <cp:lastModifiedBy>Юсуф</cp:lastModifiedBy>
  <dcterms:modified xsi:type="dcterms:W3CDTF">2008-02-29T08:39:41Z</dcterms:modified>
  <cp:revision>13</cp:revision>
  <dc:subject/>
  <dc:title>ПРОЦЕСС СТАРЕНИЯ НАСЕЛЕНИЯ  В РЕСПУБЛИКЕ ТАДЖИКИСТАН (демографический аспект)</dc:title>
</cp:coreProperties>
</file>