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563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7400" y="4704840"/>
            <a:ext cx="48830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557-2B07-4EED-9565-0CAB7C605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C87-8CDC-4C43-A1C9-5B9A01BED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B68-A5EA-4CB0-9F09-77C2CE7DB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ECEC-F87E-49D1-85FB-5D7A306C9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E53A-0FE3-4637-9A78-6FBD859A3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90C-343E-4280-996D-E319A553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8E3-195E-44CC-B2D3-6F26069F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880-7FB2-4B2F-AB0E-841C8BF4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88B-F463-4B67-B886-A77DF324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4F7-F5BD-42B2-93DA-F972584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8B2-EF95-44FC-BFC9-5BA90CE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873-E2C7-4154-80BF-9D53B56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DB9-F1FB-4BFF-819B-9BF97CB3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F26-1972-46F8-9FB2-6908B67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841-79FA-4210-BE6D-7F00D08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DDB-6807-4F14-84C6-8B71B30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402-0880-4570-83E4-BFF698C2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537D-A991-490E-B906-68D8CA3C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81360" y="1628640"/>
            <a:ext cx="6362640" cy="519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sm.net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2286000"/>
            <a:ext cx="74836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SHARING DATA: Lessons from IOM’s Data Sharing Mechanism in Eastern Europe and Central As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920"/>
            <a:ext cx="9144000" cy="137160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ECE Regional Workshop 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national migration stat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neva, 4 – 6 December 2007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648320"/>
            <a:ext cx="40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333399"/>
                </a:solidFill>
                <a:latin typeface="Arial"/>
              </a:rPr>
              <a:t>Jobst Koeh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333399"/>
                </a:solidFill>
                <a:latin typeface="Arial"/>
              </a:rPr>
              <a:t>Research Offic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333399"/>
                </a:solidFill>
                <a:latin typeface="Arial"/>
              </a:rPr>
              <a:t>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F01-2B19-40EF-B1D7-DA4E66F8E4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rai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Work with your counterpar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29528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ing a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-Ministerial Working Group (IMW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to prioritiz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lud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ision-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at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clear structure and mandate f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8FD-BCA8-432D-8648-06FF212430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raining Out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Data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606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Mapping out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existing infrastructure (sources and types of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k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a-data simple and comprehensiv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or policy-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237-853A-4034-BF0D-AC70C962186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dentif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national deman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o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ize and agree o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minimal set of statist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vides the basis for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regula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Need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44F-7654-4F8F-9153-E91800885B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 and Workflow assessment of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ferent stages of data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rgeted IT upgr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Gap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2AF-94B1-4521-8ED6-2E57F27C45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ining and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Train the Trainer”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courage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 of self-learnin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rough 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aise training capacit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government offic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Skill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ADF-75A9-4743-A35F-D2B0DC27F4D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Base and Web Portal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DSM) is uniqu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softwar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reated for the end-user after the review of ten regional based data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M allows fo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ral data-collection method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through focal points or user-prompt mode, on paper; or via Excel cha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just data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tool for policy and legal exchang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e-librar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erarchical data access ensure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a ow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1A3-F895-4C2C-98BD-E8F898FF88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Regional Dialog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chnical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matic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udy 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DC6-5E3B-4263-AA8D-7880E61D22C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SM in comparative persp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219320"/>
          <a:ext cx="9067680" cy="5468760"/>
        </p:xfrm>
        <a:graphic>
          <a:graphicData uri="http://schemas.openxmlformats.org/drawingml/2006/table">
            <a:tbl>
              <a:tblPr/>
              <a:tblGrid>
                <a:gridCol w="1219320"/>
                <a:gridCol w="4572000"/>
                <a:gridCol w="3276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ata Sharing Mechanism (DSM)</a:t>
                      </a:r>
                      <a:r>
                        <a:rPr b="0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 Eastern Europe and Central Asia (CIS countr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atistical Information System on Migration in Mesoamerica (SI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 serve as a tool for migration-related data collection, application and exchange in the region. Mechanism is also used to share legal and policy information on migr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 monitor migration movements in, out and among Central America national and facilitate regional migration-related policy mak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ype of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Based on official data, data on non-nationals in total population, entries and exits of foreigners, work permits, applications for asylum and deci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nternational migration flows (arrivals and departures by sex, border station, age and nationality). Extra-regional emigration, population impact on destination countries and countries of origin, immigration in the region, remittances.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8BE-E01C-4BC1-976A-A0AAF5B9F4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SM in compara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444920"/>
        </p:xfrm>
        <a:graphic>
          <a:graphicData uri="http://schemas.openxmlformats.org/drawingml/2006/table">
            <a:tbl>
              <a:tblPr/>
              <a:tblGrid>
                <a:gridCol w="1523880"/>
                <a:gridCol w="3505320"/>
                <a:gridCol w="320040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ata Sharing Mechanism (DSM)</a:t>
                      </a:r>
                      <a:r>
                        <a:rPr b="0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 Eastern Europe and Central Asia (CIS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atistical Information System on Migration in Mesoamerica (SIEMMES)</a:t>
                      </a: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urces of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gisters, entry and departure records, population censuses and household survey.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rrival and departure records, national population censuses and household surveys.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cess to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stricted to participating states. Selected data and information to be made public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ub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1F3-5A99-410F-BDF1-5C0419CF20A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a-shar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articularly a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too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ources are limit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nd vary among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data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Conditions for suc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-sharing process needs to b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rated in the administrativ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ment at the State’s decision-mak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o make data-sharing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5FA-C004-49CE-B1A2-1A9FD3FC27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sharing da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hallenges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 obtain data for migration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levels of develop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practic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understanding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migration-rela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riation i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uman and financial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re is a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ed for a “bottom-up”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70E-63AF-4894-97B8-94F8F08DF4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haring data: What’s is in a na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861048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Data-sharing is a « bottom-up » process to improve data that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es determine own ind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es determine own pac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hare avail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major financi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Convergence rather than uniformity is the a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268-01DE-41EB-ADF0-5415FEEAAD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OM and International Data-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95280"/>
            <a:ext cx="815364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IOM assisted data-sharing processes in different regions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stical Information System on Migration in Mesoamerica (SIEM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ibbean Community (CARICOM): Collection and Sharing of Migration-Related Data in the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But most relevant for meetg</a:t>
            </a: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ata-Sharing Mechanism (DSM))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astern Europe and Central Asia /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Programme for the Creation of a General Model for Collection, Application and Sharing of Migration-Related Data (“General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A50-AA44-4A5F-AED6-C2D3D3BA4E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3399"/>
                </a:solidFill>
                <a:latin typeface="Arial"/>
              </a:rPr>
              <a:t>IOM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556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approach to data managemen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 national and regional level (applicable to any regio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is based on the premis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vel of develop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migration data management v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rtain data exists but is not shar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in and betwee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ducers and use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hould be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ual track approach at the national and regional level is needed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00280"/>
            <a:ext cx="792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al Model”: What is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E33-9AAC-4A8B-84CD-2FE303A1E0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IOM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 elemen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the national leve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network of cor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pping out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isting national statistic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 a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greed minimum set of 5-10 aggregated overall data indicators plus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al Model”: how does it wor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4D5-00AE-43E3-9F97-B84F09754A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3399"/>
                </a:solidFill>
                <a:latin typeface="Arial"/>
              </a:rPr>
              <a:t>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319040"/>
            <a:ext cx="828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 elemen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the regional leve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fficient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ectronic exchang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ganiz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gional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ressing national need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rough train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al Model”: how does it wor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735-E617-4721-8538-F09D1BB8B8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219320"/>
            <a:ext cx="883944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SM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was a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ilot tes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of the Programme for the Creation of a General Model for Collection, Application and Sharing of Migration-related Data, developed at IOM-OSCE workshop at Prague,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ded in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unding :OSCE-ODIHR, Danish Government, IOM and P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nsistent Participants: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kraine, Republic of Moldova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ublication: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“Sharing Data: Where to Star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”, edited by Folden, Manke and Mort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sm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lying the General Model: DSM in EE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4880" y="1407960"/>
            <a:ext cx="740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876-0AB7-4947-9BD4-863F695267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3399"/>
                </a:solidFill>
                <a:latin typeface="Arial"/>
              </a:rPr>
              <a:t>Potential New Areas of Resear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822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ating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ional network of institutions producing migration dat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oose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cal poi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om each agency an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sure continuit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event of staff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minate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ional coordinato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nd contact point for international inqui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k data producers and us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a single nation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gislative framewor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o make network sus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Counterpar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666-E79F-488B-BE80-C1E37AE3DB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7T09:31:04Z</dcterms:created>
  <dc:creator>Anne-Catherine Werner</dc:creator>
  <dc:description/>
  <dc:language>en-US</dc:language>
  <cp:lastModifiedBy>jkoehler</cp:lastModifiedBy>
  <dcterms:modified xsi:type="dcterms:W3CDTF">2007-12-05T17:16:42Z</dcterms:modified>
  <cp:revision>612</cp:revision>
  <dc:subject/>
  <dc:title>Sustainability Through the Mark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