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6563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564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772080" y="0"/>
            <a:ext cx="28857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53560" y="742680"/>
            <a:ext cx="495324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887400" y="4704840"/>
            <a:ext cx="48830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941076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772080" y="9410760"/>
            <a:ext cx="28857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7652-E386-4214-81B4-343D3B2515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772080" y="9410760"/>
            <a:ext cx="28857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1F8D-54B8-42BD-8D06-6246C458BB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941076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772080" y="0"/>
            <a:ext cx="28857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524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64920" y="4704840"/>
            <a:ext cx="5327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772080" y="9410760"/>
            <a:ext cx="28857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D5EA-2207-4D45-9426-FDC1FA807A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-360" y="941076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772080" y="0"/>
            <a:ext cx="28857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8524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64920" y="4704840"/>
            <a:ext cx="5327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772080" y="9410760"/>
            <a:ext cx="28857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2700-EB1B-45DE-9103-419EC329A1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-360" y="941076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772080" y="0"/>
            <a:ext cx="28857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524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4920" y="4704840"/>
            <a:ext cx="5327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772080" y="9410760"/>
            <a:ext cx="28857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74CD-12E0-4780-868F-C9334FDE08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-360" y="941076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772080" y="0"/>
            <a:ext cx="28857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524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64920" y="4704840"/>
            <a:ext cx="5327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849E-6AF5-45C5-9910-4C63925E7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D8E8-EB60-4E28-A2E3-A596B935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8AA2-AAB7-476E-AAA8-FE49DE1EA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2FBA-E15E-48D6-B585-C9BAAB793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51B8-D689-43E2-90F1-B2AF21E5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5ADA-86A1-4ACC-89A0-B33B118B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0611-3057-47B2-BFA7-6652031A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8BE9-82FB-421E-9E7A-184293EA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6749-B325-407F-A940-F0D43622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BB0E-7F07-43AA-9F94-01FBF479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0289-BE7A-46CE-A780-904F54A6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CAF4-3C69-4549-9539-F745A34B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8C96-59CE-41FB-9849-82FF8F4E9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781360" y="1628640"/>
            <a:ext cx="6362640" cy="519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dsm.net/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38080" y="2286000"/>
            <a:ext cx="74836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99"/>
                </a:solidFill>
                <a:latin typeface="Arial"/>
              </a:rPr>
              <a:t>SHARING DATA: Lessons from IOM’s Data Sharing Mechanism in Eastern Europe and Central Asi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04920"/>
            <a:ext cx="9144000" cy="1371600"/>
          </a:xfrm>
          <a:prstGeom prst="rect">
            <a:avLst/>
          </a:prstGeom>
          <a:gradFill rotWithShape="0">
            <a:gsLst>
              <a:gs pos="0">
                <a:srgbClr val="4c4ca5"/>
              </a:gs>
              <a:gs pos="50000">
                <a:srgbClr val="000080"/>
              </a:gs>
              <a:gs pos="100000">
                <a:srgbClr val="4c4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UNECE Regional Workshop 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international migration statistic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Geneva, 4 – 6 December 2007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43200" y="4648320"/>
            <a:ext cx="404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2800" spc="-1" strike="noStrike">
                <a:solidFill>
                  <a:srgbClr val="333399"/>
                </a:solidFill>
                <a:latin typeface="Arial"/>
              </a:rPr>
              <a:t>Jobst Koeh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2800" spc="-1" strike="noStrike">
                <a:solidFill>
                  <a:srgbClr val="333399"/>
                </a:solidFill>
                <a:latin typeface="Arial"/>
              </a:rPr>
              <a:t>Research Office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2800" spc="-1" strike="noStrike">
                <a:solidFill>
                  <a:srgbClr val="333399"/>
                </a:solidFill>
                <a:latin typeface="Arial"/>
              </a:rPr>
              <a:t>I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9585-C76C-4A8F-BDD7-1B0CC064609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raining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gradFill rotWithShape="0">
            <a:gsLst>
              <a:gs pos="0">
                <a:srgbClr val="4c4ca5"/>
              </a:gs>
              <a:gs pos="50000">
                <a:srgbClr val="000080"/>
              </a:gs>
              <a:gs pos="100000">
                <a:srgbClr val="4c4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essons from DSM: “Work with your counterpart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1295280"/>
            <a:ext cx="7925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stablishing an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nter-Ministerial Working Group (IMWG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) to prioritize activ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clude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ecision-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reate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 clear structure and mandate fo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M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6749-C22F-470B-8C41-7A95E81E967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raining Outpu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gradFill rotWithShape="0">
            <a:gsLst>
              <a:gs pos="0">
                <a:srgbClr val="4c4ca5"/>
              </a:gs>
              <a:gs pos="50000">
                <a:srgbClr val="000080"/>
              </a:gs>
              <a:gs pos="100000">
                <a:srgbClr val="4c4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essons from DSM: “Know Your Data”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660680"/>
            <a:ext cx="7925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CH" sz="3200" spc="-1" strike="noStrike">
                <a:solidFill>
                  <a:srgbClr val="333399"/>
                </a:solidFill>
                <a:latin typeface="Arial"/>
              </a:rPr>
              <a:t>Mapping out </a:t>
            </a:r>
            <a:r>
              <a:rPr b="1" lang="fr-CH" sz="3200" spc="-1" strike="noStrike">
                <a:solidFill>
                  <a:srgbClr val="333399"/>
                </a:solidFill>
                <a:latin typeface="Arial"/>
              </a:rPr>
              <a:t>existing infrastructure (sources and types of da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ke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eta-data simple and comprehensiv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for policy-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6E32-9E44-4B5F-B140-C56AC01AEE6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dentify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 national demand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for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ioritize and agree on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 minimal set of statist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ovides the basis for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regular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4c4ca5"/>
              </a:gs>
              <a:gs pos="50000">
                <a:srgbClr val="000080"/>
              </a:gs>
              <a:gs pos="100000">
                <a:srgbClr val="4c4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essons from DSM: “Know your Need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8C8B-E934-4458-84D6-E0C5AACB0AD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333399"/>
                </a:solidFill>
                <a:latin typeface="Arial"/>
              </a:rPr>
              <a:t>T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716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T and Workflow assessment of the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ifferent stages of data manag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ggre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isse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argeted IT upgrading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gradFill rotWithShape="0">
            <a:gsLst>
              <a:gs pos="0">
                <a:srgbClr val="4c4ca5"/>
              </a:gs>
              <a:gs pos="50000">
                <a:srgbClr val="000080"/>
              </a:gs>
              <a:gs pos="100000">
                <a:srgbClr val="4c4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essons from DSM: “Know your Gap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A2C6-34D1-4C40-942D-63366407064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333399"/>
                </a:solidFill>
                <a:latin typeface="Arial"/>
              </a:rPr>
              <a:t>T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716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raining and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“Train the Trainer”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ncourage the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ocess of self-learning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through e-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Raise training capacitie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of government offici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gradFill rotWithShape="0">
            <a:gsLst>
              <a:gs pos="0">
                <a:srgbClr val="4c4ca5"/>
              </a:gs>
              <a:gs pos="50000">
                <a:srgbClr val="000080"/>
              </a:gs>
              <a:gs pos="100000">
                <a:srgbClr val="4c4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essons from DSM: “Know your Skill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B1F4-5FAF-49A6-A0B2-25242182F01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333399"/>
                </a:solidFill>
                <a:latin typeface="Arial"/>
              </a:rPr>
              <a:t>T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ata Base and Web Portal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DSM) is unique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software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created for the end-user after the review of ten regional based datab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SM allows for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ral data-collection method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 through focal points or user-prompt mode, on paper; or via Excel char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ore than just data,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 tool for policy and legal exchange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(e-library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ierarchical data access ensures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ata ownersh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gradFill rotWithShape="0">
            <a:gsLst>
              <a:gs pos="0">
                <a:srgbClr val="4c4ca5"/>
              </a:gs>
              <a:gs pos="50000">
                <a:srgbClr val="000080"/>
              </a:gs>
              <a:gs pos="100000">
                <a:srgbClr val="4c4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terstate Exchange and Regional Dialog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B8FC-9D14-4259-9724-6DEFAF49DE8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333399"/>
                </a:solidFill>
                <a:latin typeface="Arial"/>
              </a:rPr>
              <a:t>T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716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333399"/>
                </a:solidFill>
                <a:latin typeface="Arial"/>
              </a:rPr>
              <a:t>Regional Dialog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echnical 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matic 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tudy T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gradFill rotWithShape="0">
            <a:gsLst>
              <a:gs pos="0">
                <a:srgbClr val="4c4ca5"/>
              </a:gs>
              <a:gs pos="50000">
                <a:srgbClr val="000080"/>
              </a:gs>
              <a:gs pos="100000">
                <a:srgbClr val="4c4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state Exchange and Regional Dialo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30840" y="3246480"/>
            <a:ext cx="488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terstate Exchange and Regional Dialo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FBB3-E1F0-4194-8D0D-19DC69672EA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333399"/>
                </a:solidFill>
                <a:latin typeface="Arial"/>
              </a:rPr>
              <a:t>T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gradFill rotWithShape="0">
            <a:gsLst>
              <a:gs pos="0">
                <a:srgbClr val="4c4ca5"/>
              </a:gs>
              <a:gs pos="50000">
                <a:srgbClr val="000080"/>
              </a:gs>
              <a:gs pos="100000">
                <a:srgbClr val="4c4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SM in comparative perspec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30840" y="3246480"/>
            <a:ext cx="488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terstate Exchange and Regional Dialo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0" y="1219320"/>
          <a:ext cx="9067680" cy="5468760"/>
        </p:xfrm>
        <a:graphic>
          <a:graphicData uri="http://schemas.openxmlformats.org/drawingml/2006/table">
            <a:tbl>
              <a:tblPr/>
              <a:tblGrid>
                <a:gridCol w="1219320"/>
                <a:gridCol w="4572000"/>
                <a:gridCol w="32763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ata Sharing Mechanism (DSM)</a:t>
                      </a:r>
                      <a:r>
                        <a:rPr b="0" i="1" lang="en-GB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i="1" lang="en-GB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n Eastern Europe and Central Asia (CIS countri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Statistical Information System on Migration in Mesoamerica (SIEM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CH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To serve as a tool for migration-related data collection, application and exchange in the region. Mechanism is also used to share legal and policy information on migratio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To monitor migration movements in, out and among Central America national and facilitate regional migration-related policy maki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CH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ype of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Based on official data, data on non-nationals in total population, entries and exits of foreigners, work permits, applications for asylum and decis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International migration flows (arrivals and departures by sex, border station, age and nationality). Extra-regional emigration, population impact on destination countries and countries of origin, immigration in the region, remittances.</a:t>
                      </a:r>
                      <a:r>
                        <a:rPr b="1" lang="en-GB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E120-5AE8-45A2-91F0-64AF7689BFA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333399"/>
                </a:solidFill>
                <a:latin typeface="Arial"/>
              </a:rPr>
              <a:t>T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gradFill rotWithShape="0">
            <a:gsLst>
              <a:gs pos="0">
                <a:srgbClr val="4c4ca5"/>
              </a:gs>
              <a:gs pos="50000">
                <a:srgbClr val="000080"/>
              </a:gs>
              <a:gs pos="100000">
                <a:srgbClr val="4c4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SM in comparative persp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30840" y="3246480"/>
            <a:ext cx="488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terstate Exchange and Regional Dialo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1600200"/>
          <a:ext cx="8229600" cy="4444920"/>
        </p:xfrm>
        <a:graphic>
          <a:graphicData uri="http://schemas.openxmlformats.org/drawingml/2006/table">
            <a:tbl>
              <a:tblPr/>
              <a:tblGrid>
                <a:gridCol w="1523880"/>
                <a:gridCol w="3505320"/>
                <a:gridCol w="3200400"/>
              </a:tblGrid>
              <a:tr h="14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ata Sharing Mechanism (DSM)</a:t>
                      </a:r>
                      <a:r>
                        <a:rPr b="0" i="1" lang="en-GB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i="1" lang="en-GB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n Eastern Europe and Central Asia (CIS count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Statistical Information System on Migration in Mesoamerica (SIEMMES)</a:t>
                      </a:r>
                      <a:r>
                        <a:rPr b="1" i="1" lang="en-GB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CH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ources of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Registers, entry and departure records, population censuses and household survey.</a:t>
                      </a:r>
                      <a:r>
                        <a:rPr b="1" lang="en-GB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Arrival and departure records, national population censuses and household surveys.</a:t>
                      </a:r>
                      <a:r>
                        <a:rPr b="1" lang="en-GB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CH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ccess to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Restricted to participating states. Selected data and information to be made public</a:t>
                      </a:r>
                      <a:r>
                        <a:rPr b="1" lang="en-GB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ub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069C-3DD2-4C92-84A3-6DAEAB40B59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333399"/>
                </a:solidFill>
                <a:latin typeface="Arial"/>
              </a:rPr>
              <a:t>T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ata-sharing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s particularly an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ffective tool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wh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esources are limited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and vary among sta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ome data ex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333399"/>
                </a:solidFill>
                <a:latin typeface="Arial"/>
              </a:rPr>
              <a:t>Conditions for succ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ata-sharing process needs to be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ntegrated in the administrativ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mmitment at the State’s decision-making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gradFill rotWithShape="0">
            <a:gsLst>
              <a:gs pos="0">
                <a:srgbClr val="4c4ca5"/>
              </a:gs>
              <a:gs pos="50000">
                <a:srgbClr val="000080"/>
              </a:gs>
              <a:gs pos="100000">
                <a:srgbClr val="4c4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lus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to make data-sharing effec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30840" y="3246480"/>
            <a:ext cx="488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terstate Exchange and Regional Dialo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2ACC-65C2-4636-9345-C4C71D287C1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gradFill rotWithShape="0">
            <a:gsLst>
              <a:gs pos="0">
                <a:srgbClr val="4c4ca5"/>
              </a:gs>
              <a:gs pos="50000">
                <a:srgbClr val="000080"/>
              </a:gs>
              <a:gs pos="100000">
                <a:srgbClr val="4c4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y sharing data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447920"/>
            <a:ext cx="80773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hallenges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o obtain data for migration manag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fferent levels of development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in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fferent practice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of dat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fferent understanding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of migration-relate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ariation in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human and financial capac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here is a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need for a “bottom-up”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755F-6B9A-4125-B0BB-CDD76645BBC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gradFill rotWithShape="0">
            <a:gsLst>
              <a:gs pos="0">
                <a:srgbClr val="4c4ca5"/>
              </a:gs>
              <a:gs pos="50000">
                <a:srgbClr val="000080"/>
              </a:gs>
              <a:gs pos="100000">
                <a:srgbClr val="4c4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haring data: What’s is in a nam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219320"/>
            <a:ext cx="8610480" cy="54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333399"/>
                </a:solidFill>
                <a:latin typeface="Arial"/>
              </a:rPr>
              <a:t>Data-sharing is a « bottom-up » process to improve data that i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333399"/>
                </a:solidFill>
                <a:latin typeface="Arial"/>
              </a:rPr>
              <a:t>Democr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tates determine own indic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tates determine own pac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333399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hare availabl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o major financial inve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333399"/>
                </a:solidFill>
                <a:latin typeface="Arial"/>
              </a:rPr>
              <a:t>Convergence rather than uniformity is the a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29B5-F1A8-472C-8A66-789749A98DA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gradFill rotWithShape="0">
            <a:gsLst>
              <a:gs pos="0">
                <a:srgbClr val="4c4ca5"/>
              </a:gs>
              <a:gs pos="50000">
                <a:srgbClr val="000080"/>
              </a:gs>
              <a:gs pos="100000">
                <a:srgbClr val="4c4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OM and International Data-Sha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295280"/>
            <a:ext cx="8153640" cy="48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333399"/>
                </a:solidFill>
                <a:latin typeface="Arial"/>
              </a:rPr>
              <a:t>IOM assisted data-sharing processes in different regions</a:t>
            </a:r>
            <a:r>
              <a:rPr b="0" lang="fr-CH" sz="2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atistical Information System on Migration in Mesoamerica (SIEM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aribbean Community (CARICOM): Collection and Sharing of Migration-Related Data in the Caribb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333399"/>
                </a:solidFill>
                <a:latin typeface="Arial"/>
              </a:rPr>
              <a:t>But most relevant for meetg</a:t>
            </a:r>
            <a:r>
              <a:rPr b="1" lang="fr-CH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Data-Sharing Mechanism (DSM))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in</a:t>
            </a:r>
            <a:r>
              <a:rPr b="0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Eastern Europe and Central Asia /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The Programme for the Creation of a General Model for Collection, Application and Sharing of Migration-Related Data (“General Mod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D000-8E0D-4FAB-81B9-4F59009AE6F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333399"/>
                </a:solidFill>
                <a:latin typeface="Arial"/>
              </a:rPr>
              <a:t>IOM 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5568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 approach to data management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t national and regional level (applicable to any region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at is based on the premise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vel of development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in migration data management va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ertain data exists but is not shared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within and between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oducers and user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should be conn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ual track approach at the national and regional level is needed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1700280"/>
            <a:ext cx="7921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gradFill rotWithShape="0">
            <a:gsLst>
              <a:gs pos="0">
                <a:srgbClr val="4c4ca5"/>
              </a:gs>
              <a:gs pos="50000">
                <a:srgbClr val="000080"/>
              </a:gs>
              <a:gs pos="100000">
                <a:srgbClr val="4c4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General Model”: What is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3FF6-99CD-416B-BAAD-1D14614F824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IOM Pub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in elements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t the national level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stablishing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 network of core in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pping out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xisting national statistical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stablish an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greed minimum set of 5-10 aggregated overall data indicators plus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gradFill rotWithShape="0">
            <a:gsLst>
              <a:gs pos="0">
                <a:srgbClr val="4c4ca5"/>
              </a:gs>
              <a:gs pos="50000">
                <a:srgbClr val="000080"/>
              </a:gs>
              <a:gs pos="100000">
                <a:srgbClr val="4c4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General Model”: how does it work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FA94-B4AA-4480-A1FF-75F54CD3904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333399"/>
                </a:solidFill>
                <a:latin typeface="Arial"/>
              </a:rPr>
              <a:t>Organ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319040"/>
            <a:ext cx="8282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in elements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t the regional level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fficient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lectronic exchange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rganizing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egional worksh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ddressing national needs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rough training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gradFill rotWithShape="0">
            <a:gsLst>
              <a:gs pos="0">
                <a:srgbClr val="4c4ca5"/>
              </a:gs>
              <a:gs pos="50000">
                <a:srgbClr val="000080"/>
              </a:gs>
              <a:gs pos="100000">
                <a:srgbClr val="4c4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General Model”: how does it work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DC5C-FC0A-416F-B313-858264DAA2B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52280" y="1219320"/>
            <a:ext cx="8839440" cy="59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DSM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was a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pilot test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of the Programme for the Creation of a General Model for Collection, Application and Sharing of Migration-related Data, developed at IOM-OSCE workshop at Prague,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Ended in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Funding :OSCE-ODIHR, Danish Government, IOM and P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Consistent Participants: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Ukraine, Republic of Moldova, Kazakhs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Publication: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“Sharing Data: Where to Start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”, edited by Folden, Manke and Morte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dsm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gradFill rotWithShape="0">
            <a:gsLst>
              <a:gs pos="0">
                <a:srgbClr val="4c4ca5"/>
              </a:gs>
              <a:gs pos="50000">
                <a:srgbClr val="000080"/>
              </a:gs>
              <a:gs pos="100000">
                <a:srgbClr val="4c4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pplying the General Model: DSM in EEC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74880" y="1407960"/>
            <a:ext cx="7407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ACC0-9E96-44F6-95C6-1F6BE4B73C3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333399"/>
                </a:solidFill>
                <a:latin typeface="Arial"/>
              </a:rPr>
              <a:t>Potential New Areas of Research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8224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reating a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ational network of institutions producing migration data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oose a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cal point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from each agency and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nsure continuity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n the event of staff r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minate a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ational coordinator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and contact point for international inqui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ink data producers and user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n a single nationa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gislative framework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to make network sustain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gradFill rotWithShape="0">
            <a:gsLst>
              <a:gs pos="0">
                <a:srgbClr val="4c4ca5"/>
              </a:gs>
              <a:gs pos="50000">
                <a:srgbClr val="000080"/>
              </a:gs>
              <a:gs pos="100000">
                <a:srgbClr val="4c4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essons from DSM: “Know your Counterpart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551E-C8FF-4AFE-B77C-A11CD24B7B8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7T09:31:04Z</dcterms:created>
  <dc:creator>Anne-Catherine Werner</dc:creator>
  <dc:description/>
  <dc:language>en-US</dc:language>
  <cp:lastModifiedBy>jkoehler</cp:lastModifiedBy>
  <dcterms:modified xsi:type="dcterms:W3CDTF">2007-12-05T17:16:42Z</dcterms:modified>
  <cp:revision>612</cp:revision>
  <dc:subject/>
  <dc:title>Sustainability Through the Marke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