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1F8-1B71-449B-89AB-D94657A9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107-C6C1-4CB7-8241-A23AAFA8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42E-5C3F-449D-98F5-3495ABC8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58E-6765-481D-A0DD-13CC4356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0076-D1D6-421A-8E52-89005CC6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BC8-9602-4A41-8B35-892E1F0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909-ED6A-4653-B2A3-BD9A942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EFAA-BD6B-4F5D-9DA4-755D97B3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7A7-E9C3-47E3-BEBD-E7CD511A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A02A-BD90-4B03-B738-29F83676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944-72D1-4DF3-9A50-095B94D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AED-F2F0-4941-8ABC-C0D17BDD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57E-A0AA-4354-AA10-B28BB21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F9E-BD51-41C3-AD5C-A4085DF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49C-AF62-4EBD-99D2-AA9EDE8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F892-A746-49EE-A1F6-EE380AED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964-0405-42DA-9CF2-4DAD9C95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542-B971-4ED8-BD73-BEFF3A55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B66-F4FE-4D51-9A6A-D2C3DA92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568-C4BD-42CB-9591-6F2FBAF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C5F-C126-4AC1-B3DD-908650C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108-EB8A-48DD-9811-6AFC705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4CC-22AE-4B1D-B5CD-1ABF944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F63-ACC7-4812-88CE-453D1D2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124000" y="6237360"/>
            <a:ext cx="511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UNSC and UNECE-CES, Regional workshop on international migration statistics, 4-6 decemb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ADF1-39F3-4F56-B6EE-C20A93EAA748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05C-D227-4EDC-A124-2E00B842D8F8}" type="slidenum">
              <a:rPr b="0" lang="fr-CH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cc"/>
                </a:solidFill>
                <a:latin typeface="Arial"/>
              </a:rPr>
              <a:t>Improving international migration statistics</a:t>
            </a:r>
            <a:br>
              <a:rPr sz="4800"/>
            </a:br>
            <a:r>
              <a:rPr b="0" lang="fr-CH" sz="5100" spc="-1" strike="noStrike">
                <a:solidFill>
                  <a:srgbClr val="ffffcc"/>
                </a:solidFill>
                <a:latin typeface="Arial"/>
              </a:rPr>
              <a:t> P</a:t>
            </a: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riorities for future work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7487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Regional workshop on international migration statistics, Geneva, 4-6 december 200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Dr. Werner Hau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UN recommendations as a reference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But: Develop pragmatic and feasible solution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Respect regional and historical particularite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Co-operate nationally and exchange international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needs of migrant sending countries serious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eaeaea"/>
                </a:solidFill>
                <a:latin typeface="Verdana"/>
              </a:rPr>
              <a:t>Take the constraints of migrant receiving countries seriously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51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eaeaea"/>
                </a:solidFill>
                <a:latin typeface="Verdana"/>
              </a:rPr>
              <a:t>Thank you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cc"/>
                </a:solidFill>
                <a:latin typeface="Arial"/>
              </a:rPr>
              <a:t>The starting point: a headach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National immigration authorities have many data, but only for certain categories of migra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Flow data depend on administrative registration and residence ru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Statistical definitions are often not appli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Few countries have reliable data on emig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Citizenship of immigrants and acquisition of citizenship is often not cover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eaeaea"/>
                </a:solidFill>
                <a:latin typeface="Verdana"/>
              </a:rPr>
              <a:t>Censuses take usually place only every 10 ye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3300"/>
                </a:solidFill>
                <a:latin typeface="Verdana"/>
              </a:rPr>
              <a:t>WHAT TO DO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Better use of administrative dat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Better use and harmonization of administrative records from different ministries (border control, interior, labour, health, education etc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Lack of cooperation between statistical and administrative authorities, difficulty of access to administrative data, statistical needs not adequately reflected in administrative proced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reate interagency task force, participate in interagency committees, create high level commitment, initiate government decisions. Lead for statistics should be with statistics!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troduce or reform registration system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ntroduction or reform of population registration systems which should adequately reflect permanent and temporary residence, arrivals and departures of nationals and foreign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Tradition, lack of ressources and incentives, links with rights and obligations (political, economic, family and housing etc.), limited influence of NSI’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mprove political awareness, initiate legal changes, create incentives for registration and deregistration, learn from countries with efficient registration systems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Efficient 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registration: </a:t>
            </a: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part of a larger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 political and social contex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Free: no or very low fe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residence and wor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social and health servi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ccess to educ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Access to p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olitical righ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Why 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register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pay t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x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do m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ilitary serv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on’t want to receive bills and remin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eregistration as a condition for registr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Deregistration as a condition for protection abro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If incentives are absent or work in the wrong direction: the results will be statistical undercount, overcount and lack of timeliness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vest in the 2010 Population Censu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omparability with: a) other countries on the basis of UN recommendations and b) earlier national censuses. Improve migration data through introduction of additional questions: Special migration module on emigrants absent from the household for more than one year and questions on reasons of migr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Advocacy and consultation on national level, methodological know how, ressou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bilize national and international support. Learning from other migrant sending (Tunesia, Mexico, Philippines) and receiving countries (Western Europe and North America)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ntroduce migration questions in household surve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re frequent data on immigration/emigration, data on migrants and expatriates on the labour market, their living conditions, income and health, data on subgroups of the popul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Coverage of migrants in household surveys (irregular migrants, temporary absent/present migrants, institutional household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Develop standardised modules on migrants (and remittances) particularly in LFS, LSMS, rolling censuses in sending and receiving countries. Develop adequate sampling frames 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Improve demographic data analys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9933"/>
                </a:solidFill>
                <a:latin typeface="Verdana"/>
              </a:rPr>
              <a:t>Need for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More demographic analysis on the comparability and quality of different data on the national and international level (Censuses, vital statistics, administrative data, surveys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Use demographic accounting and modelling as analytical tools for migration estimates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99ff66"/>
                </a:solidFill>
                <a:latin typeface="Verdana"/>
              </a:rPr>
              <a:t>Problems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Ressources and know how in NSI’s, access to individual data, lack of metadat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Verdana"/>
              </a:rPr>
              <a:t>What to do:</a:t>
            </a:r>
            <a:r>
              <a:rPr b="0" lang="fr-CH" sz="2400" spc="-1" strike="noStrike">
                <a:solidFill>
                  <a:srgbClr val="eaeaea"/>
                </a:solidFill>
                <a:latin typeface="Verdana"/>
              </a:rPr>
              <a:t> Initiation of research projects, workshops, training, foreign expertise …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Horizont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Involve all relevant national stakeholders,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organise interagency cooperation (who: national governments, NSI’s, migration related ministries, research institution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Develop a Masterplan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improvement of population and migration statistics which is realistic and adresses the needs of migrant sending and receiving countries in the medium and long term (who: NSI’s, governments, international organisations …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international coordination for countries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with a common history and shared migration systems (e.g. CIS countries, South-East European countries) (who: UNECE, IOM, CIS …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Organise political advocacy and mobilise resources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 for the 2010 round of Censuses to coordinate questionnaires and support NSI’s (who: NSI’s, PARIS 21, UNFPA, EUROSTA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Verdana"/>
              </a:rPr>
              <a:t>Pool the professional expert knowledge </a:t>
            </a: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through coordinated technical assistance (UNECE/UNSD/EUROSTAT/UNFPA/ …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06:55Z</dcterms:created>
  <dc:creator>Werner Haug</dc:creator>
  <dc:description/>
  <dc:language>en-US</dc:language>
  <cp:lastModifiedBy>CSD</cp:lastModifiedBy>
  <dcterms:modified xsi:type="dcterms:W3CDTF">2007-12-05T08:43:09Z</dcterms:modified>
  <cp:revision>77</cp:revision>
  <dc:subject/>
  <dc:title>The way ahead  Improve migration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