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14E-1E2B-426D-9751-F85D4E88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254-532A-4451-BEE9-9B7C5E3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A29-E771-4652-880B-A931E17F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8FF-DE00-4289-B6BA-989FE604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797-3A63-4ABA-A60E-2AA5DB35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6B07-8F4B-41CE-A210-16455AE9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9D1B-2615-4414-A89F-40163EB2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A18B-8627-49FF-883A-4F00B92D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284B-AAEC-4597-8850-D3F0FB45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F23-223C-456D-8727-419EDB8C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4C0-EC2A-43A9-BC83-55935D9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D03-D375-4C58-8423-D3E3DA8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F6C9-1570-4854-A8D5-B54F308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0EAD-8EB5-4D9C-A66F-9D18672B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0756-8FE9-4C3A-9BB1-E1E83DD7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B3F4-D698-4281-BA5F-667355AE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DD5-AE82-409E-8550-31CE856A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7C6-706E-4952-9B17-74F2D251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C16-8B46-43A5-83B5-4429233E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F2B-A2D6-45D5-9564-1F0BA4C0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E12-3FA6-444D-B2D9-733D1C0D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CEE-1027-45B7-AAD6-3266A37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B0B-2B80-47FC-8EB0-A11B4101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77C-E948-4D07-BBF1-49A2317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124000" y="6237360"/>
            <a:ext cx="511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UNSC and UNECE-CES, Regional workshop on international migration statistics, 4-6 december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C133-4597-48E5-A68E-96EF94C8A92D}" type="slidenum">
              <a:rPr b="0" lang="fr-CH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F0D-2E44-4676-9B58-B39D04046317}" type="slidenum">
              <a:rPr b="0" lang="fr-CH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ffffcc"/>
                </a:solidFill>
                <a:latin typeface="Arial"/>
              </a:rPr>
              <a:t>Improving international migration statistics</a:t>
            </a:r>
            <a:br>
              <a:rPr sz="4800"/>
            </a:br>
            <a:r>
              <a:rPr b="0" lang="fr-CH" sz="5100" spc="-1" strike="noStrike">
                <a:solidFill>
                  <a:srgbClr val="ffffcc"/>
                </a:solidFill>
                <a:latin typeface="Arial"/>
              </a:rPr>
              <a:t> P</a:t>
            </a: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riorities for future work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7487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Regional workshop on international migration statistics, Geneva, 4-6 december 200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Dr. Werner Hau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Take the UN recommendations as a reference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But: Develop pragmatic and feasible solutions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Respect regional and historical particularites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Co-operate nationally and exchange internationall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Take the needs of migrant sending countries seriousl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Take the constraints of migrant receiving countries seriousl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51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141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eaeaea"/>
                </a:solidFill>
                <a:latin typeface="Verdana"/>
              </a:rPr>
              <a:t>Thank you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cc"/>
                </a:solidFill>
                <a:latin typeface="Arial"/>
              </a:rPr>
              <a:t>The starting point: a headach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National immigration authorities have many data, but only for certain categories of migra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Flow data depend on administrative registration and residence ru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Statistical definitions are often not appli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Few countries have reliable data on emig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Citizenship of immigrants and acquisition of citizenship is often not cover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Censuses take usually place only every 10 ye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3300"/>
                </a:solidFill>
                <a:latin typeface="Verdana"/>
              </a:rPr>
              <a:t>WHAT TO DO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Better use of administrative dat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Better use and harmonization of administrative records from different ministries (border control, interior, labour, health, education etc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Lack of cooperation between statistical and administrative authorities, difficulty of access to administrative data, statistical needs not adequately reflected in administrative proced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reate interagency task force, participate in interagency committees, create high level commitment, initiate government decisions. Lead for statistics should be with statistics!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troduce or reform registration system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ntroduction or reform of population registration systems which should adequately reflect permanent and temporary residence, arrivals and departures of nationals and foreign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Tradition, lack of ressources and incentives, links with rights and obligations (political, economic, family and housing etc.), limited influence of NSI’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mprove political awareness, initiate legal changes, create incentives for registration and deregistration, learn from countries with efficient registration systems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Efficient </a:t>
            </a: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registration: </a:t>
            </a: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part of a larger</a:t>
            </a: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 political and social contex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Why 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regist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Free: no or very low fe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residence and wor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social and health servic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educ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Access to p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olitical righ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Why 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regist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pay t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xes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do m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ilitary serv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receive bills and remin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eregistration as a condition for registr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eregistration as a condition for protection abro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If incentives are absent or work in the wrong direction: the results will be statistical undercount, overcount and lack of timeliness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vest in the 2010 Population Censu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omparability with: a) other countries on the basis of UN recommendations and b) earlier national censuses. Improve migration data through introduction of additional questions: Special migration module on emigrants absent from the household for more than one year and questions on reasons of migr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Advocacy and consultation on national level, methodological know how, ressou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obilize national and international support. Learning from other migrant sending (Tunesia, Mexico, Philippines) and receiving countries (Western Europe and North America)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troduce migration questions in household surve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ore frequent data on immigration/emigration, data on migrants and expatriates on the labour market, their living conditions, income and health, data on subgroups of the popul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overage of migrants in household surveys (irregular migrants, temporary absent/present migrants, institutional household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Develop standardised modules on migrants (and remittances) particularly in LFS, LSMS, rolling censuses in sending and receiving countries. Develop adequate sampling frames ..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mprove demographic data analys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ore demographic analysis on the comparability and quality of different data on the national and international level (Censuses, vital statistics, administrative data, surveys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Use demographic accounting and modelling as analytical tools for migration estimates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Ressources and know how in NSI’s, access to individual data, lack of metadat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nitiation of research projects, workshops, training, foreign expertise …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Horizontal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Involve all relevant national stakeholders,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organise interagency cooperation (who: national governments, NSI’s, migration related ministries, research institution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Develop a Masterplan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for the improvement of population and migration statistics which is realistic and adresses the needs of migrant sending and receiving countries in the medium and long term (who: NSI’s, governments, international organisations …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Organise international coordination for countries 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with a common history and shared migration systems (e.g. CIS countries, South-East European countries) (who: UNECE, IOM, CIS …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Organise political advocacy and mobilise resources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for the 2010 round of Censuses to coordinate questionnaires and support NSI’s (who: NSI’s, PARIS 21, UNFPA, EUROSTA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Pool the professional expert knowledge 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through coordinated technical assistance (UNECE/UNSD/EUROSTAT/UNFPA/ …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06:55Z</dcterms:created>
  <dc:creator>Werner Haug</dc:creator>
  <dc:description/>
  <dc:language>en-US</dc:language>
  <cp:lastModifiedBy>CSD</cp:lastModifiedBy>
  <dcterms:modified xsi:type="dcterms:W3CDTF">2007-12-05T08:43:09Z</dcterms:modified>
  <cp:revision>77</cp:revision>
  <dc:subject/>
  <dc:title>The way ahead  Improve migration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