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047A-1249-41C1-805F-A77EA202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289-9C18-45A3-A8B2-B240E273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991-76C3-4814-A2F6-0397C36A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7DE-03CD-43B1-B972-803C6316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01C5-88AA-4811-9967-FCCD0D35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B923-15D8-4ED7-986D-4A645B1D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1567-187B-4A83-AA58-8FF8F993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31CB-49AD-4F62-9318-384A05B5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B5DB-DF48-44BA-AEB9-FD61EFC0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7A30-6F4D-49AD-A0F7-DC2CDB6F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B385-38F2-4C88-96A6-014C89A1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32D-5E91-4C8A-BAD3-FB1AC65F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3320-62E3-4141-85E0-0732113F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B5F4-92D6-4E40-AFC6-9A87CC66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C24A-7DE5-4D4A-8C05-B791F7A6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8502-1A30-4997-9BCA-10AD68B4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357E-CFBB-44EC-81C6-36AA6AF3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429D-8965-4112-BFB9-F370805E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6A6-26F7-4E06-87E5-770891C1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C570-338D-4AD8-94F8-80A37FD3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F37-6279-4A75-A28F-1B61F43D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83D-0AFD-495B-B640-42DF6CA8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79EB-587E-4BFE-8EF5-017E31AB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798-084E-487E-8548-FDFBD424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68D6-0296-44F6-83B8-3FE14BB63D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B85A-3F04-4D74-A997-3B992726BF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86598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ahoma"/>
              </a:rPr>
              <a:t>Влияние законодательства и иных нормативных актов на   статистику международной миграции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560" y="6308280"/>
            <a:ext cx="772308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льга Чудиновск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F5E6-CF88-429A-9E4B-C2505E2B6C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8edf2"/>
                </a:solidFill>
                <a:latin typeface="Tahoma"/>
              </a:rPr>
              <a:t>Динамика числа лиц с видом на жительство и лиц, получивших гражданство РФ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8964720" cy="40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454-E4F0-4BB4-A8CE-2727EE541A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edf2"/>
                </a:solidFill>
                <a:latin typeface="Tahoma"/>
              </a:rPr>
              <a:t>Может ли число мигрантов быть меньше числа получивших гражданство? Пример действия соглашений  об упрощенном порядке получения  гражданства</a:t>
            </a:r>
            <a:r>
              <a:rPr b="0" lang="en-US" sz="2000" spc="-1" strike="noStrike">
                <a:solidFill>
                  <a:srgbClr val="e8edf2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8edf2"/>
                </a:solidFill>
                <a:latin typeface="Tahoma"/>
              </a:rPr>
              <a:t> - Беларусь, Казахстан, Кыргызстан.</a:t>
            </a:r>
            <a:endParaRPr b="0" lang="en-US" sz="2000" spc="-1" strike="noStrike">
              <a:solidFill>
                <a:srgbClr val="e8edf2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700280"/>
          <a:ext cx="8534160" cy="496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700280"/>
                    <a:ext cx="853416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435640" y="4437000"/>
            <a:ext cx="720720" cy="64764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4724280"/>
            <a:ext cx="720720" cy="64944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2997360"/>
            <a:ext cx="1152360" cy="100800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66D-20D1-4F3B-98D1-164690CDF4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Заключение</a:t>
            </a:r>
            <a:r>
              <a:rPr b="0" lang="ru-RU" sz="4400" spc="-1" strike="noStrike">
                <a:solidFill>
                  <a:srgbClr val="e8edf2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тивно-правовые  акты оказывают  значительное влияние на процедуры сбора данных и их структуру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работе с данными на национальном уровне, а тем более – при обмене  данными между странами нужно хорошо  знать этот контекст во избежание неправильного понимания имеющейся статис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94A-C8CD-4ACA-8BFB-5D2C4D31D4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df2"/>
                </a:solidFill>
                <a:latin typeface="Tahoma"/>
              </a:rPr>
              <a:t>The question is –  if  the number of immigrants could be  lower than the number  of persons granted the RF citizenship?</a:t>
            </a:r>
            <a:endParaRPr b="0" lang="en-US" sz="2400" spc="-1" strike="noStrike">
              <a:solidFill>
                <a:srgbClr val="e8edf2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87280" y="1628640"/>
          <a:ext cx="6320160" cy="4751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628640"/>
                    <a:ext cx="6320160" cy="47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4788000" y="2565360"/>
            <a:ext cx="1584360" cy="158436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56360" y="299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2AD-C543-4E8F-B8E2-B932289D7F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edf2"/>
                </a:solidFill>
                <a:latin typeface="Tahoma"/>
              </a:rPr>
              <a:t>Доля мигрантов-иностранцев в потоках иммиграции из стран СНГ в Россию (2002-2006)  и Украину(2000-2006)</a:t>
            </a:r>
            <a:endParaRPr b="0" lang="en-US" sz="2400" spc="-1" strike="noStrike">
              <a:solidFill>
                <a:srgbClr val="e8edf2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26920" y="2133720"/>
          <a:ext cx="7696440" cy="424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133720"/>
                    <a:ext cx="769644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345-CD01-448A-BAFA-D22FAF0659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890720" y="1971720"/>
          <a:ext cx="5438880" cy="4352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90720" y="1971720"/>
                    <a:ext cx="5438880" cy="43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965-8E22-4F03-A8D8-F6801F60BB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58920" y="1844640"/>
          <a:ext cx="6842160" cy="446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844640"/>
                    <a:ext cx="68421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EE59-BC1E-46E3-AEAA-7B5FFD9AC2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феры действия законодательства: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7696080" cy="496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ПОСРЕДСТВЕННОЕ (ПРЯМОЕ) ДЕЙСТВ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авила сбора первичных стат. данных , в том числе – определения мигранта (при регистрации)  и перечень переменных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 включая правила проведения переписи  населения и ее программу )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цедуры накопления и  обработки (разработки ) данных, формы представления отчетности, в том числе – круг  переменны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просы защиты индивидуальной информ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авила  доступа к данным и их распространения, в том числе – между ведомствам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осредованное действие – законы и нормативные акты , от которых зависят определения мигрантов (тип регистраци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D09-742E-44E4-B1CD-DE7A51B453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8edf2"/>
                </a:solidFill>
                <a:latin typeface="Tahoma"/>
              </a:rPr>
              <a:t>Типы нормативных актов, определяющих процедуры регистрации населения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ила въезда в страну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выезда из нее, правила пребывания (разные  требования для визовых и безвизовых мигрантов – пример долгосрочных визовых работников)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коны и правила по регистрации населения по месту житель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ила получения граждан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ила документирования населения паспортами и удостоверениями личн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рмативные акты, косвенно меняющие механизм действия прямых акт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лищное законодательство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056-09D5-4A2C-9C01-967F325AFA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бор данных , в.т.ч. определения мигрантов</a:t>
            </a:r>
            <a:r>
              <a:rPr b="0" lang="ru-RU" sz="3600" spc="-1" strike="noStrike">
                <a:solidFill>
                  <a:srgbClr val="99cc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3771720" cy="4751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ециальные нормативные акты по регистрации (по месту пребывания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месту жительства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указания на сбор данных для гос. статист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кты  о статусе иностранцев (сроки пребывания, смена статуса, регистрац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лищный кодекс – определение типов жилого помещения =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пределение типа регистр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6120" y="1773360"/>
            <a:ext cx="377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4508640"/>
            <a:ext cx="280836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1628640"/>
            <a:ext cx="3960720" cy="322164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ую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ста жительства и места пребы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51280" y="2349360"/>
            <a:ext cx="57636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3357720"/>
            <a:ext cx="57600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4365720"/>
            <a:ext cx="4103640" cy="22842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комендации ООН по статистике международной миграции определяют международного мигранта как  «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лицо, которое меняет страну своего обычного проживания. Страна обычного проживания это та страна, в которой лицо  имеет место для проживания   и где он или она обычно проводит  ежедневно    время для  отдыха».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оценки международных потоков  миграции применяется также критерий  1 года (присутствия в стране въезда или отсутствия в стране происхожде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95D-4FF1-444D-A1BB-79E9259C2A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8edf2"/>
                </a:solidFill>
                <a:latin typeface="Tahoma"/>
              </a:rPr>
              <a:t>Пример:  регистрация долгосрочных мигрантов по месту пребывания – недоучет учебной миграции</a:t>
            </a:r>
            <a:endParaRPr b="0" lang="en-US" sz="2800" spc="-1" strike="noStrike">
              <a:solidFill>
                <a:srgbClr val="e8edf2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11280" y="1773360"/>
          <a:ext cx="8281800" cy="482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773360"/>
                    <a:ext cx="8281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0AA9-EFD9-4C7B-8FB8-A9B981B62C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02560" cy="121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edf2"/>
                </a:solidFill>
                <a:latin typeface="Tahoma"/>
              </a:rPr>
              <a:t>Переменные  по иностранным гражданам  (Закон РФ о миграционном учете) :</a:t>
            </a:r>
            <a:br>
              <a:rPr sz="2400"/>
            </a:br>
            <a:r>
              <a:rPr b="0" lang="ru-RU" sz="2400" spc="-1" strike="noStrike">
                <a:solidFill>
                  <a:srgbClr val="e8edf2"/>
                </a:solidFill>
                <a:latin typeface="Tahoma"/>
              </a:rPr>
              <a:t>из 18 переменных для нужд гос. статистики  могут быть использованы  8, нет образования, семейного положения, этнической принадлежности</a:t>
            </a:r>
            <a:endParaRPr b="0" lang="en-US" sz="2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вид и реквизиты документа, удостоверяющего личность и признаваемого Российской Федерацией в этом качестве (наименование, серия, номер, дата и место выдачи, срок действия, а при наличии - биометрические данные, содержащиеся в указанном документе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вид и реквизиты документа, подтверждающего право на пребывание (проживание) в Российской Федераци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фамилия, имя, отчество (последнее - при наличии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Tahoma"/>
              </a:rPr>
              <a:t>4) дата и    место рожд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Tahoma"/>
              </a:rPr>
              <a:t>5) пол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Tahoma"/>
              </a:rPr>
              <a:t>6) гражданство (подданство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Tahoma"/>
              </a:rPr>
              <a:t>7) цель въезда в Российскую Федерацию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Tahoma"/>
              </a:rPr>
              <a:t>8) професс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) заявленные сроки пребывания (проживания) в Российской Федераци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) дата регистрации по последнему месту жительства и его адрес, даты регистрации и снятия с регистрации по предыдущим местам жительства и их адреса</a:t>
            </a:r>
            <a:r>
              <a:rPr b="0" lang="ru-RU" sz="1200" spc="-1" strike="noStrike">
                <a:solidFill>
                  <a:srgbClr val="00ff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1) дата постановки на учет по последнему месту пребывания и его адрес, даты постановки на учет и снятия с учета по предыдущим местам пребывания и их адре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2) сведения о законных представителях (о родителях, об усыновителях, об опекунах, о попечителях</a:t>
            </a:r>
            <a:r>
              <a:rPr b="0" lang="ru-RU" sz="1200" spc="-1" strike="noStrike">
                <a:solidFill>
                  <a:srgbClr val="ff9900"/>
                </a:solidFill>
                <a:latin typeface="Tahoma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3) сведения о депортации или об административном выдворении за пределы Российской Федерации (применялись или нет, если применялись, то когда и кем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4) сведения о принятии решения о нежелательности пребывания (проживания) в Российской Федерации (принималось или нет, если принималось, то когда и кем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5) сведения о привлечении в Российской Федерации к уголовной или административной ответственности либо к ответственности за совершение налоговых правонаруш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6) дата и место смерти в Российской Федерации либо дата вступления в законную силу решения суда о признании безвестно отсутствующим или об объявлении умершим, наименование и место нахождения указанного суд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7) основания постановки на миграционный учет и снятия с миграционного уче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место рождения – отдельная переменная – см. пункт 4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7B85-9E83-4759-9045-1C0F6CBFFA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769644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edf2"/>
                </a:solidFill>
                <a:latin typeface="Tahoma"/>
              </a:rPr>
              <a:t>Влияние  нормативных актов  на охват. </a:t>
            </a:r>
            <a:br>
              <a:rPr sz="2400"/>
            </a:br>
            <a:r>
              <a:rPr b="0" lang="ru-RU" sz="2400" spc="-1" strike="noStrike">
                <a:solidFill>
                  <a:srgbClr val="e8edf2"/>
                </a:solidFill>
                <a:latin typeface="Tahoma"/>
              </a:rPr>
              <a:t>доля иностранцев в  потоке иммиграции: почему в России так мало иностранных мигрантов?</a:t>
            </a:r>
            <a:endParaRPr b="0" lang="en-US" sz="2400" spc="-1" strike="noStrike">
              <a:solidFill>
                <a:srgbClr val="e8edf2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484280" y="1773360"/>
          <a:ext cx="6251760" cy="4751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84280" y="1773360"/>
                    <a:ext cx="625176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31CD-C8BE-47E8-8F71-7A0F8EA1B1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5344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8edf2"/>
                </a:solidFill>
                <a:latin typeface="Tahoma"/>
              </a:rPr>
              <a:t>Причина 1: Влияние законодательства о регистрации и изменение нормативной базы сбора первичной информации</a:t>
            </a:r>
            <a:endParaRPr b="0" lang="en-US" sz="32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тистика- вторичный продукт системы регистрации, правила сбора статистики – дополнение к правилам регистр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с 1996 г. - Регистрация по месту </a:t>
            </a:r>
            <a:r>
              <a:rPr b="0" i="1" lang="ru-RU" sz="2400" spc="-1" strike="noStrike">
                <a:solidFill>
                  <a:srgbClr val="ff9900"/>
                </a:solidFill>
                <a:latin typeface="Tahoma"/>
              </a:rPr>
              <a:t>пребывания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лгосрочных мигрантов- недоучет этой части потоков иммиграции, т.к. стат. талон – только при регистрации по месту житель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Новое законодательство (2002) не содержит указаний на процедуры передачи данных для статистического наблюдения за миграционными процессам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оме недоучета – налицо нарушение единства методологии сбора в масштабах страны:  в  2002-2003 – в Москве , по данным Росстата,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ностранных мигрантов (по данным ФМС около 6000 чел.  получили виды на жительство и РВП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6B9-ADAC-47D2-B4B0-27D0A5F1B6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8edf2"/>
                </a:solidFill>
                <a:latin typeface="Tahoma"/>
              </a:rPr>
              <a:t>Причина 2.    Влияние законодательства о гражданстве на учет мигрантов по компонентам (иностранцы и граждане):</a:t>
            </a:r>
            <a:endParaRPr b="0" lang="en-US" sz="28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99920"/>
            <a:ext cx="7696080" cy="453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месту жительства регистрируются и учитываются  по стат. талонам * как иностранцы только лица с ВНЖ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обые , ускоренные, процедуры приобретения гражданства для большой части иммигрантов по соглашению между Беларусью, Казахстаном, Кыргызстаном и Россией :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въезд, 2) через 3 месяца получение гражданства, минуя период проживания по виду на жительство и 3) регистрация в качестве граждан Р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то есть - иммигранты въезжают как иностранцы, а регистрируются и учитываются статистикой как граждане Росси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- при отсутствии правил составления стат. тало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963-2769-4ECB-AF13-468A97636F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08:11:03Z</dcterms:created>
  <dc:creator>Olga</dc:creator>
  <dc:description/>
  <cp:keywords/>
  <dc:language>en-US</dc:language>
  <cp:lastModifiedBy>Olga</cp:lastModifiedBy>
  <dcterms:modified xsi:type="dcterms:W3CDTF">2007-12-05T19:28:03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49</vt:lpwstr>
  </property>
</Properties>
</file>