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5FFC-2C8E-4EC0-BF49-A5B5F4B5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79C4-1BEF-438F-8720-17F5013E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9491-FB76-4A25-8860-E8B04161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9615-7DFA-4ED8-9AEE-01022F98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C384-5A89-4F91-B744-1E60FCF2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6B47-E70C-42B5-95E8-008228FB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8723-95CC-4906-8D86-DB320578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C765-5FBC-48D3-95A8-39F4AA2F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9299-3789-496C-B6E6-7D40A0E0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F23B-4E00-43B0-9F7D-841A9B77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B711-573E-47C8-84E9-E03E7E55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D841-E903-4B7B-B9F9-E0C949B9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56F2-A9EB-44A4-893F-7FBC0887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40A2-8F2C-4AF1-AB65-8A24F1E7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1FCB-8515-4DB4-824F-624043D7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03F0-D5FE-422D-BBA4-6E8F2CFA7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DE99-B44F-4A36-8109-F93CA3A7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F22B-D306-4BCE-83AA-BF26145F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F1C4-3020-4D33-80BF-80F43B8F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5452-EFAC-4051-BA1F-8CB36667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7515-53D9-4C73-84C3-55C03244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ED2E-AC0B-4297-AEC2-97FC7B5D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75C7-C27E-446C-97DB-33F28E34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2766-B5F7-443F-9CDA-F0A1DFB3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4D60-07A2-473C-BF50-2539BDF5018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0C21-D134-456A-816B-1DC528D070C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86598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Tahoma"/>
              </a:rPr>
              <a:t>Влияние законодательства и иных нормативных актов на   статистику международной миграции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560" y="6308280"/>
            <a:ext cx="772308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льга Чудиновски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9C40-1A89-48E9-92B1-D3DC4CB416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8edf2"/>
                </a:solidFill>
                <a:latin typeface="Tahoma"/>
              </a:rPr>
              <a:t>Динамика числа лиц с видом на жительство и лиц, получивших гражданство РФ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2133720"/>
            <a:ext cx="8964720" cy="40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53DC-785E-404E-8E38-D6F9FFCA4D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edf2"/>
                </a:solidFill>
                <a:latin typeface="Tahoma"/>
              </a:rPr>
              <a:t>Может ли число мигрантов быть меньше числа получивших гражданство? Пример действия соглашений  об упрощенном порядке получения  гражданства</a:t>
            </a:r>
            <a:r>
              <a:rPr b="0" lang="en-US" sz="2000" spc="-1" strike="noStrike">
                <a:solidFill>
                  <a:srgbClr val="e8edf2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e8edf2"/>
                </a:solidFill>
                <a:latin typeface="Tahoma"/>
              </a:rPr>
              <a:t> - Беларусь, Казахстан, Кыргызстан.</a:t>
            </a:r>
            <a:endParaRPr b="0" lang="en-US" sz="2000" spc="-1" strike="noStrike">
              <a:solidFill>
                <a:srgbClr val="e8edf2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0920" y="1700280"/>
          <a:ext cx="8534160" cy="4968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700280"/>
                    <a:ext cx="853416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5435640" y="4437000"/>
            <a:ext cx="720720" cy="647640"/>
          </a:xfrm>
          <a:prstGeom prst="ellipse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40360" y="4724280"/>
            <a:ext cx="720720" cy="649440"/>
          </a:xfrm>
          <a:prstGeom prst="ellipse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2997360"/>
            <a:ext cx="1152360" cy="1008000"/>
          </a:xfrm>
          <a:prstGeom prst="ellipse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B7AE-967D-4354-8737-225B184371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Tahoma"/>
              </a:rPr>
              <a:t>Заключение</a:t>
            </a:r>
            <a:r>
              <a:rPr b="0" lang="ru-RU" sz="4400" spc="-1" strike="noStrike">
                <a:solidFill>
                  <a:srgbClr val="e8edf2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ативно-правовые  акты оказывают  значительное влияние на процедуры сбора данных и их структуру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работе с данными на национальном уровне, а тем более – при обмене  данными между странами нужно хорошо  знать этот контекст во избежание неправильного понимания имеющейся статист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789C-C355-41A9-A4BC-9DA5878663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df2"/>
                </a:solidFill>
                <a:latin typeface="Tahoma"/>
              </a:rPr>
              <a:t>The question is –  if  the number of immigrants could be  lower than the number  of persons granted the RF citizenship?</a:t>
            </a:r>
            <a:endParaRPr b="0" lang="en-US" sz="2400" spc="-1" strike="noStrike">
              <a:solidFill>
                <a:srgbClr val="e8edf2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87280" y="1628640"/>
          <a:ext cx="6320160" cy="4751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1628640"/>
                    <a:ext cx="6320160" cy="47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4788000" y="2565360"/>
            <a:ext cx="1584360" cy="1584360"/>
          </a:xfrm>
          <a:prstGeom prst="ellipse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56360" y="2997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C769-699D-4245-833D-D8ED4472AB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edf2"/>
                </a:solidFill>
                <a:latin typeface="Tahoma"/>
              </a:rPr>
              <a:t>Доля мигрантов-иностранцев в потоках иммиграции из стран СНГ в Россию (2002-2006)  и Украину(2000-2006)</a:t>
            </a:r>
            <a:endParaRPr b="0" lang="en-US" sz="2400" spc="-1" strike="noStrike">
              <a:solidFill>
                <a:srgbClr val="e8edf2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26920" y="2133720"/>
          <a:ext cx="7696440" cy="424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2133720"/>
                    <a:ext cx="769644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24E2-2513-464E-AE60-7F64E41144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890720" y="1971720"/>
          <a:ext cx="5438880" cy="4352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90720" y="1971720"/>
                    <a:ext cx="5438880" cy="43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FCFB-17F6-4C2F-8E2B-EDCE56DEDE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58920" y="1844640"/>
          <a:ext cx="6842160" cy="4464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1844640"/>
                    <a:ext cx="68421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28B9-48F3-43FF-8668-5E2DF08187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феры действия законодательства: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557360"/>
            <a:ext cx="7696080" cy="496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ПОСРЕДСТВЕННОЕ (ПРЯМОЕ) ДЕЙСТВ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авила сбора первичных стат. данных , в том числе – определения мигранта (при регистрации)  и перечень переменных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 включая правила проведения переписи  населения и ее программу )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цедуры накопления и  обработки (разработки ) данных, формы представления отчетности, в том числе – круг  переменны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просы защиты индивидуальной информ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авила  доступа к данным и их распространения, в том числе – между ведомствам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осредованное действие – законы и нормативные акты , от которых зависят определения мигрантов (тип регистраци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0972-9F48-4DCA-92F9-18AEC86962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8edf2"/>
                </a:solidFill>
                <a:latin typeface="Tahoma"/>
              </a:rPr>
              <a:t>Типы нормативных актов, определяющих процедуры регистрации населения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авила въезда в страну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выезда из нее, правила пребывания (разные  требования для визовых и безвизовых мигрантов – пример долгосрочных визовых работников)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коны и правила по регистрации населения по месту житель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авила получения граждан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авила документирования населения паспортами и удостоверениями личнос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рмативные акты, косвенно меняющие механизм действия прямых акт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илищное законодательство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A132-8EA7-40CE-99A2-369FEA5A89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бор данных , в.т.ч. определения мигрантов</a:t>
            </a:r>
            <a:r>
              <a:rPr b="0" lang="ru-RU" sz="3600" spc="-1" strike="noStrike">
                <a:solidFill>
                  <a:srgbClr val="99cc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3771720" cy="4751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ециальные нормативные акты по регистрации (по месту пребывания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месту жительства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указания на сбор данных для гос. статист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кты  о статусе иностранцев (сроки пребывания, смена статуса, регистраци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илищный кодекс – определение типов жилого помещения =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определение типа регистр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6120" y="1773360"/>
            <a:ext cx="377172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076720" y="4508640"/>
            <a:ext cx="280836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1628640"/>
            <a:ext cx="3960720" cy="322164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ьзую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ста жительства и места пребыв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51280" y="2349360"/>
            <a:ext cx="576360" cy="71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67280" y="3357720"/>
            <a:ext cx="5760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00720" y="4365720"/>
            <a:ext cx="4103640" cy="22842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комендации ООН по статистике международной миграции определяют международного мигранта как  «</a:t>
            </a:r>
            <a:r>
              <a:rPr b="0" i="1" lang="ru-RU" sz="1200" spc="-1" strike="noStrike">
                <a:solidFill>
                  <a:srgbClr val="ffffff"/>
                </a:solidFill>
                <a:latin typeface="Tahoma"/>
              </a:rPr>
              <a:t>лицо, которое меняет страну своего обычного проживания. Страна обычного проживания это та страна, в которой лицо  имеет место для проживания   и где он или она обычно проводит  ежедневно    время для  отдыха».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ля оценки международных потоков  миграции применяется также критерий  1 года (присутствия в стране въезда или отсутствия в стране происхожден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DA44-1820-4069-BC6C-2E65A95A8D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8edf2"/>
                </a:solidFill>
                <a:latin typeface="Tahoma"/>
              </a:rPr>
              <a:t>Пример:  регистрация долгосрочных мигрантов по месту пребывания – недоучет учебной миграции</a:t>
            </a:r>
            <a:endParaRPr b="0" lang="en-US" sz="2800" spc="-1" strike="noStrike">
              <a:solidFill>
                <a:srgbClr val="e8edf2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11280" y="1773360"/>
          <a:ext cx="8281800" cy="4824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773360"/>
                    <a:ext cx="82818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A769-2A37-43BB-9857-D7B1F64E85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02560" cy="121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edf2"/>
                </a:solidFill>
                <a:latin typeface="Tahoma"/>
              </a:rPr>
              <a:t>Переменные  по иностранным гражданам  (Закон РФ о миграционном учете) :</a:t>
            </a:r>
            <a:br>
              <a:rPr sz="2400"/>
            </a:br>
            <a:r>
              <a:rPr b="0" lang="ru-RU" sz="2400" spc="-1" strike="noStrike">
                <a:solidFill>
                  <a:srgbClr val="e8edf2"/>
                </a:solidFill>
                <a:latin typeface="Tahoma"/>
              </a:rPr>
              <a:t>из 18 переменных для нужд гос. статистики  могут быть использованы  8, нет образования, семейного положения, этнической принадлежности</a:t>
            </a:r>
            <a:endParaRPr b="0" lang="en-US" sz="2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вид и реквизиты документа, удостоверяющего личность и признаваемого Российской Федерацией в этом качестве (наименование, серия, номер, дата и место выдачи, срок действия, а при наличии - биометрические данные, содержащиеся в указанном документе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вид и реквизиты документа, подтверждающего право на пребывание (проживание) в Российской Федераци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) фамилия, имя, отчество (последнее - при наличии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Tahoma"/>
              </a:rPr>
              <a:t>4) дата и    место рожд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Tahoma"/>
              </a:rPr>
              <a:t>5) пол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Tahoma"/>
              </a:rPr>
              <a:t>6) гражданство (подданство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Tahoma"/>
              </a:rPr>
              <a:t>7) цель въезда в Российскую Федерацию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Tahoma"/>
              </a:rPr>
              <a:t>8) професс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9) заявленные сроки пребывания (проживания) в Российской Федераци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0) дата регистрации по последнему месту жительства и его адрес, даты регистрации и снятия с регистрации по предыдущим местам жительства и их адреса</a:t>
            </a:r>
            <a:r>
              <a:rPr b="0" lang="ru-RU" sz="1200" spc="-1" strike="noStrike">
                <a:solidFill>
                  <a:srgbClr val="00ff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1) дата постановки на учет по последнему месту пребывания и его адрес, даты постановки на учет и снятия с учета по предыдущим местам пребывания и их адрес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2) сведения о законных представителях (о родителях, об усыновителях, об опекунах, о попечителях</a:t>
            </a:r>
            <a:r>
              <a:rPr b="0" lang="ru-RU" sz="1200" spc="-1" strike="noStrike">
                <a:solidFill>
                  <a:srgbClr val="ff9900"/>
                </a:solidFill>
                <a:latin typeface="Tahoma"/>
              </a:rPr>
              <a:t>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3) сведения о депортации или об административном выдворении за пределы Российской Федерации (применялись или нет, если применялись, то когда и кем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4) сведения о принятии решения о нежелательности пребывания (проживания) в Российской Федерации (принималось или нет, если принималось, то когда и кем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5) сведения о привлечении в Российской Федерации к уголовной или административной ответственности либо к ответственности за совершение налоговых правонаруше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6) дата и место смерти в Российской Федерации либо дата вступления в законную силу решения суда о признании безвестно отсутствующим или об объявлении умершим, наименование и место нахождения указанного суд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7) основания постановки на миграционный учет и снятия с миграционного учет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место рождения – отдельная переменная – см. пункт 4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90F8-F9C7-4A0B-9EC7-48B74CBE6F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769644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edf2"/>
                </a:solidFill>
                <a:latin typeface="Tahoma"/>
              </a:rPr>
              <a:t>Влияние  нормативных актов  на охват. </a:t>
            </a:r>
            <a:br>
              <a:rPr sz="2400"/>
            </a:br>
            <a:r>
              <a:rPr b="0" lang="ru-RU" sz="2400" spc="-1" strike="noStrike">
                <a:solidFill>
                  <a:srgbClr val="e8edf2"/>
                </a:solidFill>
                <a:latin typeface="Tahoma"/>
              </a:rPr>
              <a:t>доля иностранцев в  потоке иммиграции: почему в России так мало иностранных мигрантов?</a:t>
            </a:r>
            <a:endParaRPr b="0" lang="en-US" sz="2400" spc="-1" strike="noStrike">
              <a:solidFill>
                <a:srgbClr val="e8edf2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484280" y="1773360"/>
          <a:ext cx="6251760" cy="4751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84280" y="1773360"/>
                    <a:ext cx="625176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A053-8050-4070-97F9-FA7B551151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35344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8edf2"/>
                </a:solidFill>
                <a:latin typeface="Tahoma"/>
              </a:rPr>
              <a:t>Причина 1: Влияние законодательства о регистрации и изменение нормативной базы сбора первичной информации</a:t>
            </a:r>
            <a:endParaRPr b="0" lang="en-US" sz="32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атистика- вторичный продукт системы регистрации, правила сбора статистики – дополнение к правилам регистра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с 1996 г. - Регистрация по месту </a:t>
            </a:r>
            <a:r>
              <a:rPr b="0" i="1" lang="ru-RU" sz="2400" spc="-1" strike="noStrike">
                <a:solidFill>
                  <a:srgbClr val="ff9900"/>
                </a:solidFill>
                <a:latin typeface="Tahoma"/>
              </a:rPr>
              <a:t>пребывания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лгосрочных мигрантов- недоучет этой части потоков иммиграции, т.к. стат. талон – только при регистрации по месту житель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Новое законодательство (2002) не содержит указаний на процедуры передачи данных для статистического наблюдения за миграционными процессами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оме недоучета – налицо нарушение единства методологии сбора в масштабах страны:  в  2002-2003 – в Москве , по данным Росстата, 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ностранных мигрантов (по данным ФМС около 6000 чел.  получили виды на жительство и РВП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447F-98CB-405F-9CF2-BC3CAF46B9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8edf2"/>
                </a:solidFill>
                <a:latin typeface="Tahoma"/>
              </a:rPr>
              <a:t>Причина 2.    Влияние законодательства о гражданстве на учет мигрантов по компонентам (иностранцы и граждане):</a:t>
            </a:r>
            <a:endParaRPr b="0" lang="en-US" sz="28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699920"/>
            <a:ext cx="7696080" cy="453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месту жительства регистрируются и учитываются  по стат. талонам * как иностранцы только лица с ВНЖ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обые , ускоренные, процедуры приобретения гражданства для большой части иммигрантов по соглашению между Беларусью, Казахстаном, Кыргызстаном и Россией :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въезд, 2) через 3 месяца получение гражданства, минуя период проживания по виду на жительство и 3) регистрация в качестве граждан РФ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то есть - иммигранты въезжают как иностранцы, а регистрируются и учитываются статистикой как граждане Росси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- при отсутствии правил составления стат. тало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B6F5-4C1F-4592-9A0E-2607C14C31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08:11:03Z</dcterms:created>
  <dc:creator>Olga</dc:creator>
  <dc:description/>
  <cp:keywords/>
  <dc:language>en-US</dc:language>
  <cp:lastModifiedBy>Olga</cp:lastModifiedBy>
  <dcterms:modified xsi:type="dcterms:W3CDTF">2007-12-05T19:28:03Z</dcterms:modified>
  <cp:revision>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7991049</vt:lpwstr>
  </property>
</Properties>
</file>