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lide </a:t>
            </a:r>
            <a:fld id="{A42E5DCA-7CE6-4BE9-80C9-041A8B216CD8}" type="slidenum">
              <a:rPr b="1" lang="en-GB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45720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Definitions on international migration according to international standard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0384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99"/>
                </a:solidFill>
                <a:latin typeface="Arial"/>
              </a:rPr>
              <a:t>Enrico Bisogn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</a:rPr>
              <a:t>Regional Workshop on International Migration Statisti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</a:rPr>
              <a:t>Geneva, 4-6 December 2007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An extension: descendants of foreign bor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362320"/>
            <a:ext cx="525780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3623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2670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657600"/>
            <a:ext cx="2895840" cy="19810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Native-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Foreign-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26800" cy="1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666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Native-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164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Foreign-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000000"/>
                </a:solidFill>
                <a:latin typeface="Times New Roman"/>
              </a:rPr>
              <a:t>Foreig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010280" y="2742840"/>
            <a:ext cx="2133720" cy="2972160"/>
            <a:chOff x="7010280" y="2742840"/>
            <a:chExt cx="2133720" cy="2972160"/>
          </a:xfrm>
        </p:grpSpPr>
        <p:grpSp>
          <p:nvGrpSpPr>
            <p:cNvPr id="117" name=""/>
            <p:cNvGrpSpPr/>
            <p:nvPr/>
          </p:nvGrpSpPr>
          <p:grpSpPr>
            <a:xfrm>
              <a:off x="7010280" y="3886200"/>
              <a:ext cx="2133720" cy="1828800"/>
              <a:chOff x="7010280" y="3886200"/>
              <a:chExt cx="2133720" cy="182880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7238520" y="4724280"/>
                <a:ext cx="8384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10280" y="3886200"/>
                <a:ext cx="2133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400" spc="-1" strike="noStrike">
                    <a:solidFill>
                      <a:srgbClr val="000000"/>
                    </a:solidFill>
                    <a:latin typeface="Times New Roman"/>
                  </a:rPr>
                  <a:t>TOTAL POPU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H="1" flipV="1">
              <a:off x="7314840" y="274284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What is migrat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Only that change of residence that is of a ‘certain’ duration, of 12 months or more is known as a migr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Stocks and flow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tock of migrants: people who live in a country at a specific point in time and who - directly or indirectly - have previously experienced a migr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lows of migrants: refers to the movements of people who migrated during a specified tim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Why focus on stock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Monitor over time their size and composition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ssess their integration into the social and economic fabric of the host country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igration-related stock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re are different stocks of population groups relevant to migration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 foreign-born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 foreign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 ever international migran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They are not mutually exclusive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99"/>
                </a:solidFill>
                <a:latin typeface="Arial"/>
              </a:rPr>
              <a:t>An extension: descendants of</a:t>
            </a:r>
            <a:br>
              <a:rPr sz="3200"/>
            </a:br>
            <a:r>
              <a:rPr b="1" lang="fr-CH" sz="3200" spc="-1" strike="noStrike">
                <a:solidFill>
                  <a:srgbClr val="ffff99"/>
                </a:solidFill>
                <a:latin typeface="Arial"/>
              </a:rPr>
              <a:t> foreign bor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is group - also called ‘second-generation’ - includes all persons born in the country whose parents were born abroad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Population groups difficult to coun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These are not additional groups of migrants, but they are migrants with characteristics that make them difficult to count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or example: refugees, asylum seekers or illegal migran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Migration flow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Number of migration events over a certain period, typically 1 yea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They are usually counted on the basis of administrative dat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lternatively they can be estimated by enquiring about the place of usual residence at a fixed time prior to the census or the surve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Ethnicit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ndividual characteristic and affiliation, based on a shared understanding of the history and territorial origins of an ethnic group as well as on particular cultural characteristics, such as language, religion and specific customs and ways of life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4:41:39Z</dcterms:created>
  <dc:creator>Jessica Gardner</dc:creator>
  <dc:description/>
  <dc:language>en-US</dc:language>
  <cp:lastModifiedBy>bisogno</cp:lastModifiedBy>
  <dcterms:modified xsi:type="dcterms:W3CDTF">2007-12-03T22:26:29Z</dcterms:modified>
  <cp:revision>68</cp:revision>
  <dc:subject/>
  <dc:title>Title of the Presentation</dc:title>
</cp:coreProperties>
</file>