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3d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3b1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381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54a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97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0" y="6039000"/>
            <a:ext cx="426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b2b2b2"/>
                </a:solidFill>
                <a:latin typeface="Arial"/>
              </a:rPr>
              <a:t>ЧЕШСКИЙ СТАТИСТИЧЕСКИЙ ОФИ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76320" y="5923080"/>
            <a:ext cx="9296640" cy="0"/>
          </a:xfrm>
          <a:prstGeom prst="line">
            <a:avLst/>
          </a:prstGeom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943600" y="6297480"/>
            <a:ext cx="290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b2b2b2"/>
                </a:solidFill>
                <a:latin typeface="Arial"/>
                <a:ea typeface="Arial"/>
              </a:rPr>
              <a:t>Na padesátém 81, CZ - 100 82  Praha 10, Чешская Республик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740720" y="6583320"/>
            <a:ext cx="112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b2b2b2"/>
                </a:solidFill>
                <a:latin typeface="Arial"/>
                <a:ea typeface="Arial"/>
              </a:rPr>
              <a:t>www.czso.c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393840" y="6119640"/>
            <a:ext cx="914400" cy="30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b2b2b2"/>
                </a:solidFill>
                <a:latin typeface="Arial"/>
              </a:rPr>
              <a:t>Семинар ЕЭК ООН по международной миграционной статистике в странах СНГ и </a:t>
            </a:r>
            <a:br>
              <a:rPr sz="2500"/>
            </a:br>
            <a:r>
              <a:rPr b="1" lang="ru-RU" sz="2500" spc="-1" strike="noStrike">
                <a:solidFill>
                  <a:srgbClr val="b2b2b2"/>
                </a:solidFill>
                <a:latin typeface="Arial"/>
              </a:rPr>
              <a:t>юго-восточной Европы, Эдинбург 23-24 ноября 2006 г.</a:t>
            </a:r>
            <a:endParaRPr b="0" lang="en-US" sz="25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-360" y="1752120"/>
            <a:ext cx="8839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Уроки, которые можно извлечь из использования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административных источников в стране с недавней иммиграцие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огдана Хола, Чешская Республика, эл. почта: bohdana.hola@czso.c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8000" y="30456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2b2b2"/>
                </a:solidFill>
                <a:latin typeface="Arial"/>
              </a:rPr>
              <a:t>Как получить данные согласно </a:t>
            </a:r>
            <a:br>
              <a:rPr sz="3600"/>
            </a:br>
            <a:r>
              <a:rPr b="0" lang="ru-RU" sz="3600" spc="-1" strike="noStrike">
                <a:solidFill>
                  <a:srgbClr val="b2b2b2"/>
                </a:solidFill>
                <a:latin typeface="Arial"/>
              </a:rPr>
              <a:t>"правилу 1 года" из рекомендаций ООН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3d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опрос о "намерении остаться" в момент пересечения границы или в момент регистраци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3d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действие виз и разрешений (большинство виз действительно в течение 90 дней и дольше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3d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хват реальной ситуации (ожидание 1 год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3d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использование оценочной схем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71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b2b2b2"/>
                </a:solidFill>
                <a:latin typeface="Arial"/>
              </a:rPr>
              <a:t>Миграционная статистика - методологические изменения в сторону рекомендаций ООН</a:t>
            </a:r>
            <a:r>
              <a:rPr b="1" lang="en-GB" sz="30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b2b2b2"/>
                </a:solidFill>
                <a:latin typeface="Arial"/>
              </a:rPr>
              <a:t>(правило 1 года)</a:t>
            </a:r>
            <a:endParaRPr b="0" lang="en-US" sz="3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640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3d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 2000 г. "миграция = изменение постоянного места жительства"; отдельные виды уведомлений о миграции для граждан и иностранце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3d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001-2002 гг. (вслед за проведением переписи) - отсрочка для иностранцев (фактическая долгосрочная миграция = ожидание в течение 1 года с момента фактической иммиграции); для граждан - остается постоянная смена места житель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b3d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003 - данный момент: фактический </a:t>
            </a:r>
            <a:r>
              <a:rPr b="0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ожидаемый охват миграции (фактический учет тех, кто эмигрировал в течение 1 календарного года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b2b2b2"/>
                </a:solidFill>
                <a:latin typeface="Arial"/>
              </a:rPr>
              <a:t>Извлеченные нами уроки: I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3d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лностью следовать рекомендациям ООН 1998 г., пользуясь только административными источниками, почти невозможн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3d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Работа своими руками" является лучшей практикой при подготовке статистической информации из данных административных источников (если такая возможность имеется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3d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реждения, отвечающие за регистрацию, не будут менять свои порядки для удовлетворения статистических запросов, если такие требования не отражены в законе или других законодательных акта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3d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сли существует какая-либо государственная организация, отвечающая за интеграцию иностранцев, то участие национального статистического управления в ее работе сможет усовершенствовать процесс сбора данны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14616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b2b2b2"/>
                </a:solidFill>
                <a:latin typeface="Arial"/>
              </a:rPr>
              <a:t>Извлеченные нами уроки: II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7724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3d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Найти общий язык с аналитиками ответственных организаций - возможно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но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3d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найти общий язык с их юристами в отношении передачи данных - практически нереально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3d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олучать данные хотят все, но никто не хочет их предоставлять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3d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озможно, что получение численных данных увенчается успехом. Но получение данных о потоках является серьезной проблемой, так как чиновники не поймут такой запрос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3d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Чем строже правила въезда в страну (визы разрешения), тем проще процесс поиска и получения данных. Реальная проблема – это получение данных в условиях свободного перемещения граждан и людей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b2b2b2"/>
                </a:solidFill>
                <a:latin typeface="Arial"/>
              </a:rPr>
              <a:t>Извлеченные нами уроки: III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комендации ООН являются хорошим инструментом, но плохим руководством. При их пересмотре необходимо учесть мнение национальных статистических управлений, так чтобы вместо идеалистичной и пессимистичной книги рекомендаций получить книгу рекомендаций, которая была бы реалистичной и оптимистично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b2b2b2"/>
                </a:solidFill>
                <a:latin typeface="Arial"/>
              </a:rPr>
              <a:t>Спасибо за внимание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Что означает "страна с недавней иммиграцией“</a:t>
            </a:r>
            <a:r>
              <a:rPr b="0" lang="en-GB" sz="4000" spc="-1" strike="noStrike">
                <a:solidFill>
                  <a:srgbClr val="b2b2b2"/>
                </a:solidFill>
                <a:latin typeface="Arial"/>
              </a:rPr>
              <a:t>?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b3d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непредсказанный рост числа иностранцев к концу года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Arial"/>
              </a:rPr>
              <a:t>или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d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огромный рост числа иммигрантов/чистой миграции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Информация о численности - Чешская Республик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79280" y="1220760"/>
          <a:ext cx="8798040" cy="4440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220760"/>
                    <a:ext cx="8798040" cy="444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Информация о потоках - Чешская Республик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85920" y="1282680"/>
          <a:ext cx="8462880" cy="4378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5920" y="1282680"/>
                    <a:ext cx="8462880" cy="43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Что в чешском опыте может оказаться полезным для СНГ и стран юго-восточной Европы?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хожая история (принадлежность к бывшему Советскому блоку) </a:t>
            </a:r>
            <a:r>
              <a:rPr b="0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3d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возможно) сходные системы первичной регистр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3d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зможно близкая (или более сильная) позиция министерств внутренних дел и близкая (или более слабая) позиция национальных статистических управлений внутри сложившейся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де факт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ерархии государственных учрежд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*Рост значимости иммиграционных явл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b2b2b2"/>
                </a:solidFill>
                <a:latin typeface="Arial"/>
              </a:rPr>
              <a:t>Что является основными отличиями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3d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ленство в ЕС: требования ЕС к гармонизации данных, представляемых в Eurostat гораздо строж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d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гистрация граждан при непостоянной смене места жительства (в Чешской республике это отменено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d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играционные схемы (отсутствие государств, наследие бывшего СССР и бывшей Югославии и т. д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2b2b2"/>
                </a:solidFill>
                <a:latin typeface="Arial"/>
              </a:rPr>
              <a:t>Административные источники данных в Чешской республике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7240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3d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Реестр населения (граждане + иностранцы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3d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формационная система об иностранцах (визы и разрешения, виды на жительство, отчеты о нелегальной миграции и т. д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3d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аза данных об "беженцах" (процесс предоставления политического убежищ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3d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гистрация после натурализации (процесс получения гражданств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3d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истема рабочей занятости OK (разрешения на работу и регистрация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3d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естр лицензий на ведение бизне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3d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друг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Где можно получить данные для ООН? (немиграционные потоки)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85920" y="1371600"/>
          <a:ext cx="8321400" cy="4368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5920" y="1371600"/>
                    <a:ext cx="8321400" cy="43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2b2b2"/>
                </a:solidFill>
                <a:latin typeface="Arial"/>
              </a:rPr>
              <a:t>Где можно получить данные для ООН? </a:t>
            </a:r>
            <a:br>
              <a:rPr sz="2400"/>
            </a:br>
            <a:r>
              <a:rPr b="1" lang="ru-RU" sz="2400" spc="-1" strike="noStrike">
                <a:solidFill>
                  <a:srgbClr val="b2b2b2"/>
                </a:solidFill>
                <a:latin typeface="Arial"/>
              </a:rPr>
              <a:t>(миграционные потоки + численность)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914400"/>
          <a:ext cx="8321760" cy="4998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914400"/>
                    <a:ext cx="832176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16:05:53Z</dcterms:created>
  <dc:creator>Bohdana Holá</dc:creator>
  <dc:description/>
  <dc:language>en-US</dc:language>
  <cp:lastModifiedBy>SML </cp:lastModifiedBy>
  <dcterms:modified xsi:type="dcterms:W3CDTF">2006-11-22T10:08:52Z</dcterms:modified>
  <cp:revision>9</cp:revision>
  <dc:subject/>
  <dc:title>UN ECE Workshop on international migration statistics for countries of CIS and South-Eastern Europe; Edinburgh, 23rd-24th Nov. 2006 </dc:title>
</cp:coreProperties>
</file>