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2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4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87BFEC6-1C83-4F0D-929E-B272ED06A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99922C6-F93F-4085-BEEE-CBEBF2698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098720" y="7016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04680" y="4446360"/>
            <a:ext cx="506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BA3F2CD-10B3-46E3-AED5-B60A6C7FE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098720" y="7016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04680" y="4446360"/>
            <a:ext cx="506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28CDCED-FCA3-4DF6-9AD6-AF8E69075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098720" y="7016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04680" y="4446360"/>
            <a:ext cx="506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AABEA57-64CF-40A1-93F8-39A69D2C7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085760" y="6904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120" y="4449600"/>
            <a:ext cx="5056200" cy="41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FB98D43-D6E8-4619-9FE9-0FAA3EAA2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098720" y="7016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04680" y="4446360"/>
            <a:ext cx="5065560" cy="4133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88FE342-E06B-4296-87A7-314711C16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098720" y="7016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04680" y="4446360"/>
            <a:ext cx="506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4A282AD-A479-434E-885A-61A70BDAC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098720" y="7016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04680" y="4446360"/>
            <a:ext cx="506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6A8C600-7C7A-43FA-874D-3AF145097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098720" y="7016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04680" y="4446360"/>
            <a:ext cx="506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072E556-2115-42BE-B5E8-8FA2D1EA0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098720" y="7016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4680" y="4446360"/>
            <a:ext cx="506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BD02866-F290-4445-A370-974550AE0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2BF2A-381F-4829-83E4-844C92E590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8840" y="1981080"/>
            <a:ext cx="857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8840" y="4130640"/>
            <a:ext cx="857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0403C-86F6-434E-8CB2-B7E112592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8840" y="1981080"/>
            <a:ext cx="418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51560" y="1981080"/>
            <a:ext cx="418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258840" y="4130640"/>
            <a:ext cx="418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51560" y="4130640"/>
            <a:ext cx="418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525C7-2F2A-48B2-B106-775E5019D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8840" y="1981080"/>
            <a:ext cx="276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57200" y="1981080"/>
            <a:ext cx="276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55920" y="1981080"/>
            <a:ext cx="276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258840" y="4130640"/>
            <a:ext cx="276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157200" y="4130640"/>
            <a:ext cx="276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55920" y="4130640"/>
            <a:ext cx="276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C985C-33F7-40F6-8DE0-A5057018C6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258840" y="1981080"/>
            <a:ext cx="8572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8840" y="1981080"/>
            <a:ext cx="857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8840" y="1981080"/>
            <a:ext cx="418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1981080"/>
            <a:ext cx="418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8840" y="1981080"/>
            <a:ext cx="418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1981080"/>
            <a:ext cx="418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58840" y="4130640"/>
            <a:ext cx="418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258840" y="1981080"/>
            <a:ext cx="8572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6A9B0-D8D8-427D-B88A-22008D565F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8840" y="1981080"/>
            <a:ext cx="418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1981080"/>
            <a:ext cx="418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51560" y="4130640"/>
            <a:ext cx="418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8840" y="1981080"/>
            <a:ext cx="418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1981080"/>
            <a:ext cx="418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58840" y="4130640"/>
            <a:ext cx="857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8840" y="1981080"/>
            <a:ext cx="857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58840" y="4130640"/>
            <a:ext cx="857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8840" y="1981080"/>
            <a:ext cx="418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1981080"/>
            <a:ext cx="418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58840" y="4130640"/>
            <a:ext cx="418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51560" y="4130640"/>
            <a:ext cx="418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40" y="1981080"/>
            <a:ext cx="276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157200" y="1981080"/>
            <a:ext cx="276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55920" y="1981080"/>
            <a:ext cx="276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258840" y="4130640"/>
            <a:ext cx="276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157200" y="4130640"/>
            <a:ext cx="276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55920" y="4130640"/>
            <a:ext cx="276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8840" y="1981080"/>
            <a:ext cx="857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EE6C8-4B6E-41DB-B0C9-B70D54D144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8840" y="1981080"/>
            <a:ext cx="418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1981080"/>
            <a:ext cx="418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06452-19B1-448B-8725-42031801E8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26D5F-10D0-4D38-BD27-94FE1850D5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01064-3671-415E-8110-3723BDCAAF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8840" y="1981080"/>
            <a:ext cx="418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1981080"/>
            <a:ext cx="418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8840" y="4130640"/>
            <a:ext cx="418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A4B35-934B-48FC-B408-1D2D8F5E79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8840" y="1981080"/>
            <a:ext cx="418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1981080"/>
            <a:ext cx="418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51560" y="4130640"/>
            <a:ext cx="418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1F5AB-B851-408B-AFAE-8E5B2C1DEF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40" y="1981080"/>
            <a:ext cx="418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1981080"/>
            <a:ext cx="418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58840" y="4130640"/>
            <a:ext cx="857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E92C5-749D-41F6-879C-5A3703B115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8840" y="1981080"/>
            <a:ext cx="857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905600" y="6248520"/>
            <a:ext cx="78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5EDE-0DE5-48A0-8706-13F5FE655F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6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8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33440" y="3843360"/>
            <a:ext cx="1496880" cy="1890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78f0"/>
            </a:outerShdw>
          </a:effectLst>
        </p:spPr>
      </p:pic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70280" y="1460160"/>
            <a:ext cx="5842080" cy="28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Arial"/>
              </a:rPr>
              <a:t>Сбор иммиграционных данных: контекст, процессы и проблемы</a:t>
            </a:r>
            <a:br>
              <a:rPr sz="4100"/>
            </a:br>
            <a:br>
              <a:rPr sz="41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ргарет Михаловск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Statistics Can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Семинар ЕЭК ООН по международной миграционной статистике в странах СНГ и юго-восточной Европы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23-24 ноября 2006 г., Эдинбург, Шотландия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 чем говорят данные перепис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2800" y="2073240"/>
            <a:ext cx="831528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мер и происхождение групп иммигрантского населения, детей эмигрантов и этнических групп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жный источник данных для развития и оценки иммиграционной полит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казатель способности будущих иммигрантов адаптироваться к жизни в канадском общест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нение тенденций расселения и передвижения иммигрантов во врем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ражданство является одним из показателей интеграции. Одно из преимуществ гражданство является избирательное право. Правительства пользуются этими данными для электорального планир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48A34-B0F3-49C6-B68B-C69CC4B5B9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66400" y="1910880"/>
            <a:ext cx="8605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нные разбиты по небольшим географическим участкам: города, районы и сельские рай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торические данные, накопленные за более чем 100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шой размер выборки - 20% нас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грани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сутствие продольных данных - невозможность отслеживать одного респондента на протяжении време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т информации о годе прибы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прос о годе, когда был получен статус прибывшего иммигран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сутствие информации об иммиграционной программ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. е. категории принятия, характеристик при прибыт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мерение результатов, а не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еимущества и ограничения данных переписи насел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78F9B-633E-41D9-B11F-5E24C82888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ак используются данные перепис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и данные используются на всех уровнях  правительстве, в частном секторе и в социальных и общественных групп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ция переписи населения может быть использована правительствами при планировании и разработке програ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мерческие предприятия могут использовать ее для оценки спроса и в маркетинге своей проду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учной сообщество и средства информации могут использовать ее для получения картины о текущих интересах и тенденциях в канадском общест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9FE52-C0DA-47F9-9ACB-B95A37AA78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одольная иммиграционная база данных (IMDB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8440" y="2428920"/>
            <a:ext cx="3252960" cy="3429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011480" y="1743120"/>
            <a:ext cx="481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дминистративная база данных, связывающая иммиграционную и налоговую информац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держка со стороны федерально-областного консорциума под управлением Канадского департамента гражданства и иммиграции (CI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дольные данные: ежегодное обнов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нные о всех прибывших иммигрантах с 1980 г. (отслеживание в течение 16 лет с момента первой уплаты налого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логовые данные с 1980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0CC51-8116-4C3C-AC7E-4C2A8AB474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одержание иммиграционной базы данны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80720" y="1868040"/>
            <a:ext cx="86900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работана для удовлетворения необходимости в подробных, соответствующих политике данных об иммиграционной программ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Содержание базы данны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мографические данные и характеристики прибыт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ормация о программе и отбо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робности об изменениях доходов со времен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нение географического положения со времен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ходный массив данных: продольная административная база данных (LA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LAD включает подмножество данных об иммигрантах и родившихся в Канаде с продольной налоговой информаци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C9559-D97E-407C-9146-1048E7C5A5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 чем говорят данные иммиграционной базы данных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2200" y="2072880"/>
            <a:ext cx="8531280" cy="37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вязь между политическим  рычагами иммиграции (например, критериями отбора) и экономическими результатам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оведение различных категорий иммигрантов на рынке рабочей силы с течением времен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торичная миграция иммигрантов внутри провинций и между городам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отенциальная информация о детях иммигранто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2607F-0EE2-4E55-BD55-D9F9F0E4D7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88640" y="1900080"/>
            <a:ext cx="873108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еимуще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язь между информацией о принятии и экономическими результат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ормация о вторичной миграции иммигрантов внутри провинций и между город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совмещении с LAD появляется возможность сравнить иммигрантов с населением, рожденным в Канад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гранич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сутствие информации о человеческом а=капитале, накопленном после мигр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сутствие информации семье/домашнем хозяйств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еимущества и ограничения иммиграционной базы данны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43BD0-1BD5-47E6-8199-5BF52AF655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Продольный анализ иммигрантов в Канаде (LSIC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17080" y="2141640"/>
            <a:ext cx="4659480" cy="39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Цел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сследование продольных данных, призванное изучить, как новые иммигранты приспосабливаются к жизни в Канаде в течение первых л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лучение информации о факторах, которые могут помогать или быть препятствиями при этом приспособлен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Целевые групп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бывшие в Канаду в период между октябрем 2000 г. и сентябрем 2001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ибывшие из других стр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озраст старше 15 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322960" y="2322360"/>
          <a:ext cx="3508200" cy="34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22960" y="2322360"/>
                    <a:ext cx="3508200" cy="34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999AF-F090-4964-B2C7-16FC9500B3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Рамки и структура выбор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906560"/>
            <a:ext cx="849600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мки выбор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дминистративные иммиграционные материалы, предоставленные Канадским департаментов гражданства и иммиграции (CI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трукту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ключает репрезентативную выборку как можно большего числа категорий иммигрант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дольные данные: каждый респондент опрашивается 3 раза, примерно через 6 месяцев, 2 года и 4 года после прибытия в Канад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прос с помощью компьютерной технологии (CAI) в обстановке интервью "лицом к лицу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реднее посещение одного дома (одной семьи) длится 90 мину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просы проводятся на 15 различных языка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3D9C3-FB75-40F4-906C-623BC8ED80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Содержание опроса LSIC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5080" y="2685600"/>
            <a:ext cx="417348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0078f0"/>
              </a:buClr>
              <a:buSzPct val="8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Социально-демографическая информация (только 1-й поток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0078f0"/>
              </a:buClr>
              <a:buSzPct val="8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Причины приезда в Канаду (только 1-й поток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0078f0"/>
              </a:buClr>
              <a:buSzPct val="8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Социальное взаимодействи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0078f0"/>
              </a:buClr>
              <a:buSzPct val="8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Языковые навыки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0078f0"/>
              </a:buClr>
              <a:buSzPct val="8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Жилищная ситуация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0078f0"/>
              </a:buClr>
              <a:buSzPct val="8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Образовани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0078f0"/>
              </a:buClr>
              <a:buSzPct val="8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Рабочая занятость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0078f0"/>
              </a:buClr>
              <a:buSzPct val="8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Здравоохранени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368600" y="2662200"/>
            <a:ext cx="4392360" cy="33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601"/>
              </a:spcAft>
              <a:buClr>
                <a:srgbClr val="0078f0"/>
              </a:buClr>
              <a:buSzPct val="8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Ценности и отношени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spcAft>
                <a:spcPts val="601"/>
              </a:spcAft>
              <a:buClr>
                <a:srgbClr val="0078f0"/>
              </a:buClr>
              <a:buSzPct val="8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Гражданство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spcAft>
                <a:spcPts val="601"/>
              </a:spcAft>
              <a:buClr>
                <a:srgbClr val="0078f0"/>
              </a:buClr>
              <a:buSzPct val="8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Восприятие состояния обустройств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spcAft>
                <a:spcPts val="601"/>
              </a:spcAft>
              <a:buClr>
                <a:srgbClr val="0078f0"/>
              </a:buClr>
              <a:buSzPct val="8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Доходы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spcAft>
                <a:spcPts val="601"/>
              </a:spcAft>
              <a:buClr>
                <a:srgbClr val="0078f0"/>
              </a:buClr>
              <a:buSzPct val="8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Анализ истории событий, связанных с жилищной ситуацией, рабочей занятостью и образованием с момента прибытия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spcAft>
                <a:spcPts val="601"/>
              </a:spcAft>
              <a:buClr>
                <a:srgbClr val="0078f0"/>
              </a:buClr>
              <a:buSzPct val="8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Проблемы, с которыми приходилось сталкиваться, виды помощи, которые были необходимы и источники полученной помощи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0720" y="1592280"/>
            <a:ext cx="8294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ция о многих аспектах процесса приспособления для вновь прибывших, все с точки зрения иммигран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ED411-EB6F-4C46-84B2-2EB1D87B2B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1320" y="456840"/>
            <a:ext cx="681696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лавные источники данных в Канад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3200" y="2090880"/>
            <a:ext cx="783900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репись насе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дольная иммиграционная база данных (IMD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дольный анализ иммигрантов в Канаде (LS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следование этнического разнообразия (E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ругие внутренние исслед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Анализ рабочей си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Общий социальный анал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99ff"/>
                </a:solidFill>
                <a:latin typeface="Arial"/>
              </a:rPr>
              <a:t>Канадское исследование общественного здравоохранения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BC620-23EB-48A0-9053-4529B2299D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нализ рабочей сил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8840" y="1981080"/>
            <a:ext cx="857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ализ рабочей силы предоставляет оценку рабочей занятости и безработности, которые являются одними из наиболее своевременных и важных показателей результативности канадской экономи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вое содержание данного исследование включает ежемесячную оцен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траны рожд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татуса прибывшего иммигран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года иммигра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месяца иммиграции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Сбор данных начался с исследование в январе 2006 г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то предоставит следующие данные для групп рожденных за рубежом и иммигрантов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характеристики рынка рабочей занят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характеристики рабочей занятости и безработ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демографическую и образовательную информацию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EB83B-4ED3-4F3A-AEBD-126A57CFE1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328840" y="1328760"/>
            <a:ext cx="5334120" cy="11034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Исследование этнического разнообразия (EDS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9520" y="2478240"/>
            <a:ext cx="8675640" cy="35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ffff"/>
                </a:solidFill>
                <a:latin typeface="Arial"/>
              </a:rPr>
              <a:t>Цели исследова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оставить информацию об этническом и культурном происхождении людей, проживающих в Канаде и о том, как это происхождение соотносится с их сегодняшней жизнь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чше понять как канадцы, имеющие различное этническое происхождение, истолковывают это происхождение и регистрируют е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ffff"/>
                </a:solidFill>
                <a:latin typeface="Arial"/>
              </a:rPr>
              <a:t>Целевая групп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селение в возрасте от 15 лет и старше, проживающее в частном жилье в 19 провинциях, за исключением индейских резерваций и коренного нас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65D82-970E-407A-9CAC-2930AD6636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одержание исследования E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1857240"/>
            <a:ext cx="8908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Модули и разделы исслед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ническое самоопределение: наследственность и идентифик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исхождение: иммиграционная история, гражданство, религия, язы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Социо-экономические характерис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Взаимодействие с семь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Социальные связ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Участие в гражданской жи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заимодействие с обществом: чувство неудобства или отчуждения, дискриминация или несправедливое обращение в последние 5 лет в связи с этно-культурными характеристик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Отнош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E4B3F-B30C-4771-B3FD-34769BBB3A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Другие внутренние исследов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560" y="2052360"/>
            <a:ext cx="871380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надское исследование общественного здравоохранения (CCH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азмер выборки: 132 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 000 иммигрант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ализ динамики рабочей силы и доходов (SLI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 межсекционные группы в любой момент времени, плюс продольная компонен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 3500 до 4000 иммигрантов в каждой групп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вмещение двух межсекционных групп потенциально дает 7000 иммигрант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бщий социальный анализ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азмер выборки: 25 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 200 иммигрант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Другие потенциальные исследов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ледование рабочих мест и рабочей занятости (WE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ледование среди молодежи в переходный период (YIT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еждународное исследование грамотности и навыков среди взрослых (IAL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сследование всемирных ценност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508DC-2A9E-4E64-9A0F-ED703FAE1A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ерепись населения в Интернет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2200" y="1981080"/>
            <a:ext cx="4081680" cy="41148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684680" y="1981080"/>
            <a:ext cx="40813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4ED59-9BF3-4A59-A328-3BC4EEA2CFE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спространение данных об иммиграции среди насел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22200" y="1981080"/>
            <a:ext cx="4081680" cy="4114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676760" y="1981080"/>
            <a:ext cx="40975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CFE3F-2453-4612-AE74-528BF956976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Канадский контекс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8840" y="1981080"/>
            <a:ext cx="857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иная с 1901 г. Канада приняла более 13 млн. иностранных мигрантов. Самый большой приток мигрантов пришелся на начало 20-го века, в начиная с 1990-х годов отмечается дополнительный рос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ммиграция играет все более важную роль в приросте населения Канады: примерно 70% прироста в 2000-х годах приходится на иммиграц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начало 21-го века процент жителей Канады, рожденных за рубежом, был выше, чем в США, но ниже, чем в Австрал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Канада: 18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Австралия: 22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США: 11%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ммигранты в Канаде диспропорционально расселяются в больших городах, которые они выбирают потому там уже обосновались их друзья и семь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ммигранты в Канаде в основном происходят из стран Азии и Ближнего Востока, Африки, Латинской и Южной Америки, что обусловливает увеличение "видимого меньшинства". Возможно, что к 2017 г. каждый пятый житель Канады будет принадлежать к видимому меньшинств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A985F-8063-4EC4-B1E4-546FEC39A9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пособы идентификации целевых групп насел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90520" y="1982520"/>
            <a:ext cx="46101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атус прибывшего иммигран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бывший иммигра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 иммигра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постоянный жите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раждан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ражданин Канады по рожден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ражданин Канады по натурализ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 гражданин Кана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46680" y="2045880"/>
            <a:ext cx="40989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есто рожд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Канад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 пределами Кана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атус поко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ервое поколение: иммигран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торое поколение: дети иммигран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ретье поколение и дале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00643-9EDB-407B-B9FE-5DCFFA930E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21924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ерепись насел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57400" y="2314440"/>
            <a:ext cx="5335560" cy="313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777EE-FC2C-4CC8-8D37-575308A277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Процесс проведения перепис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8480" y="1981080"/>
            <a:ext cx="8426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цесс определения содерж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Процесс консультаций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программа проверки содержания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Утверждение кабинетом министр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ммуникации о перепис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о 16 мая 2006 г.: оповещение жителей Канады о проведение переписи и призывы к участию в ней. После дня проведения переписи программа коммуникаций несет ответственность за распространение данны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помощи людям, родной язык которых не английский и не французский, вопросы переписи были переведены на 62 других языка, включая 18 языков коренных жителей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пространение результатов переписи: распространение информации среди общественности и организаций, использующих такие данн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0B879-4BC5-4DFD-82CD-565F0F661F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39440" y="564840"/>
            <a:ext cx="7504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сто рождения, гражданство и иммиграционные вопрос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8360" y="1989000"/>
            <a:ext cx="4260960" cy="2259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8320" y="2247840"/>
            <a:ext cx="4495680" cy="1770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85760" y="4362480"/>
            <a:ext cx="4281480" cy="1454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4648320" y="4224240"/>
            <a:ext cx="4495680" cy="134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8F79E-EF8B-4B43-B8A6-210DE32371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3200400" y="2514600"/>
          <a:ext cx="27432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51460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57240" y="0"/>
          <a:ext cx="9020160" cy="6353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0" y="0"/>
                    <a:ext cx="9020160" cy="63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3CC56-4194-4678-AFE7-2AE4E029B7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 о месте рождения родител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8480" y="199404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Канаде этот вопрос используется для выяснения статуса поко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вое поко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торое поко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ретье поколение и дале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ще один фактор разнообразия в Канаде, охватывающий иммиграционную истор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222800" y="2444760"/>
            <a:ext cx="466236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B35DD-6C20-48C6-AB07-BCF2D6B98A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14:09:03Z</dcterms:created>
  <dc:creator>trankel</dc:creator>
  <dc:description/>
  <dc:language>en-US</dc:language>
  <cp:lastModifiedBy>SML </cp:lastModifiedBy>
  <dcterms:modified xsi:type="dcterms:W3CDTF">2006-11-22T10:52:47Z</dcterms:modified>
  <cp:revision>13</cp:revision>
  <dc:subject/>
  <dc:title>Key data sources</dc:title>
</cp:coreProperties>
</file>